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6.jpeg" ContentType="image/jpeg"/>
  <Override PartName="/ppt/media/image63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9.jpeg" ContentType="image/jpeg"/>
  <Override PartName="/ppt/media/image37.wmf" ContentType="image/x-wmf"/>
  <Override PartName="/ppt/media/image12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74B-7C01-4D44-AE95-3183F35D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8AC-2BE3-4241-9A8B-FFCB798F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197-2045-4D99-A9BD-61EE8C27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780-B595-45C9-8F28-79B244FD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907A-BF4B-4157-B306-520EAB6C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75B8-E1AF-43BE-AC45-338C3073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4022-5CEC-4E2E-8E90-CC2405E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FDD5-22DF-47D9-87CA-A7CFF6A8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F922-3FDA-4D95-91CE-49D86133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8B41-EC46-43DC-9825-7E0C60A9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E62E-82EC-42DF-BFFF-3B2C5FE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1BE-97B8-4342-A66B-EAC80CFF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2D0C-DC01-4149-A86F-E024C20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AC44-8763-4F7C-9188-32C2E3C2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1931-E655-4284-A90F-FC9288AE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95F8-7CFD-4337-99ED-D01D8F18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742C-B96A-44E8-9E34-0D8409AC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25C-689D-45B0-B958-985DBBDE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D69-1CB3-4CFE-9412-6C440EC5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3D4-270A-4521-9B49-070E50C6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3D7-5CE5-4089-8C8F-89A573E2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5EC-9985-4F23-A9BB-4E8AB70D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256-BA07-4E90-905F-150064C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879-CDA9-4DDC-9765-3590BE5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EC58-DD32-46F1-8926-7A29C91ACD52}" type="slidenum">
              <a:rPr b="0" lang="en-US" sz="1400" spc="-1" strike="noStrike">
                <a:solidFill>
                  <a:srgbClr val="33cc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939F-0407-422F-9DED-652378531FC7}" type="slidenum">
              <a:rPr b="0" lang="en-US" sz="1400" spc="-1" strike="noStrike">
                <a:solidFill>
                  <a:srgbClr val="33cc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03.12.2008/IMG_3510.jp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proza.ru/pics/2011/05/09/552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3-12287696228289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kinfo.ru/user/upload/file246248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www.media.nakanune.ru/images/pictures/image_big_17180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nordural.ru/i0/i1224417617/big/08-12/1230578288.jpg" TargetMode="External"/><Relationship Id="rId8" Type="http://schemas.openxmlformats.org/officeDocument/2006/relationships/image" Target="../media/image45.jpeg"/><Relationship Id="rId9" Type="http://schemas.openxmlformats.org/officeDocument/2006/relationships/hyperlink" Target="http://www.bugaga.ru/uploads/posts/2009-06/1244743817_foto_06.jpg" TargetMode="External"/><Relationship Id="rId10" Type="http://schemas.openxmlformats.org/officeDocument/2006/relationships/image" Target="../media/image46.jpeg"/><Relationship Id="rId11" Type="http://schemas.openxmlformats.org/officeDocument/2006/relationships/hyperlink" Target="http://data13.gallery.ru/albums/gallery/5657--37094187-.jpg" TargetMode="External"/><Relationship Id="rId12" Type="http://schemas.openxmlformats.org/officeDocument/2006/relationships/image" Target="../media/image47.jpeg"/><Relationship Id="rId13" Type="http://schemas.openxmlformats.org/officeDocument/2006/relationships/hyperlink" Target="http://img-fotki.yandex.ru/get/14/majstrenko-yuliya.1/0_83fa_bc81dc60_XL" TargetMode="External"/><Relationship Id="rId14" Type="http://schemas.openxmlformats.org/officeDocument/2006/relationships/image" Target="../media/image48.jpeg"/><Relationship Id="rId15" Type="http://schemas.openxmlformats.org/officeDocument/2006/relationships/hyperlink" Target="http://www.museum.ru/museum/1812/Memorial/PG/pic/11027v.jpg" TargetMode="External"/><Relationship Id="rId16" Type="http://schemas.openxmlformats.org/officeDocument/2006/relationships/image" Target="../media/image49.jpeg"/><Relationship Id="rId17" Type="http://schemas.openxmlformats.org/officeDocument/2006/relationships/hyperlink" Target="http://i008.radikal.ru/0904/1a/2c2007dbc352.jpg" TargetMode="External"/><Relationship Id="rId18" Type="http://schemas.openxmlformats.org/officeDocument/2006/relationships/image" Target="../media/image50.jpeg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ariuver.files.wordpress.com/2010/06/volga-reka_mira.jpg" TargetMode="External"/><Relationship Id="rId2" Type="http://schemas.openxmlformats.org/officeDocument/2006/relationships/image" Target="../media/image51.jpeg"/><Relationship Id="rId3" Type="http://schemas.openxmlformats.org/officeDocument/2006/relationships/hyperlink" Target="http://www.samddn.ru/old/oldnews/2007/news-8/4.jpg" TargetMode="External"/><Relationship Id="rId4" Type="http://schemas.openxmlformats.org/officeDocument/2006/relationships/image" Target="../media/image52.jpeg"/><Relationship Id="rId5" Type="http://schemas.openxmlformats.org/officeDocument/2006/relationships/hyperlink" Target="http://forum.ribca.net/ibf_new/rss_pics/pics.vesti.ru/p/b_257609.jpg" TargetMode="External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hyperlink" Target="http://www.tuva.asia/uploads/posts/2009-09/1254335473_tatary.jpg" TargetMode="External"/><Relationship Id="rId9" Type="http://schemas.openxmlformats.org/officeDocument/2006/relationships/image" Target="../media/image55.jpeg"/><Relationship Id="rId10" Type="http://schemas.openxmlformats.org/officeDocument/2006/relationships/hyperlink" Target="http://www.etnolog.ru/images/people/full/gagauzy.jpg" TargetMode="External"/><Relationship Id="rId11" Type="http://schemas.openxmlformats.org/officeDocument/2006/relationships/image" Target="../media/image56.jpeg"/><Relationship Id="rId12" Type="http://schemas.openxmlformats.org/officeDocument/2006/relationships/hyperlink" Target="http://shkolazhizni.ru/img/content/i36/36952_or.jpg" TargetMode="External"/><Relationship Id="rId13" Type="http://schemas.openxmlformats.org/officeDocument/2006/relationships/image" Target="../media/image57.jpeg"/><Relationship Id="rId14" Type="http://schemas.openxmlformats.org/officeDocument/2006/relationships/image" Target="../media/image58.jpeg"/><Relationship Id="rId15" Type="http://schemas.openxmlformats.org/officeDocument/2006/relationships/image" Target="../media/image59.jpeg"/><Relationship Id="rId16" Type="http://schemas.openxmlformats.org/officeDocument/2006/relationships/image" Target="../media/image60.jpeg"/><Relationship Id="rId17" Type="http://schemas.openxmlformats.org/officeDocument/2006/relationships/image" Target="../media/image61.jpeg"/><Relationship Id="rId18" Type="http://schemas.openxmlformats.org/officeDocument/2006/relationships/image" Target="../media/image62.jpeg"/><Relationship Id="rId19" Type="http://schemas.openxmlformats.org/officeDocument/2006/relationships/image" Target="../media/image63.jpeg"/><Relationship Id="rId20" Type="http://schemas.openxmlformats.org/officeDocument/2006/relationships/image" Target="../media/image64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900igr.net/datas/strany/s.-Rossija-2.files/0008-008-1.Rossija-svjaschennaja-nasha-derzhava-Rossija-ljubimaja-nasha-strana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primamedia.ru/files/39145.png" TargetMode="Externa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В стране ВЫБОРОВ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резентация к внеклассному мероприятию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Выполнила: учитель начальных классов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аутина Вера Алексеевна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МКОУ «Бережковская ООШ»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ировский район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ава ребёнка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50" name="Picture 13" descr="unicef"/>
          <p:cNvPicPr/>
          <p:nvPr/>
        </p:nvPicPr>
        <p:blipFill>
          <a:blip r:embed="rId1"/>
          <a:stretch/>
        </p:blipFill>
        <p:spPr>
          <a:xfrm>
            <a:off x="468360" y="404640"/>
            <a:ext cx="2590920" cy="2400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0004-004-Dokumenty-po-pravam-rebjonka"/>
          <p:cNvPicPr/>
          <p:nvPr/>
        </p:nvPicPr>
        <p:blipFill>
          <a:blip r:embed="rId2"/>
          <a:stretch/>
        </p:blipFill>
        <p:spPr>
          <a:xfrm>
            <a:off x="324000" y="32130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-%20bez%20avtora%20-%20-%20Deklaratsiya%20prav%20rebenka"/>
          <p:cNvPicPr/>
          <p:nvPr/>
        </p:nvPicPr>
        <p:blipFill>
          <a:blip r:embed="rId3"/>
          <a:stretch/>
        </p:blipFill>
        <p:spPr>
          <a:xfrm>
            <a:off x="4643280" y="1125360"/>
            <a:ext cx="2016360" cy="302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1248032352_22"/>
          <p:cNvPicPr/>
          <p:nvPr/>
        </p:nvPicPr>
        <p:blipFill>
          <a:blip r:embed="rId4"/>
          <a:stretch/>
        </p:blipFill>
        <p:spPr>
          <a:xfrm>
            <a:off x="6732720" y="3141720"/>
            <a:ext cx="2031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Наши права: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631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имя,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отчество, фамилию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знать своих родителей,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совместно с ними проживать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заботу 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и защиту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общение со своими родителями;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бабушками, дедушками, братьями и сёстрами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обучение и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воспитание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общение с обоими 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родителями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 право на отдых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 и игру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выражать своё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мнение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уважение человеческого 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достоинства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защиту своих прав и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законных интересов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 право на медицинское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обслуживание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 право на участие в общественной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жизни класса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6" name="Picture 13" descr="unicef"/>
          <p:cNvPicPr/>
          <p:nvPr/>
        </p:nvPicPr>
        <p:blipFill>
          <a:blip r:embed="rId1"/>
          <a:stretch/>
        </p:blipFill>
        <p:spPr>
          <a:xfrm>
            <a:off x="6732720" y="189000"/>
            <a:ext cx="17287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ы обязаны: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Хорошо учиться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Приходить в школу вовремя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Внимательно слушать учителя во время уроков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Быть аккуратным и вежливым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Соблюдать правила поведения в школе и общественных местах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Не бегать и не кричать на переменах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Не мешать окружающим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Обязательно выполнять требования дежурных в школе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Беречь учебники и школьное оборудование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Уважать труд технического работника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9" name="Picture 13" descr="unicef"/>
          <p:cNvPicPr/>
          <p:nvPr/>
        </p:nvPicPr>
        <p:blipFill>
          <a:blip r:embed="rId1"/>
          <a:stretch/>
        </p:blipFill>
        <p:spPr>
          <a:xfrm>
            <a:off x="7020000" y="189000"/>
            <a:ext cx="16923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авительство страны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Форма правления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зидентско-парламентская республика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езидент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адимир Владимирович Путин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едседатель правительства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митрий Анатольевич Медведев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2" name="Picture 7" descr="Картинка 183 из 33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125360"/>
            <a:ext cx="2162160" cy="237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Картинка 3 из 35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88080" y="3645000"/>
            <a:ext cx="18511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Наши президенты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65" name="Picture 4" descr="0000010522-540x450"/>
          <p:cNvPicPr/>
          <p:nvPr/>
        </p:nvPicPr>
        <p:blipFill>
          <a:blip r:embed="rId1"/>
          <a:stretch/>
        </p:blipFill>
        <p:spPr>
          <a:xfrm>
            <a:off x="1979640" y="1268280"/>
            <a:ext cx="5688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нституция России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668760" cy="46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ahoma"/>
              </a:rPr>
              <a:t>Из Конституции РФ, статья 32 гласит: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Граждане Российской Федерации имеют право избирать и быть избранными в органы государствен­ной власти и органы местного самоуправления, а также участвовать в референдуме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Граждане Российской Федерации имеют равный доступ к государственной службе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8" name="Picture 4" descr="54846"/>
          <p:cNvPicPr/>
          <p:nvPr/>
        </p:nvPicPr>
        <p:blipFill>
          <a:blip r:embed="rId1"/>
          <a:stretch/>
        </p:blipFill>
        <p:spPr>
          <a:xfrm>
            <a:off x="923760" y="1295280"/>
            <a:ext cx="3333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Избирательные права граждан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Rage Italic"/>
              </a:rPr>
              <a:t>Активное избирательное право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Rage Italic"/>
              </a:rPr>
              <a:t>По Конституции РФ 18-летний гражданин приобретает право избирать в представительные и исполнительные органы власти, начиная от органа местного самоуправления вплоть до Президента страны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Rage Italic"/>
              </a:rPr>
              <a:t>Пассивное избирательное право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age Italic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age Italic"/>
              </a:rPr>
              <a:t>В 35 - Президентом Российской Федерации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Rage Italic"/>
              </a:rPr>
              <a:t>В 21 год вы сможете стать депутатом Государственной Думы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2" name="Picture 8" descr="j0297529"/>
          <p:cNvPicPr/>
          <p:nvPr/>
        </p:nvPicPr>
        <p:blipFill>
          <a:blip r:embed="rId1"/>
          <a:stretch/>
        </p:blipFill>
        <p:spPr>
          <a:xfrm>
            <a:off x="4572000" y="4581360"/>
            <a:ext cx="26622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сё начинается с избирательного участка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74" name="Picture 11" descr="picture(3)"/>
          <p:cNvPicPr/>
          <p:nvPr/>
        </p:nvPicPr>
        <p:blipFill>
          <a:blip r:embed="rId1"/>
          <a:stretch/>
        </p:blipFill>
        <p:spPr>
          <a:xfrm>
            <a:off x="1092240" y="1295280"/>
            <a:ext cx="2995560" cy="2248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238859_s1"/>
          <p:cNvPicPr/>
          <p:nvPr/>
        </p:nvPicPr>
        <p:blipFill>
          <a:blip r:embed="rId2"/>
          <a:stretch/>
        </p:blipFill>
        <p:spPr>
          <a:xfrm>
            <a:off x="4708440" y="1295280"/>
            <a:ext cx="3687840" cy="224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3491"/>
          <p:cNvPicPr/>
          <p:nvPr/>
        </p:nvPicPr>
        <p:blipFill>
          <a:blip r:embed="rId3"/>
          <a:stretch/>
        </p:blipFill>
        <p:spPr>
          <a:xfrm>
            <a:off x="925560" y="3695760"/>
            <a:ext cx="3330360" cy="2247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236704_max"/>
          <p:cNvPicPr/>
          <p:nvPr/>
        </p:nvPicPr>
        <p:blipFill>
          <a:blip r:embed="rId4"/>
          <a:stretch/>
        </p:blipFill>
        <p:spPr>
          <a:xfrm>
            <a:off x="4873680" y="3695760"/>
            <a:ext cx="3357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Этапы выборов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 этап - Начинается избирательный процесс с решения о назначении выборов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2 этап - За 30 дней до дня голосования образуются участковые комиссии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3 этап - Выдвижение кандидатов, сбор подписей в его поддержку и регистрация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4 этап - Предвыборная агитация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5 этап - Голосование и определение итогов выборов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6 этап - Регистрация избранных депутатов или других выборных лиц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6880" y="333360"/>
            <a:ext cx="80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В каком документе страны записано право, избирать и быть избранным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620640"/>
            <a:ext cx="37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Конституция Российской Федерации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360" y="98100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Кто был первый президент Росси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0520" y="1052640"/>
            <a:ext cx="140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Ельцын Б.Н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3280" y="1413000"/>
            <a:ext cx="60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С какого возраста могут голосовать граждане Росси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2360" y="1484280"/>
            <a:ext cx="99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С 18 ле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080" y="1773360"/>
            <a:ext cx="73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Как называется небольшое помещение специального назначения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торое используется во время выборов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86520" y="1916280"/>
            <a:ext cx="89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Кабин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492280"/>
            <a:ext cx="52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На сколько лет выбирают Президента Росси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2492280"/>
            <a:ext cx="105228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На 6 лет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3640" y="29242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С какого возраста человек может быть избран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зидентом Росси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42920" y="2997360"/>
            <a:ext cx="233712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С 35-летнего возраст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573360"/>
            <a:ext cx="98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Выборы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4221000"/>
            <a:ext cx="78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С какого возраста граждане России могут быть избранны депутатам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72360" y="422100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1 г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465300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. Как называется ящик с узким отверстием для    опускания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бирательных  бюллетеней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02520" y="4797360"/>
            <a:ext cx="68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Урн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3800" y="5373720"/>
            <a:ext cx="58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 Официальный документ – листок для голосования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7240" y="5300640"/>
            <a:ext cx="124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Бюллетень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9120" y="5805360"/>
            <a:ext cx="61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. Тот, кто участвует в выборах или имеет на это право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53800" y="5805360"/>
            <a:ext cx="13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Избиратель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5440" y="371628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 Избрание путём голосования должностных лиц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Наша страна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1132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оссия или Российская Федерац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рупнейшее государство мира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селение —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141 927 296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толица России — Москва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3" name="Content Placeholder 4" descr="111.jpg"/>
          <p:cNvPicPr/>
          <p:nvPr/>
        </p:nvPicPr>
        <p:blipFill>
          <a:blip r:embed="rId1"/>
          <a:stretch/>
        </p:blipFill>
        <p:spPr>
          <a:xfrm>
            <a:off x="4859280" y="2481120"/>
            <a:ext cx="3745080" cy="227664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Родная Земля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203" name="Picture 5" descr="Картинка 2 из 65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052640"/>
            <a:ext cx="2286000" cy="1490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Картинка 243 из 3542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2708280"/>
            <a:ext cx="2810160" cy="1833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Картинка 163 из 66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4724280"/>
            <a:ext cx="2808360" cy="16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Картинка 44 из 659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981000"/>
            <a:ext cx="2447640" cy="1625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Картинка 147 из 663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2781360"/>
            <a:ext cx="2303640" cy="1725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Картинка 308 из 663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92360" y="4581360"/>
            <a:ext cx="2808360" cy="1765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Картинка 85 из 663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27640" y="907920"/>
            <a:ext cx="2016360" cy="1509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Картинка 304 из 663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372360" y="2637000"/>
            <a:ext cx="2087280" cy="1787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Картинка 16 из 165722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443640" y="4724280"/>
            <a:ext cx="2232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Народы России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213" name="Picture 19" descr="Картинка 37 из 1569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4640"/>
            <a:ext cx="1728720" cy="129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Картинка 50 из 1569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773360"/>
            <a:ext cx="1908360" cy="142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Картинка 34 из 15699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1943280" cy="1457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9" descr="i?id=372409032-42-72"/>
          <p:cNvPicPr/>
          <p:nvPr/>
        </p:nvPicPr>
        <p:blipFill>
          <a:blip r:embed="rId7"/>
          <a:stretch/>
        </p:blipFill>
        <p:spPr>
          <a:xfrm>
            <a:off x="468360" y="4869000"/>
            <a:ext cx="2016000" cy="15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Картинка 42 из 15699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981000"/>
            <a:ext cx="1727280" cy="130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Картинка 31 из 15699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27280" y="2421000"/>
            <a:ext cx="1409760" cy="194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1" descr="Картинка 168 из 15699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627280" y="4653000"/>
            <a:ext cx="2160720" cy="1374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Картинка 20 из 156995"/>
          <p:cNvPicPr/>
          <p:nvPr/>
        </p:nvPicPr>
        <p:blipFill>
          <a:blip r:embed="rId14"/>
          <a:stretch/>
        </p:blipFill>
        <p:spPr>
          <a:xfrm>
            <a:off x="4859280" y="981000"/>
            <a:ext cx="1339920" cy="201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Картинка 24 из 156995"/>
          <p:cNvPicPr/>
          <p:nvPr/>
        </p:nvPicPr>
        <p:blipFill>
          <a:blip r:embed="rId15"/>
          <a:stretch/>
        </p:blipFill>
        <p:spPr>
          <a:xfrm>
            <a:off x="4356000" y="3141720"/>
            <a:ext cx="1800360" cy="1203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7" descr="Картинка 66 из 156995"/>
          <p:cNvPicPr/>
          <p:nvPr/>
        </p:nvPicPr>
        <p:blipFill>
          <a:blip r:embed="rId16"/>
          <a:stretch/>
        </p:blipFill>
        <p:spPr>
          <a:xfrm>
            <a:off x="4932360" y="4653000"/>
            <a:ext cx="1800360" cy="1346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Картинка 13 из 156205"/>
          <p:cNvPicPr/>
          <p:nvPr/>
        </p:nvPicPr>
        <p:blipFill>
          <a:blip r:embed="rId17"/>
          <a:stretch/>
        </p:blipFill>
        <p:spPr>
          <a:xfrm>
            <a:off x="6659640" y="476280"/>
            <a:ext cx="2089080" cy="1395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Дагестан. Табасаранские ковры"/>
          <p:cNvPicPr/>
          <p:nvPr/>
        </p:nvPicPr>
        <p:blipFill>
          <a:blip r:embed="rId18"/>
          <a:stretch/>
        </p:blipFill>
        <p:spPr>
          <a:xfrm>
            <a:off x="6659640" y="1916280"/>
            <a:ext cx="1873080" cy="1212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Картинка 23 из 156995"/>
          <p:cNvPicPr/>
          <p:nvPr/>
        </p:nvPicPr>
        <p:blipFill>
          <a:blip r:embed="rId19"/>
          <a:stretch/>
        </p:blipFill>
        <p:spPr>
          <a:xfrm>
            <a:off x="6732720" y="3213000"/>
            <a:ext cx="1800000" cy="134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Картинка 53 из 156995"/>
          <p:cNvPicPr/>
          <p:nvPr/>
        </p:nvPicPr>
        <p:blipFill>
          <a:blip r:embed="rId20"/>
          <a:stretch/>
        </p:blipFill>
        <p:spPr>
          <a:xfrm>
            <a:off x="6804000" y="4724280"/>
            <a:ext cx="20160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осква – столица нашей Родины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15" name="Picture 5" descr="100px-Coat_of_Arms_of_Moscow"/>
          <p:cNvPicPr/>
          <p:nvPr/>
        </p:nvPicPr>
        <p:blipFill>
          <a:blip r:embed="rId1"/>
          <a:stretch/>
        </p:blipFill>
        <p:spPr>
          <a:xfrm>
            <a:off x="17928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W"/>
          <p:cNvPicPr/>
          <p:nvPr/>
        </p:nvPicPr>
        <p:blipFill>
          <a:blip r:embed="rId2"/>
          <a:stretch/>
        </p:blipFill>
        <p:spPr>
          <a:xfrm>
            <a:off x="1905120" y="1619280"/>
            <a:ext cx="57625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обери пословицы.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53440" cy="464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Одна у человека мать,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Для Родины своей ни сил,</a:t>
            </a: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Родная сторона – мать,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одна у него и Родина.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чужая – мачеха.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ни жизни не жалей.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C 0.09305 -0.13033 0.18628 -0.26019 0.22448 -0.31111 E">
                                      <p:cBhvr>
                                        <p:cTn id="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811 C 0.10694 -0.18982 0.22188 -0.37153 0.26788 -0.44422 E">
                                      <p:cBhvr>
                                        <p:cTn id="10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917 -0.09167 0.15834 -0.18334 0.18993 -0.22084 E">
                                      <p:cBhvr>
                                        <p:cTn id="14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Государственные символы России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440" y="1295280"/>
            <a:ext cx="3809880" cy="464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5 из 95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268280"/>
            <a:ext cx="4319640" cy="475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ртинка 9 из 7421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18160" y="1295280"/>
            <a:ext cx="1870200" cy="224820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4" descr="govern.png"/>
          <p:cNvPicPr/>
          <p:nvPr/>
        </p:nvPicPr>
        <p:blipFill>
          <a:blip r:embed="rId6"/>
          <a:stretch/>
        </p:blipFill>
        <p:spPr>
          <a:xfrm>
            <a:off x="5110200" y="3705120"/>
            <a:ext cx="2886120" cy="2229120"/>
          </a:xfrm>
          <a:prstGeom prst="rect">
            <a:avLst/>
          </a:prstGeom>
          <a:ln cap="sq" w="38160">
            <a:solidFill>
              <a:srgbClr val="00006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Константин Дмитриевич Ушинский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Много есть на свете и кроме России всяких хороших государств и земель, но одна у человека родная мать – одна у него и Родина”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6" name="Picture 7" descr="31-140"/>
          <p:cNvPicPr/>
          <p:nvPr/>
        </p:nvPicPr>
        <p:blipFill>
          <a:blip r:embed="rId1"/>
          <a:stretch/>
        </p:blipFill>
        <p:spPr>
          <a:xfrm>
            <a:off x="531720" y="1341360"/>
            <a:ext cx="37753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алуга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28" name="Picture 5" descr="1220874963_gerb1"/>
          <p:cNvPicPr/>
          <p:nvPr/>
        </p:nvPicPr>
        <p:blipFill>
          <a:blip r:embed="rId1"/>
          <a:stretch/>
        </p:blipFill>
        <p:spPr>
          <a:xfrm>
            <a:off x="250920" y="189000"/>
            <a:ext cx="2035080" cy="24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kaluga_center"/>
          <p:cNvPicPr/>
          <p:nvPr/>
        </p:nvPicPr>
        <p:blipFill>
          <a:blip r:embed="rId2"/>
          <a:stretch/>
        </p:blipFill>
        <p:spPr>
          <a:xfrm>
            <a:off x="6516720" y="26028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0_146bf_dbf40a04_XL"/>
          <p:cNvPicPr/>
          <p:nvPr/>
        </p:nvPicPr>
        <p:blipFill>
          <a:blip r:embed="rId3"/>
          <a:stretch/>
        </p:blipFill>
        <p:spPr>
          <a:xfrm>
            <a:off x="2627280" y="1125360"/>
            <a:ext cx="2736720" cy="20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aluga684"/>
          <p:cNvPicPr/>
          <p:nvPr/>
        </p:nvPicPr>
        <p:blipFill>
          <a:blip r:embed="rId4"/>
          <a:stretch/>
        </p:blipFill>
        <p:spPr>
          <a:xfrm>
            <a:off x="250920" y="3789360"/>
            <a:ext cx="3314520" cy="221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344438324_kalugaphp"/>
          <p:cNvPicPr/>
          <p:nvPr/>
        </p:nvPicPr>
        <p:blipFill>
          <a:blip r:embed="rId5"/>
          <a:stretch/>
        </p:blipFill>
        <p:spPr>
          <a:xfrm>
            <a:off x="3708360" y="3789360"/>
            <a:ext cx="2951280" cy="2209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_2df021d7"/>
          <p:cNvPicPr/>
          <p:nvPr/>
        </p:nvPicPr>
        <p:blipFill>
          <a:blip r:embed="rId6"/>
          <a:stretch/>
        </p:blipFill>
        <p:spPr>
          <a:xfrm>
            <a:off x="6804000" y="3429000"/>
            <a:ext cx="1905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Город Киров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35" name="Picture 5" descr="gerb-kirov"/>
          <p:cNvPicPr/>
          <p:nvPr/>
        </p:nvPicPr>
        <p:blipFill>
          <a:blip r:embed="rId1"/>
          <a:stretch/>
        </p:blipFill>
        <p:spPr>
          <a:xfrm>
            <a:off x="395280" y="620640"/>
            <a:ext cx="1579680" cy="2060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ll_3"/>
          <p:cNvPicPr/>
          <p:nvPr/>
        </p:nvPicPr>
        <p:blipFill>
          <a:blip r:embed="rId2"/>
          <a:stretch/>
        </p:blipFill>
        <p:spPr>
          <a:xfrm>
            <a:off x="2050920" y="1700280"/>
            <a:ext cx="194472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admin_sm_sm"/>
          <p:cNvPicPr/>
          <p:nvPr/>
        </p:nvPicPr>
        <p:blipFill>
          <a:blip r:embed="rId3"/>
          <a:stretch/>
        </p:blipFill>
        <p:spPr>
          <a:xfrm>
            <a:off x="4140360" y="126828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kirovpam-4050"/>
          <p:cNvPicPr/>
          <p:nvPr/>
        </p:nvPicPr>
        <p:blipFill>
          <a:blip r:embed="rId4"/>
          <a:stretch/>
        </p:blipFill>
        <p:spPr>
          <a:xfrm>
            <a:off x="6659640" y="549360"/>
            <a:ext cx="1895400" cy="2528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06_0062845b"/>
          <p:cNvPicPr/>
          <p:nvPr/>
        </p:nvPicPr>
        <p:blipFill>
          <a:blip r:embed="rId5"/>
          <a:stretch/>
        </p:blipFill>
        <p:spPr>
          <a:xfrm>
            <a:off x="395280" y="4292640"/>
            <a:ext cx="2809800" cy="1874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c2RlbGFub3VuYXMucnUvdXBsb2Fkcy83LzcvNzcwMTM0OTA5NzYzNS5qcGVnP19faWQ9MjI5MjQ="/>
          <p:cNvPicPr/>
          <p:nvPr/>
        </p:nvPicPr>
        <p:blipFill>
          <a:blip r:embed="rId6"/>
          <a:stretch/>
        </p:blipFill>
        <p:spPr>
          <a:xfrm>
            <a:off x="3276720" y="3645000"/>
            <a:ext cx="28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kirov15"/>
          <p:cNvPicPr/>
          <p:nvPr/>
        </p:nvPicPr>
        <p:blipFill>
          <a:blip r:embed="rId7"/>
          <a:stretch/>
        </p:blipFill>
        <p:spPr>
          <a:xfrm>
            <a:off x="6300720" y="3716280"/>
            <a:ext cx="25192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Деревня Бережки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43" name="Picture 5" descr="306_0060927b"/>
          <p:cNvPicPr/>
          <p:nvPr/>
        </p:nvPicPr>
        <p:blipFill>
          <a:blip r:embed="rId1"/>
          <a:stretch/>
        </p:blipFill>
        <p:spPr>
          <a:xfrm>
            <a:off x="179280" y="333360"/>
            <a:ext cx="19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солдат 1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124000" y="1125360"/>
            <a:ext cx="2592360" cy="1859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обелиск"/>
          <p:cNvPicPr/>
          <p:nvPr/>
        </p:nvPicPr>
        <p:blipFill>
          <a:blip r:embed="rId3"/>
          <a:stretch/>
        </p:blipFill>
        <p:spPr>
          <a:xfrm>
            <a:off x="4140360" y="1628640"/>
            <a:ext cx="2555640" cy="162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306_0060930b"/>
          <p:cNvPicPr/>
          <p:nvPr/>
        </p:nvPicPr>
        <p:blipFill>
          <a:blip r:embed="rId4"/>
          <a:stretch/>
        </p:blipFill>
        <p:spPr>
          <a:xfrm>
            <a:off x="6804000" y="333360"/>
            <a:ext cx="2025720" cy="295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сарлшо"/>
          <p:cNvPicPr/>
          <p:nvPr/>
        </p:nvPicPr>
        <p:blipFill>
          <a:blip r:embed="rId5"/>
          <a:stretch/>
        </p:blipFill>
        <p:spPr>
          <a:xfrm>
            <a:off x="1042920" y="3573360"/>
            <a:ext cx="2971800" cy="2724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SL272983"/>
          <p:cNvPicPr/>
          <p:nvPr/>
        </p:nvPicPr>
        <p:blipFill>
          <a:blip r:embed="rId6"/>
          <a:stretch/>
        </p:blipFill>
        <p:spPr>
          <a:xfrm>
            <a:off x="4572000" y="3500280"/>
            <a:ext cx="3816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6:56:58Z</dcterms:created>
  <dc:creator>Гена</dc:creator>
  <dc:description/>
  <dc:language>en-US</dc:language>
  <cp:lastModifiedBy>Гена</cp:lastModifiedBy>
  <dcterms:modified xsi:type="dcterms:W3CDTF">2013-03-24T08:55:46Z</dcterms:modified>
  <cp:revision>9</cp:revision>
  <dc:subject/>
  <dc:title>В стране ВЫБОРОВ</dc:title>
</cp:coreProperties>
</file>