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6.jpeg" ContentType="image/jpeg"/>
  <Override PartName="/ppt/media/image63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64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29.jpeg" ContentType="image/jpeg"/>
  <Override PartName="/ppt/media/image37.wmf" ContentType="image/x-wmf"/>
  <Override PartName="/ppt/media/image12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553-2BEE-4F1D-8447-27068AEB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AE7-7AA2-4A0B-A19D-AF772210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803-9D03-498B-9FE4-08345BC4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5DC-16B5-4608-A767-2AB89C84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38A2-C9B5-4F9D-9988-A5870FF5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8621-F4E5-4F7F-B634-6B48A611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1257-B597-4127-96A8-F14E3B7C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ADB9-2146-49FD-8F53-067672B6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D3D9-CCC7-4746-9973-DFFE0A1A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89EF-0500-4C96-8FAC-C897FDE6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F7DD-E319-46F0-9B9B-834664EE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D34-6111-4A4D-8170-7669D9C3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90DF-59E5-48FC-8754-A5B1740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6CF5-F613-42BD-BB4B-0995AD5D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A5B8-395D-4FD6-93C7-25009823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A4FB-D6C9-47E7-8BC1-22B7223C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F385-807D-4AB9-AF0B-A79AA47A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C30-FC89-4D43-9B3F-DB3B8E51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289-D011-499E-B8CB-0FF4FB26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92C-116D-4031-8F06-7242704B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8D5-2CA5-4041-9A91-BBD0AA07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492-7E47-4555-A9E9-1FE6EE9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DF1-FE6B-4539-925A-E8EF29A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FB3-55BB-406F-82BC-1C1A0436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8341-9EFE-4CC6-A338-E03CF9BE5909}" type="slidenum">
              <a:rPr b="0" lang="en-US" sz="1400" spc="-1" strike="noStrike">
                <a:solidFill>
                  <a:srgbClr val="33cc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33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0DF6-3B3C-470E-A8E8-0547397D57D9}" type="slidenum">
              <a:rPr b="0" lang="en-US" sz="1400" spc="-1" strike="noStrike">
                <a:solidFill>
                  <a:srgbClr val="33cc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shvest.ru/photos/03.12.2008/IMG_3510.jpg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proza.ru/pics/2011/05/09/552.jpg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ost-3-12287696228289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kinfo.ru/user/upload/file246248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www.media.nakanune.ru/images/pictures/image_big_17180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nordural.ru/i0/i1224417617/big/08-12/1230578288.jpg" TargetMode="External"/><Relationship Id="rId8" Type="http://schemas.openxmlformats.org/officeDocument/2006/relationships/image" Target="../media/image45.jpeg"/><Relationship Id="rId9" Type="http://schemas.openxmlformats.org/officeDocument/2006/relationships/hyperlink" Target="http://www.bugaga.ru/uploads/posts/2009-06/1244743817_foto_06.jpg" TargetMode="External"/><Relationship Id="rId10" Type="http://schemas.openxmlformats.org/officeDocument/2006/relationships/image" Target="../media/image46.jpeg"/><Relationship Id="rId11" Type="http://schemas.openxmlformats.org/officeDocument/2006/relationships/hyperlink" Target="http://data13.gallery.ru/albums/gallery/5657--37094187-.jpg" TargetMode="External"/><Relationship Id="rId12" Type="http://schemas.openxmlformats.org/officeDocument/2006/relationships/image" Target="../media/image47.jpeg"/><Relationship Id="rId13" Type="http://schemas.openxmlformats.org/officeDocument/2006/relationships/hyperlink" Target="http://img-fotki.yandex.ru/get/14/majstrenko-yuliya.1/0_83fa_bc81dc60_XL" TargetMode="External"/><Relationship Id="rId14" Type="http://schemas.openxmlformats.org/officeDocument/2006/relationships/image" Target="../media/image48.jpeg"/><Relationship Id="rId15" Type="http://schemas.openxmlformats.org/officeDocument/2006/relationships/hyperlink" Target="http://www.museum.ru/museum/1812/Memorial/PG/pic/11027v.jpg" TargetMode="External"/><Relationship Id="rId16" Type="http://schemas.openxmlformats.org/officeDocument/2006/relationships/image" Target="../media/image49.jpeg"/><Relationship Id="rId17" Type="http://schemas.openxmlformats.org/officeDocument/2006/relationships/hyperlink" Target="http://i008.radikal.ru/0904/1a/2c2007dbc352.jpg" TargetMode="External"/><Relationship Id="rId18" Type="http://schemas.openxmlformats.org/officeDocument/2006/relationships/image" Target="../media/image50.jpeg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ariuver.files.wordpress.com/2010/06/volga-reka_mira.jpg" TargetMode="External"/><Relationship Id="rId2" Type="http://schemas.openxmlformats.org/officeDocument/2006/relationships/image" Target="../media/image51.jpeg"/><Relationship Id="rId3" Type="http://schemas.openxmlformats.org/officeDocument/2006/relationships/hyperlink" Target="http://www.samddn.ru/old/oldnews/2007/news-8/4.jpg" TargetMode="External"/><Relationship Id="rId4" Type="http://schemas.openxmlformats.org/officeDocument/2006/relationships/image" Target="../media/image52.jpeg"/><Relationship Id="rId5" Type="http://schemas.openxmlformats.org/officeDocument/2006/relationships/hyperlink" Target="http://forum.ribca.net/ibf_new/rss_pics/pics.vesti.ru/p/b_257609.jpg" TargetMode="External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hyperlink" Target="http://www.tuva.asia/uploads/posts/2009-09/1254335473_tatary.jpg" TargetMode="External"/><Relationship Id="rId9" Type="http://schemas.openxmlformats.org/officeDocument/2006/relationships/image" Target="../media/image55.jpeg"/><Relationship Id="rId10" Type="http://schemas.openxmlformats.org/officeDocument/2006/relationships/hyperlink" Target="http://www.etnolog.ru/images/people/full/gagauzy.jpg" TargetMode="External"/><Relationship Id="rId11" Type="http://schemas.openxmlformats.org/officeDocument/2006/relationships/image" Target="../media/image56.jpeg"/><Relationship Id="rId12" Type="http://schemas.openxmlformats.org/officeDocument/2006/relationships/hyperlink" Target="http://shkolazhizni.ru/img/content/i36/36952_or.jpg" TargetMode="External"/><Relationship Id="rId13" Type="http://schemas.openxmlformats.org/officeDocument/2006/relationships/image" Target="../media/image57.jpeg"/><Relationship Id="rId14" Type="http://schemas.openxmlformats.org/officeDocument/2006/relationships/image" Target="../media/image58.jpeg"/><Relationship Id="rId15" Type="http://schemas.openxmlformats.org/officeDocument/2006/relationships/image" Target="../media/image59.jpeg"/><Relationship Id="rId16" Type="http://schemas.openxmlformats.org/officeDocument/2006/relationships/image" Target="../media/image60.jpeg"/><Relationship Id="rId17" Type="http://schemas.openxmlformats.org/officeDocument/2006/relationships/image" Target="../media/image61.jpeg"/><Relationship Id="rId18" Type="http://schemas.openxmlformats.org/officeDocument/2006/relationships/image" Target="../media/image62.jpeg"/><Relationship Id="rId19" Type="http://schemas.openxmlformats.org/officeDocument/2006/relationships/image" Target="../media/image63.jpeg"/><Relationship Id="rId20" Type="http://schemas.openxmlformats.org/officeDocument/2006/relationships/image" Target="../media/image64.jpe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900igr.net/datas/strany/s.-Rossija-2.files/0008-008-1.Rossija-svjaschennaja-nasha-derzhava-Rossija-ljubimaja-nasha-strana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primamedia.ru/files/39145.png" TargetMode="Externa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В стране ВЫБОРОВ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резентация к внеклассному мероприятию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Выполнила: учитель начальных классов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аутина Вера Алексеевна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МКОУ «Бережковская ООШ»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ировский район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ава ребёнка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50" name="Picture 13" descr="unicef"/>
          <p:cNvPicPr/>
          <p:nvPr/>
        </p:nvPicPr>
        <p:blipFill>
          <a:blip r:embed="rId1"/>
          <a:stretch/>
        </p:blipFill>
        <p:spPr>
          <a:xfrm>
            <a:off x="468360" y="404640"/>
            <a:ext cx="2590920" cy="2400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0004-004-Dokumenty-po-pravam-rebjonka"/>
          <p:cNvPicPr/>
          <p:nvPr/>
        </p:nvPicPr>
        <p:blipFill>
          <a:blip r:embed="rId2"/>
          <a:stretch/>
        </p:blipFill>
        <p:spPr>
          <a:xfrm>
            <a:off x="324000" y="321300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-%20bez%20avtora%20-%20-%20Deklaratsiya%20prav%20rebenka"/>
          <p:cNvPicPr/>
          <p:nvPr/>
        </p:nvPicPr>
        <p:blipFill>
          <a:blip r:embed="rId3"/>
          <a:stretch/>
        </p:blipFill>
        <p:spPr>
          <a:xfrm>
            <a:off x="4643280" y="1125360"/>
            <a:ext cx="2016360" cy="302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1248032352_22"/>
          <p:cNvPicPr/>
          <p:nvPr/>
        </p:nvPicPr>
        <p:blipFill>
          <a:blip r:embed="rId4"/>
          <a:stretch/>
        </p:blipFill>
        <p:spPr>
          <a:xfrm>
            <a:off x="6732720" y="3141720"/>
            <a:ext cx="2031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Наши права: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631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имя,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отчество, фамилию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знать своих родителей,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совместно с ними проживать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заботу 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и защиту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общение со своими родителями;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бабушками, дедушками, братьями и сёстрами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обучение и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воспитание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общение с обоими 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родителями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 право на отдых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 и игру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выражать своё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мнение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уважение человеческого 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достоинства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 право на защиту своих прав и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законных интересов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 право на медицинское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обслуживание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- право на участие в общественной 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жизни класса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6" name="Picture 13" descr="unicef"/>
          <p:cNvPicPr/>
          <p:nvPr/>
        </p:nvPicPr>
        <p:blipFill>
          <a:blip r:embed="rId1"/>
          <a:stretch/>
        </p:blipFill>
        <p:spPr>
          <a:xfrm>
            <a:off x="6732720" y="189000"/>
            <a:ext cx="17287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ы обязаны: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Хорошо учиться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Приходить в школу вовремя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Внимательно слушать учителя во время уроков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Быть аккуратным и вежливым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Соблюдать правила поведения в школе и общественных местах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Не бегать и не кричать на переменах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Не мешать окружающим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Обязательно выполнять требования дежурных в школе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Беречь учебники и школьное оборудование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Уважать труд технического работника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9" name="Picture 13" descr="unicef"/>
          <p:cNvPicPr/>
          <p:nvPr/>
        </p:nvPicPr>
        <p:blipFill>
          <a:blip r:embed="rId1"/>
          <a:stretch/>
        </p:blipFill>
        <p:spPr>
          <a:xfrm>
            <a:off x="7020000" y="189000"/>
            <a:ext cx="16923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авительство страны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Форма правления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зидентско-парламентская республика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езидент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адимир Владимирович Путин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едседатель правительства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митрий Анатольевич Медведев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2" name="Picture 7" descr="Картинка 183 из 33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125360"/>
            <a:ext cx="2162160" cy="237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Картинка 3 из 359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88080" y="3645000"/>
            <a:ext cx="18511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Наши президенты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65" name="Picture 4" descr="0000010522-540x450"/>
          <p:cNvPicPr/>
          <p:nvPr/>
        </p:nvPicPr>
        <p:blipFill>
          <a:blip r:embed="rId1"/>
          <a:stretch/>
        </p:blipFill>
        <p:spPr>
          <a:xfrm>
            <a:off x="1979640" y="1268280"/>
            <a:ext cx="5688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нституция России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668760" cy="46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Tahoma"/>
              </a:rPr>
              <a:t>Из Конституции РФ, статья 32 гласит: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Граждане Российской Федерации имеют право избирать и быть избранными в органы государствен­ной власти и органы местного самоуправления, а также участвовать в референдуме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Граждане Российской Федерации имеют равный доступ к государственной службе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8" name="Picture 4" descr="54846"/>
          <p:cNvPicPr/>
          <p:nvPr/>
        </p:nvPicPr>
        <p:blipFill>
          <a:blip r:embed="rId1"/>
          <a:stretch/>
        </p:blipFill>
        <p:spPr>
          <a:xfrm>
            <a:off x="923760" y="1295280"/>
            <a:ext cx="3333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Избирательные права граждан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Rage Italic"/>
              </a:rPr>
              <a:t>Активное избирательное право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Rage Italic"/>
              </a:rPr>
              <a:t>По Конституции РФ 18-летний гражданин приобретает право избирать в представительные и исполнительные органы власти, начиная от органа местного самоуправления вплоть до Президента страны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Rage Italic"/>
              </a:rPr>
              <a:t>Пассивное избирательное право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Rage Italic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Rage Italic"/>
              </a:rPr>
              <a:t>В 35 - Президентом Российской Федерации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Rage Italic"/>
              </a:rPr>
              <a:t>В 21 год вы сможете стать депутатом Государственной Думы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2" name="Picture 8" descr="j0297529"/>
          <p:cNvPicPr/>
          <p:nvPr/>
        </p:nvPicPr>
        <p:blipFill>
          <a:blip r:embed="rId1"/>
          <a:stretch/>
        </p:blipFill>
        <p:spPr>
          <a:xfrm>
            <a:off x="4572000" y="4581360"/>
            <a:ext cx="26622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Всё начинается с избирательного участка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74" name="Picture 11" descr="picture(3)"/>
          <p:cNvPicPr/>
          <p:nvPr/>
        </p:nvPicPr>
        <p:blipFill>
          <a:blip r:embed="rId1"/>
          <a:stretch/>
        </p:blipFill>
        <p:spPr>
          <a:xfrm>
            <a:off x="1092240" y="1295280"/>
            <a:ext cx="2995560" cy="2248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238859_s1"/>
          <p:cNvPicPr/>
          <p:nvPr/>
        </p:nvPicPr>
        <p:blipFill>
          <a:blip r:embed="rId2"/>
          <a:stretch/>
        </p:blipFill>
        <p:spPr>
          <a:xfrm>
            <a:off x="4708440" y="1295280"/>
            <a:ext cx="3687840" cy="224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3491"/>
          <p:cNvPicPr/>
          <p:nvPr/>
        </p:nvPicPr>
        <p:blipFill>
          <a:blip r:embed="rId3"/>
          <a:stretch/>
        </p:blipFill>
        <p:spPr>
          <a:xfrm>
            <a:off x="925560" y="3695760"/>
            <a:ext cx="3330360" cy="2247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236704_max"/>
          <p:cNvPicPr/>
          <p:nvPr/>
        </p:nvPicPr>
        <p:blipFill>
          <a:blip r:embed="rId4"/>
          <a:stretch/>
        </p:blipFill>
        <p:spPr>
          <a:xfrm>
            <a:off x="4873680" y="3695760"/>
            <a:ext cx="33573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Этапы выборов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1 этап - Начинается избирательный процесс с решения о назначении выборов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2 этап - За 30 дней до дня голосования образуются участковые комиссии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3 этап - Выдвижение кандидатов, сбор подписей в его поддержку и регистрация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4 этап - Предвыборная агитация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5 этап - Голосование и определение итогов выборов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6 этап - Регистрация избранных депутатов или других выборных лиц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6880" y="333360"/>
            <a:ext cx="80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В каком документе страны записано право, избирать и быть избранным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620640"/>
            <a:ext cx="37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Конституция Российской Федерации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360" y="98100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Кто был первый президент Росси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0520" y="1052640"/>
            <a:ext cx="140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Ельцын Б.Н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3280" y="1413000"/>
            <a:ext cx="60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С какого возраста могут голосовать граждане Росси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12360" y="1484280"/>
            <a:ext cx="99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С 18 лет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5080" y="1773360"/>
            <a:ext cx="732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Как называется небольшое помещение специального назначения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торое используется во время выборов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86520" y="1916280"/>
            <a:ext cx="89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Кабин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492280"/>
            <a:ext cx="52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На сколько лет выбирают Президента Росси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2492280"/>
            <a:ext cx="105228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На 6 лет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3640" y="2924280"/>
            <a:ext cx="53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С какого возраста человек может быть избран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зидентом Росси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42920" y="2997360"/>
            <a:ext cx="233712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С 35-летнего возраст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573360"/>
            <a:ext cx="98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Выборы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4221000"/>
            <a:ext cx="78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С какого возраста граждане России могут быть избранны депутатами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72360" y="422100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1 г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465300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. Как называется ящик с узким отверстием для    опускания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бирательных  бюллетеней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02520" y="4797360"/>
            <a:ext cx="68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Урн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3800" y="5373720"/>
            <a:ext cx="58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 Официальный документ – листок для голосования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7240" y="5300640"/>
            <a:ext cx="124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Бюллетень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9120" y="5805360"/>
            <a:ext cx="61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. Тот, кто участвует в выборах или имеет на это право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53800" y="5805360"/>
            <a:ext cx="13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Избиратель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5440" y="3716280"/>
            <a:ext cx="54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 Избрание путём голосования должностных лиц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Наша страна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1132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оссия или Российская Федерац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рупнейшее государство мира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селение —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141 927 296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толица России — Москва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3" name="Content Placeholder 4" descr="111.jpg"/>
          <p:cNvPicPr/>
          <p:nvPr/>
        </p:nvPicPr>
        <p:blipFill>
          <a:blip r:embed="rId1"/>
          <a:stretch/>
        </p:blipFill>
        <p:spPr>
          <a:xfrm>
            <a:off x="4859280" y="2481120"/>
            <a:ext cx="3745080" cy="227664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Родная Земля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203" name="Picture 5" descr="Картинка 2 из 65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052640"/>
            <a:ext cx="2286000" cy="1490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Картинка 243 из 3542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2708280"/>
            <a:ext cx="2810160" cy="1833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Картинка 163 из 663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4724280"/>
            <a:ext cx="2808360" cy="16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Картинка 44 из 659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19640" y="981000"/>
            <a:ext cx="2447640" cy="1625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Картинка 147 из 663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2781360"/>
            <a:ext cx="2303640" cy="1725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Картинка 308 из 663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492360" y="4581360"/>
            <a:ext cx="2808360" cy="1765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Картинка 85 из 6632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227640" y="907920"/>
            <a:ext cx="2016360" cy="1509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Картинка 304 из 6632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372360" y="2637000"/>
            <a:ext cx="2087280" cy="1787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Картинка 16 из 165722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443640" y="4724280"/>
            <a:ext cx="22320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Народы России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213" name="Picture 19" descr="Картинка 37 из 1569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4640"/>
            <a:ext cx="1728720" cy="129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3" descr="Картинка 50 из 1569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773360"/>
            <a:ext cx="1908360" cy="142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Картинка 34 из 15699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284640"/>
            <a:ext cx="1943280" cy="1457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9" descr="i?id=372409032-42-72"/>
          <p:cNvPicPr/>
          <p:nvPr/>
        </p:nvPicPr>
        <p:blipFill>
          <a:blip r:embed="rId7"/>
          <a:stretch/>
        </p:blipFill>
        <p:spPr>
          <a:xfrm>
            <a:off x="468360" y="4869000"/>
            <a:ext cx="2016000" cy="1585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1" descr="Картинка 42 из 15699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43280" y="981000"/>
            <a:ext cx="1727280" cy="130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Картинка 31 из 15699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627280" y="2421000"/>
            <a:ext cx="1409760" cy="1944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1" descr="Картинка 168 из 15699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627280" y="4653000"/>
            <a:ext cx="2160720" cy="1374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Картинка 20 из 156995"/>
          <p:cNvPicPr/>
          <p:nvPr/>
        </p:nvPicPr>
        <p:blipFill>
          <a:blip r:embed="rId14"/>
          <a:stretch/>
        </p:blipFill>
        <p:spPr>
          <a:xfrm>
            <a:off x="4859280" y="981000"/>
            <a:ext cx="1339920" cy="2016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Картинка 24 из 156995"/>
          <p:cNvPicPr/>
          <p:nvPr/>
        </p:nvPicPr>
        <p:blipFill>
          <a:blip r:embed="rId15"/>
          <a:stretch/>
        </p:blipFill>
        <p:spPr>
          <a:xfrm>
            <a:off x="4356000" y="3141720"/>
            <a:ext cx="1800360" cy="1203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7" descr="Картинка 66 из 156995"/>
          <p:cNvPicPr/>
          <p:nvPr/>
        </p:nvPicPr>
        <p:blipFill>
          <a:blip r:embed="rId16"/>
          <a:stretch/>
        </p:blipFill>
        <p:spPr>
          <a:xfrm>
            <a:off x="4932360" y="4653000"/>
            <a:ext cx="1800360" cy="1346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Картинка 13 из 156205"/>
          <p:cNvPicPr/>
          <p:nvPr/>
        </p:nvPicPr>
        <p:blipFill>
          <a:blip r:embed="rId17"/>
          <a:stretch/>
        </p:blipFill>
        <p:spPr>
          <a:xfrm>
            <a:off x="6659640" y="476280"/>
            <a:ext cx="2089080" cy="1395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Дагестан. Табасаранские ковры"/>
          <p:cNvPicPr/>
          <p:nvPr/>
        </p:nvPicPr>
        <p:blipFill>
          <a:blip r:embed="rId18"/>
          <a:stretch/>
        </p:blipFill>
        <p:spPr>
          <a:xfrm>
            <a:off x="6659640" y="1916280"/>
            <a:ext cx="1873080" cy="1212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Картинка 23 из 156995"/>
          <p:cNvPicPr/>
          <p:nvPr/>
        </p:nvPicPr>
        <p:blipFill>
          <a:blip r:embed="rId19"/>
          <a:stretch/>
        </p:blipFill>
        <p:spPr>
          <a:xfrm>
            <a:off x="6732720" y="3213000"/>
            <a:ext cx="1800000" cy="1347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Картинка 53 из 156995"/>
          <p:cNvPicPr/>
          <p:nvPr/>
        </p:nvPicPr>
        <p:blipFill>
          <a:blip r:embed="rId20"/>
          <a:stretch/>
        </p:blipFill>
        <p:spPr>
          <a:xfrm>
            <a:off x="6804000" y="4724280"/>
            <a:ext cx="20160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Москва – столица нашей Родины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15" name="Picture 5" descr="100px-Coat_of_Arms_of_Moscow"/>
          <p:cNvPicPr/>
          <p:nvPr/>
        </p:nvPicPr>
        <p:blipFill>
          <a:blip r:embed="rId1"/>
          <a:stretch/>
        </p:blipFill>
        <p:spPr>
          <a:xfrm>
            <a:off x="179280" y="189000"/>
            <a:ext cx="952560" cy="113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W"/>
          <p:cNvPicPr/>
          <p:nvPr/>
        </p:nvPicPr>
        <p:blipFill>
          <a:blip r:embed="rId2"/>
          <a:stretch/>
        </p:blipFill>
        <p:spPr>
          <a:xfrm>
            <a:off x="1905120" y="1619280"/>
            <a:ext cx="57625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обери пословицы.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95280"/>
            <a:ext cx="8353440" cy="464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Одна у человека мать,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Для Родины своей ни сил,</a:t>
            </a: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Родная сторона – мать,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одна у него и Родина.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чужая – мачеха.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ни жизни не жалей.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C 0.09305 -0.13033 0.18628 -0.26019 0.22448 -0.31111 E">
                                      <p:cBhvr>
                                        <p:cTn id="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811 C 0.10694 -0.18982 0.22188 -0.37153 0.26788 -0.44422 E">
                                      <p:cBhvr>
                                        <p:cTn id="10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917 -0.09167 0.15834 -0.18334 0.18993 -0.22084 E">
                                      <p:cBhvr>
                                        <p:cTn id="14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Государственные символы России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440" y="1295280"/>
            <a:ext cx="3809880" cy="464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артинка 5 из 95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268280"/>
            <a:ext cx="4319640" cy="475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ртинка 9 из 7421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18160" y="1295280"/>
            <a:ext cx="1870200" cy="224820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4" descr="govern.png"/>
          <p:cNvPicPr/>
          <p:nvPr/>
        </p:nvPicPr>
        <p:blipFill>
          <a:blip r:embed="rId6"/>
          <a:stretch/>
        </p:blipFill>
        <p:spPr>
          <a:xfrm>
            <a:off x="5110200" y="3705120"/>
            <a:ext cx="2886120" cy="2229120"/>
          </a:xfrm>
          <a:prstGeom prst="rect">
            <a:avLst/>
          </a:prstGeom>
          <a:ln cap="sq" w="38160">
            <a:solidFill>
              <a:srgbClr val="00006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Константин Дмитриевич Ушинский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Много есть на свете и кроме России всяких хороших государств и земель, но одна у человека родная мать – одна у него и Родина”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6" name="Picture 7" descr="31-140"/>
          <p:cNvPicPr/>
          <p:nvPr/>
        </p:nvPicPr>
        <p:blipFill>
          <a:blip r:embed="rId1"/>
          <a:stretch/>
        </p:blipFill>
        <p:spPr>
          <a:xfrm>
            <a:off x="531720" y="1341360"/>
            <a:ext cx="37753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алуга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28" name="Picture 5" descr="1220874963_gerb1"/>
          <p:cNvPicPr/>
          <p:nvPr/>
        </p:nvPicPr>
        <p:blipFill>
          <a:blip r:embed="rId1"/>
          <a:stretch/>
        </p:blipFill>
        <p:spPr>
          <a:xfrm>
            <a:off x="250920" y="189000"/>
            <a:ext cx="2035080" cy="242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kaluga_center"/>
          <p:cNvPicPr/>
          <p:nvPr/>
        </p:nvPicPr>
        <p:blipFill>
          <a:blip r:embed="rId2"/>
          <a:stretch/>
        </p:blipFill>
        <p:spPr>
          <a:xfrm>
            <a:off x="6516720" y="260280"/>
            <a:ext cx="2268360" cy="3024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0_146bf_dbf40a04_XL"/>
          <p:cNvPicPr/>
          <p:nvPr/>
        </p:nvPicPr>
        <p:blipFill>
          <a:blip r:embed="rId3"/>
          <a:stretch/>
        </p:blipFill>
        <p:spPr>
          <a:xfrm>
            <a:off x="2627280" y="1125360"/>
            <a:ext cx="2736720" cy="20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aluga684"/>
          <p:cNvPicPr/>
          <p:nvPr/>
        </p:nvPicPr>
        <p:blipFill>
          <a:blip r:embed="rId4"/>
          <a:stretch/>
        </p:blipFill>
        <p:spPr>
          <a:xfrm>
            <a:off x="250920" y="3789360"/>
            <a:ext cx="3314520" cy="2211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344438324_kalugaphp"/>
          <p:cNvPicPr/>
          <p:nvPr/>
        </p:nvPicPr>
        <p:blipFill>
          <a:blip r:embed="rId5"/>
          <a:stretch/>
        </p:blipFill>
        <p:spPr>
          <a:xfrm>
            <a:off x="3708360" y="3789360"/>
            <a:ext cx="2951280" cy="2209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_2df021d7"/>
          <p:cNvPicPr/>
          <p:nvPr/>
        </p:nvPicPr>
        <p:blipFill>
          <a:blip r:embed="rId6"/>
          <a:stretch/>
        </p:blipFill>
        <p:spPr>
          <a:xfrm>
            <a:off x="6804000" y="3429000"/>
            <a:ext cx="1905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Город Киров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35" name="Picture 5" descr="gerb-kirov"/>
          <p:cNvPicPr/>
          <p:nvPr/>
        </p:nvPicPr>
        <p:blipFill>
          <a:blip r:embed="rId1"/>
          <a:stretch/>
        </p:blipFill>
        <p:spPr>
          <a:xfrm>
            <a:off x="395280" y="620640"/>
            <a:ext cx="1579680" cy="2060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ll_3"/>
          <p:cNvPicPr/>
          <p:nvPr/>
        </p:nvPicPr>
        <p:blipFill>
          <a:blip r:embed="rId2"/>
          <a:stretch/>
        </p:blipFill>
        <p:spPr>
          <a:xfrm>
            <a:off x="2050920" y="1700280"/>
            <a:ext cx="1944720" cy="1644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admin_sm_sm"/>
          <p:cNvPicPr/>
          <p:nvPr/>
        </p:nvPicPr>
        <p:blipFill>
          <a:blip r:embed="rId3"/>
          <a:stretch/>
        </p:blipFill>
        <p:spPr>
          <a:xfrm>
            <a:off x="4140360" y="1268280"/>
            <a:ext cx="2232000" cy="1677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kirovpam-4050"/>
          <p:cNvPicPr/>
          <p:nvPr/>
        </p:nvPicPr>
        <p:blipFill>
          <a:blip r:embed="rId4"/>
          <a:stretch/>
        </p:blipFill>
        <p:spPr>
          <a:xfrm>
            <a:off x="6659640" y="549360"/>
            <a:ext cx="1895400" cy="2528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306_0062845b"/>
          <p:cNvPicPr/>
          <p:nvPr/>
        </p:nvPicPr>
        <p:blipFill>
          <a:blip r:embed="rId5"/>
          <a:stretch/>
        </p:blipFill>
        <p:spPr>
          <a:xfrm>
            <a:off x="395280" y="4292640"/>
            <a:ext cx="2809800" cy="1874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c2RlbGFub3VuYXMucnUvdXBsb2Fkcy83LzcvNzcwMTM0OTA5NzYzNS5qcGVnP19faWQ9MjI5MjQ="/>
          <p:cNvPicPr/>
          <p:nvPr/>
        </p:nvPicPr>
        <p:blipFill>
          <a:blip r:embed="rId6"/>
          <a:stretch/>
        </p:blipFill>
        <p:spPr>
          <a:xfrm>
            <a:off x="3276720" y="3645000"/>
            <a:ext cx="28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kirov15"/>
          <p:cNvPicPr/>
          <p:nvPr/>
        </p:nvPicPr>
        <p:blipFill>
          <a:blip r:embed="rId7"/>
          <a:stretch/>
        </p:blipFill>
        <p:spPr>
          <a:xfrm>
            <a:off x="6300720" y="3716280"/>
            <a:ext cx="25192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Деревня Бережки</a:t>
            </a:r>
            <a:endParaRPr b="0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43" name="Picture 5" descr="306_0060927b"/>
          <p:cNvPicPr/>
          <p:nvPr/>
        </p:nvPicPr>
        <p:blipFill>
          <a:blip r:embed="rId1"/>
          <a:stretch/>
        </p:blipFill>
        <p:spPr>
          <a:xfrm>
            <a:off x="179280" y="333360"/>
            <a:ext cx="19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солдат 1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124000" y="1125360"/>
            <a:ext cx="2592360" cy="1859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обелиск"/>
          <p:cNvPicPr/>
          <p:nvPr/>
        </p:nvPicPr>
        <p:blipFill>
          <a:blip r:embed="rId3"/>
          <a:stretch/>
        </p:blipFill>
        <p:spPr>
          <a:xfrm>
            <a:off x="4140360" y="1628640"/>
            <a:ext cx="2555640" cy="1622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306_0060930b"/>
          <p:cNvPicPr/>
          <p:nvPr/>
        </p:nvPicPr>
        <p:blipFill>
          <a:blip r:embed="rId4"/>
          <a:stretch/>
        </p:blipFill>
        <p:spPr>
          <a:xfrm>
            <a:off x="6804000" y="333360"/>
            <a:ext cx="2025720" cy="295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сарлшо"/>
          <p:cNvPicPr/>
          <p:nvPr/>
        </p:nvPicPr>
        <p:blipFill>
          <a:blip r:embed="rId5"/>
          <a:stretch/>
        </p:blipFill>
        <p:spPr>
          <a:xfrm>
            <a:off x="1042920" y="3573360"/>
            <a:ext cx="2971800" cy="2724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SL272983"/>
          <p:cNvPicPr/>
          <p:nvPr/>
        </p:nvPicPr>
        <p:blipFill>
          <a:blip r:embed="rId6"/>
          <a:stretch/>
        </p:blipFill>
        <p:spPr>
          <a:xfrm>
            <a:off x="4572000" y="3500280"/>
            <a:ext cx="38163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6:56:58Z</dcterms:created>
  <dc:creator>Гена</dc:creator>
  <dc:description/>
  <dc:language>en-US</dc:language>
  <cp:lastModifiedBy>Гена</cp:lastModifiedBy>
  <dcterms:modified xsi:type="dcterms:W3CDTF">2013-03-24T08:55:46Z</dcterms:modified>
  <cp:revision>9</cp:revision>
  <dc:subject/>
  <dc:title>В стране ВЫБОРОВ</dc:title>
</cp:coreProperties>
</file>