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56D-3418-44E1-B912-30F07328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E23-9DAB-4FBA-A40D-32CFC16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E08-ED3A-4177-AF7D-0E3EB3CA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5FD-59AF-4F00-8A24-FC4FB89B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DB6E-F279-4115-B229-01A4F376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0138-7F9C-43E8-97C5-71AC956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90BC-7042-4C67-8470-B7D6850E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599C-4992-4723-AF5C-62AC29A8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4898-7A0D-427E-A692-F115CC3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4317-AB86-410B-A635-D3C474F2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548E-2B7C-4452-BDB0-671C7A9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959-83BD-48E2-A2F5-B19746FD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622A-452D-45C8-BC71-02BF18F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27BE-625D-4360-A207-A578D52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BE5D-CB77-47DF-BCF2-076729F2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109B-28A1-4D5C-A428-9053E439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4048-70DD-4109-9241-DCA50A56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186-D238-4AB3-A997-A51061AF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810-93CD-4640-99D0-F9129FBD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C93-E4DB-4C38-B41D-0F376DDC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C8E-B86A-49CF-A4A6-13528195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7AE-C696-4D87-AEA8-A00C46C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FE5-754A-4D57-9B1B-FCC64E34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80D-B329-4E12-B120-CBA4302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3747-9ED1-417E-A96F-FCA1D58EE35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9738-7C8A-4FA0-BF47-C9A49F059FE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Century Schoolbook"/>
              </a:rPr>
              <a:t>Плотность</a:t>
            </a: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 –  это  свойство  тел  и  очен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   важная их физическая  характеристика.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51520"/>
          </a:xfrm>
          <a:prstGeom prst="rect">
            <a:avLst/>
          </a:prstGeom>
          <a:gradFill rotWithShape="0">
            <a:gsLst>
              <a:gs pos="0">
                <a:srgbClr val="5f472e"/>
              </a:gs>
              <a:gs pos="100000">
                <a:srgbClr val="fbfae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Century Schoolbook"/>
              </a:rPr>
              <a:t>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Использование материалов с малой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плотностью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в строительстве и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машиностроении выгодно с экологической и экономической точки зрения. Замена алюминия и стали в корпусах самолетов  и ракет на более легкий и прочный титан позволяет экономить горючее и перевозить больше полезного груза. Экономия топлива, как известно, ведет к уменьшению выбросов  в атмосферу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Cloud"/>
          <p:cNvSpPr/>
          <p:nvPr/>
        </p:nvSpPr>
        <p:spPr>
          <a:xfrm>
            <a:off x="1979640" y="5445000"/>
            <a:ext cx="790560" cy="417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Cloud"/>
          <p:cNvSpPr/>
          <p:nvPr/>
        </p:nvSpPr>
        <p:spPr>
          <a:xfrm>
            <a:off x="2916360" y="5084640"/>
            <a:ext cx="504720" cy="266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29852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7636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1871640" cy="1655640"/>
          </a:xfrm>
          <a:prstGeom prst="rect">
            <a:avLst/>
          </a:prstGeom>
          <a:ln w="0">
            <a:noFill/>
          </a:ln>
        </p:spPr>
      </p:pic>
      <p:sp>
        <p:nvSpPr>
          <p:cNvPr id="95" name="Cloud"/>
          <p:cNvSpPr/>
          <p:nvPr/>
        </p:nvSpPr>
        <p:spPr>
          <a:xfrm>
            <a:off x="4140360" y="4292640"/>
            <a:ext cx="1223640" cy="646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Cloud"/>
          <p:cNvSpPr/>
          <p:nvPr/>
        </p:nvSpPr>
        <p:spPr>
          <a:xfrm>
            <a:off x="4932360" y="4653000"/>
            <a:ext cx="1224000" cy="646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588000" y="3789360"/>
            <a:ext cx="15624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335160"/>
            <a:ext cx="7705800" cy="5671800"/>
          </a:xfrm>
          <a:prstGeom prst="rect">
            <a:avLst/>
          </a:prstGeom>
          <a:gradFill rotWithShape="0">
            <a:gsLst>
              <a:gs pos="0">
                <a:srgbClr val="8c735a"/>
              </a:gs>
              <a:gs pos="100000">
                <a:srgbClr val="fbfae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Применение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 материалов с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         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мало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плотностью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( стекловолокно, полиуретан )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позволяет сохранить тепло в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домах зимой и оградить их от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перегрева летом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Такую экономию  вы легк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можете оценить сами !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Обратите внимание на то, чт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в окна многих зданий встроены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кондиционеры ( установки для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охлаждения воздуха летом и подогрева зимой 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В некоторых гостиницах Америки, Европы, Азии да и   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нашей страны кондиционеры есть в каждом номере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Число номеров в таких гостиницах доходит до тысячи.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Можно представить, сколько электроэнергии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потребляют  только гостиницы  мира!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3130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41480" y="532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206280"/>
            <a:ext cx="7777080" cy="6058440"/>
          </a:xfrm>
          <a:prstGeom prst="rect">
            <a:avLst/>
          </a:prstGeom>
          <a:gradFill rotWithShape="0">
            <a:gsLst>
              <a:gs pos="0">
                <a:srgbClr val="a08366"/>
              </a:gs>
              <a:gs pos="100000">
                <a:srgbClr val="fbfae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Century Schoolbook"/>
              </a:rPr>
              <a:t>Плотность – важная характеристика не только для машиностроения  и строительства, но и для сельского хозяйства.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</a:t>
            </a: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Знание плотности почвы необходимо для ее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</a:t>
            </a: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правильного использования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Очень плотная почва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плохо поглощает влагу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Дождевая вода не задерживается на ее поверхност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и разрушает ее, стекая по уклону. Такая почва плохо                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пропускает воздух, необходимый для растений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насекомых, микроорганизмов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лотная почва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хорошо пропускает тепло, поэтому 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зимой она промерзает на большую глубину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При вспашке она разваливается на крупные глыбы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между которыми плохо развиваются корни растений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Очень рыхлая почва</a:t>
            </a:r>
            <a:r>
              <a:rPr b="1" i="1" lang="en-US" sz="16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с низкой плотностью -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тоже плохо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Через нее быстро проходит дождевая вода, она сильно  испаряет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влагу. Крупный дождь легко разрушает  ее верхний слой  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при этом  происходит  вымывание гумуса. Плотность рыхло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земли, богатой гумусом, чуть больше  1000 кг/ м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259884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77080" y="4724280"/>
            <a:ext cx="1871640" cy="153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21:34:11Z</dcterms:created>
  <dc:creator>мир</dc:creator>
  <dc:description/>
  <dc:language>en-US</dc:language>
  <cp:lastModifiedBy>Игорь</cp:lastModifiedBy>
  <dcterms:modified xsi:type="dcterms:W3CDTF">2013-03-24T12:48:28Z</dcterms:modified>
  <cp:revision>30</cp:revision>
  <dc:subject/>
  <dc:title>Презентация PowerPoint</dc:title>
</cp:coreProperties>
</file>