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5A5-9E7B-4ED3-8086-52D63BE4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7F4-C41D-4653-8939-8052F5A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94F-6238-4270-A59B-6F1D6056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D45-520C-4554-90C8-554C5FB2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072-0312-4F27-B973-286DC7C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54C-8AE4-42B4-BA33-550E4749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71A-C197-4805-83FF-8C8DF41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9EEE-E2E3-413F-A147-484C4AE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B2D-597A-42EE-AFD9-EF60F4F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1D09-D337-4EB1-9CB6-9B2B2496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D8B-65E8-4287-AB11-DD778CC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118-2B98-477F-BC3F-1DD6BCE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B55-BD41-4998-BBA8-155E7EC5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1726-5805-4C15-A496-B38809AB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0341-9D3B-417D-B8E7-102BE83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0EF0-1EC6-4D8F-BF92-67BBE188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5D86-1B52-4083-B25B-EE0FCB0F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29D-ADCC-4380-A552-5FF2D998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73F-0702-4D40-B660-3CE9187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8AB-A9E0-4D25-859F-D902E0D3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F0B-FEB5-4A05-ACEC-2FB2408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737-1A75-44DF-8F04-2138BB5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AA2-4505-44F2-9280-2ECE538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B19-9A61-4AAA-9C7F-CCA6B5AF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D26-F6B8-46E2-AC80-E13BA62639C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13DD-3B93-42B6-8E33-7E19107FA23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Century Schoolbook"/>
              </a:rPr>
              <a:t>Плотность</a:t>
            </a: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 –  это  свойство  тел  и  очень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entury Schoolbook"/>
              </a:rPr>
              <a:t>   важная их физическая  характеристика.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51520"/>
          </a:xfrm>
          <a:prstGeom prst="rect">
            <a:avLst/>
          </a:prstGeom>
          <a:gradFill rotWithShape="0">
            <a:gsLst>
              <a:gs pos="0">
                <a:srgbClr val="5f472e"/>
              </a:gs>
              <a:gs pos="100000">
                <a:srgbClr val="fbfae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Century Schoolbook"/>
              </a:rPr>
              <a:t>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Использование материалов с малой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плотностью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в строительстве 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машиностроении выгодно с экологической и экономической точки зрения. Замена алюминия и стали в корпусах самолетов  и ракет на более легкий и прочный титан позволяет экономить горючее и перевозить больше полезного груза. Экономия топлива, как известно, ведет к уменьшению выбросов  в атмосферу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Cloud"/>
          <p:cNvSpPr/>
          <p:nvPr/>
        </p:nvSpPr>
        <p:spPr>
          <a:xfrm>
            <a:off x="1979640" y="5445000"/>
            <a:ext cx="790560" cy="4176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Cloud"/>
          <p:cNvSpPr/>
          <p:nvPr/>
        </p:nvSpPr>
        <p:spPr>
          <a:xfrm>
            <a:off x="2916360" y="5084640"/>
            <a:ext cx="504720" cy="266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2985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37636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1871640" cy="1655640"/>
          </a:xfrm>
          <a:prstGeom prst="rect">
            <a:avLst/>
          </a:prstGeom>
          <a:ln w="0">
            <a:noFill/>
          </a:ln>
        </p:spPr>
      </p:pic>
      <p:sp>
        <p:nvSpPr>
          <p:cNvPr id="95" name="Cloud"/>
          <p:cNvSpPr/>
          <p:nvPr/>
        </p:nvSpPr>
        <p:spPr>
          <a:xfrm>
            <a:off x="4140360" y="4292640"/>
            <a:ext cx="1223640" cy="646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Cloud"/>
          <p:cNvSpPr/>
          <p:nvPr/>
        </p:nvSpPr>
        <p:spPr>
          <a:xfrm>
            <a:off x="4932360" y="4653000"/>
            <a:ext cx="1224000" cy="646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588000" y="3789360"/>
            <a:ext cx="15624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335160"/>
            <a:ext cx="7705800" cy="5671800"/>
          </a:xfrm>
          <a:prstGeom prst="rect">
            <a:avLst/>
          </a:prstGeom>
          <a:gradFill rotWithShape="0">
            <a:gsLst>
              <a:gs pos="0">
                <a:srgbClr val="8c735a"/>
              </a:gs>
              <a:gs pos="100000">
                <a:srgbClr val="fbfa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Применение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материалов с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         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мало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Century Schoolbook"/>
              </a:rPr>
              <a:t>плотностью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( стекловолокно, полиуретан )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озволяет сохранить тепло в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домах зимой и оградить их о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ерегрева летом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Такую экономию  вы легк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можете оценить сами !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Обратите внимание на то, чт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в окна многих зданий встроены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кондиционеры ( установки для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охлаждения воздуха летом и подогрева зимой 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В некоторых гостиницах Америки, Европы, Азии да и   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нашей страны кондиционеры есть в каждом номере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Число номеров в таких гостиницах доходит до тысячи. 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Можно представить, сколько электроэнергии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               </a:t>
            </a:r>
            <a:r>
              <a:rPr b="1" lang="en-US" sz="1800" spc="-1" strike="noStrike">
                <a:solidFill>
                  <a:srgbClr val="402000"/>
                </a:solidFill>
                <a:latin typeface="Century Schoolbook"/>
              </a:rPr>
              <a:t>потребляют  только гостиницы  мира!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3130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41480" y="532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206280"/>
            <a:ext cx="7777080" cy="6058440"/>
          </a:xfrm>
          <a:prstGeom prst="rect">
            <a:avLst/>
          </a:prstGeom>
          <a:gradFill rotWithShape="0">
            <a:gsLst>
              <a:gs pos="0">
                <a:srgbClr val="a08366"/>
              </a:gs>
              <a:gs pos="100000">
                <a:srgbClr val="fbfae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Century Schoolbook"/>
              </a:rPr>
              <a:t>Плотность – важная характеристика не только для машиностроения  и строительства, но и для сельского хозяйства.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</a:t>
            </a: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Знание плотности почвы необходимо для ее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</a:t>
            </a:r>
            <a:r>
              <a:rPr b="1" i="1" lang="en-US" sz="1600" spc="-1" strike="noStrike">
                <a:solidFill>
                  <a:srgbClr val="402000"/>
                </a:solidFill>
                <a:latin typeface="Times New Roman"/>
              </a:rPr>
              <a:t>правильного использования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чень плотная почва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плохо поглощает влаг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Дождевая вода не задерживается на ее поверхност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и разрушает ее, стекая по уклону. Такая почва плохо               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опускает воздух, необходимый для растений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насекомых, микроорганизмов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лотная почва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хорошо пропускает тепло, поэтому      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зимой она промерзает на большую глубин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и вспашке она разваливается на крупные глыбы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между которыми плохо развиваются корни растений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Очень рыхлая почва</a:t>
            </a:r>
            <a:r>
              <a:rPr b="1" i="1" lang="en-US" sz="16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с низкой плотностью -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тоже плохо.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Через нее быстро проходит дождевая вода, она сильно  испаряет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влагу. Крупный дождь легко разрушает  ее верхний слой  и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при этом  происходит  вымывание гумуса. Плотность рыхло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земли, богатой гумусом, чуть больше  1000 кг/ м</a:t>
            </a:r>
            <a:r>
              <a:rPr b="0" lang="en-US" sz="16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.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25988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87164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21:34:11Z</dcterms:created>
  <dc:creator>мир</dc:creator>
  <dc:description/>
  <dc:language>en-US</dc:language>
  <cp:lastModifiedBy>Игорь</cp:lastModifiedBy>
  <dcterms:modified xsi:type="dcterms:W3CDTF">2013-03-24T12:48:28Z</dcterms:modified>
  <cp:revision>30</cp:revision>
  <dc:subject/>
  <dc:title>Презентация PowerPoint</dc:title>
</cp:coreProperties>
</file>