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799-74EB-477F-B85F-75A65FAB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9A1-B9A9-44BD-A865-D30C077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F5F-D2ED-4C8B-A987-4F231311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86F-612C-4E59-BB90-1668AA99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DE07-D983-4EB0-BC10-28FBE42C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6CD4-18CC-450D-A96D-06795D5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E3AA-CAA4-4365-94DD-CCB04102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FBD1-1BEF-45D3-A81D-E61CE2F8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95FC-CD11-4AE2-AE21-BE824280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5A5A-25C5-4818-87E0-2DEAD12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CD94-B5AF-47A1-BB97-6BD12152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CA0-ED4D-47EA-A6D9-1CEEF7B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17AE-EAF4-4578-A178-8E0051FB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A451-42C5-4E85-8865-4F97BD64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994-86FA-4A14-8DE2-9D460C26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2950-52AC-40D7-9BA1-A7E361EB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0768-0FBE-4F70-B69B-778E3AEF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B33-C0E4-4EB9-AA5C-65640FA4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0B1-20E5-4B5F-85BF-A6D903A5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B5F-CB27-4887-B7B0-D3007D86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C5C-919F-4957-9B9C-A2B1B32D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5B7-6232-456B-AF32-B9A0E545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116-2207-4256-8FE1-E4C0841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C9B-CFF1-423F-B99D-CEC99ADF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4EFB-DB9D-445B-89C4-C128BE3248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D3E9-0EE1-4D02-95C8-19ABEF6243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76520" y="144792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Arial"/>
              </a:rPr>
              <a:t>Город первого десят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1219320"/>
            <a:ext cx="7543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647800" cy="1322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647800" cy="132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647800" cy="1322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238880" y="6858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+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3+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895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7-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2895480"/>
            <a:ext cx="6858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685800"/>
            <a:ext cx="6094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952880"/>
            <a:ext cx="6858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800600" y="304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2457720" cy="1381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724280" y="4648320"/>
            <a:ext cx="2610000" cy="173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3200040" y="1981080"/>
            <a:ext cx="1523880" cy="144792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124080" y="3733920"/>
            <a:ext cx="1524240" cy="18288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124080" y="990720"/>
            <a:ext cx="1524240" cy="45720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66880" y="91440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о2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04812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одвал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52480" y="11430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7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297180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семья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609480"/>
            <a:ext cx="2438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13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ти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3526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тр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388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40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35268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сорок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533520"/>
            <a:ext cx="769608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пят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Улица Математических Знаков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+  -  =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990720"/>
            <a:ext cx="65534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шест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Улица Сказочна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106668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+3=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335268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5+3=8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05120" y="68580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-4=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1240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9-4=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914400"/>
            <a:ext cx="769608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тановка перв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Улица Циферна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0 1 2 3 4 5 6 7 8 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609480"/>
            <a:ext cx="7924680" cy="44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седьм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Улица Геометрических Фигу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914400"/>
            <a:ext cx="144792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219320"/>
            <a:ext cx="2286000" cy="99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68580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352680"/>
            <a:ext cx="1752840" cy="1676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352680"/>
            <a:ext cx="320040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19320" y="220968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1143000"/>
            <a:ext cx="708660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тановка втор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Улица Загадк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? ? ? ? ? ? ? ? 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600200"/>
            <a:ext cx="7239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тановка треть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Улица Зарядк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336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2533680" cy="2667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253368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133720" y="3352680"/>
            <a:ext cx="2533680" cy="2667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029200" y="3352680"/>
            <a:ext cx="2533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2171880" cy="2210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217188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217188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133720" y="533520"/>
            <a:ext cx="2171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31624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231588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943600" y="533520"/>
            <a:ext cx="231624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8080" y="3276720"/>
            <a:ext cx="231624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429000" y="3200400"/>
            <a:ext cx="231624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172200" y="3124080"/>
            <a:ext cx="2316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536920" cy="2581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2536920" cy="2581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536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838080"/>
            <a:ext cx="7848360" cy="44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тановка четвёрта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Улица математических игр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6:49:25Z</dcterms:created>
  <dc:creator>Светлана</dc:creator>
  <dc:description/>
  <dc:language>en-US</dc:language>
  <cp:lastModifiedBy>Светлана</cp:lastModifiedBy>
  <dcterms:modified xsi:type="dcterms:W3CDTF">2013-02-04T17:35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