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096-0759-4E2B-B4DE-F110689A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D31-937C-417E-B06E-3D388C4A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63A-2A0E-47D6-B555-48F0A1C3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B21-A309-485E-9D35-5BF16CF3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7F68-25C7-4445-8B56-8B604231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50C6-27E8-409C-8367-B4DF3F0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2C2B-ABD0-4A04-B792-5FDDBEF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5028-F462-4343-AB86-19B6EF5D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B822-37C3-4356-8CFA-8EAAEA2D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9D8E-6C5B-4E91-90E7-8AA79A04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D960-0402-4B64-B1FD-1F0F1DD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1A3-6A36-4B4A-AD87-FA2B3AD8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44D6-13E2-47B4-BABA-BD2DC836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2771-D273-4DAC-AD8E-BA0E6F6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64C-2276-4E7B-A1D9-A566D144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470-6176-4E8C-A747-7B2BAD90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9E56-4C90-4657-A9C6-9986280E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0C4-5FAF-4CB8-89E1-59D1AB0B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65D-EFBC-4AB3-AD70-0E703601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F92-108C-4D68-8C27-2C6963A4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9EE-8465-4082-B6BA-ED0F808C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FE2-2E06-4E76-870E-2A724B53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D2A-AD4E-4973-8D65-CFF384E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B2E-F2F4-43C8-A709-8D7ED87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8F30-DC8D-46B9-8F8C-7A5F329F4C6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3E8-6521-4EDC-94BB-F88E6C7A75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76520" y="144792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Город первого десят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1219320"/>
            <a:ext cx="7543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647800" cy="132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647800" cy="132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647800" cy="1322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38880" y="6858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+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+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895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7-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895480"/>
            <a:ext cx="6858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685800"/>
            <a:ext cx="6094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952880"/>
            <a:ext cx="6858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800600" y="304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2457720" cy="1381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724280" y="4648320"/>
            <a:ext cx="2610000" cy="173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3200040" y="1981080"/>
            <a:ext cx="1523880" cy="14479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124080" y="3733920"/>
            <a:ext cx="1524240" cy="18288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124080" y="990720"/>
            <a:ext cx="1524240" cy="45720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66880" y="91440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о2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04812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одва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52480" y="11430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7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297180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609480"/>
            <a:ext cx="2438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3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ти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352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тр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388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40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35268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533520"/>
            <a:ext cx="769608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пят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Улица Математических Знаков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+  -  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990720"/>
            <a:ext cx="65534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шест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Улица Сказочна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106668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+3=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33526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+3=8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5120" y="68580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-4=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124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-4=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914400"/>
            <a:ext cx="769608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тановка перв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Улица Циферна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0 1 2 3 4 5 6 7 8 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609480"/>
            <a:ext cx="7924680" cy="44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седьм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Улица Геометрических Фигу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914400"/>
            <a:ext cx="144792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219320"/>
            <a:ext cx="2286000" cy="99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68580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1752840" cy="1676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352680"/>
            <a:ext cx="32004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19320" y="220968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1143000"/>
            <a:ext cx="708660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тановка втор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Улица Загадк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? ? ? ? ? ? ? ? 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600200"/>
            <a:ext cx="7239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тановка треть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Улица Зарядк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336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533680" cy="2667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253368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133720" y="3352680"/>
            <a:ext cx="2533680" cy="2667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029200" y="3352680"/>
            <a:ext cx="253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2171880" cy="2210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217188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217188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133720" y="533520"/>
            <a:ext cx="217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31624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231588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31624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8080" y="3276720"/>
            <a:ext cx="23162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429000" y="3200400"/>
            <a:ext cx="231624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172200" y="3124080"/>
            <a:ext cx="2316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536920" cy="25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2536920" cy="2581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536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838080"/>
            <a:ext cx="7848360" cy="44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четвёрт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Улица математических иг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6:49:25Z</dcterms:created>
  <dc:creator>Светлана</dc:creator>
  <dc:description/>
  <dc:language>en-US</dc:language>
  <cp:lastModifiedBy>Светлана</cp:lastModifiedBy>
  <dcterms:modified xsi:type="dcterms:W3CDTF">2013-02-04T17:35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