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622-E18D-4650-A6E4-54C474D4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568872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508-5EEF-4AF1-8181-3C6D0137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9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ACFA-510D-47F1-A094-47C97451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688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0900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688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0900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6EC2-699F-4377-BA31-45B84F93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47A2-EF87-4EED-A759-A679B9B7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9C5B-B62F-41BB-9F69-F8015D28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E590-8EA6-404C-99BF-AC048036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230B-DD91-44DE-A897-C2D5F56C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D116-018E-4CFA-856C-26F6BEAB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30477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AF3A-300D-4CFA-9169-475A603F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49EE-8861-4A0B-A6D8-1009C401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4B2F-FACB-472F-ABE8-62F81820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9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D5D1-798F-47B0-916A-047C93FF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34A7-8B79-4FBF-9B6E-2405BDED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904760" y="568872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D8D8-9B53-4E16-83E8-14476178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9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DE35-2240-4F90-8109-441FA886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5688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0900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90476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5688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0900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A279-D570-4F8D-83DD-B5963A23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CDA-0E7C-4191-B6C7-E9080D28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C168-4118-4067-8E48-197F5BDD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8617-D4F7-4616-8EC4-D1CFC487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30477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4B54-4B07-458E-AD2D-812CC829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9BD8-4374-4019-854C-8D6300A5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9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AE30-C3C5-4A85-8704-4FE12F5D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0CA7-5433-41FA-AFD9-8B512F7D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1f63ad"/>
              </a:gs>
              <a:gs pos="100000">
                <a:srgbClr val="e2eaf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460b05">
                  <a:alpha val="0"/>
                </a:srgbClr>
              </a:gs>
              <a:gs pos="100000">
                <a:srgbClr val="9919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469C-1F64-48D9-93A8-F1E525E7A4A1}" type="slidenum">
              <a:rPr b="1" lang="en-US" sz="1000" spc="-1" strike="noStrike">
                <a:solidFill>
                  <a:srgbClr val="0033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1f63ad"/>
              </a:gs>
              <a:gs pos="100000">
                <a:srgbClr val="e2eaf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38095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228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BD71-9B58-487F-8CB7-F218AA91D9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189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460b05">
                  <a:alpha val="0"/>
                </a:srgbClr>
              </a:gs>
              <a:gs pos="100000">
                <a:srgbClr val="9919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image" Target="../media/image26.jpeg"/><Relationship Id="rId14" Type="http://schemas.openxmlformats.org/officeDocument/2006/relationships/image" Target="../media/image27.jpeg"/><Relationship Id="rId15" Type="http://schemas.openxmlformats.org/officeDocument/2006/relationships/image" Target="../media/image28.jpeg"/><Relationship Id="rId16" Type="http://schemas.openxmlformats.org/officeDocument/2006/relationships/image" Target="../media/image29.jpeg"/><Relationship Id="rId17" Type="http://schemas.openxmlformats.org/officeDocument/2006/relationships/image" Target="../media/image30.jpeg"/><Relationship Id="rId18" Type="http://schemas.openxmlformats.org/officeDocument/2006/relationships/image" Target="../media/image31.jpeg"/><Relationship Id="rId19" Type="http://schemas.openxmlformats.org/officeDocument/2006/relationships/image" Target="../media/image32.jpeg"/><Relationship Id="rId2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ВОСПРИЯТИЕ</a:t>
            </a: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5787000" y="77400"/>
            <a:ext cx="335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Arial"/>
              </a:rPr>
              <a:t>Учитель-логопед </a:t>
            </a:r>
            <a:br>
              <a:rPr sz="1400"/>
            </a:b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1c1c1c"/>
                </a:solidFill>
                <a:latin typeface="Arial"/>
              </a:rPr>
              <a:t> квалификационной категории</a:t>
            </a:r>
            <a:br>
              <a:rPr sz="1400"/>
            </a:br>
            <a:r>
              <a:rPr b="1" lang="ru-RU" sz="1400" spc="-1" strike="noStrike">
                <a:solidFill>
                  <a:srgbClr val="1c1c1c"/>
                </a:solidFill>
                <a:latin typeface="Arial"/>
              </a:rPr>
              <a:t>ГБОУ СОШ №2005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Arial"/>
              </a:rPr>
              <a:t>дошкольного отделе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Arial"/>
              </a:rPr>
              <a:t>Дельфин Екатерина Владимировн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1c1c"/>
                </a:solidFill>
                <a:latin typeface="Comic Sans MS"/>
              </a:rPr>
              <a:t>Зрительное восприятие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277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284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95640" y="2593800"/>
              <a:ext cx="2057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ЗРИТЕЛЬНОЕ ВОСПРИЯТИЕ ЦВЕТА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3564000" y="1844640"/>
            <a:ext cx="2166840" cy="4035600"/>
            <a:chOff x="3564000" y="1844640"/>
            <a:chExt cx="2166840" cy="4035600"/>
          </a:xfrm>
        </p:grpSpPr>
        <p:sp>
          <p:nvSpPr>
            <p:cNvPr id="292" name=""/>
            <p:cNvSpPr/>
            <p:nvPr/>
          </p:nvSpPr>
          <p:spPr>
            <a:xfrm>
              <a:off x="3564000" y="2152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97120" y="216072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14760" y="4224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14760" y="2182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08480" y="18446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14600" y="184932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22880" y="185256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29000" y="185904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63920" y="187488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48520" y="19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39960" y="2606760"/>
              <a:ext cx="20574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ЗРИТЕЛЬНОЕ ВОСПРИЯТИЕ ПРОСТРАНСТВА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66880" y="501012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11520" y="503388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940360" y="1844640"/>
            <a:ext cx="2170080" cy="4035600"/>
            <a:chOff x="5940360" y="1844640"/>
            <a:chExt cx="2170080" cy="4035600"/>
          </a:xfrm>
        </p:grpSpPr>
        <p:sp>
          <p:nvSpPr>
            <p:cNvPr id="306" name=""/>
            <p:cNvSpPr/>
            <p:nvPr/>
          </p:nvSpPr>
          <p:spPr>
            <a:xfrm>
              <a:off x="5946480" y="215244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79960" y="216072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97240" y="422424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97240" y="218268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690960" y="1844640"/>
              <a:ext cx="642960" cy="642960"/>
              <a:chOff x="6690960" y="1844640"/>
              <a:chExt cx="642960" cy="642960"/>
            </a:xfrm>
          </p:grpSpPr>
          <p:sp>
            <p:nvSpPr>
              <p:cNvPr id="311" name=""/>
              <p:cNvSpPr/>
              <p:nvPr/>
            </p:nvSpPr>
            <p:spPr>
              <a:xfrm>
                <a:off x="6690960" y="1844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697440" y="1849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705360" y="185328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711840" y="1859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745680" y="1874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6831360" y="19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22800" y="2606760"/>
              <a:ext cx="2057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ЗРИТЕЛЬНОЕ ВОСПРИЯТИЕ ФОРМЫ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40360" y="501012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84640" y="503388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2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1c1c"/>
                </a:solidFill>
                <a:latin typeface="Comic Sans MS"/>
              </a:rPr>
              <a:t>ЗРИТЕЛЬНАЯ КОР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1" name="" descr="File:Brodmann areas 17 18 19.png"/>
          <p:cNvPicPr/>
          <p:nvPr/>
        </p:nvPicPr>
        <p:blipFill>
          <a:blip r:embed="rId1"/>
          <a:stretch/>
        </p:blipFill>
        <p:spPr>
          <a:xfrm>
            <a:off x="324000" y="1413000"/>
            <a:ext cx="3365280" cy="25174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4211640" y="1413000"/>
            <a:ext cx="4592520" cy="25192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Схема строения зрительного анализатора"/>
          <p:cNvPicPr/>
          <p:nvPr/>
        </p:nvPicPr>
        <p:blipFill>
          <a:blip r:embed="rId3"/>
          <a:stretch/>
        </p:blipFill>
        <p:spPr>
          <a:xfrm>
            <a:off x="2916360" y="3933720"/>
            <a:ext cx="1738080" cy="251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5219640" y="4653000"/>
            <a:ext cx="343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Comic Sans MS"/>
              </a:rPr>
              <a:t>Затылочная область больших полушарий мозга: </a:t>
            </a:r>
            <a:br>
              <a:rPr sz="1600"/>
            </a:br>
            <a:r>
              <a:rPr b="1" lang="ru-RU" sz="1600" spc="-1" strike="noStrike">
                <a:solidFill>
                  <a:srgbClr val="1c1c1c"/>
                </a:solidFill>
                <a:latin typeface="Comic Sans MS"/>
              </a:rPr>
              <a:t>поля 17, 18, 19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1c1c"/>
                </a:solidFill>
                <a:latin typeface="Comic Sans MS"/>
              </a:rPr>
              <a:t>Слуховое восприятие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27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34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95640" y="2593800"/>
              <a:ext cx="20574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ГРОМКОСТЬ, как ИНТЕНСИВНОСТЬ ЗВУКОВОГО РАЗДРАЖИТЕЛЯ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564000" y="1844640"/>
            <a:ext cx="2166840" cy="4035600"/>
            <a:chOff x="3564000" y="1844640"/>
            <a:chExt cx="2166840" cy="4035600"/>
          </a:xfrm>
        </p:grpSpPr>
        <p:sp>
          <p:nvSpPr>
            <p:cNvPr id="342" name=""/>
            <p:cNvSpPr/>
            <p:nvPr/>
          </p:nvSpPr>
          <p:spPr>
            <a:xfrm>
              <a:off x="3564000" y="2152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97120" y="216072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14760" y="4224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14760" y="2182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08480" y="18446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14600" y="184932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22880" y="185256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29000" y="185904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63920" y="187488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48520" y="19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39960" y="2606760"/>
              <a:ext cx="20574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ВЫСОТА, как ЧАСТОТА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66880" y="501012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11520" y="503388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940360" y="1844640"/>
            <a:ext cx="2170080" cy="4035600"/>
            <a:chOff x="5940360" y="1844640"/>
            <a:chExt cx="2170080" cy="4035600"/>
          </a:xfrm>
        </p:grpSpPr>
        <p:sp>
          <p:nvSpPr>
            <p:cNvPr id="356" name=""/>
            <p:cNvSpPr/>
            <p:nvPr/>
          </p:nvSpPr>
          <p:spPr>
            <a:xfrm>
              <a:off x="5946480" y="215244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79960" y="216072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97240" y="422424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97240" y="218268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6690960" y="1844640"/>
              <a:ext cx="642960" cy="642960"/>
              <a:chOff x="6690960" y="1844640"/>
              <a:chExt cx="642960" cy="642960"/>
            </a:xfrm>
          </p:grpSpPr>
          <p:sp>
            <p:nvSpPr>
              <p:cNvPr id="361" name=""/>
              <p:cNvSpPr/>
              <p:nvPr/>
            </p:nvSpPr>
            <p:spPr>
              <a:xfrm>
                <a:off x="6690960" y="1844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697440" y="1849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705360" y="185328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711840" y="1859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745680" y="1874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6831360" y="19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22800" y="260676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ТЕМБР, как СТРУКТУРА ЗВУКОВОГО СПЕКТРА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40360" y="501012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84640" y="503388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1c1c"/>
                </a:solidFill>
                <a:latin typeface="Comic Sans MS"/>
              </a:rPr>
              <a:t>СЛУХОВАЯ КОР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" descr="Зоны коры головного мозга"/>
          <p:cNvPicPr/>
          <p:nvPr/>
        </p:nvPicPr>
        <p:blipFill>
          <a:blip r:embed="rId1"/>
          <a:stretch/>
        </p:blipFill>
        <p:spPr>
          <a:xfrm>
            <a:off x="1979640" y="1628640"/>
            <a:ext cx="6794640" cy="25196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26920" y="4724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Височная область больших полушарий мозга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поля 41, 42, 2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788000" y="3645000"/>
            <a:ext cx="3887640" cy="2286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ОКОНЧАТЕЛЬНЫЙ ОСЯЗАТЕЛЬНЫЙ ОБРАЗ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: размашистые движения ру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5280" y="3645000"/>
            <a:ext cx="4105440" cy="2286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ОРИЕНТИРОВОЧНАЯ СТАДИЯ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: мелкие движения ру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1c1c"/>
                </a:solidFill>
                <a:latin typeface="Comic Sans MS"/>
              </a:rPr>
              <a:t>ТАКТИЛЬНОЕ ВОСПРИЯТИЕ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4500720" y="242100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1f6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7adb5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7adb5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d61"/>
              </a:gs>
              <a:gs pos="50000">
                <a:srgbClr val="97adb5"/>
              </a:gs>
              <a:gs pos="100000">
                <a:srgbClr val="515d6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7adb5">
                  <a:alpha val="0"/>
                </a:srgbClr>
              </a:gs>
              <a:gs pos="100000">
                <a:srgbClr val="5f6d7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383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6443640" y="1773360"/>
            <a:ext cx="1703520" cy="16873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1f63ad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443640" y="1773360"/>
            <a:ext cx="1703520" cy="1687320"/>
          </a:xfrm>
          <a:prstGeom prst="ellipse">
            <a:avLst/>
          </a:prstGeom>
          <a:gradFill rotWithShape="0">
            <a:gsLst>
              <a:gs pos="0">
                <a:srgbClr val="0e2d4f"/>
              </a:gs>
              <a:gs pos="100000">
                <a:srgbClr val="1f63ad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16720" y="1844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10355d"/>
              </a:gs>
              <a:gs pos="50000">
                <a:srgbClr val="1f63ad"/>
              </a:gs>
              <a:gs pos="100000">
                <a:srgbClr val="10355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16720" y="1844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1f63ad">
                  <a:alpha val="0"/>
                </a:srgbClr>
              </a:gs>
              <a:gs pos="100000">
                <a:srgbClr val="133e6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588000" y="1989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8000" y="1989000"/>
            <a:ext cx="1290600" cy="1278000"/>
            <a:chOff x="6588000" y="1989000"/>
            <a:chExt cx="1290600" cy="1278000"/>
          </a:xfrm>
        </p:grpSpPr>
        <p:sp>
          <p:nvSpPr>
            <p:cNvPr id="393" name=""/>
            <p:cNvSpPr/>
            <p:nvPr/>
          </p:nvSpPr>
          <p:spPr>
            <a:xfrm>
              <a:off x="6588000" y="198900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604200" y="199584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17880" y="200844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87720" y="204084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1976760" y="24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094880" y="24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1c1c"/>
                </a:solidFill>
                <a:latin typeface="Comic Sans MS"/>
              </a:rPr>
              <a:t>ТАКТИЛЬНАЯ КОР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635280" y="1413000"/>
            <a:ext cx="5192640" cy="36003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84360" y="5157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Теменная область больших полушарий мозга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поля 2, 1, 5, 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Comic Sans MS"/>
              </a:rPr>
              <a:t>КИНЕСТЕЗИЧЕСКИЕ ОЩУЩЕНИЯ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0" y="3213000"/>
            <a:ext cx="9144000" cy="122040"/>
            <a:chOff x="0" y="3213000"/>
            <a:chExt cx="9144000" cy="122040"/>
          </a:xfrm>
        </p:grpSpPr>
        <p:sp>
          <p:nvSpPr>
            <p:cNvPr id="404" name=""/>
            <p:cNvSpPr/>
            <p:nvPr/>
          </p:nvSpPr>
          <p:spPr>
            <a:xfrm>
              <a:off x="0" y="3213000"/>
              <a:ext cx="9144000" cy="478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325980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998320" y="4649760"/>
            <a:ext cx="1523880" cy="2422080"/>
            <a:chOff x="5998320" y="4649760"/>
            <a:chExt cx="1523880" cy="2422080"/>
          </a:xfrm>
        </p:grpSpPr>
        <p:grpSp>
          <p:nvGrpSpPr>
            <p:cNvPr id="407" name=""/>
            <p:cNvGrpSpPr/>
            <p:nvPr/>
          </p:nvGrpSpPr>
          <p:grpSpPr>
            <a:xfrm>
              <a:off x="5998320" y="4807440"/>
              <a:ext cx="1418760" cy="2264400"/>
              <a:chOff x="5998320" y="4807440"/>
              <a:chExt cx="1418760" cy="2264400"/>
            </a:xfrm>
          </p:grpSpPr>
          <p:sp>
            <p:nvSpPr>
              <p:cNvPr id="408" name=""/>
              <p:cNvSpPr/>
              <p:nvPr/>
            </p:nvSpPr>
            <p:spPr>
              <a:xfrm rot="3876600">
                <a:off x="5570640" y="569376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3876600">
                <a:off x="6936480" y="657216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6433560" y="4649760"/>
              <a:ext cx="1088640" cy="1737720"/>
              <a:chOff x="6433560" y="4649760"/>
              <a:chExt cx="1088640" cy="1737720"/>
            </a:xfrm>
          </p:grpSpPr>
          <p:sp>
            <p:nvSpPr>
              <p:cNvPr id="411" name=""/>
              <p:cNvSpPr/>
              <p:nvPr/>
            </p:nvSpPr>
            <p:spPr>
              <a:xfrm flipV="1" rot="3876600">
                <a:off x="6105240" y="532980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 rot="3876600">
                <a:off x="7138440" y="601020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"/>
          <p:cNvGrpSpPr/>
          <p:nvPr/>
        </p:nvGrpSpPr>
        <p:grpSpPr>
          <a:xfrm>
            <a:off x="3924360" y="2708280"/>
            <a:ext cx="1270080" cy="1308240"/>
            <a:chOff x="3924360" y="2708280"/>
            <a:chExt cx="1270080" cy="1308240"/>
          </a:xfrm>
        </p:grpSpPr>
        <p:sp>
          <p:nvSpPr>
            <p:cNvPr id="414" name=""/>
            <p:cNvSpPr/>
            <p:nvPr/>
          </p:nvSpPr>
          <p:spPr>
            <a:xfrm>
              <a:off x="3924360" y="270828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24360" y="270828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07880" y="279324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07880" y="27961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62600" y="285084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4078080" y="2866680"/>
              <a:ext cx="961920" cy="992520"/>
              <a:chOff x="4078080" y="2866680"/>
              <a:chExt cx="961920" cy="992520"/>
            </a:xfrm>
          </p:grpSpPr>
          <p:sp>
            <p:nvSpPr>
              <p:cNvPr id="420" name=""/>
              <p:cNvSpPr/>
              <p:nvPr/>
            </p:nvSpPr>
            <p:spPr>
              <a:xfrm>
                <a:off x="4078080" y="286668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089960" y="287208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100040" y="288144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152600" y="290700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"/>
          <p:cNvGrpSpPr/>
          <p:nvPr/>
        </p:nvGrpSpPr>
        <p:grpSpPr>
          <a:xfrm>
            <a:off x="7839720" y="3641760"/>
            <a:ext cx="1523880" cy="2422080"/>
            <a:chOff x="7839720" y="3641760"/>
            <a:chExt cx="1523880" cy="2422080"/>
          </a:xfrm>
        </p:grpSpPr>
        <p:grpSp>
          <p:nvGrpSpPr>
            <p:cNvPr id="425" name=""/>
            <p:cNvGrpSpPr/>
            <p:nvPr/>
          </p:nvGrpSpPr>
          <p:grpSpPr>
            <a:xfrm>
              <a:off x="7839720" y="3799440"/>
              <a:ext cx="1418760" cy="2264400"/>
              <a:chOff x="7839720" y="3799440"/>
              <a:chExt cx="1418760" cy="2264400"/>
            </a:xfrm>
          </p:grpSpPr>
          <p:sp>
            <p:nvSpPr>
              <p:cNvPr id="426" name=""/>
              <p:cNvSpPr/>
              <p:nvPr/>
            </p:nvSpPr>
            <p:spPr>
              <a:xfrm rot="3876600">
                <a:off x="7412040" y="468576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3876600">
                <a:off x="8777880" y="556416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8274960" y="3641760"/>
              <a:ext cx="1088640" cy="1737720"/>
              <a:chOff x="8274960" y="3641760"/>
              <a:chExt cx="1088640" cy="1737720"/>
            </a:xfrm>
          </p:grpSpPr>
          <p:sp>
            <p:nvSpPr>
              <p:cNvPr id="429" name=""/>
              <p:cNvSpPr/>
              <p:nvPr/>
            </p:nvSpPr>
            <p:spPr>
              <a:xfrm flipV="1" rot="3876600">
                <a:off x="7946640" y="432180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 rot="3876600">
                <a:off x="8979840" y="500220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"/>
          <p:cNvSpPr/>
          <p:nvPr/>
        </p:nvSpPr>
        <p:spPr>
          <a:xfrm>
            <a:off x="7451640" y="2565360"/>
            <a:ext cx="152424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451640" y="2565360"/>
            <a:ext cx="152424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596360" y="2708280"/>
            <a:ext cx="1323720" cy="136224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524720" y="263700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596360" y="2708280"/>
            <a:ext cx="1191960" cy="1225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7596360" y="2708280"/>
            <a:ext cx="1155600" cy="1189080"/>
            <a:chOff x="7596360" y="2708280"/>
            <a:chExt cx="1155600" cy="1189080"/>
          </a:xfrm>
        </p:grpSpPr>
        <p:sp>
          <p:nvSpPr>
            <p:cNvPr id="437" name=""/>
            <p:cNvSpPr/>
            <p:nvPr/>
          </p:nvSpPr>
          <p:spPr>
            <a:xfrm>
              <a:off x="7596360" y="270828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10760" y="271476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23000" y="272628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85640" y="275652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4558320" y="3859200"/>
            <a:ext cx="1523880" cy="2422080"/>
            <a:chOff x="4558320" y="3859200"/>
            <a:chExt cx="1523880" cy="2422080"/>
          </a:xfrm>
        </p:grpSpPr>
        <p:grpSp>
          <p:nvGrpSpPr>
            <p:cNvPr id="442" name=""/>
            <p:cNvGrpSpPr/>
            <p:nvPr/>
          </p:nvGrpSpPr>
          <p:grpSpPr>
            <a:xfrm>
              <a:off x="4558320" y="4016880"/>
              <a:ext cx="1418760" cy="2264400"/>
              <a:chOff x="4558320" y="4016880"/>
              <a:chExt cx="1418760" cy="2264400"/>
            </a:xfrm>
          </p:grpSpPr>
          <p:sp>
            <p:nvSpPr>
              <p:cNvPr id="443" name=""/>
              <p:cNvSpPr/>
              <p:nvPr/>
            </p:nvSpPr>
            <p:spPr>
              <a:xfrm rot="3876600">
                <a:off x="4130640" y="490320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3876600">
                <a:off x="5496480" y="578160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4993560" y="3859200"/>
              <a:ext cx="1088640" cy="1737720"/>
              <a:chOff x="4993560" y="3859200"/>
              <a:chExt cx="1088640" cy="1737720"/>
            </a:xfrm>
          </p:grpSpPr>
          <p:sp>
            <p:nvSpPr>
              <p:cNvPr id="446" name=""/>
              <p:cNvSpPr/>
              <p:nvPr/>
            </p:nvSpPr>
            <p:spPr>
              <a:xfrm flipV="1" rot="3876600">
                <a:off x="4665240" y="453924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 rot="3876600">
                <a:off x="5698440" y="521964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"/>
          <p:cNvGrpSpPr/>
          <p:nvPr/>
        </p:nvGrpSpPr>
        <p:grpSpPr>
          <a:xfrm>
            <a:off x="2124000" y="2708280"/>
            <a:ext cx="1268640" cy="1308240"/>
            <a:chOff x="2124000" y="2708280"/>
            <a:chExt cx="1268640" cy="1308240"/>
          </a:xfrm>
        </p:grpSpPr>
        <p:sp>
          <p:nvSpPr>
            <p:cNvPr id="449" name=""/>
            <p:cNvSpPr/>
            <p:nvPr/>
          </p:nvSpPr>
          <p:spPr>
            <a:xfrm>
              <a:off x="2124000" y="2708280"/>
              <a:ext cx="126864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24000" y="2708280"/>
              <a:ext cx="126864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07520" y="2793240"/>
              <a:ext cx="110088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207520" y="2796120"/>
              <a:ext cx="110088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262240" y="2850840"/>
              <a:ext cx="99180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2277720" y="2866680"/>
              <a:ext cx="960840" cy="992520"/>
              <a:chOff x="2277720" y="2866680"/>
              <a:chExt cx="960840" cy="992520"/>
            </a:xfrm>
          </p:grpSpPr>
          <p:sp>
            <p:nvSpPr>
              <p:cNvPr id="455" name=""/>
              <p:cNvSpPr/>
              <p:nvPr/>
            </p:nvSpPr>
            <p:spPr>
              <a:xfrm>
                <a:off x="2277720" y="2866680"/>
                <a:ext cx="96084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289600" y="2872080"/>
                <a:ext cx="93780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99680" y="2881440"/>
                <a:ext cx="89172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351880" y="2907000"/>
                <a:ext cx="79272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"/>
          <p:cNvGrpSpPr/>
          <p:nvPr/>
        </p:nvGrpSpPr>
        <p:grpSpPr>
          <a:xfrm>
            <a:off x="94320" y="4075200"/>
            <a:ext cx="1523880" cy="2422080"/>
            <a:chOff x="94320" y="4075200"/>
            <a:chExt cx="1523880" cy="2422080"/>
          </a:xfrm>
        </p:grpSpPr>
        <p:grpSp>
          <p:nvGrpSpPr>
            <p:cNvPr id="460" name=""/>
            <p:cNvGrpSpPr/>
            <p:nvPr/>
          </p:nvGrpSpPr>
          <p:grpSpPr>
            <a:xfrm>
              <a:off x="94320" y="4232880"/>
              <a:ext cx="1418760" cy="2264400"/>
              <a:chOff x="94320" y="4232880"/>
              <a:chExt cx="1418760" cy="2264400"/>
            </a:xfrm>
          </p:grpSpPr>
          <p:sp>
            <p:nvSpPr>
              <p:cNvPr id="461" name=""/>
              <p:cNvSpPr/>
              <p:nvPr/>
            </p:nvSpPr>
            <p:spPr>
              <a:xfrm rot="3876600">
                <a:off x="-333000" y="511920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3876600">
                <a:off x="1032480" y="599760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529560" y="4075200"/>
              <a:ext cx="1088640" cy="1737720"/>
              <a:chOff x="529560" y="4075200"/>
              <a:chExt cx="1088640" cy="1737720"/>
            </a:xfrm>
          </p:grpSpPr>
          <p:sp>
            <p:nvSpPr>
              <p:cNvPr id="464" name=""/>
              <p:cNvSpPr/>
              <p:nvPr/>
            </p:nvSpPr>
            <p:spPr>
              <a:xfrm flipV="1" rot="3876600">
                <a:off x="201240" y="475524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 rot="3876600">
                <a:off x="1234440" y="543564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"/>
          <p:cNvGrpSpPr/>
          <p:nvPr/>
        </p:nvGrpSpPr>
        <p:grpSpPr>
          <a:xfrm>
            <a:off x="324000" y="2708280"/>
            <a:ext cx="1268280" cy="1308240"/>
            <a:chOff x="324000" y="2708280"/>
            <a:chExt cx="1268280" cy="1308240"/>
          </a:xfrm>
        </p:grpSpPr>
        <p:sp>
          <p:nvSpPr>
            <p:cNvPr id="467" name=""/>
            <p:cNvSpPr/>
            <p:nvPr/>
          </p:nvSpPr>
          <p:spPr>
            <a:xfrm>
              <a:off x="324000" y="270828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4000" y="270828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7520" y="279324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7520" y="27961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62240" y="285084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477720" y="2866680"/>
              <a:ext cx="960480" cy="992520"/>
              <a:chOff x="477720" y="2866680"/>
              <a:chExt cx="960480" cy="992520"/>
            </a:xfrm>
          </p:grpSpPr>
          <p:sp>
            <p:nvSpPr>
              <p:cNvPr id="473" name=""/>
              <p:cNvSpPr/>
              <p:nvPr/>
            </p:nvSpPr>
            <p:spPr>
              <a:xfrm>
                <a:off x="477720" y="286668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89600" y="287208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99680" y="288144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51880" y="290700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77" name=""/>
          <p:cNvSpPr/>
          <p:nvPr/>
        </p:nvSpPr>
        <p:spPr>
          <a:xfrm rot="3925800">
            <a:off x="-140040" y="5046120"/>
            <a:ext cx="230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ИМПУЛЬСЫ В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ПРОПРИОРЕЦЕПТОРАХ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3925800">
            <a:off x="5908680" y="5658120"/>
            <a:ext cx="187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РЕТИКУЛЯРНАЯ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СИСТЕМА СТВОЛ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3925800">
            <a:off x="7675560" y="4750560"/>
            <a:ext cx="1828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КОРКОВОЕ ЯДРО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ДВИГАТЕЛЬНОГО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АНАЛИЗАТОР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763640" y="1700280"/>
            <a:ext cx="5435640" cy="406440"/>
            <a:chOff x="1763640" y="1700280"/>
            <a:chExt cx="5435640" cy="406440"/>
          </a:xfrm>
        </p:grpSpPr>
        <p:sp>
          <p:nvSpPr>
            <p:cNvPr id="481" name=""/>
            <p:cNvSpPr/>
            <p:nvPr/>
          </p:nvSpPr>
          <p:spPr>
            <a:xfrm>
              <a:off x="1763640" y="17398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17920" y="1739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264280" y="1739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015320" y="17002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485" name=""/>
            <p:cNvCxnSpPr>
              <a:stCxn id="481" idx="3"/>
              <a:endCxn id="482" idx="1"/>
            </p:cNvCxnSpPr>
            <p:nvPr/>
          </p:nvCxnSpPr>
          <p:spPr>
            <a:xfrm>
              <a:off x="2532240" y="1923840"/>
              <a:ext cx="986400" cy="1080"/>
            </a:xfrm>
            <a:prstGeom prst="straightConnector1">
              <a:avLst/>
            </a:prstGeom>
            <a:ln w="9360">
              <a:solidFill>
                <a:srgbClr val="99190b"/>
              </a:solidFill>
              <a:miter/>
              <a:tailEnd len="med" type="triangle" w="med"/>
            </a:ln>
          </p:spPr>
        </p:cxnSp>
        <p:cxnSp>
          <p:nvCxnSpPr>
            <p:cNvPr id="486" name=""/>
            <p:cNvCxnSpPr>
              <a:stCxn id="482" idx="3"/>
              <a:endCxn id="483" idx="1"/>
            </p:cNvCxnSpPr>
            <p:nvPr/>
          </p:nvCxnSpPr>
          <p:spPr>
            <a:xfrm>
              <a:off x="4285800" y="1923840"/>
              <a:ext cx="978840" cy="1080"/>
            </a:xfrm>
            <a:prstGeom prst="straightConnector1">
              <a:avLst/>
            </a:prstGeom>
            <a:ln w="9360">
              <a:solidFill>
                <a:srgbClr val="99190b"/>
              </a:solidFill>
              <a:miter/>
              <a:tailEnd len="med" type="triangle" w="med"/>
            </a:ln>
          </p:spPr>
        </p:cxnSp>
        <p:cxnSp>
          <p:nvCxnSpPr>
            <p:cNvPr id="487" name=""/>
            <p:cNvCxnSpPr/>
            <p:nvPr/>
          </p:nvCxnSpPr>
          <p:spPr>
            <a:xfrm>
              <a:off x="6032520" y="1928520"/>
              <a:ext cx="978480" cy="1080"/>
            </a:xfrm>
            <a:prstGeom prst="straightConnector1">
              <a:avLst/>
            </a:prstGeom>
            <a:ln w="9360">
              <a:solidFill>
                <a:srgbClr val="99190b"/>
              </a:solidFill>
              <a:miter/>
              <a:tailEnd len="med" type="triangle" w="med"/>
            </a:ln>
          </p:spPr>
        </p:cxnSp>
      </p:grpSp>
      <p:grpSp>
        <p:nvGrpSpPr>
          <p:cNvPr id="488" name=""/>
          <p:cNvGrpSpPr/>
          <p:nvPr/>
        </p:nvGrpSpPr>
        <p:grpSpPr>
          <a:xfrm>
            <a:off x="5724360" y="2708280"/>
            <a:ext cx="1270080" cy="1308240"/>
            <a:chOff x="5724360" y="2708280"/>
            <a:chExt cx="1270080" cy="1308240"/>
          </a:xfrm>
        </p:grpSpPr>
        <p:sp>
          <p:nvSpPr>
            <p:cNvPr id="489" name=""/>
            <p:cNvSpPr/>
            <p:nvPr/>
          </p:nvSpPr>
          <p:spPr>
            <a:xfrm>
              <a:off x="5724360" y="270828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24360" y="270828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07880" y="279324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07880" y="27961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2600" y="285084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878080" y="2866680"/>
              <a:ext cx="961920" cy="992520"/>
              <a:chOff x="5878080" y="2866680"/>
              <a:chExt cx="961920" cy="992520"/>
            </a:xfrm>
          </p:grpSpPr>
          <p:sp>
            <p:nvSpPr>
              <p:cNvPr id="495" name=""/>
              <p:cNvSpPr/>
              <p:nvPr/>
            </p:nvSpPr>
            <p:spPr>
              <a:xfrm>
                <a:off x="5878080" y="286668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889960" y="287208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00040" y="288144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52600" y="290700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99" name=""/>
          <p:cNvGrpSpPr/>
          <p:nvPr/>
        </p:nvGrpSpPr>
        <p:grpSpPr>
          <a:xfrm>
            <a:off x="7006320" y="4510080"/>
            <a:ext cx="1523880" cy="2422080"/>
            <a:chOff x="7006320" y="4510080"/>
            <a:chExt cx="1523880" cy="2422080"/>
          </a:xfrm>
        </p:grpSpPr>
        <p:grpSp>
          <p:nvGrpSpPr>
            <p:cNvPr id="500" name=""/>
            <p:cNvGrpSpPr/>
            <p:nvPr/>
          </p:nvGrpSpPr>
          <p:grpSpPr>
            <a:xfrm>
              <a:off x="7006320" y="4667760"/>
              <a:ext cx="1418760" cy="2264400"/>
              <a:chOff x="7006320" y="4667760"/>
              <a:chExt cx="1418760" cy="2264400"/>
            </a:xfrm>
          </p:grpSpPr>
          <p:sp>
            <p:nvSpPr>
              <p:cNvPr id="501" name=""/>
              <p:cNvSpPr/>
              <p:nvPr/>
            </p:nvSpPr>
            <p:spPr>
              <a:xfrm rot="3876600">
                <a:off x="6578640" y="5554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3876600">
                <a:off x="7944480" y="6432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7441560" y="4510080"/>
              <a:ext cx="1088640" cy="1737720"/>
              <a:chOff x="7441560" y="4510080"/>
              <a:chExt cx="1088640" cy="1737720"/>
            </a:xfrm>
          </p:grpSpPr>
          <p:sp>
            <p:nvSpPr>
              <p:cNvPr id="504" name=""/>
              <p:cNvSpPr/>
              <p:nvPr/>
            </p:nvSpPr>
            <p:spPr>
              <a:xfrm flipV="1" rot="3876600">
                <a:off x="7113240" y="5190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 rot="3876600">
                <a:off x="8146440" y="5870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3189960" y="3930840"/>
            <a:ext cx="1523880" cy="2421720"/>
            <a:chOff x="3189960" y="3930840"/>
            <a:chExt cx="1523880" cy="2421720"/>
          </a:xfrm>
        </p:grpSpPr>
        <p:grpSp>
          <p:nvGrpSpPr>
            <p:cNvPr id="507" name=""/>
            <p:cNvGrpSpPr/>
            <p:nvPr/>
          </p:nvGrpSpPr>
          <p:grpSpPr>
            <a:xfrm>
              <a:off x="3189960" y="4088520"/>
              <a:ext cx="1418400" cy="2264040"/>
              <a:chOff x="3189960" y="4088520"/>
              <a:chExt cx="1418400" cy="2264040"/>
            </a:xfrm>
          </p:grpSpPr>
          <p:sp>
            <p:nvSpPr>
              <p:cNvPr id="508" name=""/>
              <p:cNvSpPr/>
              <p:nvPr/>
            </p:nvSpPr>
            <p:spPr>
              <a:xfrm rot="3876600">
                <a:off x="2762640" y="4974840"/>
                <a:ext cx="227304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3876600">
                <a:off x="4128120" y="585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3625560" y="3930840"/>
              <a:ext cx="1088280" cy="1737360"/>
              <a:chOff x="3625560" y="3930840"/>
              <a:chExt cx="1088280" cy="1737360"/>
            </a:xfrm>
          </p:grpSpPr>
          <p:sp>
            <p:nvSpPr>
              <p:cNvPr id="511" name=""/>
              <p:cNvSpPr/>
              <p:nvPr/>
            </p:nvSpPr>
            <p:spPr>
              <a:xfrm flipV="1" rot="3876600">
                <a:off x="3297600" y="4610880"/>
                <a:ext cx="174420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 rot="3876600">
                <a:off x="4330080" y="52912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513" name=""/>
          <p:cNvGrpSpPr/>
          <p:nvPr/>
        </p:nvGrpSpPr>
        <p:grpSpPr>
          <a:xfrm>
            <a:off x="1678680" y="4002120"/>
            <a:ext cx="1523880" cy="2422080"/>
            <a:chOff x="1678680" y="4002120"/>
            <a:chExt cx="1523880" cy="2422080"/>
          </a:xfrm>
        </p:grpSpPr>
        <p:grpSp>
          <p:nvGrpSpPr>
            <p:cNvPr id="514" name=""/>
            <p:cNvGrpSpPr/>
            <p:nvPr/>
          </p:nvGrpSpPr>
          <p:grpSpPr>
            <a:xfrm>
              <a:off x="1678680" y="4159800"/>
              <a:ext cx="1418760" cy="2264400"/>
              <a:chOff x="1678680" y="4159800"/>
              <a:chExt cx="1418760" cy="2264400"/>
            </a:xfrm>
          </p:grpSpPr>
          <p:sp>
            <p:nvSpPr>
              <p:cNvPr id="515" name=""/>
              <p:cNvSpPr/>
              <p:nvPr/>
            </p:nvSpPr>
            <p:spPr>
              <a:xfrm rot="3876600">
                <a:off x="1251000" y="504612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3876600">
                <a:off x="2616840" y="592452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2113920" y="4002120"/>
              <a:ext cx="1088640" cy="1737720"/>
              <a:chOff x="2113920" y="4002120"/>
              <a:chExt cx="1088640" cy="1737720"/>
            </a:xfrm>
          </p:grpSpPr>
          <p:sp>
            <p:nvSpPr>
              <p:cNvPr id="518" name=""/>
              <p:cNvSpPr/>
              <p:nvPr/>
            </p:nvSpPr>
            <p:spPr>
              <a:xfrm flipV="1" rot="3876600">
                <a:off x="1785600" y="468216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 rot="3876600">
                <a:off x="2818800" y="536256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20" name=""/>
          <p:cNvSpPr/>
          <p:nvPr/>
        </p:nvSpPr>
        <p:spPr>
          <a:xfrm rot="3925800">
            <a:off x="1564560" y="4852800"/>
            <a:ext cx="192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ЗАДНИЕ КОРЕШКИ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СПИННОГО МОЗГ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rot="3925800">
            <a:off x="3473640" y="4598640"/>
            <a:ext cx="105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ТАЛАМУС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3925800">
            <a:off x="6986880" y="533160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МОЗЖЕЧОК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3925800">
            <a:off x="4516920" y="4707360"/>
            <a:ext cx="177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ЦЕНТРАЛЬНАЯ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ИЗВИЛИНА КОРЫ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870680" cy="4678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4" descr="img1"/>
          <p:cNvPicPr/>
          <p:nvPr/>
        </p:nvPicPr>
        <p:blipFill>
          <a:blip r:embed="rId1"/>
          <a:stretch/>
        </p:blipFill>
        <p:spPr>
          <a:xfrm>
            <a:off x="1908000" y="1268280"/>
            <a:ext cx="4332600" cy="5397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90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Comic Sans MS"/>
              </a:rPr>
              <a:t>РАЗВИТИЕ ВОСПРИЯТИ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357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26920" y="321300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0920" y="3789360"/>
            <a:ext cx="331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ЛИТНОЕ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ИНКРЕТИЧНО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РАГМЕНТАРНОЕ ВОСПРИЯТИ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531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532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1d4d27"/>
                  </a:gs>
                  <a:gs pos="100000">
                    <a:srgbClr val="3ca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ca051"/>
                  </a:gs>
                  <a:gs pos="100000">
                    <a:srgbClr val="a7d4b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f63ad"/>
                </a:gs>
                <a:gs pos="100000">
                  <a:srgbClr val="0e2d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0c7e1"/>
                </a:gs>
                <a:gs pos="100000">
                  <a:srgbClr val="1f63ad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1f63ad">
                    <a:alpha val="48235"/>
                  </a:srgbClr>
                </a:gs>
                <a:gs pos="100000">
                  <a:srgbClr val="184e8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1f63ad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366720" y="199548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СПРИЯТ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580000" y="3789360"/>
            <a:ext cx="30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СЧЛЕНЕННО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СМЫСЛЕННО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АТЕГОРИАЛЬНОЕ ВОСПРИЯТИ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419640" y="3789360"/>
            <a:ext cx="2271600" cy="144000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0dfc6"/>
              </a:gs>
              <a:gs pos="100000">
                <a:srgbClr val="3ca05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ВОСПРИЯТИЕ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644120"/>
            <a:ext cx="7605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omic Sans MS"/>
              </a:rPr>
              <a:t>- </a:t>
            </a:r>
            <a:r>
              <a:rPr b="1" lang="ru-RU" sz="4000" spc="-1" strike="noStrike">
                <a:solidFill>
                  <a:srgbClr val="003366"/>
                </a:solidFill>
                <a:latin typeface="Comic Sans MS"/>
              </a:rPr>
              <a:t>Это система процессов приема и преобразования информации, обеспечивающая организму отражение объективной реальности и ориентировку в окружающем мире</a:t>
            </a:r>
            <a:endParaRPr b="1" lang="en-US" sz="4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2657520" cy="396252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2876760" cy="39528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Comic Sans MS"/>
              </a:rPr>
              <a:t>УПРАЖНЕНИЯ ПО ОБУЧЕНИЮ ГРАМОТЕ ДЕТЕЙ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395280" y="573408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Comic Sans MS"/>
              </a:rPr>
              <a:t>Гомзяк О.С. Говорим правильно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Comic Sans MS"/>
              </a:rPr>
              <a:t>Комплексный подход к преодолению ОНР у дошкольнико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3"/>
          <a:srcRect l="251" t="-190" r="0" b="-390"/>
          <a:stretch/>
        </p:blipFill>
        <p:spPr>
          <a:xfrm>
            <a:off x="250920" y="4149720"/>
            <a:ext cx="857160" cy="10843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3203640" y="4149720"/>
            <a:ext cx="857160" cy="10843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7524720" y="4149720"/>
            <a:ext cx="857160" cy="108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2033640" cy="107964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3348000" y="2924280"/>
            <a:ext cx="968400" cy="108108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>
            <a:off x="6084720" y="2637000"/>
            <a:ext cx="1127160" cy="107928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4"/>
          <a:stretch/>
        </p:blipFill>
        <p:spPr>
          <a:xfrm>
            <a:off x="1835280" y="3500280"/>
            <a:ext cx="985680" cy="107820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5"/>
          <a:stretch/>
        </p:blipFill>
        <p:spPr>
          <a:xfrm>
            <a:off x="2771640" y="1676520"/>
            <a:ext cx="1108080" cy="10792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6"/>
          <a:stretch/>
        </p:blipFill>
        <p:spPr>
          <a:xfrm>
            <a:off x="7740720" y="2924280"/>
            <a:ext cx="857160" cy="10792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7"/>
          <a:stretch/>
        </p:blipFill>
        <p:spPr>
          <a:xfrm>
            <a:off x="7451640" y="4508640"/>
            <a:ext cx="1073160" cy="108252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8"/>
          <a:stretch/>
        </p:blipFill>
        <p:spPr>
          <a:xfrm>
            <a:off x="468360" y="3213000"/>
            <a:ext cx="831960" cy="107964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9"/>
          <a:stretch/>
        </p:blipFill>
        <p:spPr>
          <a:xfrm>
            <a:off x="7812000" y="1628640"/>
            <a:ext cx="852480" cy="107964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10"/>
          <a:stretch/>
        </p:blipFill>
        <p:spPr>
          <a:xfrm>
            <a:off x="1332000" y="5373720"/>
            <a:ext cx="1636560" cy="107784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11"/>
          <a:stretch/>
        </p:blipFill>
        <p:spPr>
          <a:xfrm>
            <a:off x="5076720" y="3933720"/>
            <a:ext cx="1528920" cy="107964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12"/>
          <a:stretch/>
        </p:blipFill>
        <p:spPr>
          <a:xfrm>
            <a:off x="4500720" y="981000"/>
            <a:ext cx="2000160" cy="108108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13"/>
          <a:stretch/>
        </p:blipFill>
        <p:spPr>
          <a:xfrm>
            <a:off x="1476360" y="2133720"/>
            <a:ext cx="1122480" cy="107928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14"/>
          <a:stretch/>
        </p:blipFill>
        <p:spPr>
          <a:xfrm>
            <a:off x="5076720" y="5373720"/>
            <a:ext cx="1000080" cy="107784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15"/>
          <a:stretch/>
        </p:blipFill>
        <p:spPr>
          <a:xfrm>
            <a:off x="3059280" y="5589720"/>
            <a:ext cx="1695240" cy="107928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16"/>
          <a:stretch/>
        </p:blipFill>
        <p:spPr>
          <a:xfrm>
            <a:off x="6948360" y="1197000"/>
            <a:ext cx="871560" cy="107784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17"/>
          <a:stretch/>
        </p:blipFill>
        <p:spPr>
          <a:xfrm>
            <a:off x="324000" y="4724280"/>
            <a:ext cx="695160" cy="10843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18"/>
          <a:stretch/>
        </p:blipFill>
        <p:spPr>
          <a:xfrm>
            <a:off x="6443640" y="5661000"/>
            <a:ext cx="2317680" cy="107964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19"/>
          <a:stretch/>
        </p:blipFill>
        <p:spPr>
          <a:xfrm>
            <a:off x="2843280" y="4292640"/>
            <a:ext cx="23860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51501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1523880" y="12034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31068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2" dur="1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1908000" y="2637000"/>
            <a:ext cx="4319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4d4d4d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!</a:t>
            </a:r>
            <a:endParaRPr b="0" lang="en-US" sz="4000" spc="1" strike="noStrike">
              <a:ln w="0">
                <a:noFill/>
              </a:ln>
              <a:solidFill>
                <a:srgbClr val="4d4d4d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 ВЕДУЩЕМУ АНАЛИЗАТОРУ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340000" y="1341360"/>
            <a:ext cx="4724280" cy="685800"/>
            <a:chOff x="2340000" y="1341360"/>
            <a:chExt cx="4724280" cy="685800"/>
          </a:xfrm>
        </p:grpSpPr>
        <p:sp>
          <p:nvSpPr>
            <p:cNvPr id="93" name=""/>
            <p:cNvSpPr/>
            <p:nvPr/>
          </p:nvSpPr>
          <p:spPr>
            <a:xfrm>
              <a:off x="2720880" y="146052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28302"/>
                </a:gs>
                <a:gs pos="100000">
                  <a:srgbClr val="f4e3c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40000" y="1341360"/>
              <a:ext cx="685800" cy="685800"/>
            </a:xfrm>
            <a:prstGeom prst="diamond">
              <a:avLst/>
            </a:prstGeom>
            <a:solidFill>
              <a:srgbClr val="d2830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49480" y="151596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Зрительное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95880" y="1440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340000" y="2133720"/>
            <a:ext cx="4724280" cy="685800"/>
            <a:chOff x="2340000" y="2133720"/>
            <a:chExt cx="4724280" cy="685800"/>
          </a:xfrm>
        </p:grpSpPr>
        <p:sp>
          <p:nvSpPr>
            <p:cNvPr id="98" name=""/>
            <p:cNvSpPr/>
            <p:nvPr/>
          </p:nvSpPr>
          <p:spPr>
            <a:xfrm>
              <a:off x="2720880" y="22528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f63ad"/>
                </a:gs>
                <a:gs pos="100000">
                  <a:srgbClr val="cedde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40000" y="2133720"/>
              <a:ext cx="685800" cy="685800"/>
            </a:xfrm>
            <a:prstGeom prst="diamond">
              <a:avLst/>
            </a:prstGeom>
            <a:solidFill>
              <a:srgbClr val="1f63a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49480" y="2308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луховое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95880" y="2232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340000" y="2924280"/>
            <a:ext cx="4724280" cy="685800"/>
            <a:chOff x="2340000" y="2924280"/>
            <a:chExt cx="4724280" cy="685800"/>
          </a:xfrm>
        </p:grpSpPr>
        <p:sp>
          <p:nvSpPr>
            <p:cNvPr id="103" name=""/>
            <p:cNvSpPr/>
            <p:nvPr/>
          </p:nvSpPr>
          <p:spPr>
            <a:xfrm>
              <a:off x="2720880" y="3043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190b"/>
                </a:gs>
                <a:gs pos="100000">
                  <a:srgbClr val="e8cdca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40000" y="2924280"/>
              <a:ext cx="685800" cy="685800"/>
            </a:xfrm>
            <a:prstGeom prst="diamond">
              <a:avLst/>
            </a:prstGeom>
            <a:solidFill>
              <a:srgbClr val="3ca05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49480" y="3098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Кинестетическое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95880" y="3022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340000" y="3716280"/>
            <a:ext cx="4724280" cy="685800"/>
            <a:chOff x="2340000" y="3716280"/>
            <a:chExt cx="4724280" cy="685800"/>
          </a:xfrm>
        </p:grpSpPr>
        <p:sp>
          <p:nvSpPr>
            <p:cNvPr id="108" name=""/>
            <p:cNvSpPr/>
            <p:nvPr/>
          </p:nvSpPr>
          <p:spPr>
            <a:xfrm>
              <a:off x="2720880" y="3835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7adb5"/>
                </a:gs>
                <a:gs pos="100000">
                  <a:srgbClr val="e8ecee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40000" y="3716280"/>
              <a:ext cx="685800" cy="685800"/>
            </a:xfrm>
            <a:prstGeom prst="diamond">
              <a:avLst/>
            </a:prstGeom>
            <a:solidFill>
              <a:srgbClr val="97adb5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49480" y="3890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Осязательное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95880" y="3814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340000" y="4508640"/>
            <a:ext cx="4724280" cy="685800"/>
            <a:chOff x="2340000" y="4508640"/>
            <a:chExt cx="4724280" cy="685800"/>
          </a:xfrm>
        </p:grpSpPr>
        <p:sp>
          <p:nvSpPr>
            <p:cNvPr id="113" name=""/>
            <p:cNvSpPr/>
            <p:nvPr/>
          </p:nvSpPr>
          <p:spPr>
            <a:xfrm>
              <a:off x="2720880" y="46278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28302"/>
                </a:gs>
                <a:gs pos="100000">
                  <a:srgbClr val="f4e3c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40000" y="4508640"/>
              <a:ext cx="685800" cy="685800"/>
            </a:xfrm>
            <a:prstGeom prst="diamond">
              <a:avLst/>
            </a:prstGeom>
            <a:solidFill>
              <a:srgbClr val="d2830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49480" y="468324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Обонятельное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5880" y="4607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340000" y="2133720"/>
            <a:ext cx="4724280" cy="685800"/>
            <a:chOff x="2340000" y="2133720"/>
            <a:chExt cx="4724280" cy="685800"/>
          </a:xfrm>
        </p:grpSpPr>
        <p:sp>
          <p:nvSpPr>
            <p:cNvPr id="118" name=""/>
            <p:cNvSpPr/>
            <p:nvPr/>
          </p:nvSpPr>
          <p:spPr>
            <a:xfrm>
              <a:off x="2720880" y="22528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f63ad"/>
                </a:gs>
                <a:gs pos="100000">
                  <a:srgbClr val="cedde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40000" y="2133720"/>
              <a:ext cx="685800" cy="685800"/>
            </a:xfrm>
            <a:prstGeom prst="diamond">
              <a:avLst/>
            </a:prstGeom>
            <a:solidFill>
              <a:srgbClr val="1f63a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49480" y="2308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Слуховое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95880" y="2232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340000" y="5300640"/>
            <a:ext cx="4724280" cy="685800"/>
            <a:chOff x="2340000" y="5300640"/>
            <a:chExt cx="4724280" cy="685800"/>
          </a:xfrm>
        </p:grpSpPr>
        <p:sp>
          <p:nvSpPr>
            <p:cNvPr id="123" name=""/>
            <p:cNvSpPr/>
            <p:nvPr/>
          </p:nvSpPr>
          <p:spPr>
            <a:xfrm>
              <a:off x="2720880" y="54198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f63ad"/>
                </a:gs>
                <a:gs pos="100000">
                  <a:srgbClr val="cedde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40000" y="5300640"/>
              <a:ext cx="685800" cy="685800"/>
            </a:xfrm>
            <a:prstGeom prst="diamond">
              <a:avLst/>
            </a:prstGeom>
            <a:solidFill>
              <a:srgbClr val="1f63a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49480" y="547524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Вкусовое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95880" y="539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5475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 ФОРМЕ СУЩЕСТВОВАНИЯ МАТЕРИИ: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79280" y="1916280"/>
            <a:ext cx="2960280" cy="4034880"/>
            <a:chOff x="179280" y="1916280"/>
            <a:chExt cx="2960280" cy="4034880"/>
          </a:xfrm>
        </p:grpSpPr>
        <p:sp>
          <p:nvSpPr>
            <p:cNvPr id="129" name=""/>
            <p:cNvSpPr/>
            <p:nvPr/>
          </p:nvSpPr>
          <p:spPr>
            <a:xfrm>
              <a:off x="179280" y="2223720"/>
              <a:ext cx="29516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4640" y="2232000"/>
              <a:ext cx="2862720" cy="280296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8400" y="4295520"/>
              <a:ext cx="28238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8400" y="2253960"/>
              <a:ext cx="28238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920" y="5081400"/>
              <a:ext cx="29516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400" y="5105160"/>
              <a:ext cx="282384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1194840" y="1916280"/>
              <a:ext cx="876960" cy="642600"/>
              <a:chOff x="1194840" y="1916280"/>
              <a:chExt cx="876960" cy="642600"/>
            </a:xfrm>
          </p:grpSpPr>
          <p:sp>
            <p:nvSpPr>
              <p:cNvPr id="136" name=""/>
              <p:cNvSpPr/>
              <p:nvPr/>
            </p:nvSpPr>
            <p:spPr>
              <a:xfrm>
                <a:off x="1194840" y="1916280"/>
                <a:ext cx="876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203840" y="1920960"/>
                <a:ext cx="84780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214280" y="1924920"/>
                <a:ext cx="82836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223640" y="1930680"/>
                <a:ext cx="78768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69360" y="1946160"/>
                <a:ext cx="69984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1447200" y="20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3320" y="2678040"/>
              <a:ext cx="280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Comic Sans MS"/>
                </a:rPr>
                <a:t>ВОСПРИЯТИЕ ПРОСТРАНСТВА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348000" y="1844640"/>
            <a:ext cx="2664720" cy="4035600"/>
            <a:chOff x="3348000" y="1844640"/>
            <a:chExt cx="2664720" cy="4035600"/>
          </a:xfrm>
        </p:grpSpPr>
        <p:sp>
          <p:nvSpPr>
            <p:cNvPr id="144" name=""/>
            <p:cNvSpPr/>
            <p:nvPr/>
          </p:nvSpPr>
          <p:spPr>
            <a:xfrm>
              <a:off x="3348000" y="2152440"/>
              <a:ext cx="2661120" cy="2857680"/>
            </a:xfrm>
            <a:custGeom>
              <a:avLst/>
              <a:gdLst>
                <a:gd name="textAreaLeft" fmla="*/ 136440 w 2661120"/>
                <a:gd name="textAreaRight" fmla="*/ 2524680 w 2661120"/>
                <a:gd name="textAreaTop" fmla="*/ 136440 h 2857680"/>
                <a:gd name="textAreaBottom" fmla="*/ 2721240 h 2857680"/>
              </a:gdLst>
              <a:ahLst/>
              <a:rect l="textAreaLeft" t="textAreaTop" r="textAreaRight" b="textAreaBottom"/>
              <a:pathLst>
                <a:path w="21600" h="23195">
                  <a:moveTo>
                    <a:pt x="3782" y="0"/>
                  </a:moveTo>
                  <a:arcTo wR="3782" hR="3782" stAng="16200000" swAng="-5400000"/>
                  <a:lnTo>
                    <a:pt x="0" y="19413"/>
                  </a:lnTo>
                  <a:arcTo wR="3782" hR="3782" stAng="10800000" swAng="-5400000"/>
                  <a:lnTo>
                    <a:pt x="17818" y="2319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88680" y="2160720"/>
              <a:ext cx="2581560" cy="2803320"/>
            </a:xfrm>
            <a:custGeom>
              <a:avLst/>
              <a:gdLst>
                <a:gd name="textAreaLeft" fmla="*/ 126000 w 2581560"/>
                <a:gd name="textAreaRight" fmla="*/ 2455560 w 2581560"/>
                <a:gd name="textAreaTop" fmla="*/ 126000 h 2803320"/>
                <a:gd name="textAreaBottom" fmla="*/ 2677320 h 2803320"/>
              </a:gdLst>
              <a:ahLst/>
              <a:rect l="textAreaLeft" t="textAreaTop" r="textAreaRight" b="textAreaBottom"/>
              <a:pathLst>
                <a:path w="21600" h="23455">
                  <a:moveTo>
                    <a:pt x="3600" y="0"/>
                  </a:moveTo>
                  <a:arcTo wR="3600" hR="3600" stAng="16200000" swAng="-5400000"/>
                  <a:lnTo>
                    <a:pt x="0" y="19855"/>
                  </a:lnTo>
                  <a:arcTo wR="3600" hR="3600" stAng="10800000" swAng="-5400000"/>
                  <a:lnTo>
                    <a:pt x="18000" y="234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10280" y="4224240"/>
              <a:ext cx="254592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10280" y="2182680"/>
              <a:ext cx="254592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63480" y="1844640"/>
              <a:ext cx="7905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71040" y="1849320"/>
              <a:ext cx="76536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81120" y="1852560"/>
              <a:ext cx="74736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88680" y="1859040"/>
              <a:ext cx="7106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31880" y="1874880"/>
              <a:ext cx="63072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76960" y="19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41240" y="2606760"/>
              <a:ext cx="253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Comic Sans MS"/>
                </a:rPr>
                <a:t>ВОСПРИЯТИЕ ВРЕМЕНИ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51240" y="5010120"/>
              <a:ext cx="266148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6320" y="5033880"/>
              <a:ext cx="254592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227640" y="1844640"/>
            <a:ext cx="2734920" cy="4035600"/>
            <a:chOff x="6227640" y="1844640"/>
            <a:chExt cx="2734920" cy="4035600"/>
          </a:xfrm>
        </p:grpSpPr>
        <p:sp>
          <p:nvSpPr>
            <p:cNvPr id="158" name=""/>
            <p:cNvSpPr/>
            <p:nvPr/>
          </p:nvSpPr>
          <p:spPr>
            <a:xfrm>
              <a:off x="6235200" y="2152440"/>
              <a:ext cx="2727360" cy="2857680"/>
            </a:xfrm>
            <a:custGeom>
              <a:avLst/>
              <a:gdLst>
                <a:gd name="textAreaLeft" fmla="*/ 139680 w 2727360"/>
                <a:gd name="textAreaRight" fmla="*/ 2587680 w 2727360"/>
                <a:gd name="textAreaTop" fmla="*/ 139680 h 2857680"/>
                <a:gd name="textAreaBottom" fmla="*/ 2718000 h 2857680"/>
              </a:gdLst>
              <a:ahLst/>
              <a:rect l="textAreaLeft" t="textAreaTop" r="textAreaRight" b="textAreaBottom"/>
              <a:pathLst>
                <a:path w="21600" h="22632">
                  <a:moveTo>
                    <a:pt x="3782" y="0"/>
                  </a:moveTo>
                  <a:arcTo wR="3782" hR="3782" stAng="16200000" swAng="-5400000"/>
                  <a:lnTo>
                    <a:pt x="0" y="18850"/>
                  </a:lnTo>
                  <a:arcTo wR="3782" hR="3782" stAng="10800000" swAng="-5400000"/>
                  <a:lnTo>
                    <a:pt x="17818" y="2263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77320" y="2160720"/>
              <a:ext cx="2645280" cy="2803320"/>
            </a:xfrm>
            <a:custGeom>
              <a:avLst/>
              <a:gdLst>
                <a:gd name="textAreaLeft" fmla="*/ 128880 w 2645280"/>
                <a:gd name="textAreaRight" fmla="*/ 2516400 w 2645280"/>
                <a:gd name="textAreaTop" fmla="*/ 128880 h 2803320"/>
                <a:gd name="textAreaBottom" fmla="*/ 2674440 h 2803320"/>
              </a:gdLst>
              <a:ahLst/>
              <a:rect l="textAreaLeft" t="textAreaTop" r="textAreaRight" b="textAreaBottom"/>
              <a:pathLst>
                <a:path w="21600" h="22890">
                  <a:moveTo>
                    <a:pt x="3600" y="0"/>
                  </a:moveTo>
                  <a:arcTo wR="3600" hR="3600" stAng="16200000" swAng="-5400000"/>
                  <a:lnTo>
                    <a:pt x="0" y="19290"/>
                  </a:lnTo>
                  <a:arcTo wR="3600" hR="3600" stAng="10800000" swAng="-5400000"/>
                  <a:lnTo>
                    <a:pt x="18000" y="22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99280" y="4224240"/>
              <a:ext cx="260928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99280" y="2182680"/>
              <a:ext cx="26092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7173360" y="1844640"/>
              <a:ext cx="810360" cy="642960"/>
              <a:chOff x="7173360" y="1844640"/>
              <a:chExt cx="810360" cy="642960"/>
            </a:xfrm>
          </p:grpSpPr>
          <p:sp>
            <p:nvSpPr>
              <p:cNvPr id="163" name=""/>
              <p:cNvSpPr/>
              <p:nvPr/>
            </p:nvSpPr>
            <p:spPr>
              <a:xfrm>
                <a:off x="7173360" y="1844640"/>
                <a:ext cx="8103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181640" y="1849320"/>
                <a:ext cx="783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191360" y="1853280"/>
                <a:ext cx="76536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200000" y="1859040"/>
                <a:ext cx="72756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242120" y="1874520"/>
                <a:ext cx="64656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7395840" y="19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31320" y="2606760"/>
              <a:ext cx="259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9900"/>
                  </a:solidFill>
                  <a:latin typeface="Comic Sans MS"/>
                </a:rPr>
                <a:t>ВОСПРИЯТИЕ ДВИЖЕНИЙ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27640" y="5010120"/>
              <a:ext cx="27270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83440" y="5033880"/>
              <a:ext cx="260892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90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Comic Sans MS"/>
              </a:rPr>
              <a:t>ПО ФОРМЕ ПСИХИЧЕСКОЙ АКТИВНОСТИ: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3357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321300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437000"/>
            <a:ext cx="439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ПРЕДНОМЕРЕННОЕ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3640" y="328464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1af5d"/>
              </a:gs>
              <a:gs pos="100000">
                <a:srgbClr val="d283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0dfc6"/>
              </a:gs>
              <a:gs pos="100000">
                <a:srgbClr val="3ca05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059280" y="1628640"/>
            <a:ext cx="2998440" cy="1601640"/>
            <a:chOff x="3059280" y="1628640"/>
            <a:chExt cx="2998440" cy="1601640"/>
          </a:xfrm>
        </p:grpSpPr>
        <p:grpSp>
          <p:nvGrpSpPr>
            <p:cNvPr id="179" name=""/>
            <p:cNvGrpSpPr/>
            <p:nvPr/>
          </p:nvGrpSpPr>
          <p:grpSpPr>
            <a:xfrm>
              <a:off x="3059280" y="1771560"/>
              <a:ext cx="2998440" cy="1458720"/>
              <a:chOff x="3059280" y="1771560"/>
              <a:chExt cx="2998440" cy="1458720"/>
            </a:xfrm>
          </p:grpSpPr>
          <p:sp>
            <p:nvSpPr>
              <p:cNvPr id="180" name=""/>
              <p:cNvSpPr/>
              <p:nvPr/>
            </p:nvSpPr>
            <p:spPr>
              <a:xfrm>
                <a:off x="309204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1d4d27"/>
                  </a:gs>
                  <a:gs pos="100000">
                    <a:srgbClr val="3ca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05928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ca051"/>
                  </a:gs>
                  <a:gs pos="100000">
                    <a:srgbClr val="a7d4b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320076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f63ad"/>
                </a:gs>
                <a:gs pos="100000">
                  <a:srgbClr val="0e2d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3568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0c7e1"/>
                </a:gs>
                <a:gs pos="100000">
                  <a:srgbClr val="1f63ad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6268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1f63ad">
                    <a:alpha val="48235"/>
                  </a:srgbClr>
                </a:gs>
                <a:gs pos="100000">
                  <a:srgbClr val="184e8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9444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1f63ad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366720" y="199548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СПРИЯТ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4437000"/>
            <a:ext cx="468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НЕПРЕДНАМЕРЕННОЕ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90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Comic Sans MS"/>
              </a:rPr>
              <a:t>ПО СТРУКТУРЕ: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3357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321300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437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ИМУЛЬТАННО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3640" y="328464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1af5d"/>
              </a:gs>
              <a:gs pos="100000">
                <a:srgbClr val="d283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858560" y="328464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0dfc6"/>
              </a:gs>
              <a:gs pos="100000">
                <a:srgbClr val="3ca05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95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96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1d4d27"/>
                  </a:gs>
                  <a:gs pos="100000">
                    <a:srgbClr val="3ca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ca051"/>
                  </a:gs>
                  <a:gs pos="100000">
                    <a:srgbClr val="a7d4b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f63ad"/>
                </a:gs>
                <a:gs pos="100000">
                  <a:srgbClr val="0e2d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0c7e1"/>
                </a:gs>
                <a:gs pos="100000">
                  <a:srgbClr val="1f63ad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1f63ad">
                    <a:alpha val="48235"/>
                  </a:srgbClr>
                </a:gs>
                <a:gs pos="100000">
                  <a:srgbClr val="184e8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1f63ad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366720" y="199548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СПРИЯТ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76720" y="443700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УКЦЕССИВНО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42920" y="1773360"/>
            <a:ext cx="3834000" cy="383364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769fcc">
                  <a:alpha val="12156"/>
                </a:srgbClr>
              </a:gs>
              <a:gs pos="50000">
                <a:srgbClr val="1f63ad"/>
              </a:gs>
              <a:gs pos="100000">
                <a:srgbClr val="769fcc">
                  <a:alpha val="1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03280" y="206064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3ca051"/>
              </a:gs>
              <a:gs pos="100000">
                <a:srgbClr val="90c89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24360" y="21337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ОБОБЩЕН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2781360"/>
            <a:ext cx="3781440" cy="49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ПРЕДМЕТ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42900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ЦЕЛОСТ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40360" y="4221000"/>
            <a:ext cx="3781440" cy="50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СТРУКТУР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80000" y="486900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ИЗБИРАТЕЛЬ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36600" y="2924280"/>
            <a:ext cx="33994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СВОЙСТВА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ВОСПРИЯТИ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43280" y="551664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КОНСТАНТ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59280" y="1484280"/>
            <a:ext cx="378108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ОСМЫСЛЕН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ФАЗА ВОСПРИЯТИЯ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1908000" y="2421000"/>
            <a:ext cx="553104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97adb5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051"/>
              </a:gs>
              <a:gs pos="50000">
                <a:srgbClr val="81c18e"/>
              </a:gs>
              <a:gs pos="100000">
                <a:srgbClr val="3ca05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1c1c"/>
                </a:solidFill>
                <a:latin typeface="Comic Sans MS"/>
              </a:rPr>
              <a:t>Процесс познани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14440" y="4292640"/>
            <a:ext cx="1579320" cy="2069640"/>
            <a:chOff x="514440" y="4292640"/>
            <a:chExt cx="1579320" cy="2069640"/>
          </a:xfrm>
        </p:grpSpPr>
        <p:grpSp>
          <p:nvGrpSpPr>
            <p:cNvPr id="218" name=""/>
            <p:cNvGrpSpPr/>
            <p:nvPr/>
          </p:nvGrpSpPr>
          <p:grpSpPr>
            <a:xfrm>
              <a:off x="514440" y="4292640"/>
              <a:ext cx="1485720" cy="1514160"/>
              <a:chOff x="514440" y="4292640"/>
              <a:chExt cx="1485720" cy="151416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514440" y="4292640"/>
                <a:ext cx="1485720" cy="1514160"/>
                <a:chOff x="514440" y="4292640"/>
                <a:chExt cx="1485720" cy="15141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4440" y="4292640"/>
                  <a:ext cx="148572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8302"/>
                    </a:gs>
                    <a:gs pos="100000">
                      <a:srgbClr val="84520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84000" y="431748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2830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"/>
              <p:cNvSpPr/>
              <p:nvPr/>
            </p:nvSpPr>
            <p:spPr>
              <a:xfrm>
                <a:off x="583560" y="5117400"/>
                <a:ext cx="1342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1c1c1c"/>
                    </a:solidFill>
                    <a:latin typeface="Comic Sans MS"/>
                  </a:rPr>
                  <a:t>ощущение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514440" y="592452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627280" y="4292640"/>
            <a:ext cx="1617480" cy="2069640"/>
            <a:chOff x="2627280" y="4292640"/>
            <a:chExt cx="1617480" cy="2069640"/>
          </a:xfrm>
        </p:grpSpPr>
        <p:grpSp>
          <p:nvGrpSpPr>
            <p:cNvPr id="225" name=""/>
            <p:cNvGrpSpPr/>
            <p:nvPr/>
          </p:nvGrpSpPr>
          <p:grpSpPr>
            <a:xfrm>
              <a:off x="2627280" y="4292640"/>
              <a:ext cx="1523880" cy="1520640"/>
              <a:chOff x="2627280" y="4292640"/>
              <a:chExt cx="1523880" cy="1520640"/>
            </a:xfrm>
          </p:grpSpPr>
          <p:sp>
            <p:nvSpPr>
              <p:cNvPr id="226" name=""/>
              <p:cNvSpPr/>
              <p:nvPr/>
            </p:nvSpPr>
            <p:spPr>
              <a:xfrm>
                <a:off x="2627280" y="429264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3ca051"/>
                  </a:gs>
                  <a:gs pos="100000">
                    <a:srgbClr val="1e512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801520" y="431784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ca0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2703240" y="502272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1c1c1c"/>
                  </a:solidFill>
                  <a:latin typeface="Comic Sans MS"/>
                </a:rPr>
                <a:t>восприятие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65440" y="592452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859280" y="4292640"/>
            <a:ext cx="1631880" cy="2114640"/>
            <a:chOff x="4859280" y="4292640"/>
            <a:chExt cx="1631880" cy="2114640"/>
          </a:xfrm>
        </p:grpSpPr>
        <p:grpSp>
          <p:nvGrpSpPr>
            <p:cNvPr id="231" name=""/>
            <p:cNvGrpSpPr/>
            <p:nvPr/>
          </p:nvGrpSpPr>
          <p:grpSpPr>
            <a:xfrm>
              <a:off x="4859280" y="4292640"/>
              <a:ext cx="1523880" cy="1521000"/>
              <a:chOff x="4859280" y="4292640"/>
              <a:chExt cx="1523880" cy="1521000"/>
            </a:xfrm>
          </p:grpSpPr>
          <p:sp>
            <p:nvSpPr>
              <p:cNvPr id="232" name=""/>
              <p:cNvSpPr/>
              <p:nvPr/>
            </p:nvSpPr>
            <p:spPr>
              <a:xfrm>
                <a:off x="4859280" y="429264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1f63ad"/>
                  </a:gs>
                  <a:gs pos="100000">
                    <a:srgbClr val="0f32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033520" y="431784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1f63a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935240" y="502272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1c1c1c"/>
                  </a:solidFill>
                  <a:latin typeface="Comic Sans MS"/>
                </a:rPr>
                <a:t>мышление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11480" y="596916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035840" y="4292640"/>
            <a:ext cx="1579680" cy="2114640"/>
            <a:chOff x="7035840" y="4292640"/>
            <a:chExt cx="1579680" cy="2114640"/>
          </a:xfrm>
        </p:grpSpPr>
        <p:grpSp>
          <p:nvGrpSpPr>
            <p:cNvPr id="237" name=""/>
            <p:cNvGrpSpPr/>
            <p:nvPr/>
          </p:nvGrpSpPr>
          <p:grpSpPr>
            <a:xfrm>
              <a:off x="7035840" y="4292640"/>
              <a:ext cx="1524240" cy="1531800"/>
              <a:chOff x="7035840" y="4292640"/>
              <a:chExt cx="1524240" cy="153180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7035840" y="4292640"/>
                <a:ext cx="1524240" cy="1531800"/>
                <a:chOff x="7035840" y="4292640"/>
                <a:chExt cx="1524240" cy="15318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7035840" y="429264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7adb5"/>
                    </a:gs>
                    <a:gs pos="100000">
                      <a:srgbClr val="24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210080" y="431784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7adb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1" name=""/>
              <p:cNvSpPr/>
              <p:nvPr/>
            </p:nvSpPr>
            <p:spPr>
              <a:xfrm>
                <a:off x="7184520" y="5060880"/>
                <a:ext cx="1194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1c1c1c"/>
                    </a:solidFill>
                    <a:latin typeface="Comic Sans MS"/>
                  </a:rPr>
                  <a:t>практика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7035840" y="596916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Comic Sans MS"/>
              </a:rPr>
              <a:t>ЭТАПЫ РАЗВИТИЯ ВОСПРИЯТИ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916280"/>
            <a:ext cx="7129440" cy="494172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ca051"/>
              </a:gs>
              <a:gs pos="100000">
                <a:srgbClr val="1f63ad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501336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16720" y="3500280"/>
            <a:ext cx="1728720" cy="1584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83400" y="530064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СПРИЯТИ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УДОЖЕСТВЕННЫ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ИЗВЕД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03280" y="1989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76360" y="206064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64720" y="23544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ЦЕЛОЕ И ЧАСТ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56000" y="20606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00360" y="1557360"/>
            <a:ext cx="63324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15573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61880" y="1776240"/>
            <a:ext cx="157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ЦВЕТ И ФОРМ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6084720" y="393372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СПРИЯТИ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ЛОВЕ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2852640"/>
            <a:ext cx="1081080" cy="10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80" y="3073320"/>
            <a:ext cx="17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ОСПРИЯТ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АРТИН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7800" y="4076640"/>
            <a:ext cx="1764000" cy="1441080"/>
            <a:chOff x="37800" y="4076640"/>
            <a:chExt cx="1764000" cy="1441080"/>
          </a:xfrm>
        </p:grpSpPr>
        <p:sp>
          <p:nvSpPr>
            <p:cNvPr id="264" name=""/>
            <p:cNvSpPr/>
            <p:nvPr/>
          </p:nvSpPr>
          <p:spPr>
            <a:xfrm>
              <a:off x="251640" y="4076640"/>
              <a:ext cx="137232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9280" y="4084920"/>
              <a:ext cx="133812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2600" y="4098600"/>
              <a:ext cx="127296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4600" y="4135320"/>
              <a:ext cx="113220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800" y="4661280"/>
              <a:ext cx="17640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ВОСПРИЯТИЕ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КАРТИНК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257840" y="4869000"/>
            <a:ext cx="2545920" cy="1441080"/>
            <a:chOff x="1257840" y="4869000"/>
            <a:chExt cx="2545920" cy="1441080"/>
          </a:xfrm>
        </p:grpSpPr>
        <p:sp>
          <p:nvSpPr>
            <p:cNvPr id="270" name=""/>
            <p:cNvSpPr/>
            <p:nvPr/>
          </p:nvSpPr>
          <p:spPr>
            <a:xfrm>
              <a:off x="1862280" y="4869000"/>
              <a:ext cx="13730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79920" y="4877280"/>
              <a:ext cx="13392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93240" y="4890960"/>
              <a:ext cx="12736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65240" y="4927680"/>
              <a:ext cx="113292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57840" y="5382000"/>
              <a:ext cx="254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ВОСПРИЯТИЕ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ПРОСТРАНСТВА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2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1:26:09Z</dcterms:created>
  <dc:creator>1</dc:creator>
  <dc:description/>
  <dc:language>en-US</dc:language>
  <cp:lastModifiedBy>1</cp:lastModifiedBy>
  <dcterms:modified xsi:type="dcterms:W3CDTF">2013-02-28T15:57:01Z</dcterms:modified>
  <cp:revision>55</cp:revision>
  <dc:subject/>
  <dc:title>ВОСПРИЯТИЕ</dc:title>
</cp:coreProperties>
</file>