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BE6-C090-44D5-9D31-84F9A565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F0B-CFBB-43B2-986A-D2D405DF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4C9-45D8-4B28-AB03-3D9A53ED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662-7CE5-41BC-BF4B-29B219AA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FE4D-4A2D-485D-8CA4-8BFC4EFC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1D0B-EBB4-4DB9-846D-8FDBDA88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5086-4CED-4204-AA2D-32A67790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D17E-8C6D-4C3D-B63B-E2F71CAA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8E09-2C21-447E-B652-6ED092A9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60FC-A791-4A35-A158-233B4520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9513-E4AD-4C9C-A09C-11810E16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F64-2BA5-4789-B0B9-E93D9C33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6AC3-2E21-41EB-8FCE-74949F02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96E7-21F5-43E4-9DDA-242538D3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7B4B-CCDA-4843-9AC0-8D1699A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CF28-735E-462B-81DE-811F06BB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AA98-5CAA-4346-A170-12F71F4A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78B-7CE2-4C0D-A645-736BBFC7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E75-AB69-452F-8192-4E629BCD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4DC-501D-4DE4-8385-CC781928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523-E350-45B3-AA3E-F82EC95D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4B8-D2B2-4D04-A6C5-B361BFC3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6E3-D166-4647-9ED2-82FB053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D04-3FA3-499F-9807-F1E60217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6D25-6AE3-48A3-BC6D-1FF484F02B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9131-EBDD-42BA-B995-66143FA344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826920" y="1052640"/>
            <a:ext cx="77756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ема урока: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«Зависимость между синусом, косинусом и тангенсом одного и того же угла»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684360" y="47340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(a-b)   (a+b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-b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2ab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a+b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+3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+3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a-b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3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+3ab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(a-b)    (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+ab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(a+b)   (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ab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075280" y="54936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7640" y="436572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4643280" y="5445000"/>
            <a:ext cx="3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1979640" y="1514520"/>
                <a:ext cx="5113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1979640" y="2492280"/>
                <a:ext cx="5329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8"/>
              <p:cNvSpPr txBox="1"/>
              <p:nvPr/>
            </p:nvSpPr>
            <p:spPr>
              <a:xfrm>
                <a:off x="2050920" y="3710160"/>
                <a:ext cx="5185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2843280" y="5229360"/>
                <a:ext cx="367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любое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число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10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452680" y="1125360"/>
                <a:ext cx="464040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147636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висимость между тангенсом и котангенсом одного и того же аргумент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826920" y="4365720"/>
            <a:ext cx="6551640" cy="1296720"/>
            <a:chOff x="826920" y="4365720"/>
            <a:chExt cx="6551640" cy="1296720"/>
          </a:xfrm>
        </p:grpSpPr>
        <p:sp>
          <p:nvSpPr>
            <p:cNvPr id="234" name="Rectangle 11"/>
            <p:cNvSpPr/>
            <p:nvPr/>
          </p:nvSpPr>
          <p:spPr>
            <a:xfrm>
              <a:off x="3492360" y="4581360"/>
              <a:ext cx="5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∙</a:t>
              </a: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5" name="Group 14"/>
            <p:cNvGrpSpPr/>
            <p:nvPr/>
          </p:nvGrpSpPr>
          <p:grpSpPr>
            <a:xfrm>
              <a:off x="826920" y="4365720"/>
              <a:ext cx="6551640" cy="1296720"/>
              <a:chOff x="826920" y="4365720"/>
              <a:chExt cx="6551640" cy="1296720"/>
            </a:xfrm>
          </p:grpSpPr>
          <mc:AlternateContent>
            <mc:Choice xmlns:a14="http://schemas.microsoft.com/office/drawing/2010/main" Requires="a14">
              <p:sp>
                <p:nvSpPr>
                  <p:cNvPr id="236" name="Object 7"/>
                  <p:cNvSpPr txBox="1"/>
                  <p:nvPr/>
                </p:nvSpPr>
                <p:spPr>
                  <a:xfrm>
                    <a:off x="826920" y="4365720"/>
                    <a:ext cx="2735280" cy="129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Object 12"/>
                  <p:cNvSpPr txBox="1"/>
                  <p:nvPr/>
                </p:nvSpPr>
                <p:spPr>
                  <a:xfrm>
                    <a:off x="3995640" y="4365720"/>
                    <a:ext cx="3382920" cy="1202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611280" y="620640"/>
            <a:ext cx="741672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95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Д о м а ш н е е  з а д а н и е  :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84280" y="2288520"/>
            <a:ext cx="2443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§5 стр. 275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68(2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69(2столбик)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70(2 столбик).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410000" y="30499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∙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7"/>
              <p:cNvSpPr txBox="1"/>
              <p:nvPr/>
            </p:nvSpPr>
            <p:spPr>
              <a:xfrm>
                <a:off x="539640" y="1311120"/>
                <a:ext cx="2519640" cy="21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9"/>
          <p:cNvSpPr/>
          <p:nvPr/>
        </p:nvSpPr>
        <p:spPr>
          <a:xfrm>
            <a:off x="3059280" y="227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564000" y="1265400"/>
                <a:ext cx="4608360" cy="21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13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2"/>
              <p:cNvSpPr txBox="1"/>
              <p:nvPr/>
            </p:nvSpPr>
            <p:spPr>
              <a:xfrm>
                <a:off x="755640" y="4797360"/>
                <a:ext cx="15112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14"/>
          <p:cNvSpPr/>
          <p:nvPr/>
        </p:nvSpPr>
        <p:spPr>
          <a:xfrm>
            <a:off x="2554560" y="50846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5"/>
              <p:cNvSpPr txBox="1"/>
              <p:nvPr/>
            </p:nvSpPr>
            <p:spPr>
              <a:xfrm>
                <a:off x="2987640" y="4705200"/>
                <a:ext cx="165564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8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7"/>
              <p:cNvSpPr txBox="1"/>
              <p:nvPr/>
            </p:nvSpPr>
            <p:spPr>
              <a:xfrm>
                <a:off x="4600440" y="4643280"/>
                <a:ext cx="332748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95280" y="907920"/>
                <a:ext cx="2736720" cy="22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8"/>
          <p:cNvSpPr/>
          <p:nvPr/>
        </p:nvSpPr>
        <p:spPr>
          <a:xfrm>
            <a:off x="3348000" y="184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3971880" y="907920"/>
                <a:ext cx="48751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1"/>
              <p:cNvSpPr txBox="1"/>
              <p:nvPr/>
            </p:nvSpPr>
            <p:spPr>
              <a:xfrm>
                <a:off x="684360" y="4162320"/>
                <a:ext cx="20872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16"/>
          <p:cNvSpPr/>
          <p:nvPr/>
        </p:nvSpPr>
        <p:spPr>
          <a:xfrm>
            <a:off x="2914920" y="465300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7"/>
              <p:cNvSpPr txBox="1"/>
              <p:nvPr/>
            </p:nvSpPr>
            <p:spPr>
              <a:xfrm>
                <a:off x="3492360" y="4186080"/>
                <a:ext cx="172728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3"/>
              <p:cNvSpPr txBox="1"/>
              <p:nvPr/>
            </p:nvSpPr>
            <p:spPr>
              <a:xfrm>
                <a:off x="5551560" y="4184640"/>
                <a:ext cx="31240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2520" y="281160"/>
                <a:ext cx="8477280" cy="27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468360" y="4221000"/>
                <a:ext cx="216072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3708360" y="4221000"/>
                <a:ext cx="216072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11"/>
          <p:cNvSpPr/>
          <p:nvPr/>
        </p:nvSpPr>
        <p:spPr>
          <a:xfrm>
            <a:off x="2914920" y="465300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2"/>
              <p:cNvSpPr txBox="1"/>
              <p:nvPr/>
            </p:nvSpPr>
            <p:spPr>
              <a:xfrm>
                <a:off x="5867280" y="4322880"/>
                <a:ext cx="3276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4"/>
          <p:cNvGrpSpPr/>
          <p:nvPr/>
        </p:nvGrpSpPr>
        <p:grpSpPr>
          <a:xfrm>
            <a:off x="539640" y="476280"/>
            <a:ext cx="8353080" cy="5930280"/>
            <a:chOff x="539640" y="476280"/>
            <a:chExt cx="8353080" cy="5930280"/>
          </a:xfrm>
        </p:grpSpPr>
        <p:sp>
          <p:nvSpPr>
            <p:cNvPr id="192" name="Text Box 15"/>
            <p:cNvSpPr/>
            <p:nvPr/>
          </p:nvSpPr>
          <p:spPr>
            <a:xfrm>
              <a:off x="8336160" y="5735160"/>
              <a:ext cx="556560" cy="459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AutoShape 16"/>
            <p:cNvSpPr/>
            <p:nvPr/>
          </p:nvSpPr>
          <p:spPr>
            <a:xfrm>
              <a:off x="910800" y="897120"/>
              <a:ext cx="7423200" cy="50508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539640" y="5946840"/>
              <a:ext cx="928800" cy="459720"/>
            </a:xfrm>
            <a:prstGeom prst="rect">
              <a:avLst/>
            </a:prstGeom>
            <a:noFill/>
            <a:ln cap="rnd" w="0">
              <a:solidFill>
                <a:srgbClr val="ffffff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Text Box 18"/>
            <p:cNvSpPr/>
            <p:nvPr/>
          </p:nvSpPr>
          <p:spPr>
            <a:xfrm>
              <a:off x="539640" y="476280"/>
              <a:ext cx="554760" cy="630000"/>
            </a:xfrm>
            <a:prstGeom prst="rect">
              <a:avLst/>
            </a:prstGeom>
            <a:noFill/>
            <a:ln cap="rnd" w="0">
              <a:solidFill>
                <a:srgbClr val="ffffff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979640" y="1413000"/>
                <a:ext cx="53290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6"/>
              <p:cNvSpPr txBox="1"/>
              <p:nvPr/>
            </p:nvSpPr>
            <p:spPr>
              <a:xfrm>
                <a:off x="1908000" y="2708280"/>
                <a:ext cx="43214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1979640" y="4437000"/>
                <a:ext cx="453564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Rectangle 8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WordArt 12"/>
          <p:cNvSpPr txBox="1"/>
          <p:nvPr/>
        </p:nvSpPr>
        <p:spPr>
          <a:xfrm>
            <a:off x="611280" y="549360"/>
            <a:ext cx="813744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в е р ь  и   о ц е н и   с е б я 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2340000" y="1052640"/>
                <a:ext cx="5111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3492360" y="3213000"/>
                <a:ext cx="27370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3635280" y="4724280"/>
                <a:ext cx="2664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8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8436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276720" y="981000"/>
            <a:ext cx="381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рдина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бсци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2340000" y="2637000"/>
                <a:ext cx="590544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cos</m:t>
                    </m:r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484360" y="4292640"/>
                <a:ext cx="433080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7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395280" y="3933720"/>
                <a:ext cx="84978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WordArt 6"/>
          <p:cNvSpPr txBox="1"/>
          <p:nvPr/>
        </p:nvSpPr>
        <p:spPr>
          <a:xfrm>
            <a:off x="826920" y="549360"/>
            <a:ext cx="7344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 с н о в н 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 р и г о н о м е т р и ч е с к 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т о ж д е с т в о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9:51:28Z</dcterms:created>
  <dc:creator>Сергей и Лилия</dc:creator>
  <dc:description/>
  <dc:language>en-US</dc:language>
  <cp:lastModifiedBy>comp</cp:lastModifiedBy>
  <dcterms:modified xsi:type="dcterms:W3CDTF">2013-03-24T12:58:17Z</dcterms:modified>
  <cp:revision>92</cp:revision>
  <dc:subject/>
  <dc:title>Слайд 1</dc:title>
</cp:coreProperties>
</file>