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CD6-B71F-4D4B-AD72-5F3873FD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88A-61CF-4018-8022-F0B4148E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180-607E-4F2F-A336-B00E04C5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063-B066-49EC-B053-07C395A9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7F88-A2CB-46D8-9CA6-F2BFC9FB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DBB-EDC0-4466-BE4C-3EF50C5D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5AB9-B025-49EE-8FCD-D230B6E2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FEB9-37A4-4D90-900E-3870475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DA7-E34A-4BA1-9D51-CE1B34D5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820D-2ABA-4C9F-A7FD-49034B22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8382-21C5-4ADD-BF16-6EAC455F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50C-E88D-4AB0-A581-20AE3C57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9C93-6ECC-416B-8335-520D4426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0DC-8AF4-422A-8039-AD8C992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814D-897E-4453-B51A-B5BB0F7E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5B78-B4E5-479E-9ED9-16336EAF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8B2C-97B7-4198-8FEA-75345495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83F-CB4C-4383-837D-81326775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E07-7614-4438-9C74-57720FB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BD7-0FA1-478E-8319-CDD3F938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698-88FE-4A0E-9CC4-A95A8FFB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CBB-7139-40B3-97DF-D856F81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59D-CF24-4CA3-8DA6-32872C4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941-1BED-48B8-978A-8991AF4E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4DFB-1AC2-4147-8EDD-532DEFF214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BBC4-4742-4621-B392-2C620F82A2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826920" y="1052640"/>
            <a:ext cx="77756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ема урока: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Зависимость между синусом, косинусом и тангенсом одного и того же угла»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684360" y="47340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(a-b)   (a+b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-b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2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a+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3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+3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a-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3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+3ab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(a-b)    (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(a+b)   (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075280" y="54936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7640" y="436572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643280" y="5445000"/>
            <a:ext cx="3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1979640" y="1514520"/>
                <a:ext cx="5113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979640" y="2492280"/>
                <a:ext cx="5329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2050920" y="3710160"/>
                <a:ext cx="5185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843280" y="5229360"/>
                <a:ext cx="367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любое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числ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1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452680" y="1125360"/>
                <a:ext cx="464040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147636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висимость между тангенсом и котангенсом одного и того же аргумент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826920" y="4365720"/>
            <a:ext cx="6551640" cy="1296720"/>
            <a:chOff x="826920" y="4365720"/>
            <a:chExt cx="6551640" cy="1296720"/>
          </a:xfrm>
        </p:grpSpPr>
        <p:sp>
          <p:nvSpPr>
            <p:cNvPr id="234" name="Rectangle 11"/>
            <p:cNvSpPr/>
            <p:nvPr/>
          </p:nvSpPr>
          <p:spPr>
            <a:xfrm>
              <a:off x="3492360" y="458136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∙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5" name="Group 14"/>
            <p:cNvGrpSpPr/>
            <p:nvPr/>
          </p:nvGrpSpPr>
          <p:grpSpPr>
            <a:xfrm>
              <a:off x="826920" y="4365720"/>
              <a:ext cx="6551640" cy="1296720"/>
              <a:chOff x="826920" y="4365720"/>
              <a:chExt cx="6551640" cy="1296720"/>
            </a:xfrm>
          </p:grpSpPr>
          <mc:AlternateContent>
            <mc:Choice xmlns:a14="http://schemas.microsoft.com/office/drawing/2010/main" Requires="a14">
              <p:sp>
                <p:nvSpPr>
                  <p:cNvPr id="236" name="Object 7"/>
                  <p:cNvSpPr txBox="1"/>
                  <p:nvPr/>
                </p:nvSpPr>
                <p:spPr>
                  <a:xfrm>
                    <a:off x="826920" y="4365720"/>
                    <a:ext cx="2735280" cy="12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12"/>
                  <p:cNvSpPr txBox="1"/>
                  <p:nvPr/>
                </p:nvSpPr>
                <p:spPr>
                  <a:xfrm>
                    <a:off x="3995640" y="4365720"/>
                    <a:ext cx="3382920" cy="120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611280" y="620640"/>
            <a:ext cx="741672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95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Д о м а ш н е е  з а д а н и е  :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84280" y="2288520"/>
            <a:ext cx="244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§5 стр. 27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68(2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69(2столбик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70(2 столбик)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410000" y="3049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539640" y="1311120"/>
                <a:ext cx="2519640" cy="21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9"/>
          <p:cNvSpPr/>
          <p:nvPr/>
        </p:nvSpPr>
        <p:spPr>
          <a:xfrm>
            <a:off x="3059280" y="22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564000" y="1265400"/>
                <a:ext cx="4608360" cy="21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2"/>
              <p:cNvSpPr txBox="1"/>
              <p:nvPr/>
            </p:nvSpPr>
            <p:spPr>
              <a:xfrm>
                <a:off x="755640" y="4797360"/>
                <a:ext cx="15112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14"/>
          <p:cNvSpPr/>
          <p:nvPr/>
        </p:nvSpPr>
        <p:spPr>
          <a:xfrm>
            <a:off x="2554560" y="50846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5"/>
              <p:cNvSpPr txBox="1"/>
              <p:nvPr/>
            </p:nvSpPr>
            <p:spPr>
              <a:xfrm>
                <a:off x="2987640" y="4705200"/>
                <a:ext cx="165564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7"/>
              <p:cNvSpPr txBox="1"/>
              <p:nvPr/>
            </p:nvSpPr>
            <p:spPr>
              <a:xfrm>
                <a:off x="4600440" y="4643280"/>
                <a:ext cx="332748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95280" y="907920"/>
                <a:ext cx="2736720" cy="22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8"/>
          <p:cNvSpPr/>
          <p:nvPr/>
        </p:nvSpPr>
        <p:spPr>
          <a:xfrm>
            <a:off x="3348000" y="184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3971880" y="907920"/>
                <a:ext cx="48751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684360" y="4162320"/>
                <a:ext cx="20872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6"/>
          <p:cNvSpPr/>
          <p:nvPr/>
        </p:nvSpPr>
        <p:spPr>
          <a:xfrm>
            <a:off x="2914920" y="465300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7"/>
              <p:cNvSpPr txBox="1"/>
              <p:nvPr/>
            </p:nvSpPr>
            <p:spPr>
              <a:xfrm>
                <a:off x="3492360" y="4186080"/>
                <a:ext cx="17272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5551560" y="4184640"/>
                <a:ext cx="31240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2520" y="281160"/>
                <a:ext cx="8477280" cy="27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468360" y="4221000"/>
                <a:ext cx="216072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3708360" y="4221000"/>
                <a:ext cx="216072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11"/>
          <p:cNvSpPr/>
          <p:nvPr/>
        </p:nvSpPr>
        <p:spPr>
          <a:xfrm>
            <a:off x="2914920" y="465300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5867280" y="4322880"/>
                <a:ext cx="3276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4"/>
          <p:cNvGrpSpPr/>
          <p:nvPr/>
        </p:nvGrpSpPr>
        <p:grpSpPr>
          <a:xfrm>
            <a:off x="539640" y="476280"/>
            <a:ext cx="8353080" cy="5930280"/>
            <a:chOff x="539640" y="476280"/>
            <a:chExt cx="8353080" cy="5930280"/>
          </a:xfrm>
        </p:grpSpPr>
        <p:sp>
          <p:nvSpPr>
            <p:cNvPr id="192" name="Text Box 15"/>
            <p:cNvSpPr/>
            <p:nvPr/>
          </p:nvSpPr>
          <p:spPr>
            <a:xfrm>
              <a:off x="8336160" y="5735160"/>
              <a:ext cx="556560" cy="459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AutoShape 16"/>
            <p:cNvSpPr/>
            <p:nvPr/>
          </p:nvSpPr>
          <p:spPr>
            <a:xfrm>
              <a:off x="910800" y="897120"/>
              <a:ext cx="7423200" cy="50508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539640" y="5946840"/>
              <a:ext cx="928800" cy="459720"/>
            </a:xfrm>
            <a:prstGeom prst="rect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539640" y="476280"/>
              <a:ext cx="554760" cy="630000"/>
            </a:xfrm>
            <a:prstGeom prst="rect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979640" y="1413000"/>
                <a:ext cx="5329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1908000" y="2708280"/>
                <a:ext cx="43214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1979640" y="4437000"/>
                <a:ext cx="45356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Rectangle 8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WordArt 12"/>
          <p:cNvSpPr txBox="1"/>
          <p:nvPr/>
        </p:nvSpPr>
        <p:spPr>
          <a:xfrm>
            <a:off x="611280" y="549360"/>
            <a:ext cx="813744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в е р ь  и   о ц е н и   с е б я 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2340000" y="1052640"/>
                <a:ext cx="5111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3492360" y="3213000"/>
                <a:ext cx="27370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635280" y="4724280"/>
                <a:ext cx="2664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8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84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276720" y="981000"/>
            <a:ext cx="38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рдина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бсци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340000" y="2637000"/>
                <a:ext cx="59054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cos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484360" y="4292640"/>
                <a:ext cx="433080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7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95280" y="3933720"/>
                <a:ext cx="84978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WordArt 6"/>
          <p:cNvSpPr txBox="1"/>
          <p:nvPr/>
        </p:nvSpPr>
        <p:spPr>
          <a:xfrm>
            <a:off x="826920" y="549360"/>
            <a:ext cx="734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с н о в н 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 р и г о н о м е т р и ч е с к 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т о ж д е с т в о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9:51:28Z</dcterms:created>
  <dc:creator>Сергей и Лилия</dc:creator>
  <dc:description/>
  <dc:language>en-US</dc:language>
  <cp:lastModifiedBy>comp</cp:lastModifiedBy>
  <dcterms:modified xsi:type="dcterms:W3CDTF">2013-03-24T12:58:17Z</dcterms:modified>
  <cp:revision>92</cp:revision>
  <dc:subject/>
  <dc:title>Слайд 1</dc:title>
</cp:coreProperties>
</file>