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43B-2E16-41EF-9E57-86DD8927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630-E746-43B2-992C-35AA2EFB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CE9-6441-482B-B542-2DAA5CB2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4FC-9CDB-4B31-BB44-43F02129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7DB-7399-4338-8769-E5A6A0DA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EA7-AE50-4F7B-A127-DABE3A3D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364-B412-4B02-8034-3E1D38FA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634-708E-44A2-B377-9AD35865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F71-E623-4039-B48E-5E5D16A0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DE0-45A1-46B8-B9BC-9E39054E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B73-7151-4838-8B96-92B61EA6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0F3-24ED-4E84-999E-BBA8E19F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7D6E-0BBF-49D7-B727-B5039761C2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907560"/>
            <a:ext cx="7415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55df"/>
                </a:solidFill>
                <a:latin typeface="Arial"/>
              </a:rPr>
              <a:t>Знакомство с голубям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43640" y="4868640"/>
            <a:ext cx="2408400" cy="1346040"/>
          </a:xfrm>
          <a:prstGeom prst="rect">
            <a:avLst/>
          </a:prstGeom>
          <a:solidFill>
            <a:srgbClr val="006462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Презентацию к конспект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«Конструирование из бумаги «Голубь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подготовил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Воспитатель Кондукторова Ольга Николаевн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1987560"/>
            <a:ext cx="583236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Виды голубе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4038480" cy="424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8320" y="1989000"/>
            <a:ext cx="403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4640" y="274680"/>
            <a:ext cx="77947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7592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624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585720"/>
            <a:ext cx="74901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195120"/>
            <a:ext cx="54864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4608720" cy="473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4140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65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2:35:28Z</dcterms:created>
  <dc:creator>www.PHILka.RU</dc:creator>
  <dc:description/>
  <dc:language>en-US</dc:language>
  <cp:lastModifiedBy>www.PHILka.RU</cp:lastModifiedBy>
  <dcterms:modified xsi:type="dcterms:W3CDTF">2013-03-24T13:00:36Z</dcterms:modified>
  <cp:revision>4</cp:revision>
  <dc:subject/>
  <dc:title>Знакомство с голубями.</dc:title>
</cp:coreProperties>
</file>