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65E-F604-4118-8B4E-D2347839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BA9-3FC6-491A-837F-FFBF196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566-47A5-4636-8FB3-F4119B07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4C3-B54F-46D9-B04A-1EED715B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85B-3FE1-41E2-887E-1F1EC4D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523-E834-424F-A384-6D98B587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ABB-3A6C-4BDD-B50F-D7F9E39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2C9-7A19-4377-9D98-6222333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4AF-8EDA-4CC3-8ED3-9715B41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505-364A-4B85-93A8-12D96C71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749-8830-4D6B-BEB6-29E501D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1C4-CCD1-4617-AECC-8FCAD9B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FF02-7329-458D-BC81-8DACF5043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7415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5df"/>
                </a:solidFill>
                <a:latin typeface="Arial"/>
              </a:rPr>
              <a:t>Знакомство с голубям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43640" y="4868640"/>
            <a:ext cx="2408400" cy="134604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Презентацию к конспек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«Конструирование из бумаги «Голубь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Воспитатель Кондукторова Ольга Николаев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987560"/>
            <a:ext cx="58323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иды голуб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24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989000"/>
            <a:ext cx="403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40" y="274680"/>
            <a:ext cx="7794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75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62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85720"/>
            <a:ext cx="7490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5120"/>
            <a:ext cx="54864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4608720" cy="473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1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2:35:28Z</dcterms:created>
  <dc:creator>www.PHILka.RU</dc:creator>
  <dc:description/>
  <dc:language>en-US</dc:language>
  <cp:lastModifiedBy>www.PHILka.RU</cp:lastModifiedBy>
  <dcterms:modified xsi:type="dcterms:W3CDTF">2013-03-24T13:00:36Z</dcterms:modified>
  <cp:revision>4</cp:revision>
  <dc:subject/>
  <dc:title>Знакомство с голубями.</dc:title>
</cp:coreProperties>
</file>