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EE5F-10F4-4E3F-B4BC-9C7893F11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FC3E-2319-46B0-991B-B3856D935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C37C-FF2B-4887-9057-DCEC7FEB3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редложение – 5 секунд, 2-5 предложение – 4 секун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45B5-457A-4C43-AA3A-EE786B336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предложение – 4 секунды, 3 предложение– 5 секунд, 4 предложение – 7 секунд, 5 предложение – 8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F530-1EE1-4E5F-B1D5-D3103C4F7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предложение – 10 секунд, 3-4 предложение – 7 секунд, 5 предложение – 10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EE8-105B-440C-8B8D-16F8DB8AB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7 секунд, 5 предложение – 5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9BAB-3DC5-44BE-B6A7-984857905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5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1DA1-57E0-438B-A97E-DAA17075D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2A5D-F94B-4862-A8B0-495040B0D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0CF-17D3-4E08-AFC8-EA669DDCB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7265-3FBF-497F-B51D-11B412A22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2CA3-4F64-4E17-9EA0-B20AA34D3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9EA3-14DE-4CA4-B707-40327321B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CE0D-2A17-4EC4-9572-555912684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739A-C330-4BD4-8D32-346A7D728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5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811-2A15-4C5F-9D70-9DBDA5B66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3 предложение – 5 секунд, 4-5 предложение – 6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72DC-87C8-4227-87AA-FA67D2DC0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7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F8D-B680-43A0-8FF0-7A7E4D4234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8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E33-1E6B-42B9-9385-B06124687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2 предложение - 4 сек, 3 - 5предложение - 5 с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2F13-0648-4C0F-8C70-6CA8BD0FF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6 секунд, 5 предложение -7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F4BD-B562-4143-9C34-D6DF9715F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редложение – 7 секунд, 2-5 – 8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1638-FCBF-4FC0-BB5F-580040C81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8 секунд, 5 предложение - 7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B9DC-DB72-4A20-A7AE-43AD3FED9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7 секунд, 5 предложение - 6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5D42-B04B-48C1-8EEF-6997D7C0D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едложения – 6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4B16-A196-4CC6-B79A-CE9C9CAFA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едложения – 5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C2A-D6C4-46BC-99B2-FFBEEA4A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4F7-6943-40EE-A912-81B754D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CF2-DE0D-4B70-9CCB-9A72C9AE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AB0-7BB7-4BA5-8061-FFF25F6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86E9-B3DB-4304-955C-C8D7589F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45C1-680E-4E73-AB2F-10007BD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ACA4-9DCF-46A8-84DC-25B675A6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AEE1-8E13-43BF-A667-0AA627F8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83A3-C13F-44AF-B7A2-B17CA2C5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C95D-815C-4394-B485-63590F0F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FF78-03C2-44A9-A937-BAC45CD1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D38-42C0-4F4D-B7B5-829E366A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C597-B78E-45E4-B8EA-58C289BA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D7D-DB51-4EDE-BFAF-16A9ADF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CEBE-E55F-4B63-8526-DA809208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F9B2-77F6-4A43-B0F9-3FD5EA4C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261B-D3C0-42D9-A549-79774628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872-2F43-411F-A23C-C0C4FB80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F30-660D-4077-91D2-8C954388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CDD-684A-4604-82AA-453E70B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52C-ACE2-435B-9F82-657B997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BE9-C30F-4448-AE38-92E208A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1ED-F215-43C1-80C8-4403049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DA6-3A42-40AA-B6B9-49C261F7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9F89-CFC4-4411-84BC-73BE9B4D06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5100-5433-4BFF-8305-721D1DDC70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676520" y="1981080"/>
            <a:ext cx="556236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рительные диктанты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8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523880" y="15357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ы жили возле берёзовой ро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676520" y="2456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ебо покрылось серыми туч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752480" y="335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ети посадили во дворе ак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752480" y="4356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абушка купила внуку буква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752480" y="537264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емлю согрело тёплое солнышк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9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00200" y="153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я сестра работает на фабр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600200" y="25563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Ласково грело весеннее сол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676520" y="344052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дёт дож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676520" y="4342320"/>
            <a:ext cx="45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ы любим наш Ки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00200" y="535356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Береги учебные ве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0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676520" y="153396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 Андрея чистая тетра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752480" y="248004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огай своему товарищ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752480" y="3448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оды морей солёные на вку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828800" y="45183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ша страна борется за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905120" y="551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Эти мальчики – весёлые ребя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752480" y="1597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ети ходили в лес за гриб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752480" y="25516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чалась большая перем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752480" y="3580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Мальчики – будущие отлич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828800" y="4488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расивы улицы нашего г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828800" y="5497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осква – столица нашей Род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981080" y="14990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кольники поливают сажен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057400" y="26438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епутаты съехались на съез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81080" y="3642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до быть честными и правдив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981080" y="4678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вёзды сияют на башнях Крем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981080" y="56566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том наша семья жила на Вол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3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523880" y="155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есело колоситься густая ро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523880" y="256104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ля запорошило белым сне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600200" y="3496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Мы читали интересный расск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600200" y="447084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чёный много и упорно работ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600200" y="5544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овые дома растут очень быстр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4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62120" y="146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 машины вышел Митрофан Фоми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14400" y="251352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альчики принесли сухих ве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914400" y="346752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 поле поспевают рожь и пше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914400" y="45183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олодёжь приехали на строй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914400" y="550584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ти всех стран хотят жить в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5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66680" y="1479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вежий ветерок повеял прохла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66680" y="248004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веркнула молния, и загремел г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143000" y="3561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авно скосили луга и поля фер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143000" y="4486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лка взобралась на верхнюю в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219320" y="5536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Солнце светило ярко, и дети купа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6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838080" y="1473840"/>
            <a:ext cx="60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есь народ гордится героями косм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90720" y="2545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едушка Филипп пасёт большое ста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90720" y="3469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юблю я в поле встречать восход сол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066680" y="45392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нялась за рекой большая серая ту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219320" y="5539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 далёкой тайге живут охотники – эв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7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85800" y="143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се радовались встрече с космонав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838080" y="2513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ведчики отправились в опас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38080" y="34851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ружная семья и землю превратит в золо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990720" y="4602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бувь всегда необходимо очищать от пы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066680" y="57106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ацветёт, зазеленеет наш весёлый огор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7520" y="195840"/>
            <a:ext cx="9034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ак лучше проводить зрительные диктан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м слайде представлен 1 дикт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го диктантов 22) состоящий из 5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открываются по одному. На прочтение каждого предложения отводится определён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ремя, необходимое для запоминания, написано к заметкам к слайд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нструкция 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читайте предложение молча и постарайтесь  его запомнить.  Закройте гл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как оно записано, и повторите его про себ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редложение пропадает, и ученики запис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в тетрадь. Если многие дети плохо запоминают тек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следует повторять до положительного результ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дней под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ительные диктанты должны писать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8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57200" y="1423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еж редеющих верхушек показалась син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09480" y="2353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Хороши привольные широкие степи Укра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685800" y="3415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 смелого собака лает, а трусливого кус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85800" y="4448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м велит трудиться школа, учит этому от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09480" y="5593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ш народ хочет жить в мире со всеми нар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9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57200" y="143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тайге водятся хищные животные: волки, ры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513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квозь волнистые туманы пробирается лу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335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Школьники готовятся к новому учебному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7200" y="4447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ного работы в школьном саду ранней ве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533520" y="55058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 берегу моря раскинулся лагерь отды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0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144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коро небо покроется тучами, заморосит дож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57200" y="247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днажды в студёную зимнюю пору я из лесу выш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0880" y="3528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билась из-под земли вода, и родился роднич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33520" y="4542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 города в тайгу строители проложили шо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33520" y="57092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Цветы были не знакомые, похожие на колокольч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80880" y="14133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хладная вода хорошо освежает уставших реб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80880" y="254376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ют волны, ветер свищет, и мачта гнётся и скри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880" y="36723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беда над врагом наполнила грудь воина счасть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28600" y="46202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ждый день тысячи людей въезжают в новые кварти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564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Школьники выращивают мандарины, лимоны, апельс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155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 лесной заросшей тропе осторожно идёт погранич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2518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чальник подошёл к окну и увидел за ним строящийся 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56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ша страна живёт в мире и дружбе с другими нар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44996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асть Сибири покрыта крутыми и обрывистыми го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0" y="5628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 нашему краю течёт красивая полноводная река Ени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743200" y="1332720"/>
            <a:ext cx="26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Тает сне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743200" y="222804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дёт дожд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743200" y="304236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ебо хмур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666880" y="3925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я заболе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43200" y="497736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ели пт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209680" y="1456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е опустел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09680" y="2275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щат мороз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209680" y="3111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ищу земляни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286000" y="4020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есу росла ел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286000" y="496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тупила осе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3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362320" y="15235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ни стали короч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62320" y="2383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есу много берё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38280" y="31809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летели птич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438280" y="39794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рко светит солнц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438280" y="492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да вытерла доск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4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905120" y="1523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село бегут ручь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981080" y="245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л резкий вет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981080" y="32806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оя прилежно учи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057400" y="4168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ятел долбил дере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057400" y="51256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хочу посадить цве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5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295280" y="1428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ей запушил деревь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447920" y="23806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 воды цветы вян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295280" y="3280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летело жаркое лет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295280" y="40874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ле дома посадили е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219320" y="5011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лнышко светит и гре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6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55484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Федя решил задачу у до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905120" y="2418120"/>
            <a:ext cx="53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горелась в небе зо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981080" y="3315240"/>
            <a:ext cx="53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 деревьях сверкал и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05120" y="4194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ород Киев стоит на Днеп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905120" y="5155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 лесу собирают землян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7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752480" y="157356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имой река покрылась ль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52480" y="24800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альчик подарил маме ц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676520" y="3410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рестьяне работают на лу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752480" y="4469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ежурные стёрли пыль с до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828800" y="5463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Из короба выбрались цыпля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юша</cp:lastModifiedBy>
  <dcterms:modified xsi:type="dcterms:W3CDTF">2013-03-24T11:43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