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7EE-D03F-4DEF-A90A-5473BA49FB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340-EFF6-4E32-A8E8-E5D6BA6BC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3064-6973-412C-851F-3F7A98437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5 секунд, 2-5 предложение – 4 секу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8769-3829-4F4F-B10B-B25AF2462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4 секунды, 3 предложение– 5 секунд, 4 предложение – 7 секунд, 5 предложение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7C1-2978-4A80-84C9-CF37AB337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предложение – 10 секунд, 3-4 предложение – 7 секунд, 5 предложение – 10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574-F8AB-4AF1-806D-8E69B856A8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1BE-F7A2-4126-BC0B-0C6507DEF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EF23-C444-4AC6-AC4B-0AB58076E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58C-1F69-49E4-9089-C10BED3F8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E01-3D60-4139-8CFC-CFE951FF5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6E63-4906-4E7B-BE95-AD93E5C73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23E-AE93-44FF-A89F-E5FA787D6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146C-B33B-4189-A9DC-4DACA2BCC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BDC9-72CA-40A5-A4AB-C6C36B813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4 секун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B743-B476-4405-9C2F-F0840A631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5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6D5-FC30-46AB-AB80-D7B6A6938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3 предложение – 5 секунд, 4-5 предложение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7E5D-3C40-4795-8DB9-FE233AF17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7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A0FD-B410-42FC-BE0C-997A06696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5 предложение – 8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8FF-2AB9-4D6D-A44D-8CE0A1248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2 предложение - 4 сек, 3 - 5предложение - 5 с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AD0-EFF2-4AE5-8EC1-86C20996F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6 секунд, 5 предложение -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A76D-8B48-47A5-8A0A-C66C83C64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редложение – 7 секунд, 2-5 – 8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DBFF-2377-4093-A059-095389F01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8 секунд, 5 предложение - 7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15DA-C961-470C-8364-8A05C457F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4 предложение – 7 секунд, 5 предложение - 6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1D42-0AFA-4DBB-9681-07AE739B6B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6 секу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CD5C-4E51-4F24-BA83-C63338945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едложения – 5 секун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888-7A4E-4C6F-8CCC-28B28B1F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F37-48EF-44DF-9C8C-23208893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B7E-0229-48DE-B5C0-2809ABCA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982-16A1-4D47-8261-023B5B3A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2886-600A-485D-A1C9-05AF54AA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F07-BF6C-4739-A8F1-1B2509C9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92B-D1EC-457B-B58C-33F98189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C525-0F6B-4F97-A150-A3E34398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6A18-4409-431F-8C25-15BF3A2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A680-94EB-4700-B83F-2C47976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5D93-BFDA-4DF9-B03E-E135C06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6E5-DE00-4215-8E8A-76D44EB1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A17F-898D-497C-BFD1-D0CA5DC9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0D03-E1FF-4E56-8939-7482527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DDC0-4D7F-4098-ABFB-C81A70D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ED5-553F-4F2F-B8CD-9FA5D6FE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A2EC-22AF-4269-956F-CAFBF059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E73-91BB-4BF9-9E22-1635B0B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A67-6D7F-42F9-A207-D8B0CAB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D29-A136-4F70-8353-C0DC53A8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64A-F1D3-4B52-ABEE-299F683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48C-5892-481D-81D9-97BEEDF3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539-0ADD-44C2-8058-A90E8B7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625-B1C9-4EC3-91AC-1E59C8A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380-F637-44CF-A9EF-CBFE8DA905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407-DF9B-4191-88FE-0E4F75E698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676520" y="1981080"/>
            <a:ext cx="556236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рительные диктанты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523880" y="153576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ы жили возле берёзовой ро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676520" y="2456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ебо покрылось серыми ту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752480" y="335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ети посадили во дворе ак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752480" y="4356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абушка купила внуку буква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1752480" y="537264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емлю согрело тёплое солныш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600200" y="153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я сестра работает на фабр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600200" y="25563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асково грело весеннее сол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676520" y="344052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дёт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676520" y="4342320"/>
            <a:ext cx="45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ы любим наш Ки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00200" y="535356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Береги учебные ве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676520" y="153396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 Андрея чистая тетра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752480" y="2480040"/>
            <a:ext cx="45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огай своему товарищ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752480" y="3448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оды морей солёные на вку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828800" y="45183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ша страна борется за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905120" y="5510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Эти мальчики – весёлые ребя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752480" y="1597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ети ходили в лес за гриб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752480" y="25516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чалась большая перем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752480" y="35802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альчики – будущие отлич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1828800" y="4488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расивы улицы нашего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28800" y="5497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Москва – столица нашей Род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981080" y="14990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кольники поливают сажен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057400" y="264384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путаты съехались на съез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981080" y="3642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до быть честными и правдив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981080" y="4678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вёзды сияют на башнях Крем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981080" y="56566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Летом наша семья жила на Вол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523880" y="155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есело колоситься густая ро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523880" y="25610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ля запорошило белым сне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600200" y="3496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ы читали интересный расска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600200" y="44708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чёный много и упорно работ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600200" y="5544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овые дома растут очень быс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762120" y="1468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з машины вышел Митрофан Фоми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14400" y="251352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льчики принесли сухих ве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914400" y="3467520"/>
            <a:ext cx="58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 поле поспевают рожь и пше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914400" y="45183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олодёжь приехали на строй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914400" y="55058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ти всех стран хотят жить в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066680" y="14799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вежий ветерок повеял прохла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66680" y="248004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веркнула молния, и загремел г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143000" y="3561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авно скосили луга и поля ферм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143000" y="4486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лка взобралась на верхнюю в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219320" y="55360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Солнце светило ярко, и дети купа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838080" y="1473840"/>
            <a:ext cx="60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есь народ гордится героями косм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90720" y="2545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душка Филипп пасёт большое ст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90720" y="3469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юблю я в поле встречать восход солн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066680" y="45392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нялась за рекой большая серая ту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19320" y="5539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 далёкой тайге живут охотники – эв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85800" y="143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се радовались встрече с космонав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838080" y="2513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ведчики отправились в опас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838080" y="348516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ружная семья и землю превратит в золо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990720" y="4602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бувь всегда необходимо очищать от пы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1066680" y="5710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Зацветёт, зазеленеет наш весёлый огор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47520" y="195840"/>
            <a:ext cx="90345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ак лучше проводить зрительные диктан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м слайде представлен 1 дикт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его диктантов 22) состоящий из 5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открываются по одному. На прочтение каждого предложения отводится определён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ремя, необходимое для запоминания, написано к заметкам к слайду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нструкция 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очитайте предложение молча и постарайтесь  его запомнить.  Закройте гл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как оно записано, и повторите его про себ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редложение пропадает, и ученики запис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в тетрадь. Если многие дети плохо запоминают тек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следует повторять до положительного результ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дней под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рительные диктанты должны писать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8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57200" y="1423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еж редеющих верхушек показалась син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09480" y="2353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Хороши привольные широкие степи Укра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85800" y="3415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 смелого собака лает, а трусливого кус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685800" y="4448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м велит трудиться школа, учит этому отря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09480" y="5593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ш народ хочет жить в мире со всеми наро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9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57200" y="1437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 тайге водятся хищные животные: волки, ры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513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возь волнистые туманы пробирается лу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335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Школьники готовятся к новому учебному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7200" y="4447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ного работы в школьном саду ранней вес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33520" y="55058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берегу моря раскинулся лагерь отды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0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1449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коро небо покроется тучами, заморосит дожд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57200" y="2478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днажды в студёную зимнюю пору я из лесу выш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0880" y="3528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билась из-под земли вода, и родился роднич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33520" y="4542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т города в тайгу строители проложили шо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33520" y="5709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Цветы были не знакомые, похожие на колокольч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80880" y="14133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хладная вода хорошо освежает уставших реб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80880" y="254376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ют волны, ветер свищет, и мачта гнётся и скри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880" y="36723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беда над врагом наполнила грудь воина счасть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28600" y="46202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ждый день тысячи людей въезжают в новые кварти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0" y="564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Школьники выращивают мандарины, лимоны, апельс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155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 лесной заросшей тропе осторожно идёт погранич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2518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чальник подошёл к окну и увидел за ним строящийся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0" y="356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ша страна живёт в мире и дружбе с другими нар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44996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асть Сибири покрыта крутыми и обрывистыми г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5628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 нашему краю течёт красивая полноводная река Ени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1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133272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ает сне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743200" y="222804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дёт дож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43200" y="304236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ебо хмур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666880" y="3925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заболе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743200" y="4977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ели пт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2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09680" y="1456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е опусте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209680" y="2275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щат мороз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09680" y="3111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ищу земляни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286000" y="4020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есу росла ел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286000" y="496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ступила осен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3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62320" y="15235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ни стали короч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62320" y="2383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лесу много берё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38280" y="31809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летели пти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438280" y="39794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рко светит солнц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438280" y="492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да вытерла доск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4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905120" y="1523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село бегут ручь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981080" y="245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л резкий вет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981080" y="32806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оя прилежно учи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057400" y="41680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ятел долбил дере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057400" y="5125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хочу посадить цве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5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95280" y="14281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ей запушил деревь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447920" y="23806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 воды цветы вян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295280" y="3280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летело жаркое лет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95280" y="40874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ле дома посадили е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219320" y="5011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лнышко светит и гре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6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5548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Федя решил задачу у до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905120" y="2418120"/>
            <a:ext cx="53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горелась в небе зо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981080" y="3315240"/>
            <a:ext cx="53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 деревьях сверкал и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05120" y="4194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ород Киев стоит на Днеп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905120" y="5155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 лесу собирают землян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14600" y="3808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иктант № 7.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752480" y="157356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имой река покрылась ль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752480" y="24800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альчик подарил маме цв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676520" y="3410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рестьяне работают на лу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752480" y="4469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ежурные стёрли пыль с до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828800" y="5463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з короба выбрались цыпля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юша</cp:lastModifiedBy>
  <dcterms:modified xsi:type="dcterms:W3CDTF">2013-03-24T11:43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