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3.jpeg" ContentType="image/jpeg"/>
  <Override PartName="/ppt/media/image28.wmf" ContentType="image/x-wmf"/>
  <Override PartName="/ppt/media/image6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30.wmf" ContentType="image/x-wmf"/>
  <Override PartName="/ppt/media/image34.gif" ContentType="image/gif"/>
  <Override PartName="/ppt/media/image11.jpeg" ContentType="image/jpeg"/>
  <Override PartName="/ppt/media/image31.gif" ContentType="image/gif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media/image15.png" ContentType="image/png"/>
  <Override PartName="/ppt/media/image18.jpeg" ContentType="image/jpeg"/>
  <Override PartName="/ppt/media/image25.png" ContentType="image/png"/>
  <Override PartName="/ppt/media/image32.gif" ContentType="image/gif"/>
  <Override PartName="/ppt/media/image19.jpeg" ContentType="image/jpeg"/>
  <Override PartName="/ppt/media/image1.png" ContentType="image/png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D2D-BB12-472F-B2BB-72162C7F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CA7-5B18-4B11-8374-F47957F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944-0309-4139-90E6-4A7B9D9D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52E-CF38-4CD5-8616-38DFAED3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210E-6385-4449-8AB6-F9B409F4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F4A1-C692-4AB9-BEA6-BCE0AF2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533C-8145-467D-B320-D85E4B11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0529-38A7-4137-B491-24BE563A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3312-B63D-4299-BC63-1B86C7E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FCC-EFE4-4124-B1E0-CE84C72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96E8-6067-4A98-A0BC-29547F0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209-1594-425F-88D2-CE403A6C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41A7-F40B-474E-8EB9-EA8825F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6C4B-ABC4-4587-A0AF-43C1204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F197-C2BB-4A54-B768-8D22D6D4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C4D7-7AD2-4951-BD75-35DD2F37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6952-397C-4191-8AC6-D8F61D69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902-635A-4894-8DCA-EF12F51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410-F4EB-4269-B94F-784F9E2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CB8-FF2F-4FD7-B3BF-49861F31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A27-C241-4E50-8138-3E975B44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656-A965-43B2-9EA8-860C461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679-FE06-4DF9-8F5A-84A8AD0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4F2-5F6E-4217-8216-243975BB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35E7-0991-4E4C-A26E-094E2110CB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D862-1CCB-4447-A1C6-37D9CBEC3A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Тема урок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: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ружевоплетение-фриволите.           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Плетение одним челноком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ит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455920" cy="2592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180432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Состав и толщина нитей могут быть самыми разнообразными в зависимости от назначения изделия. Однако, есть ряд характеристик, которые необходимо уче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1. прочность ни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2. без утолщ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3. хорошего кручения (при использовании нитей с плохим кручением надо отказаться от выполнения декоративных пи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ea typeface="Times New Roman"/>
              </a:rPr>
              <a:t>Примеры: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Times New Roman"/>
              </a:rPr>
              <a:t>ирис, гарус, кроше, люрекс, "ромашка", "мак", "тюльпан", катушечные номер 10-80, шелк для стр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Узел фриволите состоит из каких узлов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рабочая нит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ведущая нить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«ножка»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Что такое «декоративное пико»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актическая работа: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летение кружево одним челноком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асности в работ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реждение пальцев иглой или булавко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равма руки ножниц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равма глаз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3284640"/>
            <a:ext cx="22035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нужно сделать до начала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осчитать количество иголок и булавок в игольниц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ложить инструменты и приспособления в отведенное для них мест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 rot="431400">
            <a:off x="5878440" y="3946320"/>
            <a:ext cx="23018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нужно делать во время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ыть внимательной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калывать иглы и булавки только в игольницу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едавать ножницы только с сомкнутыми лезвиями и кольцами вперед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20000" y="5445000"/>
            <a:ext cx="158256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нужно сделать по окончании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считать количество иголок и булавок в игольнице. Их должно быть столько, сколько было в начале работ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брать рабочее мест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9196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09480" y="1676520"/>
            <a:ext cx="8077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449"/>
                <a:gd name="adj2" fmla="val 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мнастика для гла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8762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8 0.07817 C 0.55208 -0.18663 0.36996 -0.41651 0.12621 -0.43154 C -0.1066 -0.45097 -0.32396 -0.27428 -0.33854 -0.01642 C -0.35625 0.22017 -0.204 0.44242 0.01423 0.45814 C 0.21319 0.4704 0.40243 0.32355 0.41718 0.10199 C 0.43159 -0.09967 0.30434 -0.28931 0.11961 -0.3055 C -0.05174 -0.31753 -0.21181 -0.19426 -0.2224 -0.00925 C -0.23316 0.15726 -0.1316 0.31915 0.021 0.32771 C 0.15937 0.33927 0.28993 0.24445 0.30121 0.09413 C 0.30781 -0.0407 0.23142 -0.1709 0.11163 -0.17854 C 0.00642 -0.18663 -0.09896 -0.11471 -0.1066 -0.00046 C -0.11354 0.09852 -0.05903 0.19311 0.0283 0.20097 C 0.10121 0.20907 0.17743 0.16559 0.18125 0.08673 C 0.18802 0.02313 0.15937 -0.04463 0.10503 -0.05249 C 0.06093 -0.05249 0.01701 -0.03677 0.01041 0.00671 C 0.00642 0.03539 0.01423 0.06245 0.03541 0.07447 C 0.04635 0.07817 0.05399 0.07817 0.06475 0.07447 E">
                                      <p:cBhvr>
                                        <p:cTn id="87" dur="5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разцы изделий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ыполненные в технике «фриволите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57320" y="2441520"/>
            <a:ext cx="2548080" cy="1881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2421000"/>
            <a:ext cx="2847960" cy="1876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20480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651640" y="4724280"/>
            <a:ext cx="20476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314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2073 C 5E-006 0.01157 0.08872 -0.07724 0.19775 -0.07724 L 0.65521 -0.07724 C 0.76424 -0.07724 0.85313 0.01157 0.85313 0.12073 L 0.85313 0.57123 C 0.85313 0.68085 0.76424 0.7729 0.65521 0.7729 L 0.19775 0.7729 C 0.08872 0.7729 5E-006 0.68085 5E-006 0.57123 Z">
                                      <p:cBhvr>
                                        <p:cTn id="9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1047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8756 C 0.00799 0.38252 0.02587 0.65634 0.09202 0.65172 C 0.18698 0.65172 0.19358 -0.26225 0.30677 -0.26503 C 0.40903 -0.26503 0.35452 0.53308 0.45295 0.53053 C 0.55538 0.53053 0.5 -0.04926 0.60972 -0.04926 C 0.70799 -0.04926 0.65365 0.34205 0.74115 0.34205 C 0.82518 0.34205 0.7816 0.04302 0.85834 0.04302 C 0.90209 0.04302 0.90521 0.12489 0.90938 0.18756 E">
                                      <p:cBhvr>
                                        <p:cTn id="99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Дополнительное задание на развитие творческого мыш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Составить новый раппорт и нарисовать кружев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Сплести новое кружево (домашнее задание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3257640" cy="30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740720" y="1484280"/>
            <a:ext cx="114300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238040" cy="3810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148360" y="4797360"/>
            <a:ext cx="196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979640" y="4797360"/>
            <a:ext cx="1871640" cy="1738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Штучные издел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крашен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764080" cy="409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2095560" cy="410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00720" y="2997360"/>
            <a:ext cx="215892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84360" cy="47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824360" cy="468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салфето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крашение интерь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680000" cy="4824360"/>
          </a:xfrm>
          <a:prstGeom prst="rect">
            <a:avLst/>
          </a:prstGeom>
          <a:ln w="0">
            <a:noFill/>
          </a:ln>
        </p:spPr>
      </p:pic>
      <p:pic>
        <p:nvPicPr>
          <p:cNvPr id="112" name="010" descr=""/>
          <p:cNvPicPr/>
          <p:nvPr/>
        </p:nvPicPr>
        <p:blipFill>
          <a:blip r:embed="rId2"/>
          <a:stretch/>
        </p:blipFill>
        <p:spPr>
          <a:xfrm>
            <a:off x="7164360" y="3500280"/>
            <a:ext cx="1743120" cy="2990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38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1962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Открытки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1905120" cy="3040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895480" cy="457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2895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иды челнок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           </a:t>
            </a: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Разновидностей челнока множество, от самых примитивных, состоящих из одной пластины с прорезью для закрепления нити, до сложных инкрустированных, с резьбой, росписью и пр.  И материалы для челнока используются самые разные: дерево, металл, оргстекло, пластмасса. Самый распространенный и доступный челнок пластмассовый с перемычкой между пластинами. В перемычке есть отверстие для закрепления нити </a:t>
            </a:r>
            <a:br>
              <a:rPr sz="2100"/>
            </a:b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По размеру челноки мало разнятся, поскольку челнок должен быть удобным для средней руки. Для толстой нити - больший челнок.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16360" y="5300640"/>
            <a:ext cx="238104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9640" y="501336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867280" y="5300640"/>
            <a:ext cx="266724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Инструменты для плетения кружев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360" y="1988640"/>
            <a:ext cx="489600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700"/>
            </a:br>
            <a:r>
              <a:rPr b="0" lang="en-US" sz="17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1.челн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Вязальный крючок для выполнения   соединений элемент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3.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Штопальная игла для распускания неверно сплетенных узл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4.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Швейная игла для закрепления конц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5.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Маленькие ножницы для обрезания концов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6.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Английская булавка (используется, если плетение начинается с дуги)</a:t>
            </a:r>
            <a:br>
              <a:rPr sz="1900"/>
            </a:b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7.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Небольшой кусочек лески или бисерная игла (если предполагается плетение с бисером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8. Рисунок для узора круже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288000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1-22T09:05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