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3.jpeg" ContentType="image/jpeg"/>
  <Override PartName="/ppt/media/image28.wmf" ContentType="image/x-wmf"/>
  <Override PartName="/ppt/media/image6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30.wmf" ContentType="image/x-wmf"/>
  <Override PartName="/ppt/media/image34.gif" ContentType="image/gif"/>
  <Override PartName="/ppt/media/image11.jpeg" ContentType="image/jpeg"/>
  <Override PartName="/ppt/media/image31.gif" ContentType="image/gif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media/image15.png" ContentType="image/pn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1.png" ContentType="image/png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D98-0DC5-4FBE-A9A7-1AA62913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ED3-FD66-470B-852B-A2441494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2C1-5135-41E1-9487-E10B44F2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323-E697-43F8-9F08-61E561F4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484-31D4-4B61-9294-7B37B1B2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EBB0-2329-4EBE-BAFC-5AD12FD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A175-F65B-42C4-A71B-3B821660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D27A-F576-4CD8-BE22-AA34824D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12E6-8697-49EE-BDEB-F99989E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CA3-F67A-403C-AC32-A8B5B174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C904-A841-415A-BAC8-51BF5AF0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38E-C51B-4B0C-8D48-4C78B2DF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EC44-9942-45CE-ACEB-6F032E3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FEC6-091D-43B2-BC1F-366837F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CC1B-805C-4C85-9E17-CD587B7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2AE-C584-4B6F-9D6D-7DB9738A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CE79-4CA4-402D-AA70-741665AB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97C-2A3E-4427-AEC5-BC657BF0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406-79B0-43DA-9CDB-E5F56CC4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A2D-3738-4383-B79D-6FAFABF5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F48-7000-45FD-841C-4B5E3D46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125-7EC9-4437-9C44-212ECA63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34B-8603-4643-922F-6DC69071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40D-CE65-40B2-BE23-F36BD58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9216-87D6-4C98-A3AC-F8F8A629EC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024F-0641-43AB-8917-A7C5F9E24E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Тема урок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: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ружевоплетение-фриволите.           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Плетение одним челноком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ит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455920" cy="2592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180432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Состав и толщина нитей могут быть самыми разнообразными в зависимости от назначения изделия. Однако, есть ряд характеристик, которые необходимо уче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1. прочность ни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2. без утолщ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3. хорошего кручения (при использовании нитей с плохим кручением надо отказаться от выполнения декоративных пи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</a:rPr>
              <a:t>Примеры: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ирис, гарус, кроше, люрекс, "ромашка", "мак", "тюльпан", катушечные номер 10-80, шелк для стр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Узел фриволите состоит из каких узлов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рабочая нить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ведущая нить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«ножка»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«декоративное пико»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актическая работа: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летение кружево одним челноком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асности в работ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реждение пальцев иглой или булавко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равма руки ножниц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равма глаз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56360" y="3284640"/>
            <a:ext cx="22035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нужно сделать до начала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считать количество иголок и булавок в игольниц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ложить инструменты и приспособления в отведенное для них мест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431400">
            <a:off x="5878440" y="3946320"/>
            <a:ext cx="2301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нужно делать во время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ыть внимательной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калывать иглы и булавки только в игольницу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едавать ножницы только с сомкнутыми лезвиями и кольцами впере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20000" y="5445000"/>
            <a:ext cx="158256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нужно сделать по окончании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считать количество иголок и булавок в игольнице. Их должно быть столько, сколько было в начале работ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брать рабочее мест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9196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09480" y="1676520"/>
            <a:ext cx="8077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449"/>
                <a:gd name="adj2" fmla="val 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имнастика для гла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8762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68 0.07817 C 0.55208 -0.18663 0.36996 -0.41651 0.12621 -0.43154 C -0.1066 -0.45097 -0.32396 -0.27428 -0.33854 -0.01642 C -0.35625 0.22017 -0.204 0.44242 0.01423 0.45814 C 0.21319 0.4704 0.40243 0.32355 0.41718 0.10199 C 0.43159 -0.09967 0.30434 -0.28931 0.11961 -0.3055 C -0.05174 -0.31753 -0.21181 -0.19426 -0.2224 -0.00925 C -0.23316 0.15726 -0.1316 0.31915 0.021 0.32771 C 0.15937 0.33927 0.28993 0.24445 0.30121 0.09413 C 0.30781 -0.0407 0.23142 -0.1709 0.11163 -0.17854 C 0.00642 -0.18663 -0.09896 -0.11471 -0.1066 -0.00046 C -0.11354 0.09852 -0.05903 0.19311 0.0283 0.20097 C 0.10121 0.20907 0.17743 0.16559 0.18125 0.08673 C 0.18802 0.02313 0.15937 -0.04463 0.10503 -0.05249 C 0.06093 -0.05249 0.01701 -0.03677 0.01041 0.00671 C 0.00642 0.03539 0.01423 0.06245 0.03541 0.07447 C 0.04635 0.07817 0.05399 0.07817 0.06475 0.07447 E">
                                      <p:cBhvr>
                                        <p:cTn id="87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разцы изделий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ыполненные в технике «фриволит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57320" y="2441520"/>
            <a:ext cx="2548080" cy="1881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2421000"/>
            <a:ext cx="2847960" cy="1876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204804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651640" y="4724280"/>
            <a:ext cx="204768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2073 C 5E-006 0.01157 0.08872 -0.07724 0.19775 -0.07724 L 0.65521 -0.07724 C 0.76424 -0.07724 0.85313 0.01157 0.85313 0.12073 L 0.85313 0.57123 C 0.85313 0.68085 0.76424 0.7729 0.65521 0.7729 L 0.19775 0.7729 C 0.08872 0.7729 5E-006 0.68085 5E-006 0.57123 Z">
                                      <p:cBhvr>
                                        <p:cTn id="9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8756 C 0.00799 0.38252 0.02587 0.65634 0.09202 0.65172 C 0.18698 0.65172 0.19358 -0.26225 0.30677 -0.26503 C 0.40903 -0.26503 0.35452 0.53308 0.45295 0.53053 C 0.55538 0.53053 0.5 -0.04926 0.60972 -0.04926 C 0.70799 -0.04926 0.65365 0.34205 0.74115 0.34205 C 0.82518 0.34205 0.7816 0.04302 0.85834 0.04302 C 0.90209 0.04302 0.90521 0.12489 0.90938 0.18756 E">
                                      <p:cBhvr>
                                        <p:cTn id="99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Дополнительное задание на развитие творческого мыш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Составить новый раппорт и нарисовать кружев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Сплести новое кружево (домашнее задание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3257640" cy="30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740720" y="1484280"/>
            <a:ext cx="1143000" cy="380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23804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148360" y="4797360"/>
            <a:ext cx="1962000" cy="185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71640" cy="1738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Штучные издел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крашен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764080" cy="409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2095560" cy="410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00720" y="2997360"/>
            <a:ext cx="2158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384360" cy="47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824360" cy="4681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салфето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крашение интерь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680000" cy="4824360"/>
          </a:xfrm>
          <a:prstGeom prst="rect">
            <a:avLst/>
          </a:prstGeom>
          <a:ln w="0">
            <a:noFill/>
          </a:ln>
        </p:spPr>
      </p:pic>
      <p:pic>
        <p:nvPicPr>
          <p:cNvPr id="112" name="010" descr=""/>
          <p:cNvPicPr/>
          <p:nvPr/>
        </p:nvPicPr>
        <p:blipFill>
          <a:blip r:embed="rId2"/>
          <a:stretch/>
        </p:blipFill>
        <p:spPr>
          <a:xfrm>
            <a:off x="7164360" y="3500280"/>
            <a:ext cx="1743120" cy="2990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38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1962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Открытки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1905120" cy="3040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895480" cy="457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289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челнок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Разновидностей челнока множество, от самых примитивных, состоящих из одной пластины с прорезью для закрепления нити, до сложных инкрустированных, с резьбой, росписью и пр.  И материалы для челнока используются самые разные: дерево, металл, оргстекло, пластмасса. Самый распространенный и доступный челнок пластмассовый с перемычкой между пластинами. В перемычке есть отверстие для закрепления нити </a:t>
            </a:r>
            <a:br>
              <a:rPr sz="2100"/>
            </a:b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По размеру челноки мало разнятся, поскольку челнок должен быть удобным для средней руки. Для толстой нити - больший челнок. 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16360" y="5300640"/>
            <a:ext cx="238104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501336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867280" y="5300640"/>
            <a:ext cx="266724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нструменты для плетения круже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360" y="1988640"/>
            <a:ext cx="489600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700"/>
            </a:br>
            <a:r>
              <a:rPr b="0" lang="en-US" sz="17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1.челно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Вязальный крючок для выполнения   соединений элемент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3.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Штопальная игла для распускания неверно сплетенных узл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4.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Швейная игла для закрепления конц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5.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Маленькие ножницы для обрезания конц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6.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Английская булавка (используется, если плетение начинается с дуги)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7.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Небольшой кусочек лески или бисерная игла (если предполагается плетение с бисером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8. Рисунок для узора круже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288000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1-22T09:05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