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4.jpeg" ContentType="image/jpeg"/>
  <Override PartName="/ppt/media/image27.png" ContentType="image/png"/>
  <Override PartName="/ppt/media/image26.gif" ContentType="image/gif"/>
  <Override PartName="/ppt/media/image20.jpeg" ContentType="image/jpeg"/>
  <Override PartName="/ppt/media/image1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8AF2-419C-4DAD-A3F5-4D377DA840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4486-323C-4CF0-B13C-0192D26C0D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B15-C76A-438E-A292-59DE010B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70C6-DAC6-4ED3-934E-81477727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AD1-FF4E-4D01-A197-99670D4A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F5BB-4C25-4B53-A6CE-8BBB743A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CF54-35EC-405B-8592-9FCDE5A4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198-680C-4251-8A7F-F751A276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F32C-42BA-43BF-AF5B-3CE360DE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B69-0557-4AE0-9C88-4955A649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03B-64BF-482E-B86B-88743A68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9BF-CC34-48AF-9974-D9A431C9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8FF3-5E0B-4953-9039-C642C4C3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0999-9E89-479B-87B7-A271A10A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A77C-1E26-49CF-9BB5-A13F63C40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"/><Relationship Id="rId14" Type="http://schemas.openxmlformats.org/officeDocument/2006/relationships/slide" Target="slide21.xml"/><Relationship Id="rId15" Type="http://schemas.openxmlformats.org/officeDocument/2006/relationships/slide" Target="slide16.xml"/><Relationship Id="rId16" Type="http://schemas.openxmlformats.org/officeDocument/2006/relationships/slide" Target="slide28.xml"/><Relationship Id="rId17" Type="http://schemas.openxmlformats.org/officeDocument/2006/relationships/slide" Target="slide22.xml"/><Relationship Id="rId18" Type="http://schemas.openxmlformats.org/officeDocument/2006/relationships/slide" Target="slide17.xml"/><Relationship Id="rId19" Type="http://schemas.openxmlformats.org/officeDocument/2006/relationships/slide" Target="slide29.xml"/><Relationship Id="rId20" Type="http://schemas.openxmlformats.org/officeDocument/2006/relationships/slide" Target="slide23.xml"/><Relationship Id="rId21" Type="http://schemas.openxmlformats.org/officeDocument/2006/relationships/slide" Target="slide18.xml"/><Relationship Id="rId22" Type="http://schemas.openxmlformats.org/officeDocument/2006/relationships/slide" Target="slide26.xml"/><Relationship Id="rId23" Type="http://schemas.openxmlformats.org/officeDocument/2006/relationships/slide" Target="slide19.xml"/><Relationship Id="rId24" Type="http://schemas.openxmlformats.org/officeDocument/2006/relationships/slide" Target="slide20.xml"/><Relationship Id="rId25" Type="http://schemas.openxmlformats.org/officeDocument/2006/relationships/slide" Target="slide15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"/><Relationship Id="rId29" Type="http://schemas.openxmlformats.org/officeDocument/2006/relationships/slide" Target="slide19.xml"/><Relationship Id="rId30" Type="http://schemas.openxmlformats.org/officeDocument/2006/relationships/slide" Target="slide14.xml"/><Relationship Id="rId31" Type="http://schemas.openxmlformats.org/officeDocument/2006/relationships/slide" Target="slide30.xml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280" y="2133720"/>
            <a:ext cx="7777080" cy="25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Когда была впервые принята Конституция Росс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76360" y="5877000"/>
            <a:ext cx="6400800" cy="6732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1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13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13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9"/>
          <p:cNvSpPr txBox="1"/>
          <p:nvPr/>
        </p:nvSpPr>
        <p:spPr>
          <a:xfrm>
            <a:off x="1071720" y="3143160"/>
            <a:ext cx="7315200" cy="423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66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Своя игра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66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327640" y="4941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2133720"/>
            <a:ext cx="7777080" cy="25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Когда была впервые принята Конституция Росс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76360" y="5877000"/>
            <a:ext cx="6400800" cy="6732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1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13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Text Box 7"/>
          <p:cNvSpPr/>
          <p:nvPr/>
        </p:nvSpPr>
        <p:spPr>
          <a:xfrm>
            <a:off x="1042920" y="1557360"/>
            <a:ext cx="7345440" cy="2775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Какой общий элемент изображен на гербе Алтайского края и гербе г. Барнаул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357280" y="4786200"/>
            <a:ext cx="4751640" cy="131292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ымящаяся плавильная печ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>
            <a:hlinkClick r:id="rId3" action="ppaction://hlinksldjump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10800"/>
                </a:moveTo>
                <a:lnTo>
                  <a:pt x="20447" y="3794"/>
                </a:lnTo>
                <a:lnTo>
                  <a:pt x="204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C:\Users\Андрей\Pictures\барнаул\altaisimv4_1m.jpg"/>
          <p:cNvPicPr/>
          <p:nvPr/>
        </p:nvPicPr>
        <p:blipFill>
          <a:blip r:embed="rId4"/>
          <a:stretch/>
        </p:blipFill>
        <p:spPr>
          <a:xfrm>
            <a:off x="571680" y="4714920"/>
            <a:ext cx="1666800" cy="1762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C:\Users\Андрей\Pictures\барнаул\altaisimv4_4m.jpg"/>
          <p:cNvPicPr/>
          <p:nvPr/>
        </p:nvPicPr>
        <p:blipFill>
          <a:blip r:embed="rId5"/>
          <a:stretch/>
        </p:blipFill>
        <p:spPr>
          <a:xfrm>
            <a:off x="7358040" y="4714920"/>
            <a:ext cx="1382760" cy="183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2133720"/>
            <a:ext cx="7777080" cy="25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Когда была впервые принята Конституция Росс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76360" y="5877000"/>
            <a:ext cx="6400800" cy="6732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1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13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1116000" y="1628640"/>
            <a:ext cx="6912000" cy="2287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cc"/>
                </a:solidFill>
                <a:latin typeface="Arial"/>
              </a:rPr>
              <a:t>Что символизирует голубой цвет флага     г. Барнаул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484360" y="5084640"/>
            <a:ext cx="4680000" cy="100836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еку Об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>
            <a:hlinkClick r:id="rId3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C:\Users\Андрей\Pictures\барнаул\altaisimv4_5m.jpg"/>
          <p:cNvPicPr/>
          <p:nvPr/>
        </p:nvPicPr>
        <p:blipFill>
          <a:blip r:embed="rId4"/>
          <a:stretch/>
        </p:blipFill>
        <p:spPr>
          <a:xfrm>
            <a:off x="285840" y="4071960"/>
            <a:ext cx="1904760" cy="116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2133720"/>
            <a:ext cx="7777080" cy="25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Когда была впервые принята Конституция Росс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76360" y="5877000"/>
            <a:ext cx="6400800" cy="6732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1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13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785880" y="928800"/>
            <a:ext cx="6912000" cy="3141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В верхней части герба города изображен герб        г. Томска (галопирующая лошадь на зеленом фоне). Как вы думаете, почему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785960" y="5084640"/>
            <a:ext cx="6286320" cy="17398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1917 г. наш город входил в Томскую губернию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>
            <a:hlinkClick r:id="rId3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Users\Андрей\Pictures\барнаул\altaisimv4_4m.jpg"/>
          <p:cNvPicPr/>
          <p:nvPr/>
        </p:nvPicPr>
        <p:blipFill>
          <a:blip r:embed="rId4"/>
          <a:stretch/>
        </p:blipFill>
        <p:spPr>
          <a:xfrm>
            <a:off x="214200" y="4324320"/>
            <a:ext cx="1905120" cy="25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280" y="2133720"/>
            <a:ext cx="7777080" cy="25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Когда была впервые принята Конституция Росс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76360" y="5877000"/>
            <a:ext cx="6400800" cy="6732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1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13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785880" y="928800"/>
            <a:ext cx="6912000" cy="1556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cc"/>
                </a:solidFill>
                <a:latin typeface="Arial"/>
              </a:rPr>
              <a:t>Опишите, как выглядит флаг Алтайского края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643120" y="3429000"/>
            <a:ext cx="6286680" cy="26542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тнище красного цвета с полосой синего цвета у древка, и стилизованным изображением на этой полосе колоса желтого цвета — как символа сельского хозяйства. В центре флага воспроизведено изображение герба Алтайского к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>
            <a:hlinkClick r:id="rId3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Users\Андрей\Pictures\барнаул\altaisimv4_2m.jpg"/>
          <p:cNvPicPr/>
          <p:nvPr/>
        </p:nvPicPr>
        <p:blipFill>
          <a:blip r:embed="rId4"/>
          <a:stretch/>
        </p:blipFill>
        <p:spPr>
          <a:xfrm>
            <a:off x="142920" y="2571840"/>
            <a:ext cx="263196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4537080" cy="10792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дом под шпилем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C:\Users\Андрей\Pictures\барнаул\дом под шпилем.jpg"/>
          <p:cNvPicPr/>
          <p:nvPr/>
        </p:nvPicPr>
        <p:blipFill>
          <a:blip r:embed="rId1"/>
          <a:stretch/>
        </p:blipFill>
        <p:spPr>
          <a:xfrm>
            <a:off x="857160" y="142920"/>
            <a:ext cx="7256520" cy="54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1000080" y="5643720"/>
            <a:ext cx="7215120" cy="10080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евой драматический теа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. В.М.Шукш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10800"/>
                </a:moveTo>
                <a:lnTo>
                  <a:pt x="23400" y="3794"/>
                </a:lnTo>
                <a:lnTo>
                  <a:pt x="234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C:\Documents and Settings\семья\Мои документы\Мои рисунки\117314.jpg"/>
          <p:cNvPicPr/>
          <p:nvPr/>
        </p:nvPicPr>
        <p:blipFill>
          <a:blip r:embed="rId1"/>
          <a:stretch/>
        </p:blipFill>
        <p:spPr>
          <a:xfrm>
            <a:off x="1000080" y="357120"/>
            <a:ext cx="7280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2143080" y="5428800"/>
            <a:ext cx="4464000" cy="98748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ГТУ им. Ползунов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10800"/>
                </a:moveTo>
                <a:lnTo>
                  <a:pt x="23400" y="3794"/>
                </a:lnTo>
                <a:lnTo>
                  <a:pt x="234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C:\Users\Андрей\Pictures\барнаул\DSC_0272.jpg"/>
          <p:cNvPicPr/>
          <p:nvPr/>
        </p:nvPicPr>
        <p:blipFill>
          <a:blip r:embed="rId1"/>
          <a:stretch/>
        </p:blipFill>
        <p:spPr>
          <a:xfrm>
            <a:off x="1143000" y="285840"/>
            <a:ext cx="7338960" cy="48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999800" y="5072040"/>
            <a:ext cx="5256360" cy="14400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евая филарм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б. Народны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10800"/>
                </a:moveTo>
                <a:lnTo>
                  <a:pt x="23400" y="3794"/>
                </a:lnTo>
                <a:lnTo>
                  <a:pt x="234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C:\Users\Андрей\Pictures\барнаул\23717.jpg"/>
          <p:cNvPicPr/>
          <p:nvPr/>
        </p:nvPicPr>
        <p:blipFill>
          <a:blip r:embed="rId1"/>
          <a:stretch/>
        </p:blipFill>
        <p:spPr>
          <a:xfrm>
            <a:off x="1500120" y="142920"/>
            <a:ext cx="6508800" cy="488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57200" y="5500440"/>
            <a:ext cx="6143760" cy="9874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кровский собо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:\Users\Андрей\Pictures\барнаул\23722.jpg"/>
          <p:cNvPicPr/>
          <p:nvPr/>
        </p:nvPicPr>
        <p:blipFill>
          <a:blip r:embed="rId1"/>
          <a:stretch/>
        </p:blipFill>
        <p:spPr>
          <a:xfrm>
            <a:off x="928800" y="214200"/>
            <a:ext cx="6889680" cy="516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258920" y="214200"/>
            <a:ext cx="7630920" cy="3357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Летчик-космонавт СССР , Герой Советского Союза, генерал-полковник авиации, кандидат военных нау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Users\Андрей\Pictures\барнаул\titov_gsf.jpg"/>
          <p:cNvPicPr/>
          <p:nvPr/>
        </p:nvPicPr>
        <p:blipFill>
          <a:blip r:embed="rId1"/>
          <a:stretch/>
        </p:blipFill>
        <p:spPr>
          <a:xfrm>
            <a:off x="214200" y="3071880"/>
            <a:ext cx="2714760" cy="35719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3071880" y="4149720"/>
            <a:ext cx="5357880" cy="14940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ерман Степан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т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133720"/>
            <a:ext cx="7777080" cy="25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Когда была впервые принята Конституция Росс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76360" y="5877000"/>
            <a:ext cx="6400800" cy="6732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1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13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9"/>
          <p:cNvSpPr txBox="1"/>
          <p:nvPr/>
        </p:nvSpPr>
        <p:spPr>
          <a:xfrm>
            <a:off x="971640" y="907920"/>
            <a:ext cx="763272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66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Барнаул-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66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66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олиц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66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66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лтайског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66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66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ая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66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327640" y="4941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28760" y="213840"/>
            <a:ext cx="8229600" cy="2257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Русский советский писатель, кинорежиссер, актер, сценари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C:\Users\Андрей\Pictures\алтай\2608a598bbcae8e7dba9e8246bb00fba.jpg"/>
          <p:cNvPicPr/>
          <p:nvPr/>
        </p:nvPicPr>
        <p:blipFill>
          <a:blip r:embed="rId1"/>
          <a:stretch/>
        </p:blipFill>
        <p:spPr>
          <a:xfrm>
            <a:off x="214200" y="2928960"/>
            <a:ext cx="3810240" cy="28670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4071960" y="4000680"/>
            <a:ext cx="4873680" cy="221436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асил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карович Шукшин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428400"/>
            <a:ext cx="8229600" cy="23288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Русский изобретатель, создатель первой в России паровой маш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C:\Users\Андрей\Pictures\барнаул\polzunov5_9m.jpg"/>
          <p:cNvPicPr/>
          <p:nvPr/>
        </p:nvPicPr>
        <p:blipFill>
          <a:blip r:embed="rId1"/>
          <a:stretch/>
        </p:blipFill>
        <p:spPr>
          <a:xfrm>
            <a:off x="142920" y="2928960"/>
            <a:ext cx="2455920" cy="31431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2714760" y="3500280"/>
            <a:ext cx="6087960" cy="221472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ван Иванович Ползуно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0040" y="142920"/>
            <a:ext cx="8229600" cy="25718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Российско-финская революционерка, участница борьбы за установление Советской власти на Алта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C:\Users\Андрей\Pictures\барнаул\220px-Эмилия_Алексеева.JPG"/>
          <p:cNvPicPr/>
          <p:nvPr/>
        </p:nvPicPr>
        <p:blipFill>
          <a:blip r:embed="rId1"/>
          <a:stretch/>
        </p:blipFill>
        <p:spPr>
          <a:xfrm>
            <a:off x="214200" y="2928960"/>
            <a:ext cx="2500560" cy="37861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6"/>
          <p:cNvSpPr/>
          <p:nvPr/>
        </p:nvSpPr>
        <p:spPr>
          <a:xfrm>
            <a:off x="3357720" y="4143240"/>
            <a:ext cx="5357520" cy="14940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милия Август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ексее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71680" y="285840"/>
            <a:ext cx="8229600" cy="35431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Герой Великой Отечественной войн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Герой Советского Союза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андир гаубичной батареи 24-го гвардейского артиллерийского полка (5-я гвардейская стрелковая дивизия, 11-я гвардейская армия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-й Белорусский фро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C:\Users\Андрей\Pictures\барнаул\160_petrov.jpg"/>
          <p:cNvPicPr/>
          <p:nvPr/>
        </p:nvPicPr>
        <p:blipFill>
          <a:blip r:embed="rId1"/>
          <a:stretch/>
        </p:blipFill>
        <p:spPr>
          <a:xfrm>
            <a:off x="142920" y="3643200"/>
            <a:ext cx="2125440" cy="30718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3071880" y="4149720"/>
            <a:ext cx="5357880" cy="14940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тон Васильевич Петр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393560"/>
            <a:ext cx="7775640" cy="22064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txBody>
          <a:bodyPr lIns="109080" rIns="10908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3794" y="11202"/>
                </a:moveTo>
                <a:lnTo>
                  <a:pt x="17806" y="4196"/>
                </a:lnTo>
                <a:lnTo>
                  <a:pt x="17806" y="1820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123564327317"/>
          <p:cNvPicPr/>
          <p:nvPr/>
        </p:nvPicPr>
        <p:blipFill>
          <a:blip r:embed="rId1"/>
          <a:stretch/>
        </p:blipFill>
        <p:spPr>
          <a:xfrm>
            <a:off x="0" y="0"/>
            <a:ext cx="9229680" cy="694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535788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C:\Users\Андрей\Pictures\барнаул\447700_barntoday_photo74b.jpg"/>
          <p:cNvPicPr/>
          <p:nvPr/>
        </p:nvPicPr>
        <p:blipFill>
          <a:blip r:embed="rId1"/>
          <a:stretch/>
        </p:blipFill>
        <p:spPr>
          <a:xfrm>
            <a:off x="1214280" y="28584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6"/>
          <p:cNvSpPr/>
          <p:nvPr/>
        </p:nvSpPr>
        <p:spPr>
          <a:xfrm>
            <a:off x="2000160" y="5643720"/>
            <a:ext cx="5357880" cy="10000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ый мост через р. Об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535788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1643040" y="5500800"/>
            <a:ext cx="5357880" cy="10000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к Изумруд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C:\Users\Андрей\Pictures\барнаул\9920-Здание_планетария.jpg"/>
          <p:cNvPicPr/>
          <p:nvPr/>
        </p:nvPicPr>
        <p:blipFill>
          <a:blip r:embed="rId1"/>
          <a:stretch/>
        </p:blipFill>
        <p:spPr>
          <a:xfrm>
            <a:off x="785880" y="214200"/>
            <a:ext cx="723564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535788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643040" y="5500800"/>
            <a:ext cx="5357880" cy="10000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пект Калин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Users\Андрей\Pictures\барнаул\7e6357aa8228c93064f3c3c8fba166e6.jpg"/>
          <p:cNvPicPr/>
          <p:nvPr/>
        </p:nvPicPr>
        <p:blipFill>
          <a:blip r:embed="rId1"/>
          <a:stretch/>
        </p:blipFill>
        <p:spPr>
          <a:xfrm>
            <a:off x="1214280" y="357120"/>
            <a:ext cx="609624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535788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643040" y="5500800"/>
            <a:ext cx="5357880" cy="10000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пект Социалист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C:\Documents and Settings\семья\Мои документы\Мои рисунки\250px-neschastny-vlublenny.jpg"/>
          <p:cNvPicPr/>
          <p:nvPr/>
        </p:nvPicPr>
        <p:blipFill>
          <a:blip r:embed="rId1"/>
          <a:stretch/>
        </p:blipFill>
        <p:spPr>
          <a:xfrm>
            <a:off x="1285920" y="357120"/>
            <a:ext cx="64594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535788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1857240" y="5500800"/>
            <a:ext cx="5357880" cy="10000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пект Красноармей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C:\Documents and Settings\семья\Мои документы\Мои рисунки\14123.jpg"/>
          <p:cNvPicPr/>
          <p:nvPr/>
        </p:nvPicPr>
        <p:blipFill>
          <a:blip r:embed="rId1"/>
          <a:stretch/>
        </p:blipFill>
        <p:spPr>
          <a:xfrm>
            <a:off x="1428840" y="285840"/>
            <a:ext cx="61563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>
            <a:hlinkClick r:id="rId1" action="ppaction://hlinksldjump"/>
          </p:cNvPr>
          <p:cNvSpPr/>
          <p:nvPr/>
        </p:nvSpPr>
        <p:spPr>
          <a:xfrm>
            <a:off x="1143000" y="1714680"/>
            <a:ext cx="128592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>
            <a:hlinkClick r:id="rId2" action="ppaction://hlinksldjump"/>
          </p:cNvPr>
          <p:cNvSpPr/>
          <p:nvPr/>
        </p:nvSpPr>
        <p:spPr>
          <a:xfrm>
            <a:off x="1143000" y="264312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>
            <a:hlinkClick r:id="rId4" action="ppaction://hlinksldjump"/>
          </p:cNvPr>
          <p:cNvSpPr/>
          <p:nvPr/>
        </p:nvSpPr>
        <p:spPr>
          <a:xfrm>
            <a:off x="1143000" y="357192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>
            <a:hlinkClick r:id="rId6" action="ppaction://hlinksldjump"/>
          </p:cNvPr>
          <p:cNvSpPr/>
          <p:nvPr/>
        </p:nvSpPr>
        <p:spPr>
          <a:xfrm>
            <a:off x="1143000" y="4500720"/>
            <a:ext cx="128592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>
            <a:hlinkClick r:id="rId7" action="ppaction://hlinksldjump"/>
          </p:cNvPr>
          <p:cNvSpPr/>
          <p:nvPr/>
        </p:nvSpPr>
        <p:spPr>
          <a:xfrm>
            <a:off x="1143000" y="542916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6"/>
          <p:cNvSpPr/>
          <p:nvPr/>
        </p:nvSpPr>
        <p:spPr>
          <a:xfrm>
            <a:off x="2428920" y="1714680"/>
            <a:ext cx="128592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7">
            <a:hlinkClick r:id="rId9" action="ppaction://hlinksldjump"/>
          </p:cNvPr>
          <p:cNvSpPr/>
          <p:nvPr/>
        </p:nvSpPr>
        <p:spPr>
          <a:xfrm>
            <a:off x="2428920" y="264312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2428920" y="357192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9"/>
          <p:cNvSpPr/>
          <p:nvPr/>
        </p:nvSpPr>
        <p:spPr>
          <a:xfrm>
            <a:off x="2428920" y="4500720"/>
            <a:ext cx="128592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2428920" y="542916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1">
            <a:hlinkClick r:id="rId13" action="ppaction://hlinksldjump"/>
          </p:cNvPr>
          <p:cNvSpPr/>
          <p:nvPr/>
        </p:nvSpPr>
        <p:spPr>
          <a:xfrm>
            <a:off x="5000760" y="357192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2">
            <a:hlinkClick r:id="rId15" action="ppaction://hlinksldjump"/>
          </p:cNvPr>
          <p:cNvSpPr/>
          <p:nvPr/>
        </p:nvSpPr>
        <p:spPr>
          <a:xfrm>
            <a:off x="3714840" y="357192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3"/>
          <p:cNvSpPr/>
          <p:nvPr/>
        </p:nvSpPr>
        <p:spPr>
          <a:xfrm>
            <a:off x="6286680" y="4500720"/>
            <a:ext cx="128556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4"/>
          <p:cNvSpPr/>
          <p:nvPr/>
        </p:nvSpPr>
        <p:spPr>
          <a:xfrm>
            <a:off x="5000760" y="4500720"/>
            <a:ext cx="128592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5"/>
          <p:cNvSpPr/>
          <p:nvPr/>
        </p:nvSpPr>
        <p:spPr>
          <a:xfrm>
            <a:off x="3714840" y="4500720"/>
            <a:ext cx="128592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6"/>
          <p:cNvSpPr/>
          <p:nvPr/>
        </p:nvSpPr>
        <p:spPr>
          <a:xfrm>
            <a:off x="6286680" y="5429160"/>
            <a:ext cx="128556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7">
            <a:hlinkClick r:id="rId20" action="ppaction://hlinksldjump"/>
          </p:cNvPr>
          <p:cNvSpPr/>
          <p:nvPr/>
        </p:nvSpPr>
        <p:spPr>
          <a:xfrm>
            <a:off x="5000760" y="542916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8"/>
          <p:cNvSpPr/>
          <p:nvPr/>
        </p:nvSpPr>
        <p:spPr>
          <a:xfrm>
            <a:off x="3714840" y="542916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9"/>
          <p:cNvSpPr/>
          <p:nvPr/>
        </p:nvSpPr>
        <p:spPr>
          <a:xfrm>
            <a:off x="6286680" y="2643120"/>
            <a:ext cx="128556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0">
            <a:hlinkClick r:id="rId23" action="ppaction://hlinksldjump"/>
          </p:cNvPr>
          <p:cNvSpPr/>
          <p:nvPr/>
        </p:nvSpPr>
        <p:spPr>
          <a:xfrm>
            <a:off x="5000760" y="264312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1"/>
          <p:cNvSpPr/>
          <p:nvPr/>
        </p:nvSpPr>
        <p:spPr>
          <a:xfrm>
            <a:off x="3714840" y="264312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2">
            <a:hlinkClick r:id="rId26" action="ppaction://hlinksldjump"/>
          </p:cNvPr>
          <p:cNvSpPr/>
          <p:nvPr/>
        </p:nvSpPr>
        <p:spPr>
          <a:xfrm>
            <a:off x="6286680" y="3571920"/>
            <a:ext cx="128556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3"/>
          <p:cNvSpPr/>
          <p:nvPr/>
        </p:nvSpPr>
        <p:spPr>
          <a:xfrm>
            <a:off x="6286680" y="1714680"/>
            <a:ext cx="128556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4">
            <a:hlinkClick r:id="rId28" action="ppaction://hlinksldjump"/>
          </p:cNvPr>
          <p:cNvSpPr/>
          <p:nvPr/>
        </p:nvSpPr>
        <p:spPr>
          <a:xfrm>
            <a:off x="5000760" y="1714680"/>
            <a:ext cx="128592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5">
            <a:hlinkClick r:id="rId30" action="ppaction://hlinksldjump"/>
          </p:cNvPr>
          <p:cNvSpPr/>
          <p:nvPr/>
        </p:nvSpPr>
        <p:spPr>
          <a:xfrm>
            <a:off x="3714840" y="1714680"/>
            <a:ext cx="128592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6"/>
          <p:cNvSpPr/>
          <p:nvPr/>
        </p:nvSpPr>
        <p:spPr>
          <a:xfrm>
            <a:off x="1143000" y="214200"/>
            <a:ext cx="1285920" cy="128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7"/>
          <p:cNvSpPr/>
          <p:nvPr/>
        </p:nvSpPr>
        <p:spPr>
          <a:xfrm>
            <a:off x="2428920" y="214200"/>
            <a:ext cx="1285920" cy="128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л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тай-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8"/>
          <p:cNvSpPr/>
          <p:nvPr/>
        </p:nvSpPr>
        <p:spPr>
          <a:xfrm>
            <a:off x="5000760" y="214200"/>
            <a:ext cx="1285920" cy="128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х име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з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9"/>
          <p:cNvSpPr/>
          <p:nvPr/>
        </p:nvSpPr>
        <p:spPr>
          <a:xfrm>
            <a:off x="3714840" y="214200"/>
            <a:ext cx="1285920" cy="128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хитек-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0"/>
          <p:cNvSpPr/>
          <p:nvPr/>
        </p:nvSpPr>
        <p:spPr>
          <a:xfrm>
            <a:off x="6286680" y="214200"/>
            <a:ext cx="1285560" cy="128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гу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Барнау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5-конечная звезда 31">
            <a:hlinkClick r:id="rId31" action="ppaction://hlinksldjump"/>
          </p:cNvPr>
          <p:cNvSpPr/>
          <p:nvPr/>
        </p:nvSpPr>
        <p:spPr>
          <a:xfrm>
            <a:off x="8001000" y="5572080"/>
            <a:ext cx="1143000" cy="1143000"/>
          </a:xfrm>
          <a:custGeom>
            <a:avLst/>
            <a:gdLst>
              <a:gd name="textAreaLeft" fmla="*/ 353160 w 1143000"/>
              <a:gd name="textAreaRight" fmla="*/ 789840 w 114300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143000" h="1143000">
                <a:moveTo>
                  <a:pt x="1" y="436586"/>
                </a:moveTo>
                <a:lnTo>
                  <a:pt x="436590" y="436589"/>
                </a:lnTo>
                <a:lnTo>
                  <a:pt x="571500" y="0"/>
                </a:lnTo>
                <a:lnTo>
                  <a:pt x="706410" y="436589"/>
                </a:lnTo>
                <a:lnTo>
                  <a:pt x="1142999" y="436586"/>
                </a:lnTo>
                <a:lnTo>
                  <a:pt x="789790" y="706409"/>
                </a:lnTo>
                <a:lnTo>
                  <a:pt x="924707" y="1142996"/>
                </a:lnTo>
                <a:lnTo>
                  <a:pt x="571500" y="873168"/>
                </a:lnTo>
                <a:lnTo>
                  <a:pt x="218293" y="1142996"/>
                </a:lnTo>
                <a:lnTo>
                  <a:pt x="353210" y="70640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C:\Documents and Settings\Ксюша@.ru\Рабочий стол\картинки\разное\10с.gif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C:\Documents and Settings\Ксюша@.ru\Рабочий стол\картинки\Анимашки\Изображение 255.gif"/>
          <p:cNvPicPr/>
          <p:nvPr/>
        </p:nvPicPr>
        <p:blipFill>
          <a:blip r:embed="rId2"/>
          <a:stretch/>
        </p:blipFill>
        <p:spPr>
          <a:xfrm>
            <a:off x="0" y="4114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229" name="WordArt 5"/>
          <p:cNvSpPr txBox="1"/>
          <p:nvPr/>
        </p:nvSpPr>
        <p:spPr>
          <a:xfrm>
            <a:off x="457200" y="228600"/>
            <a:ext cx="8229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днем рождения,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юбимый город!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918560" cy="2379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В каком году был основан</a:t>
            </a:r>
            <a:br>
              <a:rPr sz="4000"/>
            </a:b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 г. Барнау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95280" y="4581360"/>
            <a:ext cx="4537080" cy="13924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 1730год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>
            <a:hlinkClick r:id="" action="ppaction://hlinkshowjump?jump=previous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214200"/>
            <a:ext cx="8229600" cy="4525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В 1742 г. в Барнауле начал свою работу завод, строительство которого считается причиной основания поселка. О каком заводе идет речь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28760" y="4869000"/>
            <a:ext cx="8358120" cy="17524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ереброплавильный зав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>
            <a:hlinkClick r:id="rId1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500040" y="571680"/>
            <a:ext cx="8062920" cy="38574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2 мая 1917 года в результате чрезвычайной ситуации было уничтожено 60 кварталов Барнаула, осталось без крова 20 тыс. жителей. О каком событии идет реч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332000" y="5105520"/>
            <a:ext cx="6400800" cy="9874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пожа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>
            <a:hlinkClick r:id="rId1" action="ppaction://hlinksldjump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10800"/>
                </a:moveTo>
                <a:lnTo>
                  <a:pt x="23400" y="3794"/>
                </a:lnTo>
                <a:lnTo>
                  <a:pt x="234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85520" y="500040"/>
            <a:ext cx="8062920" cy="2943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В 1933 году было организовано первое высшее учебное заведение в городе – учительский институт. Как сейчас называется это ВУЗ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32000" y="5105160"/>
            <a:ext cx="6400800" cy="9874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лтГП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>
            <a:hlinkClick r:id="rId1" action="ppaction://hlinksldjump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10800"/>
                </a:moveTo>
                <a:lnTo>
                  <a:pt x="23400" y="3794"/>
                </a:lnTo>
                <a:lnTo>
                  <a:pt x="234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2133720"/>
            <a:ext cx="7777080" cy="25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Когда была впервые принята Конституция Росс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76360" y="5877000"/>
            <a:ext cx="6400800" cy="6732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1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13б"/>
          <p:cNvPicPr/>
          <p:nvPr/>
        </p:nvPicPr>
        <p:blipFill>
          <a:blip r:embed="rId2"/>
          <a:stretch/>
        </p:blipFill>
        <p:spPr>
          <a:xfrm>
            <a:off x="142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755640" y="1844640"/>
            <a:ext cx="7848720" cy="1922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В каком году состоялось открытие Алтайской железной дорог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258920" y="5084640"/>
            <a:ext cx="6408720" cy="100836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 1915 году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>
            <a:hlinkClick r:id="rId3" action="ppaction://hlinksldjump"/>
          </p:cNvPr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2133720"/>
            <a:ext cx="7777080" cy="25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Когда была впервые принята Конституция Росс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76360" y="5877000"/>
            <a:ext cx="6400800" cy="6732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1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13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826920" y="1557360"/>
            <a:ext cx="7488360" cy="3385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Garamond"/>
              </a:rPr>
              <a:t>В связи с образованием Алтайского края, Барнаулу был присвоен статус его административного центра. В каком году произошло это событ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619280" y="5013360"/>
            <a:ext cx="5832360" cy="100836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aramond"/>
              </a:rPr>
              <a:t>В 1937 году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>
            <a:hlinkClick r:id="rId3" action="ppaction://hlinksldjump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10800"/>
                </a:moveTo>
                <a:lnTo>
                  <a:pt x="23400" y="3794"/>
                </a:lnTo>
                <a:lnTo>
                  <a:pt x="234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6:50:14Z</dcterms:created>
  <dc:creator>Admin</dc:creator>
  <dc:description/>
  <dc:language>en-US</dc:language>
  <cp:lastModifiedBy>Master</cp:lastModifiedBy>
  <dcterms:modified xsi:type="dcterms:W3CDTF">2013-03-25T11:33:46Z</dcterms:modified>
  <cp:revision>52</cp:revision>
  <dc:subject/>
  <dc:title>Слайд 1</dc:title>
</cp:coreProperties>
</file>