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3CFF-067E-410F-84BF-BA83BA661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1D2E-8C59-4EE5-9709-A946E7827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BBB-1DC7-49CD-A2C9-73460B12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3B1-A6C2-4461-AAC7-D0F6740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14C-0E34-46E2-8B50-04A6B6FC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A2D-ADEA-41FF-ACA8-7858E729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2EF-DAD7-4076-981E-2C1515B2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E96-27AC-4B2E-8A51-45A2CFFD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C54-E0D3-4A07-BEE2-201CBE03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640-E50E-42C5-B351-5913C53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F3C-25FB-4583-90EB-6B37C0C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D8C-CF90-41E9-96DA-4D5DB5D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042-1EC9-45D8-8D67-920C93CF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7D3-DFF7-4C13-99E5-8A2A56F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BEE-8614-4A58-8334-F64FF753B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"/><Relationship Id="rId14" Type="http://schemas.openxmlformats.org/officeDocument/2006/relationships/slide" Target="slide21.xml"/><Relationship Id="rId15" Type="http://schemas.openxmlformats.org/officeDocument/2006/relationships/slide" Target="slide16.xml"/><Relationship Id="rId16" Type="http://schemas.openxmlformats.org/officeDocument/2006/relationships/slide" Target="slide28.xml"/><Relationship Id="rId17" Type="http://schemas.openxmlformats.org/officeDocument/2006/relationships/slide" Target="slide22.xml"/><Relationship Id="rId18" Type="http://schemas.openxmlformats.org/officeDocument/2006/relationships/slide" Target="slide17.xml"/><Relationship Id="rId19" Type="http://schemas.openxmlformats.org/officeDocument/2006/relationships/slide" Target="slide29.xml"/><Relationship Id="rId20" Type="http://schemas.openxmlformats.org/officeDocument/2006/relationships/slide" Target="slide23.xml"/><Relationship Id="rId21" Type="http://schemas.openxmlformats.org/officeDocument/2006/relationships/slide" Target="slide18.xml"/><Relationship Id="rId22" Type="http://schemas.openxmlformats.org/officeDocument/2006/relationships/slide" Target="slide26.xml"/><Relationship Id="rId23" Type="http://schemas.openxmlformats.org/officeDocument/2006/relationships/slide" Target="slide19.xml"/><Relationship Id="rId24" Type="http://schemas.openxmlformats.org/officeDocument/2006/relationships/slide" Target="slide20.xml"/><Relationship Id="rId25" Type="http://schemas.openxmlformats.org/officeDocument/2006/relationships/slide" Target="slide15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"/><Relationship Id="rId29" Type="http://schemas.openxmlformats.org/officeDocument/2006/relationships/slide" Target="slide19.xml"/><Relationship Id="rId30" Type="http://schemas.openxmlformats.org/officeDocument/2006/relationships/slide" Target="slide14.xml"/><Relationship Id="rId31" Type="http://schemas.openxmlformats.org/officeDocument/2006/relationships/slide" Target="slide30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13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1071720" y="3143160"/>
            <a:ext cx="7315200" cy="423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воя игра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2764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1042920" y="1557360"/>
            <a:ext cx="7345440" cy="27752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акой общий элемент изображен на гербе Алтайского края и гербе г. Барнау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357280" y="4786200"/>
            <a:ext cx="4751640" cy="131292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ымящаяся плавильная печ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>
            <a:hlinkClick r:id="rId3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Андрей\Pictures\барнаул\altaisimv4_1m.jpg"/>
          <p:cNvPicPr/>
          <p:nvPr/>
        </p:nvPicPr>
        <p:blipFill>
          <a:blip r:embed="rId4"/>
          <a:stretch/>
        </p:blipFill>
        <p:spPr>
          <a:xfrm>
            <a:off x="571680" y="4714920"/>
            <a:ext cx="1666800" cy="1762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Users\Андрей\Pictures\барнаул\altaisimv4_4m.jpg"/>
          <p:cNvPicPr/>
          <p:nvPr/>
        </p:nvPicPr>
        <p:blipFill>
          <a:blip r:embed="rId5"/>
          <a:stretch/>
        </p:blipFill>
        <p:spPr>
          <a:xfrm>
            <a:off x="7358040" y="4714920"/>
            <a:ext cx="1382760" cy="18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116000" y="1628640"/>
            <a:ext cx="6912000" cy="2287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Что символизирует голубой цвет флага     г. Барнау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484360" y="5084640"/>
            <a:ext cx="468000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ку Об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Users\Андрей\Pictures\барнаул\altaisimv4_5m.jpg"/>
          <p:cNvPicPr/>
          <p:nvPr/>
        </p:nvPicPr>
        <p:blipFill>
          <a:blip r:embed="rId4"/>
          <a:stretch/>
        </p:blipFill>
        <p:spPr>
          <a:xfrm>
            <a:off x="285840" y="4071960"/>
            <a:ext cx="1904760" cy="11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785880" y="928800"/>
            <a:ext cx="6912000" cy="3141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В верхней части герба города изображен герб        г. Томска (галопирующая лошадь на зеленом фоне). Как вы думаете, почем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85960" y="5084640"/>
            <a:ext cx="6286320" cy="17398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1917 г. наш город входил в Томскую губерни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Андрей\Pictures\барнаул\altaisimv4_4m.jpg"/>
          <p:cNvPicPr/>
          <p:nvPr/>
        </p:nvPicPr>
        <p:blipFill>
          <a:blip r:embed="rId4"/>
          <a:stretch/>
        </p:blipFill>
        <p:spPr>
          <a:xfrm>
            <a:off x="21420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785880" y="928800"/>
            <a:ext cx="6912000" cy="1556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cc"/>
                </a:solidFill>
                <a:latin typeface="Arial"/>
              </a:rPr>
              <a:t>Опишите, как выглядит флаг Алтайского кра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643120" y="3429000"/>
            <a:ext cx="6286680" cy="26542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тнище красного цвета с полосой синего цвета у древка, и стилизованным изображением на этой полосе колоса желтого цвета — как символа сельского хозяйства. В центре флага воспроизведено изображение герба Алтай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3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Андрей\Pictures\барнаул\altaisimv4_2m.jpg"/>
          <p:cNvPicPr/>
          <p:nvPr/>
        </p:nvPicPr>
        <p:blipFill>
          <a:blip r:embed="rId4"/>
          <a:stretch/>
        </p:blipFill>
        <p:spPr>
          <a:xfrm>
            <a:off x="142920" y="2571840"/>
            <a:ext cx="263196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4537080" cy="10792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дом под шпилем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C:\Users\Андрей\Pictures\барнаул\дом под шпилем.jpg"/>
          <p:cNvPicPr/>
          <p:nvPr/>
        </p:nvPicPr>
        <p:blipFill>
          <a:blip r:embed="rId1"/>
          <a:stretch/>
        </p:blipFill>
        <p:spPr>
          <a:xfrm>
            <a:off x="857160" y="142920"/>
            <a:ext cx="7256520" cy="54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000080" y="5643720"/>
            <a:ext cx="7215120" cy="1008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ой драматический 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. В.М.Шук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C:\Documents and Settings\семья\Мои документы\Мои рисунки\117314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0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143080" y="5428800"/>
            <a:ext cx="4464000" cy="98748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ГТУ им. Ползунов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C:\Users\Андрей\Pictures\барнаул\DSC_0272.jpg"/>
          <p:cNvPicPr/>
          <p:nvPr/>
        </p:nvPicPr>
        <p:blipFill>
          <a:blip r:embed="rId1"/>
          <a:stretch/>
        </p:blipFill>
        <p:spPr>
          <a:xfrm>
            <a:off x="1143000" y="285840"/>
            <a:ext cx="7338960" cy="48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999800" y="5072040"/>
            <a:ext cx="5256360" cy="1440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евая фил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б. Народны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:\Users\Андрей\Pictures\барнаул\23717.jpg"/>
          <p:cNvPicPr/>
          <p:nvPr/>
        </p:nvPicPr>
        <p:blipFill>
          <a:blip r:embed="rId1"/>
          <a:stretch/>
        </p:blipFill>
        <p:spPr>
          <a:xfrm>
            <a:off x="1500120" y="142920"/>
            <a:ext cx="6508800" cy="488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57200" y="5500440"/>
            <a:ext cx="614376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кровский соб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Users\Андрей\Pictures\барнаул\23722.jpg"/>
          <p:cNvPicPr/>
          <p:nvPr/>
        </p:nvPicPr>
        <p:blipFill>
          <a:blip r:embed="rId1"/>
          <a:stretch/>
        </p:blipFill>
        <p:spPr>
          <a:xfrm>
            <a:off x="928800" y="214200"/>
            <a:ext cx="688968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258920" y="214200"/>
            <a:ext cx="7630920" cy="3357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Летчик-космонавт СССР , Герой Советского Союза, генерал-полковник авиации, кандидат военных на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Users\Андрей\Pictures\барнаул\titov_gsf.jpg"/>
          <p:cNvPicPr/>
          <p:nvPr/>
        </p:nvPicPr>
        <p:blipFill>
          <a:blip r:embed="rId1"/>
          <a:stretch/>
        </p:blipFill>
        <p:spPr>
          <a:xfrm>
            <a:off x="214200" y="3071880"/>
            <a:ext cx="2714760" cy="357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3071880" y="4149720"/>
            <a:ext cx="535788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 Степ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971640" y="907920"/>
            <a:ext cx="7632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Барнаул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лиц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тайск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66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я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6600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32764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213840"/>
            <a:ext cx="8229600" cy="2257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Русский советский писатель, кинорежиссер, актер, сценари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C:\Users\Андрей\Pictures\алтай\2608a598bbcae8e7dba9e8246bb00fba.jpg"/>
          <p:cNvPicPr/>
          <p:nvPr/>
        </p:nvPicPr>
        <p:blipFill>
          <a:blip r:embed="rId1"/>
          <a:stretch/>
        </p:blipFill>
        <p:spPr>
          <a:xfrm>
            <a:off x="214200" y="292896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4071960" y="4000680"/>
            <a:ext cx="4873680" cy="2214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карович Шукшин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428400"/>
            <a:ext cx="8229600" cy="232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Русский изобретатель, создатель первой в России паровой маш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C:\Users\Андрей\Pictures\барнаул\polzunov5_9m.jpg"/>
          <p:cNvPicPr/>
          <p:nvPr/>
        </p:nvPicPr>
        <p:blipFill>
          <a:blip r:embed="rId1"/>
          <a:stretch/>
        </p:blipFill>
        <p:spPr>
          <a:xfrm>
            <a:off x="142920" y="2928960"/>
            <a:ext cx="2455920" cy="31431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2714760" y="3500280"/>
            <a:ext cx="6087960" cy="221472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ван Иванович Ползун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42920"/>
            <a:ext cx="8229600" cy="2571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Российско-финская революционерка, участница борьбы за установление Советской власти на Алта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Андрей\Pictures\барнаул\220px-Эмилия_Алексеева.JPG"/>
          <p:cNvPicPr/>
          <p:nvPr/>
        </p:nvPicPr>
        <p:blipFill>
          <a:blip r:embed="rId1"/>
          <a:stretch/>
        </p:blipFill>
        <p:spPr>
          <a:xfrm>
            <a:off x="214200" y="2928960"/>
            <a:ext cx="2500560" cy="3786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3357720" y="4143240"/>
            <a:ext cx="535752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милия Август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ексее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71680" y="285840"/>
            <a:ext cx="8229600" cy="3543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ерой Великой Отечественной войн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ерой Советского Союз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ир гаубичной батареи 24-го гвардейского артиллерийского полка (5-я гвардейская стрелковая дивизия, 11-я гвардейская арми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й Белорусский фро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C:\Users\Андрей\Pictures\барнаул\160_petrov.jpg"/>
          <p:cNvPicPr/>
          <p:nvPr/>
        </p:nvPicPr>
        <p:blipFill>
          <a:blip r:embed="rId1"/>
          <a:stretch/>
        </p:blipFill>
        <p:spPr>
          <a:xfrm>
            <a:off x="142920" y="3643200"/>
            <a:ext cx="2125440" cy="3071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071880" y="4149720"/>
            <a:ext cx="5357880" cy="14940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он Васильевич Пет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93560"/>
            <a:ext cx="7775640" cy="2206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11202"/>
                </a:moveTo>
                <a:lnTo>
                  <a:pt x="17806" y="4196"/>
                </a:lnTo>
                <a:lnTo>
                  <a:pt x="17806" y="1820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123564327317"/>
          <p:cNvPicPr/>
          <p:nvPr/>
        </p:nvPicPr>
        <p:blipFill>
          <a:blip r:embed="rId1"/>
          <a:stretch/>
        </p:blipFill>
        <p:spPr>
          <a:xfrm>
            <a:off x="0" y="0"/>
            <a:ext cx="9229680" cy="694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Андрей\Pictures\барнаул\447700_barntoday_photo74b.jpg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2000160" y="564372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й мост через р. Об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к Изумру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Users\Андрей\Pictures\барнаул\9920-Здание_планетария.jpg"/>
          <p:cNvPicPr/>
          <p:nvPr/>
        </p:nvPicPr>
        <p:blipFill>
          <a:blip r:embed="rId1"/>
          <a:stretch/>
        </p:blipFill>
        <p:spPr>
          <a:xfrm>
            <a:off x="785880" y="214200"/>
            <a:ext cx="7235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Калин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Андрей\Pictures\барнаул\7e6357aa8228c93064f3c3c8fba166e6.jpg"/>
          <p:cNvPicPr/>
          <p:nvPr/>
        </p:nvPicPr>
        <p:blipFill>
          <a:blip r:embed="rId1"/>
          <a:stretch/>
        </p:blipFill>
        <p:spPr>
          <a:xfrm>
            <a:off x="1214280" y="357120"/>
            <a:ext cx="60962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6430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Социалис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C:\Documents and Settings\семья\Мои документы\Мои рисунки\250px-neschastny-vlublenny.jpg"/>
          <p:cNvPicPr/>
          <p:nvPr/>
        </p:nvPicPr>
        <p:blipFill>
          <a:blip r:embed="rId1"/>
          <a:stretch/>
        </p:blipFill>
        <p:spPr>
          <a:xfrm>
            <a:off x="1285920" y="357120"/>
            <a:ext cx="64594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535788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857240" y="5500800"/>
            <a:ext cx="5357880" cy="10000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пект Красноармей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C:\Documents and Settings\семья\Мои документы\Мои рисунки\14123.jpg"/>
          <p:cNvPicPr/>
          <p:nvPr/>
        </p:nvPicPr>
        <p:blipFill>
          <a:blip r:embed="rId1"/>
          <a:stretch/>
        </p:blipFill>
        <p:spPr>
          <a:xfrm>
            <a:off x="1428840" y="285840"/>
            <a:ext cx="6156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>
            <a:hlinkClick r:id="rId1" action="ppaction://hlinksldjump"/>
          </p:cNvPr>
          <p:cNvSpPr/>
          <p:nvPr/>
        </p:nvSpPr>
        <p:spPr>
          <a:xfrm>
            <a:off x="114300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>
            <a:hlinkClick r:id="rId2" action="ppaction://hlinksldjump"/>
          </p:cNvPr>
          <p:cNvSpPr/>
          <p:nvPr/>
        </p:nvSpPr>
        <p:spPr>
          <a:xfrm>
            <a:off x="114300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>
            <a:hlinkClick r:id="rId4" action="ppaction://hlinksldjump"/>
          </p:cNvPr>
          <p:cNvSpPr/>
          <p:nvPr/>
        </p:nvSpPr>
        <p:spPr>
          <a:xfrm>
            <a:off x="114300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>
            <a:hlinkClick r:id="rId6" action="ppaction://hlinksldjump"/>
          </p:cNvPr>
          <p:cNvSpPr/>
          <p:nvPr/>
        </p:nvSpPr>
        <p:spPr>
          <a:xfrm>
            <a:off x="114300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>
            <a:hlinkClick r:id="rId7" action="ppaction://hlinksldjump"/>
          </p:cNvPr>
          <p:cNvSpPr/>
          <p:nvPr/>
        </p:nvSpPr>
        <p:spPr>
          <a:xfrm>
            <a:off x="114300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42892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>
            <a:hlinkClick r:id="rId9" action="ppaction://hlinksldjump"/>
          </p:cNvPr>
          <p:cNvSpPr/>
          <p:nvPr/>
        </p:nvSpPr>
        <p:spPr>
          <a:xfrm>
            <a:off x="242892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42892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9"/>
          <p:cNvSpPr/>
          <p:nvPr/>
        </p:nvSpPr>
        <p:spPr>
          <a:xfrm>
            <a:off x="242892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242892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>
            <a:hlinkClick r:id="rId13" action="ppaction://hlinksldjump"/>
          </p:cNvPr>
          <p:cNvSpPr/>
          <p:nvPr/>
        </p:nvSpPr>
        <p:spPr>
          <a:xfrm>
            <a:off x="500076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2">
            <a:hlinkClick r:id="rId15" action="ppaction://hlinksldjump"/>
          </p:cNvPr>
          <p:cNvSpPr/>
          <p:nvPr/>
        </p:nvSpPr>
        <p:spPr>
          <a:xfrm>
            <a:off x="3714840" y="35719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6286680" y="4500720"/>
            <a:ext cx="128556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00076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3714840" y="450072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6"/>
          <p:cNvSpPr/>
          <p:nvPr/>
        </p:nvSpPr>
        <p:spPr>
          <a:xfrm>
            <a:off x="6286680" y="542916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>
            <a:hlinkClick r:id="rId20" action="ppaction://hlinksldjump"/>
          </p:cNvPr>
          <p:cNvSpPr/>
          <p:nvPr/>
        </p:nvSpPr>
        <p:spPr>
          <a:xfrm>
            <a:off x="500076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3714840" y="542916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9"/>
          <p:cNvSpPr/>
          <p:nvPr/>
        </p:nvSpPr>
        <p:spPr>
          <a:xfrm>
            <a:off x="6286680" y="264312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>
            <a:hlinkClick r:id="rId23" action="ppaction://hlinksldjump"/>
          </p:cNvPr>
          <p:cNvSpPr/>
          <p:nvPr/>
        </p:nvSpPr>
        <p:spPr>
          <a:xfrm>
            <a:off x="500076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1"/>
          <p:cNvSpPr/>
          <p:nvPr/>
        </p:nvSpPr>
        <p:spPr>
          <a:xfrm>
            <a:off x="3714840" y="2643120"/>
            <a:ext cx="128592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2">
            <a:hlinkClick r:id="rId26" action="ppaction://hlinksldjump"/>
          </p:cNvPr>
          <p:cNvSpPr/>
          <p:nvPr/>
        </p:nvSpPr>
        <p:spPr>
          <a:xfrm>
            <a:off x="6286680" y="3571920"/>
            <a:ext cx="128556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3"/>
          <p:cNvSpPr/>
          <p:nvPr/>
        </p:nvSpPr>
        <p:spPr>
          <a:xfrm>
            <a:off x="6286680" y="1714680"/>
            <a:ext cx="128556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4">
            <a:hlinkClick r:id="rId28" action="ppaction://hlinksldjump"/>
          </p:cNvPr>
          <p:cNvSpPr/>
          <p:nvPr/>
        </p:nvSpPr>
        <p:spPr>
          <a:xfrm>
            <a:off x="500076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5">
            <a:hlinkClick r:id="rId30" action="ppaction://hlinksldjump"/>
          </p:cNvPr>
          <p:cNvSpPr/>
          <p:nvPr/>
        </p:nvSpPr>
        <p:spPr>
          <a:xfrm>
            <a:off x="3714840" y="1714680"/>
            <a:ext cx="1285920" cy="92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6"/>
          <p:cNvSpPr/>
          <p:nvPr/>
        </p:nvSpPr>
        <p:spPr>
          <a:xfrm>
            <a:off x="114300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7"/>
          <p:cNvSpPr/>
          <p:nvPr/>
        </p:nvSpPr>
        <p:spPr>
          <a:xfrm>
            <a:off x="242892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тай-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8"/>
          <p:cNvSpPr/>
          <p:nvPr/>
        </p:nvSpPr>
        <p:spPr>
          <a:xfrm>
            <a:off x="500076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име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з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9"/>
          <p:cNvSpPr/>
          <p:nvPr/>
        </p:nvSpPr>
        <p:spPr>
          <a:xfrm>
            <a:off x="3714840" y="214200"/>
            <a:ext cx="1285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хитек-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286680" y="214200"/>
            <a:ext cx="128556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Барнау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-конечная звезда 31">
            <a:hlinkClick r:id="rId31" action="ppaction://hlinksldjump"/>
          </p:cNvPr>
          <p:cNvSpPr/>
          <p:nvPr/>
        </p:nvSpPr>
        <p:spPr>
          <a:xfrm>
            <a:off x="8001000" y="5572080"/>
            <a:ext cx="1143000" cy="1143000"/>
          </a:xfrm>
          <a:custGeom>
            <a:avLst/>
            <a:gdLst>
              <a:gd name="textAreaLeft" fmla="*/ 353160 w 1143000"/>
              <a:gd name="textAreaRight" fmla="*/ 789840 w 114300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143000" h="1143000">
                <a:moveTo>
                  <a:pt x="1" y="436586"/>
                </a:moveTo>
                <a:lnTo>
                  <a:pt x="436590" y="436589"/>
                </a:lnTo>
                <a:lnTo>
                  <a:pt x="571500" y="0"/>
                </a:lnTo>
                <a:lnTo>
                  <a:pt x="706410" y="436589"/>
                </a:lnTo>
                <a:lnTo>
                  <a:pt x="1142999" y="436586"/>
                </a:lnTo>
                <a:lnTo>
                  <a:pt x="789790" y="706409"/>
                </a:lnTo>
                <a:lnTo>
                  <a:pt x="924707" y="1142996"/>
                </a:lnTo>
                <a:lnTo>
                  <a:pt x="571500" y="873168"/>
                </a:lnTo>
                <a:lnTo>
                  <a:pt x="218293" y="1142996"/>
                </a:lnTo>
                <a:lnTo>
                  <a:pt x="353210" y="70640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C:\Documents and Settings\Ксюша@.ru\Рабочий стол\картинки\разное\10с.gif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Ксюша@.ru\Рабочий стол\картинки\Анимашки\Изображение 255.gif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днем рождения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бимый город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918560" cy="2379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каком году был основан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г. Барнау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95280" y="4581360"/>
            <a:ext cx="4537080" cy="1392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1730год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14200"/>
            <a:ext cx="8229600" cy="4525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1742 г. в Барнауле начал свою работу завод, строительство которого считается причиной основания поселка. О каком заводе идет реч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8760" y="4869000"/>
            <a:ext cx="8358120" cy="1752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ереброплавильный зав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>
            <a:hlinkClick r:id="rId1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500040" y="571680"/>
            <a:ext cx="8062920" cy="3857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2 мая 1917 года в результате чрезвычайной ситуации было уничтожено 60 кварталов Барнаула, осталось без крова 20 тыс. жителей. О каком событии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32000" y="5105520"/>
            <a:ext cx="640080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жа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>
            <a:hlinkClick r:id="rId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8062920" cy="2943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 1933 году было организовано первое высшее учебное заведение в городе – учительский институт. Как сейчас называется это ВУ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5105160"/>
            <a:ext cx="6400800" cy="98748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лтГ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>
            <a:hlinkClick r:id="rId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13б"/>
          <p:cNvPicPr/>
          <p:nvPr/>
        </p:nvPicPr>
        <p:blipFill>
          <a:blip r:embed="rId2"/>
          <a:stretch/>
        </p:blipFill>
        <p:spPr>
          <a:xfrm>
            <a:off x="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755640" y="1844640"/>
            <a:ext cx="7848720" cy="1922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В каком году состоялось открытие Алтайской железной доро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58920" y="5084640"/>
            <a:ext cx="640872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1915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3" action="ppaction://hlinksldjump"/>
          </p:cNvPr>
          <p:cNvSpPr/>
          <p:nvPr/>
        </p:nvSpPr>
        <p:spPr>
          <a:xfrm>
            <a:off x="8675640" y="6597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133720"/>
            <a:ext cx="777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Когда была впервые принята Конституция Росс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476360" y="5877000"/>
            <a:ext cx="6400800" cy="67320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1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13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826920" y="1557360"/>
            <a:ext cx="7488360" cy="33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Garamond"/>
              </a:rPr>
              <a:t>В связи с образованием Алтайского края, Барнаулу был присвоен статус его административного центра. В каком году произошло это событ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619280" y="5013360"/>
            <a:ext cx="5832360" cy="1008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aramond"/>
              </a:rPr>
              <a:t>В 1937 год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>
            <a:hlinkClick r:id="rId3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6:50:14Z</dcterms:created>
  <dc:creator>Admin</dc:creator>
  <dc:description/>
  <dc:language>en-US</dc:language>
  <cp:lastModifiedBy>Master</cp:lastModifiedBy>
  <dcterms:modified xsi:type="dcterms:W3CDTF">2013-03-25T11:33:46Z</dcterms:modified>
  <cp:revision>52</cp:revision>
  <dc:subject/>
  <dc:title>Слайд 1</dc:title>
</cp:coreProperties>
</file>