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C1D-A2A9-4BDD-9A82-F796E441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C62-ABE2-4529-9BD8-31FF8F7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26F-1298-44C6-8B18-D56E3B01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7F1-CEA9-48D9-8814-B9AE1A36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74507-6A3D-4320-AC38-FF33B1AE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EB7F2-6B97-4F8B-AF06-9CD9ED9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39CEF-027D-4544-8893-7D8CC12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9D7C-CD82-4375-8A11-7E34EB50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E6C8F-97EB-426C-8AC9-E879934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10E23-06C3-4B39-924E-162C8746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7F970-3627-4EA6-97B5-6A038650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55D-56BD-4333-B25C-8B135917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4128-90FA-4DE0-8AC1-E216BE19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A72D-C8F4-442C-BE1E-7A9EBF4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0F313-FEDC-447D-B29C-A249FB5E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0B99-BF13-483F-B02F-1AD2323B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C4F5D-4BF5-4B71-BC66-F8179FC6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2B8-4DBC-42C1-A532-429CD67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6C7-AE92-4498-A505-E9726748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501-5186-4615-AA44-E253EA16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442-BAC5-4CF4-BFF6-7FA4626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8DAD-7B92-44FF-B511-F06586D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8ED-D587-4710-B204-A079EED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F8B-C796-4794-BEA0-77EF8DC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3460-13A1-41A0-9806-83280BFDAE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14200" y="3738600"/>
            <a:ext cx="1800" cy="4046400"/>
          </a:xfrm>
          <a:custGeom>
            <a:avLst/>
            <a:gdLst>
              <a:gd name="textAreaLeft" fmla="*/ 0 w 1800"/>
              <a:gd name="textAreaRight" fmla="*/ 2160 w 1800"/>
              <a:gd name="textAreaTop" fmla="*/ 0 h 4046400"/>
              <a:gd name="textAreaBottom" fmla="*/ 4046760 h 4046400"/>
            </a:gdLst>
            <a:ahLst/>
            <a:rect l="textAreaLeft" t="textAreaTop" r="textAreaRight" b="textAreaBottom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D876-B9DE-4141-9E8F-FCA126C120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507960"/>
            <a:ext cx="5829120" cy="1625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9 имени В.Т.Степанченко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города Ржева   Твер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28520" y="2336400"/>
            <a:ext cx="4800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следовательская  ра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е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 Качество питьевой в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здоровье челове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\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абота  ученицы 2 - Б класс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озловой Дарь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Классный  руководит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молькова Елена Юрье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12 - 2013 учебный г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Рисунок 1" descr="720_big"/>
          <p:cNvPicPr/>
          <p:nvPr/>
        </p:nvPicPr>
        <p:blipFill>
          <a:blip r:embed="rId1"/>
          <a:stretch/>
        </p:blipFill>
        <p:spPr>
          <a:xfrm>
            <a:off x="1352520" y="3651120"/>
            <a:ext cx="4305240" cy="520704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8440"/>
            <a:ext cx="6210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ДЕРЖАНИ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24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1. Введение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2. Цели и задачи.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3. Значение воды  для организма человека.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4. Качество воды и здоровье.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5. Охрана чистоты воды – это очень важное и нужное дело.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6. Заключение.                                                                                                                            </a:t>
            </a:r>
            <a:br>
              <a:rPr sz="1600"/>
            </a:br>
            <a:r>
              <a:rPr b="0" lang="ru-RU" sz="1600" spc="-1" strike="noStrike">
                <a:solidFill>
                  <a:srgbClr val="010199"/>
                </a:solidFill>
                <a:latin typeface="Times New Roman"/>
              </a:rPr>
              <a:t>7. Список литературы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4648320"/>
            <a:ext cx="61722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1220786762_byaki2-15"/>
          <p:cNvPicPr/>
          <p:nvPr/>
        </p:nvPicPr>
        <p:blipFill>
          <a:blip r:embed="rId2"/>
          <a:stretch/>
        </p:blipFill>
        <p:spPr>
          <a:xfrm>
            <a:off x="79200" y="3505320"/>
            <a:ext cx="6553440" cy="480348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6172200" cy="78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ВВЕД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10199"/>
                </a:solidFill>
                <a:latin typeface="Times New Roman"/>
              </a:rPr>
              <a:t>«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Вода! У тебя нет ни вкуса, ни запаха,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тебя невозможно описать, тобой                                                                                                                                                            наслаждаются, не ведая, что ты такое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Нельзя сказать, что ты необходим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для жизни: ты есть сама жизн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                                            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Антуан де Сент Экзюпери</a:t>
            </a:r>
            <a:r>
              <a:rPr b="1" i="1" lang="ru-RU" sz="1400" spc="-1" strike="noStrike">
                <a:solidFill>
                  <a:srgbClr val="0101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Вода оказывает огромное влияние на здоровье человека. Для выживания живого организма ежедневно требуется определенное количество воды. Вопрос качества подаваемой воды играет важную роль в сохранении здоровья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Актуальность 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Для того чтобы хорошо себя чувствовать, человек должен употреблять только чистую качественную питьевую воду. На сегодняшний день сохранение и укрепление  здоровья человека - одна из наиболее актуальных проблем современ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Цель работ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влияние качества питьевой воды на здоровье люд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Зада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научно – познавательную литературу по данной  тем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значение воды для организма челове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Узнать о роли воды в жизни челове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сследовать качество водопроводной питьевой воды в школ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Изучить источники загрязнения во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5" descr="просто вода.jpeg"/>
          <p:cNvPicPr/>
          <p:nvPr/>
        </p:nvPicPr>
        <p:blipFill>
          <a:blip r:embed="rId2"/>
          <a:stretch/>
        </p:blipFill>
        <p:spPr>
          <a:xfrm>
            <a:off x="401760" y="244440"/>
            <a:ext cx="2549520" cy="2479680"/>
          </a:xfrm>
          <a:prstGeom prst="rect">
            <a:avLst/>
          </a:prstGeom>
          <a:ln w="0">
            <a:noFill/>
          </a:ln>
        </p:spPr>
      </p:pic>
    </p:spTree>
  </p:cSld>
  <p:transition advTm="64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533520"/>
            <a:ext cx="6172200" cy="749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 процессе работы над данной темой мною была изучена и проанализирована научно – познавательная литература, которая помогла выполнить данную  рабо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Ничто живое не может существовать без воды. Человек, растения, животные — всем необходима вода. Люди издавна селились там, где была вода. Она играет огромную роль в нашей повседневной жизни: мы пьем ее, готовим на ней пищу, умываемся и чистим зубы, стираем белье и моем посуду. В промышленности вода используется во многих производственных процессах, а пищевая промышленность вся основана на воде. Качество питьевой воды является одной из главных глобальных проблем 21 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Как известно, питьевая вода - важнейший фактор здоровья человека. 80% заболеваний людей связано с плохим качеством питьевой во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Питьевая вода перед подачей потребителю подвергается одному или нескольким видам очистки. Однако бывает, что такая очистка проводится с нарушениями либо является недостаточной. В результате водопроводная вода несет большое количество посторонних веществ (наличие в ней примесей, солей тяжелых металлов, хлора и др.), многие из которых опасны для нашего здоровь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Я обратила  внимание на тот факт, связанный с качеством вод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Вода оставленная в классах для   полива цветов на следующий день имела ржавый оттенок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что свидетельствует повышенном содержание железа. Содержащееся в воде железо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придает воде неприятную красно-коричневую окраску, ухудшает её вкус, образует отложения осадка в трубах и их засорение. При употреблении для питья воды с содержанием железа выше норматива человек рискует приобрести различные аллергические реак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IMG_3327"/>
          <p:cNvPicPr/>
          <p:nvPr/>
        </p:nvPicPr>
        <p:blipFill>
          <a:blip r:embed="rId2"/>
          <a:stretch/>
        </p:blipFill>
        <p:spPr>
          <a:xfrm>
            <a:off x="476280" y="5450040"/>
            <a:ext cx="2017800" cy="2835000"/>
          </a:xfrm>
          <a:prstGeom prst="rect">
            <a:avLst/>
          </a:prstGeom>
          <a:ln w="0">
            <a:noFill/>
          </a:ln>
        </p:spPr>
      </p:pic>
    </p:spTree>
  </p:cSld>
  <p:transition advTm="131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молькова</cp:lastModifiedBy>
  <dcterms:modified xsi:type="dcterms:W3CDTF">2013-03-21T16:40:4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