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E30-C82D-4245-8A2F-6D58902E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6E5-9953-4044-AA1A-476C86B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5D5-E1B2-466E-85E1-9F36AB5F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6E5-94D2-41F0-920A-B9436E85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6D54D-F5D5-47C8-B217-907ACBAE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BF681-F12A-4155-9F2B-8F155BC2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FCBE9-5D94-4394-9D8E-1ECA477F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5F197-D273-4A04-8685-F59F44AD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3A7FF-E57D-4C83-A329-CC90731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59BF-97C1-417A-839A-393B917F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0E43F-FD9D-4261-B068-4982FCD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3D8-431E-41AD-AD4E-2DA79B9C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994ED-2E37-4D18-8D3F-1EC495D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DD125-3584-4AE4-A83B-8380388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2489B-B173-4B4A-952C-5ABD411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A59B2-7EE0-438A-8EFE-3B9CF020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8198-B065-4414-9659-6DFDDA40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E45-8B6B-4ABB-A8A2-493AF92F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B00-5ED8-4D1B-A7DE-9F4DC2B8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862-6921-4E9E-A9E1-20AF773E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B45-5D8B-4EF2-A6A2-9820FDF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96D-AC40-4D07-AF5E-651311E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378-76BF-4BAC-8AF4-13B056B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7D4-6BAC-4104-AC8B-51F4878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6879-63BE-428C-9748-D0228D5E1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14200" y="3738600"/>
            <a:ext cx="1800" cy="4046400"/>
          </a:xfrm>
          <a:custGeom>
            <a:avLst/>
            <a:gdLst>
              <a:gd name="textAreaLeft" fmla="*/ 0 w 1800"/>
              <a:gd name="textAreaRight" fmla="*/ 2160 w 1800"/>
              <a:gd name="textAreaTop" fmla="*/ 0 h 4046400"/>
              <a:gd name="textAreaBottom" fmla="*/ 4046760 h 4046400"/>
            </a:gdLst>
            <a:ahLst/>
            <a:rect l="textAreaLeft" t="textAreaTop" r="textAreaRight" b="textAreaBottom"/>
            <a:pathLst>
              <a:path w="1587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3036-0D9C-4471-92CE-ADA0A86F4E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50796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9 имени В.Т.Степанченко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города Ржева   Твер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28520" y="2336400"/>
            <a:ext cx="4800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следовательская  ра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те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 Качество питьевой в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здоровье челове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\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абота  ученицы 2 - Б класс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зловой Дарь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лассный  руководит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молькова Елена Юрье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2 - 2013 учебный г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1" descr="720_big"/>
          <p:cNvPicPr/>
          <p:nvPr/>
        </p:nvPicPr>
        <p:blipFill>
          <a:blip r:embed="rId1"/>
          <a:stretch/>
        </p:blipFill>
        <p:spPr>
          <a:xfrm>
            <a:off x="1352520" y="3651120"/>
            <a:ext cx="4305240" cy="520704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8440"/>
            <a:ext cx="6210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ДЕРЖАН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24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1. Введение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2. Цели и задачи.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3. Значение воды  для организма человека.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4. Качество воды и здоровье.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5. Охрана чистоты воды – это очень важное и нужное дело.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6. Заключение.    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7. Список литературы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4648320"/>
            <a:ext cx="61722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1220786762_byaki2-15"/>
          <p:cNvPicPr/>
          <p:nvPr/>
        </p:nvPicPr>
        <p:blipFill>
          <a:blip r:embed="rId2"/>
          <a:stretch/>
        </p:blipFill>
        <p:spPr>
          <a:xfrm>
            <a:off x="79200" y="3505320"/>
            <a:ext cx="6553440" cy="480348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6172200" cy="78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ВВЕД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10199"/>
                </a:solidFill>
                <a:latin typeface="Times New Roman"/>
              </a:rPr>
              <a:t>«</a:t>
            </a: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Вода! У тебя нет ни вкуса, ни запаха,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тебя невозможно описать, тобой                                                                                                                                                            наслаждаются, не ведая, что ты такое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Нельзя сказать, что ты необходим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для жизни: ты есть сама жизн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                                            </a:t>
            </a: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Антуан де Сент Экзюпери</a:t>
            </a: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Вода оказывает огромное влияние на здоровье человека. Для выживания живого организма ежедневно требуется определенное количество воды. Вопрос качества подаваемой воды играет важную роль в сохранении здоровья люд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Актуальность 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Для того чтобы хорошо себя чувствовать, человек должен употреблять только чистую качественную питьевую воду. На сегодняшний день сохранение и укрепление  здоровья человека - одна из наиболее актуальных проблем соврем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Цель работ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влияние качества питьевой воды на здоровье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научно – познавательную литературу по данной  тем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значение воды для организма челове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Узнать о роли воды в жизни челове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сследовать качество водопроводной питьевой воды в школ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источники загрязнения во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5" descr="просто вода.jpeg"/>
          <p:cNvPicPr/>
          <p:nvPr/>
        </p:nvPicPr>
        <p:blipFill>
          <a:blip r:embed="rId2"/>
          <a:stretch/>
        </p:blipFill>
        <p:spPr>
          <a:xfrm>
            <a:off x="401760" y="244440"/>
            <a:ext cx="2549520" cy="2479680"/>
          </a:xfrm>
          <a:prstGeom prst="rect">
            <a:avLst/>
          </a:prstGeom>
          <a:ln w="0">
            <a:noFill/>
          </a:ln>
        </p:spPr>
      </p:pic>
    </p:spTree>
  </p:cSld>
  <p:transition advTm="64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533520"/>
            <a:ext cx="6172200" cy="74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 процессе работы над данной темой мною была изучена и проанализирована научно – познавательная литература, которая помогла выполнить данную  рабо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Ничто живое не может существовать без воды. Человек, растения, животные — всем необходима вода. Люди издавна селились там, где была вода. Она играет огромную роль в нашей повседневной жизни: мы пьем ее, готовим на ней пищу, умываемся и чистим зубы, стираем белье и моем посуду. В промышленности вода используется во многих производственных процессах, а пищевая промышленность вся основана на воде. Качество питьевой воды является одной из главных глобальных проблем 21 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Как известно, питьевая вода - важнейший фактор здоровья человека. 80% заболеваний людей связано с плохим качеством питьевой во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итьевая вода перед подачей потребителю подвергается одному или нескольким видам очистки. Однако бывает, что такая очистка проводится с нарушениями либо является недостаточной. В результате водопроводная вода несет большое количество посторонних веществ (наличие в ней примесей, солей тяжелых металлов, хлора и др.), многие из которых опасны для нашего здоровь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Я обратила  внимание на тот факт, связанный с качеством вод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ода оставленная в классах для   полива цветов на следующий день имела ржавый оттенок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что свидетельствует повышенном содержание железа. Содержащееся в воде железо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придает воде неприятную красно-коричневую окраску, ухудшает её вкус, образует отложения осадка в трубах и их засорение. При употреблении для питья воды с содержанием железа выше норматива человек рискует приобрести различные аллергические реак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IMG_3327"/>
          <p:cNvPicPr/>
          <p:nvPr/>
        </p:nvPicPr>
        <p:blipFill>
          <a:blip r:embed="rId2"/>
          <a:stretch/>
        </p:blipFill>
        <p:spPr>
          <a:xfrm>
            <a:off x="476280" y="5450040"/>
            <a:ext cx="2017800" cy="2835000"/>
          </a:xfrm>
          <a:prstGeom prst="rect">
            <a:avLst/>
          </a:prstGeom>
          <a:ln w="0">
            <a:noFill/>
          </a:ln>
        </p:spPr>
      </p:pic>
    </p:spTree>
  </p:cSld>
  <p:transition advTm="131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молькова</cp:lastModifiedBy>
  <dcterms:modified xsi:type="dcterms:W3CDTF">2013-03-21T16:40:4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