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9E5-3BE2-4FB4-8CB5-B089F5A9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DBB-3D91-47EF-9856-8EC2BBA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17D-EEDE-4FA9-9755-912B23A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A27-F4E5-4F8B-BD55-24BC5FD8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F280B-5331-4B3D-9392-80C95E37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445F-29F9-41AF-8559-4EBAC45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B5749-A7F6-4E89-B8C6-4C7F518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B766-443C-473C-BB82-8BAE0CF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4DCCA-DE20-44F6-A263-2DFDB3E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B3A5D-2D3C-4039-85D9-65A6D5F2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6FE83-0D8E-4583-AF0F-1A198F3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ABB-CE8E-40F0-A5AA-1F1AF5ED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7A4B7-614C-4DEB-8B32-446A5CE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6A09-A552-4008-9546-D2F8C87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0269B-4C18-4558-903F-750BCD1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C0DE-CD58-439F-A20C-696F13AD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AEE9D-3E4A-4734-8D4C-42B60EDD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CAE-1BC3-40F3-AF52-45FD1DA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D59-E17B-458A-BB3B-D1FD342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23D-1534-485F-967D-0350B0A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C0E-C18B-48C3-8204-CFB2CD59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F93-DD8D-40C2-87BB-03A8170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F85-5CC1-4AFA-A59D-72EBA1E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9FD-3DF5-4E6A-AF32-7106B747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9D3-1453-47EC-B71E-86E4F302D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14200" y="3738600"/>
            <a:ext cx="1800" cy="40464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036-47EA-4601-9E07-92B55243EC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6172200" cy="807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Ещё я узнала что водопровод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вода в нашем городе   с повышен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жесткостью</a:t>
            </a:r>
            <a:r>
              <a:rPr b="0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о чём свидетельству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накипь на посуде, плёнка 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чае и коф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Жесткость воды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- приводит к быстрому накоплению осадка в системе водоснабжения и на сантехнике, мешает работе бытовых приборов. Постоянное употребление внутрь воды с повышенной жесткостью приводит к накоплению солей в организме, и, в конечном итоге, к заболеванию сустав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Кроме того, общеизвестен тот факт, что вода в Тверской области бедна содержанием йода, недостаток которого в организме приводит к заболеваниям щитовидной желез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Вода также отвечает за зубы человека. От того сколько фтора содержится в воде зависит частота заболеваемости кариес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Для улучшения ситуации в нашей школе, я предлагаю приобрести и установить кулеры в каждом классе . Пить водопроводную воду нельзя, обязательно её отстаивать и кипяти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С развитием промышленности, ростом заводов, фабрик, химических комбинатов во всем мире наблюдается загрязнение рек, озер, морей вредными веществами, отходами. Я узнала, что в нашем городе то же много промышленных предприятий. Чтобы не происходило загрязнение, на предприятиях необходимо строить очистные сооружения. Охрана чистоты воды – это очень важное и нужное дело. Человек,  как и все организмы, скоро может остаться без воды. А вода -  это жизнь. Но не только заводы и фабрики загрязняют воду. Это часто делаем и мы сами – простые люди. Часто летом мы выезжаем на речку, отдохнуть, и видим  оставленный мусор, не затушенный костер. Рядом моют машину в речке. И  сегодня  человечество  вынуждено  решать   проблему очистки воды уже  глобальн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IMG_3330"/>
          <p:cNvPicPr/>
          <p:nvPr/>
        </p:nvPicPr>
        <p:blipFill>
          <a:blip r:embed="rId2"/>
          <a:stretch/>
        </p:blipFill>
        <p:spPr>
          <a:xfrm>
            <a:off x="380880" y="3808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p:transition advTm="13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5715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Без всякого преувеличения можно сказать, что высококачественная вода,  является одним из  условий сохранения здоровья люд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22 марта отмечается Всемирный день воды. Он отмечается не потому, что на Земле  много воды, а потому, что она всё чаще требует защиты. Учёные говорят, что в 21-м веке будут вестись войны из-за воды. Сокращение пресной воды на Земле происходит из-за неправильного использования её человеком, роста населения, уничтожения лесов, загрязнения нашей планеты. Огромные нефтяные пятна на поверхности океанов, могут привести к гибели всего живого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Рисунок 5" descr="воды.png"/>
          <p:cNvPicPr/>
          <p:nvPr/>
        </p:nvPicPr>
        <p:blipFill>
          <a:blip r:embed="rId2"/>
          <a:stretch/>
        </p:blipFill>
        <p:spPr>
          <a:xfrm>
            <a:off x="212760" y="450720"/>
            <a:ext cx="2225520" cy="5042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1523880" y="6477120"/>
            <a:ext cx="510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Я считаю, что проблему воды, экологию в целом нужно изучать и понимать с раннего детства. И когда мы станем взрослыми – это будет наша работа, наша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Чистая вода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– это будущее нашей план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88800"/>
            <a:ext cx="6172200" cy="42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Список литературы</a:t>
            </a:r>
            <a:br>
              <a:rPr sz="44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Вода К.С.Лосев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еждународные стандарты питьевой воды 2 изд.  С.Н. Черкинский.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облема воды на земном шаре (пер с францз) 1965 Р. Фюрон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Большая советская энциклопедия гл. редактор А.М.Прохоров.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нтернет ресурсы</a:t>
            </a: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35-06_1"/>
          <p:cNvPicPr/>
          <p:nvPr/>
        </p:nvPicPr>
        <p:blipFill>
          <a:blip r:embed="rId2"/>
          <a:stretch/>
        </p:blipFill>
        <p:spPr>
          <a:xfrm>
            <a:off x="1047600" y="3724200"/>
            <a:ext cx="4561200" cy="9522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13-03-24T09:59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