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BFE7-AF43-4F1E-B11A-602E3767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40612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243-1C74-44BE-88DA-DBAE0B94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40612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40612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955E-A217-4193-BB08-5F5CB2F1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54016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54016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40612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40612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40612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D871-19E2-4EE9-A57C-310BA3C1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A43B8-2FE2-42A4-8037-C43F7E62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42720" y="254016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3AC33-CEB1-4441-8A4F-EFCF9774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9783F-6E43-450A-9AE3-08581343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54C77-0A59-4237-BBF1-E921CE63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952A7-0756-49D1-877C-F357E540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42720" y="388440"/>
            <a:ext cx="6172200" cy="85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A3AF8-36CD-4634-86A4-AF508A99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42720" y="540612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3BD5C-8E76-4D0B-817C-01B36794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54016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579A-47C3-4FBF-83DE-848956A5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05320" y="540612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C34D4-3DEC-40DC-9241-6D60EF26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2720" y="540612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1346E-E970-43DD-BFCA-61530ACD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2720" y="540612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3228B-6898-4C6F-A20B-594AB697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42720" y="540612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505320" y="540612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188D9-60A7-4760-9999-00213608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429640" y="254016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16560" y="254016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42720" y="540612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429640" y="540612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516560" y="5406120"/>
            <a:ext cx="1987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8C046-0888-4519-81D8-22467CE3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2063-8313-4254-9F7B-3DAD6F11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1CC2-8364-4B5C-B56C-0A1DACF8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69B6-9148-4400-A8F2-6EDA6AAC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88440"/>
            <a:ext cx="6172200" cy="85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5325-64D8-4CCB-A1AD-F802037F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40612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C7DF-E82D-4E60-AEED-6102F870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40612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7135-47BA-4F72-8B34-2BBE58D4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540160"/>
            <a:ext cx="3011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406120"/>
            <a:ext cx="617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809D-2484-44D3-B653-29598367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54016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BB54-EF85-43B9-90C4-B85E6AC6C4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14200" y="3738600"/>
            <a:ext cx="1800" cy="404640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42720" y="254016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8AC2-3390-483C-9EF4-66BF11CE7C1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884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456840"/>
            <a:ext cx="6172200" cy="807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010199"/>
                </a:solidFill>
                <a:latin typeface="Times New Roman"/>
              </a:rPr>
              <a:t>Ещё я узнала что водопроводна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10199"/>
                </a:solidFill>
                <a:latin typeface="Times New Roman"/>
              </a:rPr>
              <a:t>вода в нашем городе   с повышенно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10199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10199"/>
                </a:solidFill>
                <a:latin typeface="Times New Roman"/>
              </a:rPr>
              <a:t>жесткостью</a:t>
            </a:r>
            <a:r>
              <a:rPr b="0" lang="ru-RU" sz="14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10199"/>
                </a:solidFill>
                <a:latin typeface="Times New Roman"/>
              </a:rPr>
              <a:t>о чём свидетельству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10199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10199"/>
                </a:solidFill>
                <a:latin typeface="Times New Roman"/>
              </a:rPr>
              <a:t>накипь на посуде, плёнка на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10199"/>
                </a:solidFill>
                <a:latin typeface="Times New Roman"/>
              </a:rPr>
              <a:t>чае и коф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</a:rPr>
              <a:t>Жесткость воды</a:t>
            </a: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  - приводит к быстрому накоплению осадка в системе водоснабжения и на сантехнике, мешает работе бытовых приборов. Постоянное употребление внутрь воды с повышенной жесткостью приводит к накоплению солей в организме, и, в конечном итоге, к заболеванию суставов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Кроме того, общеизвестен тот факт, что вода в Тверской области бедна содержанием йода, недостаток которого в организме приводит к заболеваниям щитовидной желез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Вода также отвечает за зубы человека. От того сколько фтора содержится в воде зависит частота заболеваемости кариесо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Для улучшения ситуации в нашей школе, я предлагаю приобрести и установить кулеры в каждом классе . Пить водопроводную воду нельзя, обязательно её отстаивать и кипятить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99"/>
                </a:solidFill>
                <a:latin typeface="Times New Roman"/>
              </a:rPr>
              <a:t>С развитием промышленности, ростом заводов, фабрик, химических комбинатов во всем мире наблюдается загрязнение рек, озер, морей вредными веществами, отходами. Я узнала, что в нашем городе то же много промышленных предприятий. Чтобы не происходило загрязнение, на предприятиях необходимо строить очистные сооружения. Охрана чистоты воды – это очень важное и нужное дело. Человек,  как и все организмы, скоро может остаться без воды. А вода -  это жизнь. Но не только заводы и фабрики загрязняют воду. Это часто делаем и мы сами – простые люди. Часто летом мы выезжаем на речку, отдохнуть, и видим  оставленный мусор, не затушенный костер. Рядом моют машину в речке. И  сегодня  человечество  вынуждено  решать   проблему очистки воды уже  глобально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IMG_3330"/>
          <p:cNvPicPr/>
          <p:nvPr/>
        </p:nvPicPr>
        <p:blipFill>
          <a:blip r:embed="rId2"/>
          <a:stretch/>
        </p:blipFill>
        <p:spPr>
          <a:xfrm>
            <a:off x="380880" y="380880"/>
            <a:ext cx="3200400" cy="2133720"/>
          </a:xfrm>
          <a:prstGeom prst="rect">
            <a:avLst/>
          </a:prstGeom>
          <a:ln w="0">
            <a:noFill/>
          </a:ln>
        </p:spPr>
      </p:pic>
    </p:spTree>
  </p:cSld>
  <p:transition advTm="132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1760" y="228600"/>
            <a:ext cx="5715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10199"/>
                </a:solidFill>
                <a:latin typeface="Times New Roman"/>
              </a:rPr>
              <a:t>Без всякого преувеличения можно сказать, что высококачественная вода,  является одним из  условий сохранения здоровья люд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10199"/>
                </a:solidFill>
                <a:latin typeface="Times New Roman"/>
              </a:rPr>
              <a:t>22 марта отмечается Всемирный день воды. Он отмечается не потому, что на Земле  много воды, а потому, что она всё чаще требует защиты. Учёные говорят, что в 21-м веке будут вестись войны из-за воды. Сокращение пресной воды на Земле происходит из-за неправильного использования её человеком, роста населения, уничтожения лесов, загрязнения нашей планеты. Огромные нефтяные пятна на поверхности океанов, могут привести к гибели всего живого в ни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Рисунок 5" descr="воды.png"/>
          <p:cNvPicPr/>
          <p:nvPr/>
        </p:nvPicPr>
        <p:blipFill>
          <a:blip r:embed="rId2"/>
          <a:stretch/>
        </p:blipFill>
        <p:spPr>
          <a:xfrm>
            <a:off x="212760" y="450720"/>
            <a:ext cx="2225520" cy="50421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3"/>
          <p:cNvSpPr/>
          <p:nvPr/>
        </p:nvSpPr>
        <p:spPr>
          <a:xfrm>
            <a:off x="1523880" y="6477120"/>
            <a:ext cx="5105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Times New Roman"/>
              </a:rPr>
              <a:t>Я считаю, что проблему воды, экологию в целом нужно изучать и понимать с раннего детства. И когда мы станем взрослыми – это будет наша работа, наша жизн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010199"/>
                </a:solidFill>
                <a:latin typeface="Times New Roman"/>
              </a:rPr>
              <a:t>Чистая вода </a:t>
            </a:r>
            <a:r>
              <a:rPr b="0" lang="ru-RU" sz="2000" spc="-1" strike="noStrike">
                <a:solidFill>
                  <a:srgbClr val="010199"/>
                </a:solidFill>
                <a:latin typeface="Times New Roman"/>
              </a:rPr>
              <a:t>– это будущее нашей плане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3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88800"/>
            <a:ext cx="6172200" cy="425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Tahoma"/>
              </a:rPr>
              <a:t>Список литературы</a:t>
            </a:r>
            <a:br>
              <a:rPr sz="4400"/>
            </a:b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Вода К.С.Лосев</a:t>
            </a:r>
            <a:br>
              <a:rPr sz="1600"/>
            </a:b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Международные стандарты питьевой воды 2 изд.  С.Н. Черкинский.</a:t>
            </a:r>
            <a:br>
              <a:rPr sz="1600"/>
            </a:b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Проблема воды на земном шаре (пер с францз) 1965 Р. Фюрон</a:t>
            </a:r>
            <a:br>
              <a:rPr sz="1600"/>
            </a:b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Большая советская энциклопедия гл. редактор А.М.Прохоров.</a:t>
            </a:r>
            <a:br>
              <a:rPr sz="1600"/>
            </a:b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Интернет ресурсы</a:t>
            </a:r>
            <a:r>
              <a:rPr b="1" i="1" lang="ru-RU" sz="44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35-06_1"/>
          <p:cNvPicPr/>
          <p:nvPr/>
        </p:nvPicPr>
        <p:blipFill>
          <a:blip r:embed="rId2"/>
          <a:stretch/>
        </p:blipFill>
        <p:spPr>
          <a:xfrm>
            <a:off x="1047600" y="3724200"/>
            <a:ext cx="4561200" cy="95220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ья</cp:lastModifiedBy>
  <dcterms:modified xsi:type="dcterms:W3CDTF">2013-03-24T09:59:1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