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583863" cy="8499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799-A217-4B67-BDDE-40530C8F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480" y="502344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296-4A8C-46C9-9932-77288CBB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116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BC0-AACB-4DAC-9D9C-815502A6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012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848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012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E68-46DA-47AD-AC5A-4051346D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99630-3A49-4441-9891-1562B091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95C24-2782-425E-B4D8-EAE295C4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803B1-93E7-4001-A052-24E83458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567DC-B275-424E-A202-782AD275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F6F39-B965-42F0-AA35-3539B2B9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8480" y="361440"/>
            <a:ext cx="952848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F3335-ECB2-471C-88F3-76492873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A75CC-D7B7-4E4A-B31D-4FAD3030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B32-71A9-4B58-BB4B-87385C5D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1116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E0C7E-B9A0-4063-A6CC-59FF0AA4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83674-E325-4965-9C67-021EBBA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8480" y="502344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BB64A-0464-4899-9328-D7B3D24A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1116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4A44E-90F3-4A10-B757-30E7EA7A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5012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71760" y="236052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848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5012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71760" y="5023440"/>
            <a:ext cx="306792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1D28B-9975-4E4A-A52F-DA99E8F8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AE1-8273-4EDA-9B21-4FA5B86E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42B-3732-470B-817F-67B7DE19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C10-65ED-45FC-96C5-80AA4D40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8480" y="361440"/>
            <a:ext cx="952848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295-484B-410F-BEF3-B976D1A2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CA8-D649-4778-97B5-1BB78D6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1160" y="502344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521-3392-441C-93CA-C4CD48EF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1160" y="2360520"/>
            <a:ext cx="464976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480" y="5023440"/>
            <a:ext cx="9528480" cy="24314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8CF-AE47-4C77-9502-DB50096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marL="409680" indent="-409680">
              <a:spcBef>
                <a:spcPts val="9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884160" indent="-339480">
              <a:spcBef>
                <a:spcPts val="975"/>
              </a:spcBef>
              <a:buClr>
                <a:srgbClr val="ffffff"/>
              </a:buClr>
              <a:buFont typeface="Tahoma"/>
              <a:buChar char="–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2" marL="1362240" indent="-271800">
              <a:spcBef>
                <a:spcPts val="9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3" marL="1909800" indent="-274680">
              <a:spcBef>
                <a:spcPts val="975"/>
              </a:spcBef>
              <a:buClr>
                <a:srgbClr val="ffffff"/>
              </a:buClr>
              <a:buFont typeface="Tahoma"/>
              <a:buChar char="–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4" marL="2452680" indent="-272880">
              <a:spcBef>
                <a:spcPts val="975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5" marL="2452680" indent="-272880">
              <a:spcBef>
                <a:spcPts val="97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6" marL="2452680" indent="-272880">
              <a:spcBef>
                <a:spcPts val="975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8480" y="7737120"/>
            <a:ext cx="247176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16200" y="7737120"/>
            <a:ext cx="335304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85200" y="7737120"/>
            <a:ext cx="247176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 algn="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fld id="{32539AEE-D30A-4D9E-B4E9-AA25047131F6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3800" y="2472840"/>
            <a:ext cx="8997840" cy="1776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 anchorCtr="1">
            <a:noAutofit/>
          </a:bodyPr>
          <a:p>
            <a: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30120" y="3473280"/>
            <a:ext cx="1800" cy="376092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616200" y="7737120"/>
            <a:ext cx="335304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585200" y="7737120"/>
            <a:ext cx="247176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 algn="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fld id="{4984296C-BA54-4675-8837-F733C8C91CAF}" type="slidenum"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528480" y="7737120"/>
            <a:ext cx="2471760" cy="5922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>
            <a:noAutofit/>
          </a:bodyPr>
          <a:lstStyle>
            <a:lvl1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  <a:defRPr b="0" lang="en-US" sz="1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29200" y="1988640"/>
            <a:ext cx="95252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75"/>
              </a:spcBef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544680" indent="0" algn="ctr">
              <a:spcBef>
                <a:spcPts val="825"/>
              </a:spcBef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09044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35120" algn="ctr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79800" algn="ctr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1798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1798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3800" y="2472840"/>
            <a:ext cx="8997840" cy="1776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b" anchorCtr="1">
            <a:noAutofit/>
          </a:bodyPr>
          <a:p>
            <a:pPr indent="0" algn="ctr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87600" y="4812840"/>
            <a:ext cx="7410240" cy="217332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24160" y="3886200"/>
            <a:ext cx="59817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ень космонавтик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052720" y="720720"/>
            <a:ext cx="51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. Э. Циолковский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60720" y="2449440"/>
            <a:ext cx="30909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2160360"/>
            <a:ext cx="9528120" cy="50972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84360" y="792000"/>
            <a:ext cx="3657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кадемик Королё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76720" y="2808360"/>
            <a:ext cx="27637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089080"/>
            <a:ext cx="952812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16360" y="792000"/>
            <a:ext cx="28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. А. Гагари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89440" y="2449440"/>
            <a:ext cx="314928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Tahoma"/>
              </a:rPr>
              <a:t>Титов, Попович,  Николаев, Быковский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2720" y="3168720"/>
            <a:ext cx="1965240" cy="283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978280" y="2449440"/>
            <a:ext cx="2238120" cy="3167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508720" y="2881440"/>
            <a:ext cx="1809720" cy="268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597800" y="3024360"/>
            <a:ext cx="200016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2376360"/>
            <a:ext cx="952812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79640" y="1152360"/>
            <a:ext cx="430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шкова Валенти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989440" y="2376360"/>
            <a:ext cx="334296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r>
              <a:rPr b="0" lang="ru-RU" sz="5200" spc="-1" strike="noStrike">
                <a:solidFill>
                  <a:srgbClr val="ffffff"/>
                </a:solidFill>
                <a:latin typeface="Tahoma"/>
              </a:rPr>
              <a:t>Комаров,Добровольский, Пацаев, Волков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89080" y="2881440"/>
            <a:ext cx="1690560" cy="2112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132000" y="2808360"/>
            <a:ext cx="1508400" cy="1966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508720" y="2952720"/>
            <a:ext cx="1695240" cy="2543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8101080" y="4608360"/>
            <a:ext cx="172404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8480" y="361440"/>
            <a:ext cx="9528480" cy="171468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ctr">
            <a:noAutofit/>
          </a:bodyPr>
          <a:p>
            <a:pPr indent="0">
              <a:buNone/>
              <a:tabLst>
                <a:tab algn="l" pos="0"/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8480" y="2360520"/>
            <a:ext cx="9528480" cy="509760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090440"/>
                <a:tab algn="l" pos="2181240"/>
                <a:tab algn="l" pos="3271680"/>
                <a:tab algn="l" pos="4362480"/>
                <a:tab algn="l" pos="5452920"/>
                <a:tab algn="l" pos="6543720"/>
                <a:tab algn="l" pos="7634160"/>
                <a:tab algn="l" pos="8724960"/>
                <a:tab algn="l" pos="9815400"/>
                <a:tab algn="l" pos="10906200"/>
              </a:tabLst>
            </a:pP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3:07:29Z</dcterms:created>
  <dc:creator>user</dc:creator>
  <dc:description/>
  <dc:language>en-US</dc:language>
  <cp:lastModifiedBy>user</cp:lastModifiedBy>
  <dcterms:modified xsi:type="dcterms:W3CDTF">2013-03-24T15:44:52Z</dcterms:modified>
  <cp:revision>23</cp:revision>
  <dc:subject/>
  <dc:title>День космонавтики</dc:title>
</cp:coreProperties>
</file>