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583863" cy="8499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C7B-79CE-4895-A0F4-1C78F892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480" y="502344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348-7C82-4FB4-91AF-FCDC70DB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116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E47-A6B3-4D85-8078-69B5F1F9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12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848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12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41F-3B3B-4050-BB54-6C979FD4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D533A-7923-4D2A-90D0-6B7704DF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80FC9-3430-4F64-AFFC-C791D1AD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DB4E3-B12E-4D88-A389-9E88379A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8F7CC-729B-48AC-A985-074E8854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ADDD1-5F8C-47A1-9064-86A0DE5C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8480" y="361440"/>
            <a:ext cx="952848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A8FE0-5C77-4302-A806-28834AF5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77B80-06EE-4A90-82C2-8754F3A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080-065D-42B5-A233-68392AC9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1116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FE7D4-5C4A-433B-AFD0-E5D1CEB2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2F118-2A94-46ED-BE2E-AEE61508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8480" y="502344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240B5-1271-43F3-9A5D-7E99640F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1116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23456-157D-489F-9907-DCD7D94D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5012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848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5012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3100C-0044-48B8-8130-5BE3A352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D81-CE98-45C0-B058-2E6E8303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F6D-D95D-474A-A2BB-AE12138A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226-2C03-4200-B487-FFC034E9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8480" y="361440"/>
            <a:ext cx="952848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D9A-8F29-440D-BB0A-BCC9FD7C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AAF-9184-4697-B469-0D4943EC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116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F44-4E8B-4AE1-B51D-A3B20631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C6F-C9B2-41E4-B54A-FB29F2CA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marL="409680" indent="-409680">
              <a:spcBef>
                <a:spcPts val="9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884160" indent="-339480">
              <a:spcBef>
                <a:spcPts val="975"/>
              </a:spcBef>
              <a:buClr>
                <a:srgbClr val="ffffff"/>
              </a:buClr>
              <a:buFont typeface="Tahoma"/>
              <a:buChar char="–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2" marL="1362240" indent="-271800">
              <a:spcBef>
                <a:spcPts val="9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3" marL="1909800" indent="-274680">
              <a:spcBef>
                <a:spcPts val="975"/>
              </a:spcBef>
              <a:buClr>
                <a:srgbClr val="ffffff"/>
              </a:buClr>
              <a:buFont typeface="Tahoma"/>
              <a:buChar char="–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4" marL="2452680" indent="-27288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5" marL="2452680" indent="-272880">
              <a:spcBef>
                <a:spcPts val="97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6" marL="2452680" indent="-272880">
              <a:spcBef>
                <a:spcPts val="97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8480" y="7737120"/>
            <a:ext cx="247176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16200" y="7737120"/>
            <a:ext cx="335304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85200" y="7737120"/>
            <a:ext cx="247176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 algn="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fld id="{EA052F4C-BD8C-4CDA-B25C-20215B4F0EE7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3800" y="2472840"/>
            <a:ext cx="8997840" cy="1776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 anchorCtr="1">
            <a:noAutofit/>
          </a:bodyPr>
          <a:p>
            <a: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30120" y="3473280"/>
            <a:ext cx="1800" cy="376092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616200" y="7737120"/>
            <a:ext cx="335304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585200" y="7737120"/>
            <a:ext cx="247176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 algn="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fld id="{520B1F48-B9C6-4731-B694-B28D8065E589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528480" y="7737120"/>
            <a:ext cx="247176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29200" y="1988640"/>
            <a:ext cx="95252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75"/>
              </a:spcBef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544680" indent="0" algn="ctr">
              <a:spcBef>
                <a:spcPts val="825"/>
              </a:spcBef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09044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35120" algn="ctr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9800" algn="ctr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1798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1798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3800" y="2472840"/>
            <a:ext cx="8997840" cy="1776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 anchorCtr="1">
            <a:noAutofit/>
          </a:bodyPr>
          <a:p>
            <a: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87600" y="4812840"/>
            <a:ext cx="7410240" cy="217332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24160" y="3886200"/>
            <a:ext cx="59817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нь космонавтик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052720" y="720720"/>
            <a:ext cx="51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. Э. Циолковский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60720" y="2449440"/>
            <a:ext cx="30909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2160360"/>
            <a:ext cx="9528120" cy="50972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84360" y="792000"/>
            <a:ext cx="3657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кадемик Королё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76720" y="2808360"/>
            <a:ext cx="27637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089080"/>
            <a:ext cx="952812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16360" y="792000"/>
            <a:ext cx="28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. А. Гагари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9440" y="2449440"/>
            <a:ext cx="31492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ahoma"/>
              </a:rPr>
              <a:t>Титов, Попович,  Николаев, Быковский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2720" y="3168720"/>
            <a:ext cx="1965240" cy="283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978280" y="2449440"/>
            <a:ext cx="2238120" cy="316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508720" y="2881440"/>
            <a:ext cx="1809720" cy="268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597800" y="3024360"/>
            <a:ext cx="200016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2376360"/>
            <a:ext cx="952812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79640" y="1152360"/>
            <a:ext cx="430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шкова Валенти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989440" y="2376360"/>
            <a:ext cx="334296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ru-RU" sz="5200" spc="-1" strike="noStrike">
                <a:solidFill>
                  <a:srgbClr val="ffffff"/>
                </a:solidFill>
                <a:latin typeface="Tahoma"/>
              </a:rPr>
              <a:t>Комаров,Добровольский, Пацаев, Волков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89080" y="2881440"/>
            <a:ext cx="1690560" cy="2112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132000" y="2808360"/>
            <a:ext cx="1508400" cy="1966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508720" y="2952720"/>
            <a:ext cx="1695240" cy="2543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8101080" y="4608360"/>
            <a:ext cx="172404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3:07:29Z</dcterms:created>
  <dc:creator>user</dc:creator>
  <dc:description/>
  <dc:language>en-US</dc:language>
  <cp:lastModifiedBy>user</cp:lastModifiedBy>
  <dcterms:modified xsi:type="dcterms:W3CDTF">2013-03-24T15:44:52Z</dcterms:modified>
  <cp:revision>23</cp:revision>
  <dc:subject/>
  <dc:title>День космонавтики</dc:title>
</cp:coreProperties>
</file>