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90A0-D577-413E-B509-FDF18910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BE29-5E05-488B-9BDD-C374D3A6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BE17-D691-4C6D-B605-10536760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016C-D06D-4544-9C8F-1E0779AD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CECF4-978C-4DFC-84CD-ABCAF608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17CB5-EC31-48DB-82A1-18CDED95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205BF-4D54-42CB-AEDE-EECAE308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F7FC5-FD9E-4F23-8105-F5DD3359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8B5FF-B967-4889-85D9-EFA79295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03749-604B-4A89-ACB2-41251C05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5C0AA-A66D-4E9E-B0D3-44AF7433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7E2E-D575-4356-8288-C71AA95D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E3D10-1C0E-47A5-82A4-C2E04DE8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F2178-A2C7-46C6-9EB2-B85227F9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DCBF3-E4DB-40C3-A74D-0BDA2746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E99FC-E5DB-4F42-AAE6-90CF67CC8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52A94-04DC-459F-9758-EB2506B6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8E56-0FD7-4C7D-A0B3-20746F26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19C-8A98-4F1C-9453-6C11D95D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ADF7-FB42-433B-A22E-9CF4686B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083C-2229-461C-BF50-1CC543F1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BD70-9B32-4F46-A0A3-B352F2E9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2C7F-EFB9-4412-9B4D-F8E97C0D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5149-DC41-4396-BB13-52F780F9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AB0B-1E4E-4B3D-AB08-E0B6E2E93E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E2F7-CB2D-4BC8-B805-EA69DA03AE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ереутомление - одна из причин плохого поведения детей в детском саду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Ещё среди причин переутомления наиболее частые – это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резмерная нагрузка на нервную систему (стабильное посещение дошкольного учреждения, где ребёнку предоставляются обязательные требования, постоянное нахождение ребёнка, где  множество народу и т.д.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рушение суточного режима (пропущенный дневной сон, например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достаточное пребывание на свежем воздух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лишком жарко и душно в помещени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шум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обходимость долго ждать (очередь в поликлинике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лохое освещение и т.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начала ребенок устает, потом утомляется (проявляются вышеперечисленные признаки), а затем следует переутомление – это уже болезненное состояние, требующее психолого-педагогической иногда даже медицинской помощи, могущее привести к проблемам развития ( страхи, нервность, болезненность, тревожность, стойкое нарушение аппетита и т.д.)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Поэтому необходимо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уделять особое внимание  этому состоян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онечно, каждый родитель, по-своему  стремится, чтобы ребенок вырос веселым и активным, самостоятельным и доброжелательным, помогающим и любознательным, инициативным и уверенным в себе, открытым и сопереживающим, — то есть прежде всего психологически здоровым. </a:t>
            </a:r>
            <a:br>
              <a:rPr sz="3200"/>
            </a:b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Если вы действительно этого хотите, тогда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екомендации для родителей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бы избежать утомления, переутомления, придерживайтесь следующих правил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тественно необходимо следить за состоянием своего ребёнка, реагировать на его жалобы, учитывать его настроени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довлетворяйте потребность ребенка в движении, в общении, познании нового (посещайте детские центры, театр, цирк, ходите в гости, гуляйте, но при этом учитывайте индивидуальные особенности ребёнка, чтобы всё было в норму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блюдайте режи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н помогает восстановить силы, поэтому желательно сохранять дневной сон в выходные дн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еспечьте побольше витаминов для своего ребёнк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аще гуляйте, особенно в хорошую погоду. Свежий воздух всегда положительно влияет на живой организ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аще проветривайте комнаты, где ребенок спит, играет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едлагайте новые игрушки, игры. Играйте вместе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ередуйте спокойные и активные занят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озируйте просмотр телевизора, видео, компьютерные игры. От этих занятий будет польза, если ребенок не занят ими постоянно, а чередует их с подвижными играм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обходимо обеспечить малышу своевременный отдых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096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чень важным является - совместный отдых в летнее время. Все мы работаем, целый год. К концу года, мы не только утомлены рабочей рутиной, но и истощены, как морально, так и физически и очень ждём недождёмся отпуска, когда мы можем отдохнуть, заняться своими делами, и, наконец, уделить должное внимание своему ребёнку, которое так ему необходимо.  Ребёнок, так же, как и взрослый тоже утомляется и  устаёт. И от детского коллектива, и от требований которые предоставляются в дошкольном учреждении. Поэтому ребёнку необходимо обеспечить  на некоторое время смену деятельности. А это возможно только во время вашего отпуска. Стремитесь к большему разнообразию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это время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и будьте хорошим примером для нег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ольшое спасибо за вним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елаем всем здоровья и эмоционального благополучия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"Почему ребенок начинает плохо себя вести?"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ариантов ответа несколько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и возрастные кризис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перенесенная или начинающаяся болезнь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резкая смена стиля воспитания, сильный стресс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о чаще причина изменения поведения ребенка проста - это усталость, утомление, переутомление 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А что же это такое утомление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томление - это физиологическое состояние, которое может наступить в результате чрезмерно длительной или однообразной деятельности, превышающей работоспособность нервной системы ребен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Об отсутствии утомления и переутомления у ребенка говорит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лубокий сон, хороший аппетит, бодрое, жизнерадостное настроение, активное поведение. Либо сохранение черт, присущих ребенку в спокойном, бодром состоянии ( особенности засыпания, аппетита, поведения, присущие именно данному ребёнку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ортрет психологически здорового ребенка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селы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тивны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амостоятельный и доброжелательны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могающий и любознательны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нициативный и уверенный в себе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крытый и сопереживающий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сли ребенок часто утомляется, ослабевает его иммунитет, изменяются  психические реакции и, как следствие,  у него пассивное настроение и подавленный вид. Для избежания переутомления необходимо соблюдать режим, но не тот, который описан в книгах, а режим, подходящий именно для Вашего ребенка. Чтобы выработать такой "личностно-ориентированный" режим, нужно уметь прислушиваться к своему ребенку, вовремя замечать признаки усталости, голода, грусти и т.д. Внимательным родителям сделать это несложно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изнаки утомления, усталости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гут у всех проявляться по-разному, но вот некоторые из них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подавленное настрое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медлительность в  движениях, вялость, безучастность, печаль в глазах, порой зево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трудности с засыпание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некое беспокойство или же  капризы в поведении, иногда беспричинный плач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нарушения  в координации движений, особенно рук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возникающие несвойственные ребенку агрессивные действия: разбрасывает или отбирает игрушки, кричит, падает на пол и т.д.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может возникнуть чрезмерная активность, несвойственная ребенку: бесцельно бегает, прыгает, толкае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096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еобходимо отметить, что у каждого ребенка есть и свои, индивидуальные признаки переутомления, усталости. Ребенок может сесть в уголок, смотреть "в себя"; появляются круги под глазами; некоторые  дети начинают слишком эмоционально целоваться и обниматься с близкими людьми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4-27T08:41:1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