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824-BE3C-445A-88F0-4B03240A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03F-4C44-4A25-B76B-BEA842C6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779-13DF-4E65-AC1E-F63B3A8C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C4C-18DF-49D3-BF8B-C1240BD6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5963B-359D-47A1-AAE4-5DE3CEAE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6896E-C925-483E-ADF6-A4BC19BD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A874B-987A-46D5-AFE7-4FAD17FA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34516-2E65-4F0E-AABA-ADE016FA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19B4D-ED74-4668-99CE-1AFE6417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99F09-2CA5-4990-A2A3-715518AA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58C1F-5E03-43B2-9549-06994469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7B5-6908-4C76-A76C-1D994944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E0418-EB27-4B84-9D63-540ED199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FB7AA-C092-47BB-B854-8C9DC47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C5CFB-C129-4328-B074-C0AC4B4B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93E8E-0617-4C32-9440-AEB50A24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000C9-E05B-4AD9-9801-E621F46C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1B4-ABFF-47EE-ACEB-A89E5EF2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719-4E2B-4517-8651-6C92B7D6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720-96FA-4AF4-BC8F-B4C2F956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0E5-D083-4600-A339-E65D8BDB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0F6-9830-4529-95C6-6F55E701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7C6-787F-490A-B648-06030D21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CED-5DEB-4922-A066-CC8FAB40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40C2-9D15-4DBF-86AB-6497B567F1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F759-CCAC-41EA-8F44-D751ACCB45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ереутомление - одна из причин плохого поведения детей в детском саду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Ещё среди причин переутомления наиболее частые – это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резмерная нагрузка на нервную систему (стабильное посещение дошкольного учреждения, где ребёнку предоставляются обязательные требования, постоянное нахождение ребёнка, где  множество народу и т.д.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рушение суточного режима (пропущенный дневной сон, например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достаточное пребывание на свежем воздух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ишком жарко и душно в помещени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у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обходимость долго ждать (очередь в поликлинике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лохое освещение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ачала ребенок устает, потом утомляется (проявляются вышеперечисленные признаки), а затем следует переутомление – это уже болезненное состояние, требующее психолого-педагогической иногда даже медицинской помощи, могущее привести к проблемам развития ( страхи, нервность, болезненность, тревожность, стойкое нарушение аппетита и т.д.)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Поэтому необходимо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уделять особое внимание  этому состоя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нечно, каждый родитель, по-своему  стремится, чтобы ребенок вырос веселым и активным, самостоятельным и доброжелательным, помогающим и любознательным, инициативным и уверенным в себе, открытым и сопереживающим, — то есть прежде всего психологически здоровым. </a:t>
            </a:r>
            <a:br>
              <a:rPr sz="3200"/>
            </a:b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Если вы действительно этого хотите, тогда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екомендации для родителе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избежать утомления, переутомления, придерживайтесь следующих правил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тественно необходимо следить за состоянием своего ребёнка, реагировать на его жалобы, учитывать его настрое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довлетворяйте потребность ребенка в движении, в общении, познании нового (посещайте детские центры, театр, цирк, ходите в гости, гуляйте, но при этом учитывайте индивидуальные особенности ребёнка, чтобы всё было в норму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блюдайте режи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н помогает восстановить силы, поэтому желательно сохранять дневной сон в выходные дн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еспечьте побольше витаминов для своего ребёнк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аще гуляйте, особенно в хорошую погоду. Свежий воздух всегда положительно влияет на живой организ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аще проветривайте комнаты, где ребенок спит, играе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лагайте новые игрушки, игры. Играйте вмес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редуйте спокойные и активные занят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зируйте просмотр телевизора, видео, компьютерные игры. От этих занятий будет польза, если ребенок не занят ими постоянно, а чередует их с подвижными игр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обходимо обеспечить малышу своевременный отдых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чень важным является - совместный отдых в летнее время. Все мы работаем, целый год. К концу года, мы не только утомлены рабочей рутиной, но и истощены, как морально, так и физически и очень ждём недождёмся отпуска, когда мы можем отдохнуть, заняться своими делами, и, наконец, уделить должное внимание своему ребёнку, которое так ему необходимо.  Ребёнок, так же, как и взрослый тоже утомляется и  устаёт. И от детского коллектива, и от требований которые предоставляются в дошкольном учреждении. Поэтому ребёнку необходимо обеспечить  на некоторое время смену деятельности. А это возможно только во время вашего отпуска. Стремитесь к большему разнообразию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это время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и будьте хорошим примером для нег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ольшое 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елаем всем здоровья и эмоционального благополуч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Почему ребенок начинает плохо себя вести?"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ариантов ответа несколько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и возрастные кризис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перенесенная или начинающаяся болезн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резкая смена стиля воспитания, сильный стрес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 чаще причина изменения поведения ребенка проста - это усталость, утомление, переутомление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А что же это такое утомление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томление - это физиологическое состояние, которое может наступить в результате чрезмерно длительной или однообразной деятельности, превышающей работоспособность нервной системы ребе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б отсутствии утомления и переутомления у ребенка говори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убокий сон, хороший аппетит, бодрое, жизнерадостное настроение, активное поведение. Либо сохранение черт, присущих ребенку в спокойном, бодром состоянии ( особенности засыпания, аппетита, поведения, присущие именно данному ребёнку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ртрет психологически здорового ребенк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ел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ый и доброжелат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гающий и любознат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ициативный и уверенный в себ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рытый и сопереживающи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ребенок часто утомляется, ослабевает его иммунитет, изменяются  психические реакции и, как следствие,  у него пассивное настроение и подавленный вид. Для избежания переутомления необходимо соблюдать режим, но не тот, который описан в книгах, а режим, подходящий именно для Вашего ребенка. Чтобы выработать такой "личностно-ориентированный" режим, нужно уметь прислушиваться к своему ребенку, вовремя замечать признаки усталости, голода, грусти и т.д. Внимательным родителям сделать это несложно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изнаки утомления, усталости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гут у всех проявляться по-разному, но вот некоторые из них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подавленное настро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медлительность в  движениях, вялость, безучастность, печаль в глазах, порой зево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трудности с засыпани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екое беспокойство или же  капризы в поведении, иногда беспричинный плач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арушения  в координации движений, особенно ру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возникающие несвойственные ребенку агрессивные действия: разбрасывает или отбирает игрушки, кричит, падает на пол и т.д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может возникнуть чрезмерная активность, несвойственная ребенку: бесцельно бегает, прыгает, толк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обходимо отметить, что у каждого ребенка есть и свои, индивидуальные признаки переутомления, усталости. Ребенок может сесть в уголок, смотреть "в себя"; появляются круги под глазами; некоторые  дети начинают слишком эмоционально целоваться и обниматься с близкими людьми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27T08:41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