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3A8-643F-45F9-B476-D1A4632F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565-0AB6-49FF-A955-288A6579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87C-774F-40CE-BACD-A993CA6F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8C5-C55D-40E1-A0F2-F6E6B0CB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50AA-AE0D-43C3-A0A9-726690D4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BDC3-1276-4B69-8CB8-A9BC21F2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282F-92E7-4B86-8A52-25F6666F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14A0-0E7D-4932-94B5-EE850796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2A72-74E0-4D31-8665-AEB8E672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753D-22BB-4333-BFC0-DB423157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812B-B18E-4E93-B5D1-4A1F61AD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BE5-72D6-4B65-B41A-00F017BB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7D24-92AB-43F0-B547-25EEAB4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8345-0126-418F-91E2-B65046B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93A6-FB2C-4928-BDA6-DFCD3BC4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16ED-F83A-485D-BC3F-4AFC0529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3F21-F368-47BC-9960-D49E8EA3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D8D-2033-4E88-A28B-2926503C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12D-95C9-4867-8E1B-EFC5137B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C0E-2BCB-44ED-84BB-DE488BE2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B45-8BBE-421A-AB20-AAF2A982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76D-8F55-41C8-AD04-CCBFEFC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382-CD19-4B62-8411-BDB8E9D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27F-E7BA-4842-83C8-0125099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4793-8EB7-48D9-8FAC-A7D715D38B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EFEA-7A0C-4BAC-91AB-8BA579E7E1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«Макуловская СОШ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еуслонского района 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я А1 – А7, В1 – В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елкина Татья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6 В каком слове правописание приставки определяется её значением – «не до конца совершённое действие»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) прислушиваясь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) превозмочь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) прижался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) прилеч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52578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7 В каком слове правописание НН определяется правилом правописания суффиксов отымённых прилага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) накопанного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) раздавленных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) защемлённую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) ос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52578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асть "B"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адания B1–B9 выполните на основе прочитанного текста. Ответы на задания В1–В9 записывайте словами или циф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1 Замените разговорное слово «забрёл» в предложении 24 стилистически нейтральным синонимом. Напишите это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24)По пути он забрёл в открытый подъезд одного из домов, и только потому, что надо было обязательно прилечь, хотя бы на короткое время, - настолько он стал сла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867280"/>
            <a:ext cx="18288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Ш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2  Замените словосочетание   «решительно встал» (предложение 14), построенное на основе примыкания, синонимичным словосочетанием со связью управление. Напишите получившееся словосоч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4) Вдруг он решительно встал, попятился от накопанного им холмика и, забыв о боли, взмахнул всем телом, как тряпкой, подскочил на холмике на обе задние ноги и упал на самый край канавы, в то углубление, что отрыл сам же, спуская вниз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715000"/>
            <a:ext cx="44197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ал с реши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3 Выпишите грамматическую основу предложения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29)Не обижайте такую собаку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257800"/>
            <a:ext cx="2514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обиж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4 Среди предложений 25-28 найдите предложение с однородными членами. Напишите номер этого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25) Ложиться прямо на улице нельзя - погибнешь (он видел не раз собак, раздавленных автомобилем). (26)Да и холодно на асфальте. (27)А там, в подъезде, он прижался к тёплому радиатору и усну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28)В чужом подъезде глубокой ночью спит чужая собак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54864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5   В приведённом ниже предложении из прочитанного текста пронумерованы все запятые. Выпишите цифры, обозначающие запятые при сравнительном оборо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друг он решительно встал, (1) попятился от накопанного им холмика и, (2) забыв о боли, (3) взмахнул всем телом, (4) как тряпкой, (5) подскочил на холмике на обе задние ноги и упал на самый край канавы, (6) в то углубление, (7) что отрыл сам же, (8) спуская вниз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56386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7631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6   Укажите количество грамматических основ в предложении 7. Ответ запишите циф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7) В одном месте он обнаружил небольшую осыпь, стал на неё, приподнялся на заднюю лапу - теперь передние достали до отвала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50292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7    В приведённых ниже предложениях из прочитанного текста пронумерованы все запятые. Выпишите цифру, обозначающую запятую между частями сложноподчинённого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, (1) например, (2) волк отгрызает себе лапу, (3) защемлённую капканом? Никто не скажет, (4) как это возможно - своими же зубами перегрызть свою же н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51814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асть 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чтите текст и выполните задания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1—А7 и B1—B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)Тёмной осенней холодной ночью сидит в канаве собака. (2)И никому на свете не помочь ей сейчас. (3)А ей надо, очень надо идти к своей двери. (4)Бим попробовал подпрыгнуть, но упал. (5)Куда там! (6)И пошёл обратно по своему же следу, тихо, осторожно, прислушиваясь и в то же время нет-нет да и ощупывая стены. (7)В одном месте он обнаружил небольшую осыпь, стал на неё, приподнялся на заднюю лапу - теперь передние достали до отвала. (8) И Бим начал грести землю сверху вниз, под себя; чем больше он работал, тем выше становилась осыпь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м отдыхал и работал вновь. (10)Наконец-то он смог опереться грудью о край канавы, но зато землю с отвала достать уже не мог. (11)Тогда он спустился вниз по своей горочке, полежал. (12)Так захотелось завыть, позвать хозяина или Толика, завыть дико, на весь город! (13)Но Бим обязан молчать - ведь он спутал след и притаился. (14)Вдруг он решительно встал, попятился от накопанного им холмика и, забыв о боли, взмахнул всем телом, как тряпкой, подскочил на холмике на обе задние ноги и упал на самый край канавы, в то углубление, что отрыл сам же, спуская вниз землю. (15)Как он смог превозмочь неимоверную боль и немощь? (16)Кто ж его знае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8 Среди предложений 4-8 найдите сложное бессоюзное предложение. Напишите номер эт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4)Бим попробовал подпрыгнуть, но упал. (5)Куда там! (6)И пошёл обратно по своему же следу, тихо, осторожно, прислушиваясь и в то же время нет-нет да и ощупывая стены. (7)В одном месте он обнаружил небольшую осыпь, стал на неё, приподнялся на заднюю лапу - теперь передние достали до от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8) И Бим начал грести землю сверху вниз, под себя; чем больше он работал, тем выше становилась осыпь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7150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9  Среди предложений 17-19 найдите сложное предложение с разными видами связи: сочинительной и подчинительной. Напишите номер эт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17)Как, например, волк отгрызает себе лапу, защемлённую капканом? (18)Никто не скажет, как это возможно - своими же зубами перегрызть свою же ногу. (19)Можно ведь только предполагать, что волк делает это из инстинктивного стремления к свободе, а Бим забыл самого себя из-за неудержимого стремления к двери доброты и доверия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57913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Использованная литерату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ttp://www.saharina.ru/gia/test.php?name=gia13.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7)Как, например, волк отгрызает себе лапу, защемлённую капканом? (18)Никто не скажет, как это возможно - своими же зубами перегрызть свою же ногу. (19)Можно ведь только предполагать, что волк делает это из инстинктивного стремления к свободе, а Бим забыл самого себя из-за неудержимого стремления к двери доброты и доверия. (20)Как бы там ни было, а Бим выбрался из западни и лежал в той ямке навер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21)Ночь была холодная. (22)Город спал, каменно-железный, потихоньку скрежещущий даже ночью, и Бим долго ещё слушал и слушал. (23)Продрогнув, он всё-таки пошёл. (24)По пути он забрёл в открытый подъезд одного из домов, и только потому, что надо было обязательно прилечь, хотя бы на короткое время, - настолько он стал слаб. (25)Ложиться прямо на улице нельзя - погибнешь (он видел не раз собак, раздавленных автомобилем). (26)Да и холодно на асфальте. (27)А там, в подъезде, он прижался к тёплому радиатору и усн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28)В чужом подъезде глубокой ночью спит чужая собака. (29)Не обижайте такую соба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о Г.Троепольско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дания A1–A7 выполните на основе анализа содержания прочитанного текста. К каждому заданию А1–А7 даны 4 варианта ответа, из которых только один прави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1В каком фрагменте текста содержится информация, необходимая для обоснования ответа на вопрос: «Почему Бим стремится выбраться из западн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8) И Бим начал грести землю сверху вниз, под себя; чем больше он работал, тем выше становилась осып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 (12)Так захотелось завыть, позвать хозяина или Толика, завыть дико, на весь город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 (19)Можно ведь только предполагать, что волк делает это из инстинктивного стремления к свободе, а Бим забыл самого себя из-за неудержимого стремления к двери доброты и дов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 (27)А там, в подъезде, он прижался к тёплому радиатору и ус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7320" y="54100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2 Укажите, в каком значении употребляется слово «дико» (предложение 12)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ак захотелось завыть, позвать хозяина или Толика, завыть дико, на весь г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испуганно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сильно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нелепо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стр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52578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3 Укажите предложение, в котором средством выразительности речи является мета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) (6)И пошёл обратно по своему же следу, тихо, осторожно, прислушиваясь и в то же время нет-нет да и ощупывая ст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) (13)Но Бим обязан молчать - ведь он спутал след и притаи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) (19)Можно ведь только предполагать, что волк делает это из инстинктивного стремления к свободе, а Бим забыл самого себя из-за неудержимого стремления к двери доброты и довер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) (28)В чужом подъезде глубокой ночью спит чужая со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6386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4 Укажите верное суждение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)  В слове ПОДЪЕЗДЕ (предложение 28) все согласные звуки твёрд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  В слове ПРИСЛУШИВАЯСЬ (предложение 6) звуков меньше, чем бук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)  В слове ОТГРЫЗАЕТ (предложение 17) второй звук – [д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)  В слове НОЧЬЮ (предложение 28) Ь (мягкий знак) обозначает мягкость согласного [ч’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55627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5 Укажите слово с чередующейся гласной в корне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) опереться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) обижайте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) стремления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) обнару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54864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9T11:55:0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