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D25-D1E9-444C-9BFD-FAC41CD6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716-9319-4A26-B12F-3380B3D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F53-D4AF-46CF-A3C9-21894DC4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9B0-8C59-480D-A8EC-2CA32806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16C6-F7B5-433A-AF26-342D0E0F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B6C1-2959-4134-A17D-2F4F8E93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D82-6433-48CA-ABAE-71192E7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BE3C-720A-4ED8-8883-E0275F9C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563-AF45-469C-BAAD-53EA4F9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C772-DE49-4CB2-ABFC-EE998E70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CE00-2B6B-4BB2-8554-5FBB0D7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801-9B94-4DA2-8688-0AEA466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1F5E-E21A-423F-84DE-7084278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1CD7-0F92-44A2-A596-06E799CD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1675-A652-442A-AB4F-E991846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23FD-1E8E-4644-A1FA-E59CB040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E63-C647-414E-B666-FFA0FE56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A5D-F29F-4A67-8BD8-D1AED1E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873-4BA0-4EC3-A1A8-29E1B67E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3BC-D68D-4A9A-B891-0A001D3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A25-653C-4FE5-B0AA-F436706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6FF-4E0E-426F-9259-1C89F4C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58F-22F8-4143-9CEE-22CDB18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561-27CC-4F96-944A-7BF2A32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D0EB01-ED11-4001-9C1F-4E46A46E9A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538EB2-30C3-441A-86B0-F9687D33C04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Города России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793760" y="4869000"/>
            <a:ext cx="407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новская Надежда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лицей № 53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Герб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3194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190476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2205000"/>
            <a:ext cx="161928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1844640"/>
            <a:ext cx="2303640" cy="140004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4724280"/>
            <a:ext cx="2303640" cy="154332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80000">
            <a:off x="5003280" y="1842840"/>
            <a:ext cx="2097360" cy="154944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кий Новгор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628640"/>
            <a:ext cx="2743200" cy="183852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40000">
            <a:off x="4789440" y="1626840"/>
            <a:ext cx="2455920" cy="183816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508640"/>
            <a:ext cx="2743200" cy="183816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кой памятник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35328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88000" y="184464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84464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342900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42900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01336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5013360"/>
            <a:ext cx="3168720" cy="1584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вятые покровители                    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239920" cy="3068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2766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42920" y="1844640"/>
            <a:ext cx="2305080" cy="3097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1916280"/>
            <a:ext cx="2448000" cy="28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50208" descr=""/>
          <p:cNvPicPr/>
          <p:nvPr/>
        </p:nvPicPr>
        <p:blipFill>
          <a:blip r:embed=""/>
          <a:stretch/>
        </p:blipFill>
        <p:spPr>
          <a:xfrm>
            <a:off x="3959280" y="4319640"/>
            <a:ext cx="1886040" cy="2425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600360" y="4140360"/>
            <a:ext cx="2700360" cy="2636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кт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ербу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йди памятник     «Медный всадник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2023920"/>
            <a:ext cx="3600720" cy="2703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03640" y="4078440"/>
            <a:ext cx="3924360" cy="2779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0072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5157720"/>
            <a:ext cx="2395440" cy="1143000"/>
          </a:xfrm>
          <a:prstGeom prst="horizont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те ещ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2" dur="indefinite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dur="indefinite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" dur="indefinite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 каком городе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2579760" cy="28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232080" cy="2347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2781360"/>
            <a:ext cx="1562040" cy="936720"/>
          </a:xfrm>
          <a:prstGeom prst="wedgeEllipseCallout">
            <a:avLst>
              <a:gd name="adj1" fmla="val -61384"/>
              <a:gd name="adj2" fmla="val 73726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3560000">
            <a:off x="3477960" y="4749120"/>
            <a:ext cx="1400040" cy="1514520"/>
          </a:xfrm>
          <a:prstGeom prst="wedgeEllipseCallout">
            <a:avLst>
              <a:gd name="adj1" fmla="val -96342"/>
              <a:gd name="adj2" fmla="val 27453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04920" y="3016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9800" y="5084640"/>
            <a:ext cx="16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5" dur="indefinite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dur="indefinite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2" dur="indefinite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385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8000" spc="-1" strike="noStrike">
                <a:solidFill>
                  <a:srgbClr val="ff3300"/>
                </a:solidFill>
                <a:latin typeface="Arial Black"/>
              </a:rPr>
              <a:t>Спасибо!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419640" cy="2276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3:08:34Z</dcterms:created>
  <dc:creator>кро308</dc:creator>
  <dc:description/>
  <dc:language>en-US</dc:language>
  <cp:lastModifiedBy>кро308</cp:lastModifiedBy>
  <dcterms:modified xsi:type="dcterms:W3CDTF">2012-10-31T14:39:40Z</dcterms:modified>
  <cp:revision>2</cp:revision>
  <dc:subject/>
  <dc:title>Города России</dc:title>
</cp:coreProperties>
</file>