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55B-751E-4BE0-BADD-A993BC85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10E-848C-4511-AD00-BC29DD64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F88-E6E2-4B29-8AD9-B62532FC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40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40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EE1F-2954-4B3D-BEA2-3CA167F8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D543-75FC-4236-A117-3789915B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1590-18F6-40E7-92ED-4730F086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BB52-3687-4151-9B80-0CE10D4B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E2C7-21CC-49FE-9904-E62205B6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7336-0522-4F55-891C-2B11717F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-92520"/>
            <a:ext cx="8383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A9F3-AC8A-4688-8A6B-CFB6406E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AC2A-A337-4650-8CE8-2DEA76DD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D23-5429-4AB8-A1BB-1F17684C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965A-91B6-4798-970D-9C8EB87A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5CE4-DB34-42C7-BE85-B68837D2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A582-3F86-441A-BC9C-34AD992C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70C1-5B22-49BA-8D96-44975C67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140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140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73CD-A461-4861-B99A-32BAB950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C08-5003-4182-95DD-524E92DB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22FC-F2EA-4619-BA10-2D9975A2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BDF-F414-460C-A201-1D932C37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92520"/>
            <a:ext cx="8383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6B0C-9274-41E2-B828-8D96B9C8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023B-D279-4654-8921-200ADB1D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06BE-D6F6-4552-A1A7-D4E124B3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898B-F5D2-4279-88B3-2BCA2673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0126D5-91D0-4547-AFD5-5B198F26395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720" y="6245280"/>
            <a:ext cx="1900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2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BF50568-E716-4688-BDE1-5296DBD7A2E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b7"/>
                </a:solidFill>
                <a:latin typeface="Arial Black"/>
              </a:rPr>
              <a:t>Города России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4793760" y="4869000"/>
            <a:ext cx="407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уновская Надежда Евген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БОУ лицей № 53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Герб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3429000"/>
            <a:ext cx="2319480" cy="244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40360" y="4149720"/>
            <a:ext cx="1904760" cy="2390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164360" y="2205000"/>
            <a:ext cx="1619280" cy="198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63640" y="1844640"/>
            <a:ext cx="2303640" cy="140004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4724280"/>
            <a:ext cx="2303640" cy="154332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80000">
            <a:off x="5003280" y="1842840"/>
            <a:ext cx="2097360" cy="154944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ликий Новгор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1628640"/>
            <a:ext cx="2743200" cy="183852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040000">
            <a:off x="4789440" y="1626840"/>
            <a:ext cx="2455920" cy="183816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4508640"/>
            <a:ext cx="2743200" cy="183816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акой памятник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353280" cy="4762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788000" y="1844640"/>
            <a:ext cx="316872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1844640"/>
            <a:ext cx="316872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3429000"/>
            <a:ext cx="316872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429000"/>
            <a:ext cx="316872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5013360"/>
            <a:ext cx="316872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5013360"/>
            <a:ext cx="316872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Святые покровители                      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2239920" cy="3068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22766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42920" y="1844640"/>
            <a:ext cx="2305080" cy="3097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6720" y="1916280"/>
            <a:ext cx="2448000" cy="2881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и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г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50208" descr=""/>
          <p:cNvPicPr/>
          <p:nvPr/>
        </p:nvPicPr>
        <p:blipFill>
          <a:blip r:embed=""/>
          <a:stretch/>
        </p:blipFill>
        <p:spPr>
          <a:xfrm>
            <a:off x="3959280" y="4319640"/>
            <a:ext cx="1886040" cy="2425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600360" y="4140360"/>
            <a:ext cx="2700360" cy="2636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кт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тербу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Найди памятник     «Медный всадник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2023920"/>
            <a:ext cx="3600720" cy="2703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03640" y="4078440"/>
            <a:ext cx="3924360" cy="2779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00720" y="2133720"/>
            <a:ext cx="1531800" cy="1143000"/>
          </a:xfrm>
          <a:prstGeom prst="horizont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5157720"/>
            <a:ext cx="2395440" cy="1143000"/>
          </a:xfrm>
          <a:prstGeom prst="horizont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умайте ещ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72" dur="indefinite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dur="indefinite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78" dur="indefinite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В каком городе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2579760" cy="2881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435640" y="4292640"/>
            <a:ext cx="3232080" cy="2347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780000" y="2781360"/>
            <a:ext cx="1562040" cy="936720"/>
          </a:xfrm>
          <a:prstGeom prst="wedgeEllipseCallout">
            <a:avLst>
              <a:gd name="adj1" fmla="val -61384"/>
              <a:gd name="adj2" fmla="val 73726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3560000">
            <a:off x="3477960" y="4749120"/>
            <a:ext cx="1400040" cy="1514520"/>
          </a:xfrm>
          <a:prstGeom prst="wedgeEllipseCallout">
            <a:avLst>
              <a:gd name="adj1" fmla="val -96342"/>
              <a:gd name="adj2" fmla="val 27453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04920" y="3016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49800" y="5084640"/>
            <a:ext cx="165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ли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гор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85" dur="indefinite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dur="indefinite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92" dur="indefinite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3851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8000" spc="-1" strike="noStrike">
                <a:solidFill>
                  <a:srgbClr val="ff3300"/>
                </a:solidFill>
                <a:latin typeface="Arial Black"/>
              </a:rPr>
              <a:t>Спасибо!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24360" y="4581360"/>
            <a:ext cx="3419640" cy="2276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3:08:34Z</dcterms:created>
  <dc:creator>кро308</dc:creator>
  <dc:description/>
  <dc:language>en-US</dc:language>
  <cp:lastModifiedBy>кро308</cp:lastModifiedBy>
  <dcterms:modified xsi:type="dcterms:W3CDTF">2012-10-31T14:39:40Z</dcterms:modified>
  <cp:revision>2</cp:revision>
  <dc:subject/>
  <dc:title>Города России</dc:title>
</cp:coreProperties>
</file>