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DDCE-18A5-4F54-92A0-FD9540CF183A}" type="slidenum">
              <a:rPr b="0" lang="ru-RU" sz="1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D7E0-C944-42ED-B1E7-C13ED77FC85E}" type="slidenum">
              <a:rPr b="0" lang="ru-RU" sz="1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8936-A696-4F38-9BB0-A81F07A685E1}" type="slidenum">
              <a:rPr b="0" lang="ru-RU" sz="1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10E0-BEA3-4A5C-9C8A-CFD78BD42210}" type="slidenum">
              <a:rPr b="0" lang="ru-RU" sz="1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535A-C8EC-478F-8BDD-EF3EC54A8BE9}" type="slidenum">
              <a:rPr b="0" lang="ru-RU" sz="1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85F7-0770-4AC5-B39B-4D1F93B4B4F3}" type="slidenum">
              <a:rPr b="0" lang="ru-RU" sz="1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5FE7-6677-48FF-AE02-3A6DF8C4D090}" type="slidenum">
              <a:rPr b="0" lang="ru-RU" sz="1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0ABB-F22D-4FD5-8BA2-F4753E6749C5}" type="slidenum">
              <a:rPr b="0" lang="ru-RU" sz="1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A357-FDDB-42B6-A979-096FCDF79FC1}" type="slidenum">
              <a:rPr b="0" lang="ru-RU" sz="1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1BA1-D05D-4F14-934A-4B589B2CB970}" type="slidenum">
              <a:rPr b="0" lang="ru-RU" sz="1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7CD1-C79B-4A10-AE8A-4AA6C8A8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B028-B640-4F1C-BB0D-C495D7FB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38CF-B15B-4ACC-A832-6206DF329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9086-0023-4578-B998-B881B988B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98F6-6061-422C-9200-40456C217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17DD-E3EC-4D86-958C-14C58712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BEEF-9053-4183-8155-A37FD2AC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BDEA-480D-4948-A7A7-935E77C9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667F-A24E-454B-A453-203D04A1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D048-87A7-4689-B719-C746BE71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C82F-AAAD-4178-836A-82975278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DBBD-E929-474A-AFEF-952C2F51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2EC2-157E-476F-AABD-32622A8E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E8C6-4AD1-44DF-948D-4D583C11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FEE2-54B0-4A92-ABB1-9EDD55C0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7B48-DB63-4A75-8818-1E503404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C2E5-24A7-4DB8-B3E5-971F508C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1EBD7-8923-4CD9-BBAA-662AFD04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FA952-E41A-41CB-997F-F8A3941A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3B545-5A26-4AC7-A1BC-0E0AEA7C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5511F-006E-471A-ACF2-E158C250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4D816-FB86-447E-8412-3FC964DD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EFD3-5DE3-415F-AC4A-71A358EB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AFE9C-9181-4AA4-92C8-4A63C2FC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89FB9-D8B7-4401-8EA5-D2529480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00B04-16B7-42B5-952D-5F31DB05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2DCF0-58CA-45E2-A741-6ACDAB64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E57EF-2F10-4211-B8F6-5B2F46F4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B0F4D-0D01-4AF0-9CB9-2C07A7B8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905E3-C611-4BE3-8057-E5386722E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0C030-8522-4765-B467-87A211CE5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D485C-CBB9-427A-9E47-BA9D2B89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1766A-8E66-402F-9BC0-0A0AE107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D4D2-6BD9-4A85-A104-1F5C2E52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3B6B7-013C-4CF6-8079-741F8DFE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3695B-33F0-4A04-89CF-4BD9CD75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9A5BE-4A3E-4F42-99C1-50FADB57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11247-66A3-4EEB-BF68-2533949A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D7727-FDB9-475A-BD5A-6DA8EA22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75D28-C125-4EFA-858B-B97D84AF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05DEF-216B-4ED7-B885-8E60321F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04BFE-CA25-4C5F-A1BC-D3E29C1F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BD1C7-524C-4A01-8C0E-9F1C0011E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95E8-DF75-4C2D-AA6D-226B8BD4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3782-CE53-4AD3-939C-3A7CA0F4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4A3B-CD65-428A-A595-AC860C8B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16EF-9B77-418D-98C4-A120BB5E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8EA4-2A8A-4466-8CC8-932411DA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Impa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D00F-F91D-490B-9606-EDAEB91DC8B9}" type="slidenum">
              <a:rPr b="0" lang="ru-RU" sz="1200" spc="-1" strike="noStrike">
                <a:solidFill>
                  <a:srgbClr val="045c75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Impa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264F-2BA3-4FE7-A948-B6533A353028}" type="slidenum">
              <a:rPr b="0" lang="ru-RU" sz="1200" spc="-1" strike="noStrike">
                <a:solidFill>
                  <a:srgbClr val="d1eaee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Impa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0183-0507-4C2F-B315-A8ACC5EA19C7}" type="slidenum">
              <a:rPr b="0" lang="ru-RU" sz="1200" spc="-1" strike="noStrike">
                <a:solidFill>
                  <a:srgbClr val="d1eaee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Impa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C1AF-F919-4EB2-9CA5-4E914FA79271}" type="slidenum">
              <a:rPr b="0" lang="ru-RU" sz="1200" spc="-1" strike="noStrike">
                <a:solidFill>
                  <a:srgbClr val="045c75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22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4617b"/>
                </a:solidFill>
                <a:latin typeface="Impact"/>
              </a:rPr>
              <a:t>МКОУ Бетлицкая СОШ</a:t>
            </a:r>
            <a:br>
              <a:rPr sz="3600"/>
            </a:br>
            <a:r>
              <a:rPr b="0" lang="ru-RU" sz="4500" spc="-1" strike="noStrike">
                <a:solidFill>
                  <a:srgbClr val="04617b"/>
                </a:solidFill>
                <a:latin typeface="Impact"/>
              </a:rPr>
              <a:t>Готов ли ваш ребёнок к школе 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357120" y="6072120"/>
            <a:ext cx="82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Impact"/>
              </a:rPr>
              <a:t>Подготовила учитель начальных классов Семенчук Н. В.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1928880" y="1928880"/>
            <a:ext cx="5094360" cy="3882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Impact"/>
              </a:rPr>
              <a:t>Что такое готовность к школе 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57120" y="2071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mic Sans MS"/>
              </a:rPr>
              <a:t>Функциональная готовност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6a3"/>
                </a:solidFill>
                <a:latin typeface="Comic Sans MS"/>
              </a:rPr>
              <a:t>Интеллектуальная готовност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mic Sans MS"/>
              </a:rPr>
              <a:t>Волевая готовност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6a3"/>
                </a:solidFill>
                <a:latin typeface="Comic Sans MS"/>
              </a:rPr>
              <a:t>Мотивационная готовност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mic Sans MS"/>
              </a:rPr>
              <a:t>Социально-психологическая готовност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6572160" y="2000160"/>
            <a:ext cx="211140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Impact"/>
              </a:rPr>
              <a:t>Функциональная готовность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Impact"/>
              </a:rPr>
              <a:t>Соответствие степени созревания определённых мозговых структур, нервно-психических функций условиям и задачам школьного обуче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6a3"/>
                </a:solidFill>
                <a:latin typeface="Impact"/>
              </a:rPr>
              <a:t>Уровень общего развит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6a3"/>
                </a:solidFill>
                <a:latin typeface="Impact"/>
              </a:rPr>
              <a:t>Глазомер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Impact"/>
              </a:rPr>
              <a:t>Пространственная ориентац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6a3"/>
                </a:solidFill>
                <a:latin typeface="Impact"/>
              </a:rPr>
              <a:t>Способность к подражанию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Impact"/>
              </a:rPr>
              <a:t>Развитие рук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5000760" y="2857680"/>
            <a:ext cx="364320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Impact"/>
              </a:rPr>
              <a:t>Интеллектуальная готовность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Comic Sans MS"/>
              </a:rPr>
              <a:t>Определённый запас знаний, развитость наглядно-действенного мышления, творческого воображения, наличие представлений о природе  и т. п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omic Sans MS"/>
              </a:rPr>
              <a:t>Важен не столько объём знаний, сколько их качество, осознанность, чёткость представлени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Comic Sans MS"/>
              </a:rPr>
              <a:t>Желательно развивать способность слушать, понимать смысл прочитанного, пересказывать, умение сопоставлять, сравнивать, выражать своё отношение к прочитанному, проявлять интерес к неизвестному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Impact"/>
              </a:rPr>
              <a:t>Волевая готовность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mic Sans MS"/>
              </a:rPr>
              <a:t>Возможность управлять своим поведением, способность контролировать свои поступки усилием вол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9ca3"/>
                </a:solidFill>
                <a:latin typeface="Comic Sans MS"/>
              </a:rPr>
              <a:t>Умение слушать, понимать и точно выполнять указания взрослог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Действовать в соответствии с правило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Использовать образец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omic Sans MS"/>
              </a:rPr>
              <a:t>Сосредотачивать и удерживать внимание на определённой деятельности в течение длительного време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Impact"/>
              </a:rPr>
              <a:t>Мотивационная готовность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Impact"/>
              </a:rPr>
              <a:t>Желание ходить в школу, приобретать новые знания, желание занять позицию школьни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Impact"/>
              </a:rPr>
              <a:t>Варианты мотивации учения, порождающие в детях стремление заниматься учебным трудом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Impact"/>
              </a:rPr>
              <a:t>Интерес к новым видам деятельнос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Impact"/>
              </a:rPr>
              <a:t>Самоутвержде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Impact"/>
              </a:rPr>
              <a:t>Интерес к миру взрослых, стремление быть похожим на ни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Impact"/>
              </a:rPr>
              <a:t>Познавательная потребнос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Impact"/>
              </a:rPr>
              <a:t>Познавательная потребность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Impact"/>
              </a:rPr>
              <a:t>Привлекательность знаний, интерес к процессу позна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5964"/>
                </a:solidFill>
                <a:latin typeface="Impact"/>
              </a:rPr>
              <a:t>Уровень её развития- один из показателей психологической готовности к школ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Impact"/>
              </a:rPr>
              <a:t>Наибольшие трудности в школе испытывают не те дети, у которых небольшой объём знаний и навыков, а те, у которых не сформировано желание думать. Такие дети не проявляют обычной детской любознательности, не желают получать новые знания, избегают умственного напряже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Impact"/>
              </a:rPr>
              <a:t>Социально – психологическая готовность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Impact"/>
              </a:rPr>
              <a:t>Наличие таких качеств, которые помогают первокласснику строить отношения с одноклассниками, учиться работать в коллективе. Адекватное отношение к сверстникам, учителям, успехам и неудачам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4" descr="сканирование0010"/>
          <p:cNvPicPr/>
          <p:nvPr/>
        </p:nvPicPr>
        <p:blipFill>
          <a:blip r:embed="rId1"/>
          <a:stretch/>
        </p:blipFill>
        <p:spPr>
          <a:xfrm>
            <a:off x="539640" y="3500280"/>
            <a:ext cx="1847880" cy="2592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сканирование0011"/>
          <p:cNvPicPr/>
          <p:nvPr/>
        </p:nvPicPr>
        <p:blipFill>
          <a:blip r:embed="rId2"/>
          <a:stretch/>
        </p:blipFill>
        <p:spPr>
          <a:xfrm>
            <a:off x="6188040" y="3181320"/>
            <a:ext cx="2529000" cy="3225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сканирование0001"/>
          <p:cNvPicPr/>
          <p:nvPr/>
        </p:nvPicPr>
        <p:blipFill>
          <a:blip r:embed="rId3"/>
          <a:stretch/>
        </p:blipFill>
        <p:spPr>
          <a:xfrm>
            <a:off x="3236760" y="3255840"/>
            <a:ext cx="2505240" cy="31575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сканирование0010"/>
          <p:cNvPicPr/>
          <p:nvPr/>
        </p:nvPicPr>
        <p:blipFill>
          <a:blip r:embed="rId4"/>
          <a:stretch/>
        </p:blipFill>
        <p:spPr>
          <a:xfrm>
            <a:off x="171360" y="3181320"/>
            <a:ext cx="250524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Impact"/>
              </a:rPr>
              <a:t>Развитие реч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ечь тесно связана с интеллектом и отражает как общее развитие ребёнка, так и уровень его логического мышле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еобходимо, чтобы ребёнок умел находить в словах отдельные звуки, т. е. у него должен быть развит фонематический слу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Пересказ прочитанных или прослушанных сказок, рассказ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b2c9"/>
                </a:solidFill>
                <a:latin typeface="Comic Sans MS"/>
              </a:rPr>
              <a:t>Заучивание наизусть пословиц, стихов, считалок, скороговоро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omic Sans MS"/>
              </a:rPr>
              <a:t>Отгадывание загадо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mic Sans MS"/>
              </a:rPr>
              <a:t>Составление рассказа по картине, серии картин</a:t>
            </a:r>
            <a:r>
              <a:rPr b="1" lang="ru-RU" sz="2400" spc="-1" strike="noStrike">
                <a:solidFill>
                  <a:srgbClr val="66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4:43:49Z</dcterms:created>
  <dc:creator>Лариса</dc:creator>
  <dc:description/>
  <dc:language>en-US</dc:language>
  <cp:lastModifiedBy>User</cp:lastModifiedBy>
  <dcterms:modified xsi:type="dcterms:W3CDTF">2013-03-25T18:52:59Z</dcterms:modified>
  <cp:revision>19</cp:revision>
  <dc:subject/>
  <dc:title>Готов ли ваш ребёнок к школе ?</dc:title>
</cp:coreProperties>
</file>