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2D3A-6B0E-4767-8E5A-F55AC9FAE053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7B31-8E80-49F6-B2A6-19198323F372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9D2-882F-4757-8860-4321AC13C022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B9B5-661F-4F1E-AF73-226B7AD83CFA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36DE-CD5D-4728-AACE-F670693949C4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654-41F2-423A-9736-A6C90C4CC9E8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B147-12E9-412B-909E-C5D19ADE42F3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9D03-230F-47F3-B8B9-9F7166352323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5392-5B37-455F-8D8C-29B0086F9B16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DEA2-CA8D-4263-A2E4-6E4963CA9E99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09A-B16F-433F-B9CD-B0EBDF64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817-6077-4C44-8E53-37389409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E2D-D713-4AB7-A36C-B527177A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4A8-4843-4102-B243-BB13E8A7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23D-AF5F-4BAB-A24A-619FA7B6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4D9E-54AE-4C12-A4D1-750654F9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B76C-54E7-4056-B155-3FE8DFB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95BE-C928-4910-B171-8ED6A3FA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F105-A708-401B-BE40-BEB4395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75BC-735E-48EB-B1D7-933BA0C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ADD4-3724-4D9B-9547-5256220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0A7-0965-4865-BC9C-7AB29D1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347D-7352-4526-83A8-5BFEC54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ED7C-94EC-476E-AB0D-982DFF7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AF44-C4D1-4F0D-BD61-953613DB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EE56-709B-4DF2-8A4E-06642AD7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C48-12F7-4D33-9EFF-7C69421B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8AF4-8F27-48B2-BCC9-5EAA8C89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F840-DD46-4F44-97DD-3BA89BA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ED55-109D-4A4A-A67C-BBE177E0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241F-B749-4AFB-A492-83C34A1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9B66-051D-4722-9ED7-6FB97DF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0A0-582A-4574-A057-7CCEEC00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8106-68ED-4149-8AFB-99FADF8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E356-4F1E-463F-8FED-796318A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B0E3-E3F6-429B-BA58-8DF4960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F4F4-C009-413F-8561-13206F6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738E-D463-486B-8FCF-7D38FA37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55F6-669D-4DE6-A343-F331D336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0E31-B72C-40B2-A48B-AA13E477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0C13-36DB-49E4-AB1B-89D8B14A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3FC7-324A-4DF9-92C8-047DD805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9DB9-EA08-4A78-BC4E-5D6D1D45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867-C782-4712-B6D0-E0661A31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F3DE-1B13-43A8-B7D8-802540B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32CC-6DFF-4C76-87AD-C6A0B619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A6C7-1AD5-4E59-8A78-C72EEE9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A738-1E33-4330-8C43-FC6B735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6302-6DFA-4435-B6BA-DB1B477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8B766-406B-4F4D-842F-D099D11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CA2A-D3FB-4420-A03C-7360CDBF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6825-02B5-4262-BF63-C63C7A9C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7689-B4AB-4EA4-9FDD-AE21E01C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FE2-5343-42EC-BA5B-6FA83DE9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A87-7529-4969-B100-8B92CFDE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9B9-8030-49C3-8026-A0D836F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C8F-878D-4F12-BBE1-2E833261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BBD-AF53-46F3-8425-A24307D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7BAA-9A16-4291-A41E-91E0D0222CFE}" type="slidenum">
              <a:rPr b="0" lang="ru-RU" sz="1200" spc="-1" strike="noStrike">
                <a:solidFill>
                  <a:srgbClr val="045c75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67D-D68B-4C29-9559-D14EB865A4A7}" type="slidenum">
              <a:rPr b="0" lang="ru-RU" sz="1200" spc="-1" strike="noStrike">
                <a:solidFill>
                  <a:srgbClr val="d1eaee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96E5-2C85-4F5B-A645-B84653BD02AD}" type="slidenum">
              <a:rPr b="0" lang="ru-RU" sz="1200" spc="-1" strike="noStrike">
                <a:solidFill>
                  <a:srgbClr val="d1eaee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75A-C135-4A11-A44B-2F844F967886}" type="slidenum">
              <a:rPr b="0" lang="ru-RU" sz="1200" spc="-1" strike="noStrike">
                <a:solidFill>
                  <a:srgbClr val="045c75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Impact"/>
              </a:rPr>
              <a:t>МКОУ Бетлицкая СОШ</a:t>
            </a:r>
            <a:br>
              <a:rPr sz="3600"/>
            </a:br>
            <a:r>
              <a:rPr b="0" lang="ru-RU" sz="4500" spc="-1" strike="noStrike">
                <a:solidFill>
                  <a:srgbClr val="04617b"/>
                </a:solidFill>
                <a:latin typeface="Impact"/>
              </a:rPr>
              <a:t>Готов ли ваш ребёнок к школе 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357120" y="607212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Impact"/>
              </a:rPr>
              <a:t>Подготовила учитель начальных классов Семенчук Н. В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928880" y="1928880"/>
            <a:ext cx="5094360" cy="38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Impact"/>
              </a:rPr>
              <a:t>Что такое готовность к школе 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2071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Функциональн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mic Sans MS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Волев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mic Sans MS"/>
              </a:rPr>
              <a:t>Мотивационн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Социально-психологическ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6572160" y="2000160"/>
            <a:ext cx="21114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Impact"/>
              </a:rPr>
              <a:t>Функциональная готовност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Impact"/>
              </a:rPr>
              <a:t>Соответствие степени созревания определённых мозговых структур, нервно-психических функций условиям и задачам школьного обу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Impact"/>
              </a:rPr>
              <a:t>Уровень общего разви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Impact"/>
              </a:rPr>
              <a:t>Глазоме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Пространственная ориент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Impact"/>
              </a:rPr>
              <a:t>Способность к подражани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Развитие ру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5000760" y="2857680"/>
            <a:ext cx="36432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Impact"/>
              </a:rPr>
              <a:t>Интеллектуальная готовност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omic Sans MS"/>
              </a:rPr>
              <a:t>Определённый запас знаний, развитость наглядно-действенного мышления, творческого воображения, наличие представлений о природе  и т. п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Важен не столько объём знаний, сколько их качество, осознанность, чёткость представл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Желательно развивать способность слушать, понимать смысл прочитанного, пересказывать, умение сопоставлять, сравнивать, выражать своё отношение к прочитанному, проявлять интерес к неизвестном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Волевая готовнос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Возможность управлять своим поведением, способность контролировать свои поступки усилием во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9ca3"/>
                </a:solidFill>
                <a:latin typeface="Comic Sans MS"/>
              </a:rPr>
              <a:t>Умение слушать, понимать и точно выполнять указания взросл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Действовать в соответствии с правил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Использовать образе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Сосредотачивать и удерживать внимание на определённой деятельности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Мотивационная готовнос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Желание ходить в школу, приобретать новые знания, желание занять позицию школь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Варианты мотивации учения, порождающие в детях стремление заниматься учебным труд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Impact"/>
              </a:rPr>
              <a:t>Интерес к новым видам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Самоутвержд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Impact"/>
              </a:rPr>
              <a:t>Интерес к миру взрослых, стремление быть похожим на ни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Impact"/>
              </a:rPr>
              <a:t>Познавательная потреб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Познавательная потребнос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Impact"/>
              </a:rPr>
              <a:t>Привлекательность знаний, интерес к процессу позн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Impact"/>
              </a:rPr>
              <a:t>Уровень её развития- один из показателей психологической готовности к шко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Impact"/>
              </a:rPr>
              <a:t>Наибольшие трудности в школе испытывают не те дети, у которых небольшой объём знаний и навыков, а те, у которых не сформировано желание думать. Такие дети не проявляют обычной детской любознательности, не желают получать новые знания, избегают умственного напряж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Impact"/>
              </a:rPr>
              <a:t>Социально – психологическая готов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Наличие таких качеств, которые помогают первокласснику строить отношения с одноклассниками, учиться работать в коллективе. Адекватное отношение к сверстникам, учителям, успехам и неудач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сканирование0010"/>
          <p:cNvPicPr/>
          <p:nvPr/>
        </p:nvPicPr>
        <p:blipFill>
          <a:blip r:embed="rId1"/>
          <a:stretch/>
        </p:blipFill>
        <p:spPr>
          <a:xfrm>
            <a:off x="539640" y="3500280"/>
            <a:ext cx="1847880" cy="259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сканирование0011"/>
          <p:cNvPicPr/>
          <p:nvPr/>
        </p:nvPicPr>
        <p:blipFill>
          <a:blip r:embed="rId2"/>
          <a:stretch/>
        </p:blipFill>
        <p:spPr>
          <a:xfrm>
            <a:off x="6188040" y="3181320"/>
            <a:ext cx="2529000" cy="322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сканирование0001"/>
          <p:cNvPicPr/>
          <p:nvPr/>
        </p:nvPicPr>
        <p:blipFill>
          <a:blip r:embed="rId3"/>
          <a:stretch/>
        </p:blipFill>
        <p:spPr>
          <a:xfrm>
            <a:off x="3236760" y="3255840"/>
            <a:ext cx="2505240" cy="3157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сканирование0010"/>
          <p:cNvPicPr/>
          <p:nvPr/>
        </p:nvPicPr>
        <p:blipFill>
          <a:blip r:embed="rId4"/>
          <a:stretch/>
        </p:blipFill>
        <p:spPr>
          <a:xfrm>
            <a:off x="171360" y="3181320"/>
            <a:ext cx="2505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Развитие реч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чь тесно связана с интеллектом и отражает как общее развитие ребёнка, так и уровень его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обходимо, чтобы ребёнок умел находить в словах отдельные звуки, т. е. у него должен быть развит фонематический слу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ересказ прочитанных или прослушанных сказок, рассказ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b2c9"/>
                </a:solidFill>
                <a:latin typeface="Comic Sans MS"/>
              </a:rPr>
              <a:t>Заучивание наизусть пословиц, стихов, считалок, скорогово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Отгадывание загад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Составление рассказа по картине, серии картин</a:t>
            </a:r>
            <a:r>
              <a:rPr b="1" lang="ru-RU" sz="2400" spc="-1" strike="noStrike">
                <a:solidFill>
                  <a:srgbClr val="66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4:43:49Z</dcterms:created>
  <dc:creator>Лариса</dc:creator>
  <dc:description/>
  <dc:language>en-US</dc:language>
  <cp:lastModifiedBy>User</cp:lastModifiedBy>
  <dcterms:modified xsi:type="dcterms:W3CDTF">2013-03-25T18:52:59Z</dcterms:modified>
  <cp:revision>19</cp:revision>
  <dc:subject/>
  <dc:title>Готов ли ваш ребёнок к школе ?</dc:title>
</cp:coreProperties>
</file>