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120-56ED-44E8-8142-FC24EF35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F36-DF8F-4902-8444-D5890A07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961-C030-4A4F-9AB9-3D377B1C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9BD-2DEF-4AAD-B944-85FA780B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4B17-2940-440E-A60E-19E21155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50A3-C221-44D7-A6AC-454959D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E1CA-4892-4B32-B550-29D4B24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E3E4-8B42-42E1-9877-9A2FCAA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1FB-3A02-482D-B57C-77848E5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C8A-A5C8-4E34-8600-5CB3808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177-32DC-464B-851D-5754B6B7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BF0-FC40-4493-B787-F0098B8B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F7D-4A4C-4405-A943-CF7E547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78C3-739F-4C5D-B9BD-88607AF7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742F-D09A-4ACB-8AB2-DAA8B692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847B-0CA2-48DF-BC6A-DFAF4696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D809-6E14-42FD-AE90-2F3FB6FF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42B-8C8B-43BF-9B62-5259C4F6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43D-7149-4C91-920A-BD5717BD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D44-B9F9-45DF-A514-20B3098B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DC9-513D-4AE5-9AC0-F91BAA4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BE6-5EE4-41AA-AF12-036C628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EBEA-7963-436B-AA39-027F1BB5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D91-0551-4F82-980F-97E6D73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B2DE-9929-453E-93E3-3BBBA3269A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25D5-63FE-4086-ACBA-78A4D0ACD9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1999800"/>
            <a:ext cx="6400800" cy="1631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гра по русскому языку «Корректор»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ля учащихся 6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42600" y="3714840"/>
            <a:ext cx="764388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р: Данилина Галина Олег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БОУ «Учхозская СОШ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ослобод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спублики Мордо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авайте проверим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ым цветом выделены ошиб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лове дуб три звука: д, у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э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На) желтых  (листьях) – прилаг., нач.форма- желтый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т.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ено в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.п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мн.ч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.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равленный текст: « Я участвовал в соревновании под пятым номером. На повороте мы с Петровым вырвались вперед. Вдруг он  упал и подвернул ногу. «Кто-нибудь придет ему на помощь», -подумал я. Митя Смирнов помог Петрову добраться до школы.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hh"/>
          <p:cNvPicPr/>
          <p:nvPr/>
        </p:nvPicPr>
        <p:blipFill>
          <a:blip r:embed="rId1"/>
          <a:stretch/>
        </p:blipFill>
        <p:spPr>
          <a:xfrm>
            <a:off x="6215040" y="0"/>
            <a:ext cx="194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Корректор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ир меняется, и част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в ту сторону, ку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м хотелось бы , но, к сча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ть любители тру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бирать слова и строк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чинителю внима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мысл выискивать глубоки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ходить и – понима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ока такие люд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дут – есть пример живо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меняясь, все же буд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ир стоять вверх голо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8706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писок литератур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857160" y="1714680"/>
            <a:ext cx="7358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Орфографический словарь русского языка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 ред. С.Г. Бархударова, С.И. Ожего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-е изд. М.: Советская  энциклопедия 1998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 Иванова В.Ф. Современный русский язы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а и орфография. 2-е изд.. М., 2006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        Моисеев А.И. Буквы и звуки. Л., 1999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7228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означают слов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ор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26920" y="2707920"/>
            <a:ext cx="67629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ировка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ироват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рфографическа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яти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окне стоит горшо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в горшке растет цве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– не разбереш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растение, а еж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Кактус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barrelcactus_flowers"/>
          <p:cNvPicPr/>
          <p:nvPr/>
        </p:nvPicPr>
        <p:blipFill>
          <a:blip r:embed="rId1"/>
          <a:stretch/>
        </p:blipFill>
        <p:spPr>
          <a:xfrm>
            <a:off x="2987640" y="3573360"/>
            <a:ext cx="331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Жалоба</a:t>
            </a:r>
            <a:br>
              <a:rPr sz="4800"/>
            </a:b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(Спиши текст, исправляя ошибки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ядя, прашу тебя, пома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оей плимяннице Ол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то небудет ее на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этой пративной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е вчера за дектант на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паставил дв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сам сказал, что маю рабо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же несмок прочи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праси его, дядя, исправить двой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аставить п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Ри56"/>
          <p:cNvPicPr/>
          <p:nvPr/>
        </p:nvPicPr>
        <p:blipFill>
          <a:blip r:embed="rId1"/>
          <a:stretch/>
        </p:blipFill>
        <p:spPr>
          <a:xfrm>
            <a:off x="6372360" y="2205000"/>
            <a:ext cx="2089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Давайте провери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ядя, прошу тебя, помо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оей племяннице Ол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то не будет ее но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этой противной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е вчера за диктант на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поставил дв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сам сказал, что мою рабо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же не смог прочи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проси его, дядя, исправить двой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оставить п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Ри56"/>
          <p:cNvPicPr/>
          <p:nvPr/>
        </p:nvPicPr>
        <p:blipFill>
          <a:blip r:embed="rId1"/>
          <a:stretch/>
        </p:blipFill>
        <p:spPr>
          <a:xfrm>
            <a:off x="6372360" y="2205000"/>
            <a:ext cx="2089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dff"/>
                </a:solidFill>
                <a:latin typeface="Comic Sans MS"/>
              </a:rPr>
              <a:t>Меню ошибок</a:t>
            </a:r>
            <a:br>
              <a:rPr sz="5000"/>
            </a:b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(Спиши текст, исправляя ошибки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..он кури..ый с фр..кадель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..ль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шни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..мпот груш..в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..ки с печ..н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..рожное б..скви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..тлеты св..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Рисуггггг"/>
          <p:cNvPicPr/>
          <p:nvPr/>
        </p:nvPicPr>
        <p:blipFill>
          <a:blip r:embed="rId1"/>
          <a:stretch/>
        </p:blipFill>
        <p:spPr>
          <a:xfrm>
            <a:off x="6012000" y="2924280"/>
            <a:ext cx="208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66276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Давайте проверим!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льон куриный с фрикадель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ль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чни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от грушев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жки с печен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жное бискви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леты сви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Рисуггггг"/>
          <p:cNvPicPr/>
          <p:nvPr/>
        </p:nvPicPr>
        <p:blipFill>
          <a:blip r:embed="rId1"/>
          <a:stretch/>
        </p:blipFill>
        <p:spPr>
          <a:xfrm>
            <a:off x="6012000" y="2924280"/>
            <a:ext cx="208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Дуэль орфографическа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варель, террариум, маринист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весник, прояснить, брошюр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вательный, территор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вать, декоратив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ть, впечатлени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слаждаться, разбавлять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рина, сверстник, манер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ина, иллюстрация, объяс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Рисунок2"/>
          <p:cNvPicPr/>
          <p:nvPr/>
        </p:nvPicPr>
        <p:blipFill>
          <a:blip r:embed="rId1"/>
          <a:stretch/>
        </p:blipFill>
        <p:spPr>
          <a:xfrm>
            <a:off x="6443640" y="2276640"/>
            <a:ext cx="20178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могите </a:t>
            </a:r>
            <a:br>
              <a:rPr sz="4400"/>
            </a:b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Ошибкину 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лове дуб три звука: д, у, бэ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а) желтых  (листьях) – прилаг., нач.форма- желтый, крат., употреблено в Р.п., мн.ч, м.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 Я участвовал в соревновании. Я шел под пятым номером. На повороте я и Петров вырвались вперед. Вдруг Петров упал. Он подвернул ногу. «Кто-нибудь придут ему на помощь», -подумал я. Митя Смирнов помог Петрову добраться до школы. В школе ему оказали первую помощь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hh"/>
          <p:cNvPicPr/>
          <p:nvPr/>
        </p:nvPicPr>
        <p:blipFill>
          <a:blip r:embed="rId1"/>
          <a:stretch/>
        </p:blipFill>
        <p:spPr>
          <a:xfrm>
            <a:off x="5940360" y="692280"/>
            <a:ext cx="194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32:06Z</dcterms:created>
  <dc:creator>User</dc:creator>
  <dc:description/>
  <dc:language>en-US</dc:language>
  <cp:lastModifiedBy>1</cp:lastModifiedBy>
  <dcterms:modified xsi:type="dcterms:W3CDTF">2013-03-25T17:30:40Z</dcterms:modified>
  <cp:revision>32</cp:revision>
  <dc:subject/>
  <dc:title>Игра по русскому языку «Корректор»</dc:title>
</cp:coreProperties>
</file>