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1BF-94D0-443E-A695-8FE001D9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267-FCDD-4597-A147-0D66F19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12D-5206-403A-B07E-0DE41EA9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5FA-992F-4430-97C6-EF277C70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3BD7-51DA-4F18-9645-A189B405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03F-8140-4FDB-ACB7-DC31176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C02D-03C1-4A0C-89F4-AE1D06C6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2AB8-551B-414C-9521-9F0166E5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F0BD-F7BC-4CBD-BFF8-C43D9C86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BA8-FEDB-4B97-A2EC-ECCB8DDC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DA85-D36B-4C9A-AA89-6ED6CA8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B4D-6D4F-40E8-909A-68B23708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A8FB-F012-4DC9-A472-B5D6722B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C69C-54DF-44F6-B2A5-3852649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8CF9-5757-49E3-8B51-AD17F1C1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D9F8-EE03-4F77-8498-756A9E4A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B8AA-8D31-49B5-9BC0-09B148A8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ED3-66A6-4A22-BE88-0D9A64ED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55A-AE24-4B25-8086-DDE7D202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A50-A6DE-4A09-98D3-20122288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F346-8951-47AB-A3E1-5690FD08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EBF-8A86-4AE7-A482-19E8C79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5DD-91A1-49E3-B23A-BFD5A73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2D7-0B38-40ED-86F7-6B1F103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5A9-F783-493F-B32C-7086BAB2C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91FB-1BEC-4B30-B537-53798B90C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1999800"/>
            <a:ext cx="6400800" cy="1631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гра по русскому языку «Корректор»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ля учащихся 6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42600" y="3714840"/>
            <a:ext cx="764388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втор: Данилина Галина Олег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БОУ «Учхозская СОШ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ослобод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спублики Мордо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Давайте проверим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ым цветом выделены ошиб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лове дуб три звука: д, у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бэ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На) желтых  (листьях) – прилаг., нач.форма- желтый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т.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лено в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.п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мн.ч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.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равленный текст: « Я участвовал в соревновании под пятым номером. На повороте мы с Петровым вырвались вперед. Вдруг он  упал и подвернул ногу. «Кто-нибудь придет ему на помощь», -подумал я. Митя Смирнов помог Петрову добраться до школы.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hh"/>
          <p:cNvPicPr/>
          <p:nvPr/>
        </p:nvPicPr>
        <p:blipFill>
          <a:blip r:embed="rId1"/>
          <a:stretch/>
        </p:blipFill>
        <p:spPr>
          <a:xfrm>
            <a:off x="6215040" y="0"/>
            <a:ext cx="194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Корректор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ир меняется, и част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в ту сторону, ку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м хотелось бы , но, к сча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сть любители тру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бирать слова и строк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чинителю внима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мысл выискивать глубоки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ходить и – понима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ока такие люд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дут – есть пример живой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меняясь, все же буд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ир стоять вверх голо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8706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писок литературы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857160" y="1714680"/>
            <a:ext cx="7358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Орфографический словарь русского языка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 ред. С.Г. Бархударова, С.И. Ожегов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-е изд. М.: Советская  энциклопедия 1998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 Иванова В.Ф. Современный русский язы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а и орфография. 2-е изд.. М., 2006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        Моисеев А.И. Буквы и звуки. Л., 1999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7228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то означают слов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ор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26920" y="2707920"/>
            <a:ext cx="67629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ировка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рректироват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Орфографическа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яти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окне стоит горшок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в горшке растет цве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– не разбереш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растение, а еж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Кактус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barrelcactus_flowers"/>
          <p:cNvPicPr/>
          <p:nvPr/>
        </p:nvPicPr>
        <p:blipFill>
          <a:blip r:embed="rId1"/>
          <a:stretch/>
        </p:blipFill>
        <p:spPr>
          <a:xfrm>
            <a:off x="2987640" y="3573360"/>
            <a:ext cx="331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Жалоба</a:t>
            </a:r>
            <a:br>
              <a:rPr sz="4800"/>
            </a:b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(Спиши текст, исправляя ошибки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ядя, прашу тебя, пома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оей плимяннице Ол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то небудет ее на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этой пративной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е вчера за дектант на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паставил дв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сам сказал, что маю рабо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же несмок прочи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праси его, дядя, исправить двой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аставить п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Ри56"/>
          <p:cNvPicPr/>
          <p:nvPr/>
        </p:nvPicPr>
        <p:blipFill>
          <a:blip r:embed="rId1"/>
          <a:stretch/>
        </p:blipFill>
        <p:spPr>
          <a:xfrm>
            <a:off x="6372360" y="2205000"/>
            <a:ext cx="2089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dff"/>
                </a:solidFill>
                <a:latin typeface="Comic Sans MS"/>
              </a:rPr>
              <a:t>Давайте проверим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ядя, прошу тебя, помо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воей племяннице Оле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то не будет ее ног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этой противной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не вчера за диктант на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итель поставил дв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сам сказал, что мою работ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же не смог прочит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проси его, дядя, исправить двой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поставить п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Ри56"/>
          <p:cNvPicPr/>
          <p:nvPr/>
        </p:nvPicPr>
        <p:blipFill>
          <a:blip r:embed="rId1"/>
          <a:stretch/>
        </p:blipFill>
        <p:spPr>
          <a:xfrm>
            <a:off x="6372360" y="2205000"/>
            <a:ext cx="2089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dff"/>
                </a:solidFill>
                <a:latin typeface="Comic Sans MS"/>
              </a:rPr>
              <a:t>Меню ошибок</a:t>
            </a:r>
            <a:br>
              <a:rPr sz="5000"/>
            </a:b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(Спиши текст, исправляя ошибки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..он кури..ый с фр..кадель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..ль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шни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..мпот груш..в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..ки с печ..н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..рожное б..скви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..тлеты св..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Рисуггггг"/>
          <p:cNvPicPr/>
          <p:nvPr/>
        </p:nvPicPr>
        <p:blipFill>
          <a:blip r:embed="rId1"/>
          <a:stretch/>
        </p:blipFill>
        <p:spPr>
          <a:xfrm>
            <a:off x="6012000" y="2924280"/>
            <a:ext cx="208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66276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Давайте проверим!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ульон куриный с фрикадельк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ль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ични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мпот грушевы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жки с печен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ирожное бискви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леты свины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Рисуггггг"/>
          <p:cNvPicPr/>
          <p:nvPr/>
        </p:nvPicPr>
        <p:blipFill>
          <a:blip r:embed="rId1"/>
          <a:stretch/>
        </p:blipFill>
        <p:spPr>
          <a:xfrm>
            <a:off x="6012000" y="2924280"/>
            <a:ext cx="208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Дуэль орфографическа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варель, террариум, маринист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весник, прояснить, брошюр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вательный, территори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вать, декоративный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ть, впечатлени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слаждаться, разбавлять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рина, сверстник, манер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лина, иллюстрация, объяс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Рисунок2"/>
          <p:cNvPicPr/>
          <p:nvPr/>
        </p:nvPicPr>
        <p:blipFill>
          <a:blip r:embed="rId1"/>
          <a:stretch/>
        </p:blipFill>
        <p:spPr>
          <a:xfrm>
            <a:off x="6443640" y="2276640"/>
            <a:ext cx="20178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могите </a:t>
            </a:r>
            <a:br>
              <a:rPr sz="4400"/>
            </a:b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Ошибкину К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лове дуб три звука: д, у, бэ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а) желтых  (листьях) – прилаг., нач.форма- желтый, крат., употреблено в Р.п., мн.ч, м.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 Я участвовал в соревновании. Я шел под пятым номером. На повороте я и Петров вырвались вперед. Вдруг Петров упал. Он подвернул ногу. «Кто-нибудь придут ему на помощь», -подумал я. Митя Смирнов помог Петрову добраться до школы. В школе ему оказали первую помощь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6" descr="hh"/>
          <p:cNvPicPr/>
          <p:nvPr/>
        </p:nvPicPr>
        <p:blipFill>
          <a:blip r:embed="rId1"/>
          <a:stretch/>
        </p:blipFill>
        <p:spPr>
          <a:xfrm>
            <a:off x="5940360" y="692280"/>
            <a:ext cx="1944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32:06Z</dcterms:created>
  <dc:creator>User</dc:creator>
  <dc:description/>
  <dc:language>en-US</dc:language>
  <cp:lastModifiedBy>1</cp:lastModifiedBy>
  <dcterms:modified xsi:type="dcterms:W3CDTF">2013-03-25T17:30:40Z</dcterms:modified>
  <cp:revision>32</cp:revision>
  <dc:subject/>
  <dc:title>Игра по русскому языку «Корректор»</dc:title>
</cp:coreProperties>
</file>