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DA7-95BC-46C2-8751-44AA3305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6B6-8B2B-4A3D-BF21-B1012FE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BAB-462D-49F9-89E3-5BF2F8C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028-31B1-4CF0-A40A-056FC76F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2440-A806-4047-8229-306CC3A6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3364-29F3-4765-BAA0-B2453B56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9DE9-ABBF-43FB-834E-32A36D52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4912-FC38-4D17-BB61-DE27AB97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6646-1039-4A41-96BC-EA790C87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88AF-4D9F-46B2-9A8F-080A72D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DE49-091B-41F1-A231-7CC8A16B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766-A651-4A3A-967E-45D3DE67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B97C-2E1F-4316-A96C-2EFD4FC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92D4-2C93-4C1E-A767-F13E3E8F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BD6-6B08-41D5-8B74-F2E6BDE4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5B30-C3B4-4EB4-BAA2-CD63D720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1993-3833-4805-941E-B821D7DB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6C2-BC96-4195-97FA-7F5BE8B3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582-9480-4646-93B5-3244EF9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D3E-178B-4FC4-9913-F60ABAE3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6E8-E871-4E3C-894B-3DE03E8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43F-719A-47C4-BCF3-FEBBCE2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B68-C7B6-48FE-A186-73DF2F7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D85-13F2-4117-8671-4CD5BEE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5d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A9C0-079E-4496-80A6-4424DE2D7F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7"/>
          <p:cNvSpPr/>
          <p:nvPr/>
        </p:nvSpPr>
        <p:spPr>
          <a:xfrm>
            <a:off x="228600" y="907920"/>
            <a:ext cx="2514600" cy="251460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670040"/>
            <a:ext cx="4724280" cy="1143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962520" y="1670040"/>
            <a:ext cx="4724280" cy="1143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5d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8C19-F844-49C7-A156-5C2CC21A02C9}" type="slidenum"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&#1076;&#1080;...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8.xml"/><Relationship Id="rId1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сследование  белковых  молеку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5640" y="3580920"/>
            <a:ext cx="563868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Исследовательский проект учащихся 10 класса МОУЛ «ВУВК им. А. П. Киселева» Татаринцева Никола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Рыжковой Кристин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Третичная структура бел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55640" y="1478880"/>
            <a:ext cx="784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Третичная структура – это реальная трехмерная конфигурация закрученной спирали, образующей глобулы (клубки) или фибриллы (волокна). В образовании данной структуры играют роль различные взаимодействия: водородные, ионные, гидрофобные, диполь-дипольные. Несмотря на то, что энергия данных взаимодействий гораздо меньше энергии ковалентной связи, третичная структура устойчива (этих взаимодействий очень много). Кроме того, устойчивости третичной структуры способствуют также дисульфидные (</a:t>
            </a:r>
            <a:r>
              <a:rPr b="0" lang="ru-RU" sz="16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S</a:t>
            </a:r>
            <a:r>
              <a:rPr b="0" lang="ru-RU" sz="16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  <a:ea typeface="Times New Roman"/>
              </a:rPr>
              <a:t>) и сложноэфирные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124000" y="350028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26920" y="3276000"/>
            <a:ext cx="79567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O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( 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</a:t>
            </a:r>
            <a:r>
              <a:rPr b="0" lang="ru-RU" sz="1200" spc="-1" strike="noStrike" baseline="-30000">
                <a:solidFill>
                  <a:srgbClr val="f8f8f8"/>
                </a:solidFill>
                <a:latin typeface="Times New Roman"/>
                <a:ea typeface="Times New Roman"/>
              </a:rPr>
              <a:t>1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)   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яз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олярные гидрофильные радикалы, выступая наружу глобулы, обеспечивают природную биологическую активность белка в водных средах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Если же устанавливается взаимодействие между несколькими макромолекулами, то образуется четвертичная структура белка, характерная, например, для молекулы гемоглобина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Таким образом, белки очень разнообразны, так как каждый из них характеризуется специфической последовательностью аминокислотных звеньев; белки – это высшая, самоорганизующаяся форма развития вещества, в которой первичная структура определяет его биологическую активность; белки полифункциональны; это биологические полимера, полипептиды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364000" y="6381720"/>
            <a:ext cx="324036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5148360" y="3213000"/>
            <a:ext cx="3168720" cy="2448000"/>
          </a:xfrm>
          <a:prstGeom prst="rect">
            <a:avLst/>
          </a:prstGeom>
          <a:solidFill>
            <a:srgbClr val="0099cc">
              <a:alpha val="37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2.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дают цветные (качественные) реакции под воздействием различных реагентов, с помощью которых их можно распозн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Методика исследования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Georgia"/>
              </a:rPr>
              <a:t>В работе используются химические методы качественного анализа, в ходе которых определяемый компонент (атомы, ионы, молекулы) переводят в соединение, обладающее характерным свойством (выпадает осадок, изменяется цвет раствора, выделяется газ и т.д.), на основании которого можно установить, что присутствует именно этот компонент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75444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й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Определение белков в пищевых продуктах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7" name="Picture 11" descr="fotka-3"/>
          <p:cNvPicPr/>
          <p:nvPr/>
        </p:nvPicPr>
        <p:blipFill>
          <a:blip r:embed="rId1"/>
          <a:stretch/>
        </p:blipFill>
        <p:spPr>
          <a:xfrm>
            <a:off x="5219640" y="3284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1 "Биуретовая реакция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26920" y="1770120"/>
            <a:ext cx="7921800" cy="22251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Биуретовая реакция – универсальная реакция на все белки, так как в ходе ее образуются координационные комплексные соединения ионов меди (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) с компонентами пептидных связей белков. Универсальность опыта демонстрируем, проводя его со следующими пищевыми продуктами: молоком, молочными продуктами (простокваша, сметана, кефир, творог), мукой (смесь с водой), крупой (любая крупа, размоченная или разваренная до кашеобразного состояния), бобовыми (горох, фасоль, бобы, соя), размельченными мясом или рыбой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К 0,5 мл раствора белка добавляют столько же 10% раствора 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 и 6-10 капель 1% раствора 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uSO</a:t>
            </a:r>
            <a:r>
              <a:rPr b="1" lang="ru-RU" sz="10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. Голубая окраска раствора, свойственная солям меди (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), по мере образования комплексного соединения переходит в сиреневую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788000" y="4726800"/>
            <a:ext cx="3960720" cy="137268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Это качественная реакция на пептидные связи, которые есть во всех белках, т.к. удерживают первичную структуру белка, то есть последовательность чередования различных аминокислотныхых звеньев в полипептидной цеп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1" name="Picture 7" descr="GCH_3C24_07Nd"/>
          <p:cNvPicPr/>
          <p:nvPr/>
        </p:nvPicPr>
        <p:blipFill>
          <a:blip r:embed="rId1"/>
          <a:stretch/>
        </p:blipFill>
        <p:spPr>
          <a:xfrm>
            <a:off x="971640" y="4083120"/>
            <a:ext cx="339084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2 "Ксантопротеиновая реакция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24000" y="1501200"/>
            <a:ext cx="8569080" cy="1585800"/>
          </a:xfrm>
          <a:prstGeom prst="rect">
            <a:avLst/>
          </a:prstGeom>
          <a:solidFill>
            <a:srgbClr val="0099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Это реакция обнаружения ароматических аминокислот в белке: тирозина, фенилаланина, триптофана и других. Выполняем этот опыт с различными белками. Это докажет, что ксантопротеиновая реакция не универсальна и может давать ложно отрицательный тест на белок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К 1 мл раствора белка или к образцу белковой ткани (молока, молочные продукты, белок яйца, раствор желатина, мясо птицы, крупы и т.д.) добавляют несколько капель концентрированной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HNO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3, доводят до кипения, охлаждают. В некоторых пробирках появится желтое окрашивание ароматических нитросоединений: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564000" y="3494880"/>
            <a:ext cx="4753080" cy="1554120"/>
          </a:xfrm>
          <a:prstGeom prst="rect">
            <a:avLst/>
          </a:prstGeom>
          <a:solidFill>
            <a:srgbClr val="0099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Для усиления окраски в охлажденные растворы приливают несколько капель концентрированного раствора 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 или раствора аммиака (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N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f8f8f8"/>
                </a:solidFill>
                <a:latin typeface="Symbol"/>
                <a:ea typeface="Symbol"/>
              </a:rPr>
              <a:t>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), желтая окраска перейдет в оранжевую и усилит разницу в окраске образцов: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Picture 9" descr="L24p8p00"/>
          <p:cNvPicPr/>
          <p:nvPr/>
        </p:nvPicPr>
        <p:blipFill>
          <a:blip r:embed="rId1"/>
          <a:stretch/>
        </p:blipFill>
        <p:spPr>
          <a:xfrm>
            <a:off x="1042920" y="3284640"/>
            <a:ext cx="1549440" cy="33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88000" y="1916280"/>
            <a:ext cx="2305080" cy="3168360"/>
          </a:xfrm>
          <a:prstGeom prst="rect">
            <a:avLst/>
          </a:prstGeom>
          <a:solidFill>
            <a:srgbClr val="0099cc">
              <a:alpha val="26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3 "Цистеиновая реакция"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5280" y="1923120"/>
            <a:ext cx="5977080" cy="316692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Эта реакция на определение серосодержащих белков. Опыт основан на разрушении белковой молекулы и образовании с серосодержащими группами черного осадка сульфида свинца (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Для выполнения опыта берем яичный белок и желатин, чтобы сравнить в них содержание серы. К 1 мл раствора белка приливают 1 мл 20% раствора 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, нагревают до кипения, добавляют 1-2 капли 0,5% раствора ацетата свинца (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f8f8f8"/>
                </a:solidFill>
                <a:latin typeface="Arial"/>
              </a:rPr>
              <a:t>):</a:t>
            </a:r>
            <a:br>
              <a:rPr sz="1600"/>
            </a:b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белок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     +     NaOH     +     (CH3COO)2Pb        </a:t>
            </a:r>
            <a:r>
              <a:rPr b="1" lang="en-US" sz="1400" spc="-1" strike="noStrike">
                <a:solidFill>
                  <a:srgbClr val="f8f8f8"/>
                </a:solidFill>
                <a:latin typeface="Symbol"/>
                <a:ea typeface="Symbol"/>
              </a:rPr>
              <a:t></a:t>
            </a: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        PbS</a:t>
            </a:r>
            <a:r>
              <a:rPr b="1" lang="en-US" sz="1400" spc="-1" strike="noStrike">
                <a:solidFill>
                  <a:srgbClr val="f8f8f8"/>
                </a:solidFill>
                <a:latin typeface="Symbol"/>
                <a:ea typeface="Symbol"/>
              </a:rPr>
              <a:t>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8f8f8"/>
                </a:solidFill>
                <a:latin typeface="Arial"/>
              </a:rPr>
              <a:t>черный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9" name="Picture 7" descr="fotka-4"/>
          <p:cNvPicPr/>
          <p:nvPr/>
        </p:nvPicPr>
        <p:blipFill>
          <a:blip r:embed="rId1"/>
          <a:stretch/>
        </p:blipFill>
        <p:spPr>
          <a:xfrm>
            <a:off x="6948360" y="2060640"/>
            <a:ext cx="1562400" cy="28861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5580000" y="623736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5148360" y="3500280"/>
            <a:ext cx="3311280" cy="252108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потеза №3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лки подвергаются ферментативному гидролизу и денатур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375444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Методика исследован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Используя химические реакции взаимодействия коллоидных растворов белков с растворами солей, кислот, спиртов, альдегидов исследуем денатурацию белков и явление ферментативного гидролиз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я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Проводим ферментативный гидролиз белков и денатурацию солями тяжелых металлов, кислотам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5" name="Picture 9" descr="fotka-2"/>
          <p:cNvPicPr/>
          <p:nvPr/>
        </p:nvPicPr>
        <p:blipFill>
          <a:blip r:embed="rId1"/>
          <a:stretch/>
        </p:blipFill>
        <p:spPr>
          <a:xfrm>
            <a:off x="5292720" y="3645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1 "Ферментативный гидролиз белков"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26920" y="1912680"/>
            <a:ext cx="7561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Опыт служит моделью переваривания белков пищи. Для выполнения опыта необходимы растворы яичного белка – пища, пептидазы (можно использовать лекарственные препараты – "фестал", "панзинорм", "панкреатин") – фермент, насыщенный раствор (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NH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SO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 – высаливающий агент (вещество, вызывающее выпадение белков в осадок)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В пробирку №1 (контрольная) к 1 мл раствора белка приливают 1 мл дистиллированной воды. В пробирку №2 к 1 мл раствора белка приливают 1 мл раствора фермента. Ставят пробирки на 20-30 минут в теплую воду при температуре 30-37</a:t>
            </a:r>
            <a:r>
              <a:rPr b="0" lang="ru-RU" sz="1400" spc="-1" strike="noStrike">
                <a:solidFill>
                  <a:srgbClr val="f8f8f8"/>
                </a:solidFill>
                <a:latin typeface="Symbol"/>
                <a:ea typeface="Symbol"/>
              </a:rPr>
              <a:t>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 (идет процесс переваривания). Через 30 минут в обе пробирки добавляют по 2 мл насыщенного раствора (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NH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SO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  и по несколько кристалликов этой же соли. В 1 пробирке наблюдается обильное выпадение белка, во 2 – осадок выпадает в незначительном количестве (или вообще не образуется), так как белок гидролизовался (переварился):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8" name="Picture 5" descr="formula-5"/>
          <p:cNvPicPr/>
          <p:nvPr/>
        </p:nvPicPr>
        <p:blipFill>
          <a:blip r:embed="rId1"/>
          <a:stretch/>
        </p:blipFill>
        <p:spPr>
          <a:xfrm>
            <a:off x="2411280" y="4653000"/>
            <a:ext cx="436248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ыт №2 "Денатурация белков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73340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</a:rPr>
              <a:t>Денатурация белков – частичное или полное разрушение пространственной структуры при сохранении первичной структуры. Она может быть обратимой и необратимой.. Существует множество факторов, вызывающих денатурацию белков. Исследуем денатурацию белков солями тяжелых металлов, растворами минеральных и органических кислот, спиртами, альдегидами и выясним степень влияния различных факторов на денатурацию различных растворимых белков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79280" y="2762280"/>
            <a:ext cx="8964720" cy="27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8f8f8"/>
                </a:solidFill>
                <a:uFillTx/>
                <a:latin typeface="Arial"/>
              </a:rPr>
              <a:t>А. Денатурация белка ионами тяжелых металлов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шесть пробирок наливают 3-5 капель яичного белка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молока или желатина.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Добавляют по 2-3 капли насыщенных растворов солей: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1 пробирку – (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OO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)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Pb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о 2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uSO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3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gNO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в 4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lCl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5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rCl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в 6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eCl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Ставят пробирки в штатив и наблюдают за образованием осадков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8f8f8"/>
                </a:solidFill>
                <a:uFillTx/>
                <a:latin typeface="Arial"/>
              </a:rPr>
              <a:t>Б. Денатурация белка кислотами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3 пробирки наливают по 3-5 капель раствора яичного белка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желатина или молока. Добавляют по 2-3 капли раствора кислот: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1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H</a:t>
            </a:r>
            <a:r>
              <a:rPr b="0" lang="ru-RU" sz="9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COOH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во 2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Cl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в 3 пробирку –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PO</a:t>
            </a:r>
            <a:r>
              <a:rPr b="0" lang="ru-RU" sz="1000" spc="-1" strike="noStrike">
                <a:solidFill>
                  <a:srgbClr val="f8f8f8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</a:rPr>
              <a:t>Ставят пробирки в штатив и наблюдают за образованием осадков.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651640" y="630864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3" name="Picture 8" descr="02"/>
          <p:cNvPicPr/>
          <p:nvPr/>
        </p:nvPicPr>
        <p:blipFill>
          <a:blip r:embed="rId1"/>
          <a:stretch/>
        </p:blipFill>
        <p:spPr>
          <a:xfrm>
            <a:off x="755640" y="2960640"/>
            <a:ext cx="2079720" cy="38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582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4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проявляют амфотерн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235400" cy="3463920"/>
          </a:xfrm>
          <a:prstGeom prst="rect">
            <a:avLst/>
          </a:prstGeom>
          <a:solidFill>
            <a:srgbClr val="0099cc">
              <a:alpha val="19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Методика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С помощью химических реакций доказываем амфотерный характер белков; при проведении опытов используем титриметрический анализ.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55680" y="1916280"/>
            <a:ext cx="3754440" cy="3457440"/>
          </a:xfrm>
          <a:prstGeom prst="rect">
            <a:avLst/>
          </a:prstGeom>
          <a:solidFill>
            <a:srgbClr val="0099cc">
              <a:alpha val="22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я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Проводим взаимодействие белков с кислотами и со щелочами, т.е. доказываем их амфотерный характер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Взаимодействие с кисл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39640" y="2060280"/>
            <a:ext cx="8121600" cy="1465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В 1 пробирку наливают 5 капель раствора белка, во 2 пробирку – столько же дистиллированной воды. Затем в обе пробирки добавляют по 2 капли метилоранжа и тщательно перемешивают. Содержимое пробирок титруют 0,1 н раствором хлороводородной кислоты до появления розового окрашивания, считая капл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9" name="Picture 8" descr="L1p07p00"/>
          <p:cNvPicPr/>
          <p:nvPr/>
        </p:nvPicPr>
        <p:blipFill>
          <a:blip r:embed="rId1"/>
          <a:stretch/>
        </p:blipFill>
        <p:spPr>
          <a:xfrm>
            <a:off x="2700360" y="3716280"/>
            <a:ext cx="3830760" cy="28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56000" y="2997000"/>
            <a:ext cx="6246720" cy="3671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Autofit/>
          </a:bodyPr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Проблема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Цель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Объект исследования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Гипотезы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Гипотеза 1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Гипотеза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2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Гипотеза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3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Гипотеза </a:t>
            </a: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4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lvl="1" marL="988920" indent="-2696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8f8f8"/>
                </a:solidFill>
                <a:latin typeface="Arial"/>
              </a:rPr>
              <a:t>Гипотеза </a:t>
            </a: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5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Анализ результатов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539640" indent="-53964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Взаимодействие со щелоч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1704960"/>
            <a:ext cx="7697520" cy="1739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В 1 пробирку наливают 5 капель раствора белка, во вторую – столько же дистиллированной воды. В обе пробирки добавляют по 2 капли фенолфталеина. Содержимое пробирок титруют 0,1 н раствором 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 до появления малинового окрашивания, ведя счет каплям. В ходе опыта выясняется, что различные белки обладают различной буферной емкостью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904000" y="648180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Picture 6" descr="01"/>
          <p:cNvPicPr/>
          <p:nvPr/>
        </p:nvPicPr>
        <p:blipFill>
          <a:blip r:embed="rId1"/>
          <a:stretch/>
        </p:blipFill>
        <p:spPr>
          <a:xfrm>
            <a:off x="2556000" y="3573360"/>
            <a:ext cx="398448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1578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5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обладают различными биологическими функц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72280"/>
          </a:xfrm>
          <a:prstGeom prst="rect">
            <a:avLst/>
          </a:prstGeom>
          <a:solidFill>
            <a:srgbClr val="0099cc">
              <a:alpha val="21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8f8f8"/>
                </a:solidFill>
                <a:uFillTx/>
                <a:latin typeface="Arial"/>
              </a:rPr>
              <a:t>Методика исследован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Изучив различную научно-популярную литературу по этому вопросу, выясним, что функции белков многообразны</a:t>
            </a: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55680" y="1980720"/>
            <a:ext cx="3754440" cy="4472280"/>
          </a:xfrm>
          <a:prstGeom prst="rect">
            <a:avLst/>
          </a:prstGeom>
          <a:solidFill>
            <a:srgbClr val="0099cc">
              <a:alpha val="22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8f8f8"/>
                </a:solidFill>
                <a:uFillTx/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Белки – основная структурная часть любого живого организма, а также неотъемлемая часть пищи животных и человека. При исключении из рациона белкового компонента, несмотря на достаточную калорийность пищи, у живых организмов наблюдаются патологические явления: остановка роста, изменение состава крови и другое. Огромное значение белков для живых организмов связано с разнообразием функций, которые они выполняют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7" name="Picture 7" descr="L23p02p02"/>
          <p:cNvPicPr/>
          <p:nvPr/>
        </p:nvPicPr>
        <p:blipFill>
          <a:blip r:embed="rId1"/>
          <a:stretch/>
        </p:blipFill>
        <p:spPr>
          <a:xfrm>
            <a:off x="1187280" y="3933720"/>
            <a:ext cx="326736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1582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функции белк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Ферментатив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Регулято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Транспорт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Структур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Защит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8f8f8"/>
                </a:solidFill>
                <a:uFillTx/>
                <a:latin typeface="Arial"/>
              </a:rPr>
              <a:t>Сигнальна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24000" y="5590440"/>
            <a:ext cx="85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8f8f8"/>
                </a:solidFill>
                <a:latin typeface="Arial"/>
              </a:rPr>
              <a:t>Если значение белков настолько велико, то именно эти вещества должны обладать совершенно особенными свойствами, обусловленными уникальным составом и особым строением молекулы.   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435640" y="630864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1582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нализ полученных результато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1280" y="1785960"/>
            <a:ext cx="7848360" cy="4483080"/>
          </a:xfrm>
          <a:prstGeom prst="rect">
            <a:avLst/>
          </a:prstGeom>
          <a:solidFill>
            <a:srgbClr val="0099cc">
              <a:alpha val="19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8f8f8"/>
                </a:solidFill>
                <a:latin typeface="Arial"/>
              </a:rPr>
              <a:t>В ходе выполнения работы мы выяснили, что белки – это природные азотсодержащие полимеры, со сложным составом и строением молекул. Все белки являются полипептидами, но не всякий полипептид является белком. Каждый белок имеет свое специфическое (индивидуальное и постоянное) строение. Белки полифункциональны. Свойства белков также разнообразны, как и функции, которые они выполняют. Распознать их среди других веществ можно с помощью качественных реакций. Белки реагируют с другими веществами по пептидным связям или аминокислотным группам, проявляют амфотерный характер. Белки подвергаются осаждению: обратимому (высаливание) и необратимому (денатурация). Важное значение имеет ферментативный гидролиз белков. Таким образом, белки – необходимая составная часть пищи человека. Недостаток белков или нарушение процессов их усвоения (переваривание и всасывание) приводят к заболеваниям внутренних органов, болезням крови и ослаблению иммунитета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19640" y="623736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L23p02p01"/>
          <p:cNvPicPr/>
          <p:nvPr/>
        </p:nvPicPr>
        <p:blipFill>
          <a:blip r:embed="rId1"/>
          <a:stretch/>
        </p:blipFill>
        <p:spPr>
          <a:xfrm>
            <a:off x="150480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Белками  называют  природные  полимеры,  состоящие  из  большого  числа  остатков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-аминокислот,  связанных  между  собой  пептидными  связями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4" name="Picture 8" descr="L23p10p01"/>
          <p:cNvPicPr/>
          <p:nvPr/>
        </p:nvPicPr>
        <p:blipFill>
          <a:blip r:embed="rId2"/>
          <a:stretch/>
        </p:blipFill>
        <p:spPr>
          <a:xfrm>
            <a:off x="150480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1582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66116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Georgia"/>
              </a:rPr>
              <a:t>сформировать понятие о белках как биополимерах</a:t>
            </a:r>
            <a:r>
              <a:rPr b="0" i="1" lang="en-US" sz="3200" spc="-1" strike="noStrike">
                <a:solidFill>
                  <a:srgbClr val="f8f8f8"/>
                </a:solidFill>
                <a:latin typeface="Georgia"/>
              </a:rPr>
              <a:t>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Georgia"/>
              </a:rPr>
              <a:t>исследовать свойства белков</a:t>
            </a:r>
            <a:r>
              <a:rPr b="0" i="1" lang="en-US" sz="3200" spc="-1" strike="noStrike">
                <a:solidFill>
                  <a:srgbClr val="f8f8f8"/>
                </a:solidFill>
                <a:latin typeface="Georgia"/>
              </a:rPr>
              <a:t>;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8f8f8"/>
                </a:solidFill>
                <a:latin typeface="Georgia"/>
              </a:rPr>
              <a:t>раскрыть значение белков для живых организмов</a:t>
            </a:r>
            <a:r>
              <a:rPr b="0" i="1" lang="en-US" sz="3200" spc="-1" strike="noStrike">
                <a:solidFill>
                  <a:srgbClr val="f8f8f8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7" name="Rectangle 68"/>
          <p:cNvSpPr/>
          <p:nvPr/>
        </p:nvSpPr>
        <p:spPr>
          <a:xfrm>
            <a:off x="5148360" y="616572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ановка целей и задач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661520" cy="43923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изучение биологического строения белковых молекул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исследование химических свойств белков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определение белков в пищевых продуктах </a:t>
            </a:r>
            <a:br>
              <a:rPr sz="2400"/>
            </a:b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(качественные реакции на белки)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ферментативный гидролиз белков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денатурация белков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амфотерность белков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изучение биологических функций белков;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сделать вывод о роли белков для живых организмов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219640" y="638172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9"/>
          <p:cNvSpPr/>
          <p:nvPr/>
        </p:nvSpPr>
        <p:spPr>
          <a:xfrm>
            <a:off x="4716360" y="1989000"/>
            <a:ext cx="4032360" cy="4104000"/>
          </a:xfrm>
          <a:prstGeom prst="rect">
            <a:avLst/>
          </a:prstGeom>
          <a:solidFill>
            <a:srgbClr val="0099cc">
              <a:alpha val="19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ор объекта исслед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754440" cy="411480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8f8f8"/>
                </a:solidFill>
                <a:latin typeface="Arial"/>
              </a:rPr>
              <a:t>В качестве объекта исследования используем белки, входящие в состав пищевых продуктов: молока, кисло-молочных продуктов, куриного яйца, муки, крупы, бобовых культур, мяса, рыбы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4" name="Picture 41" descr="fotka-1"/>
          <p:cNvPicPr/>
          <p:nvPr/>
        </p:nvPicPr>
        <p:blipFill>
          <a:blip r:embed="rId1"/>
          <a:stretch/>
        </p:blipFill>
        <p:spPr>
          <a:xfrm>
            <a:off x="5148360" y="2565360"/>
            <a:ext cx="3240000" cy="2849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2"/>
          <p:cNvSpPr/>
          <p:nvPr/>
        </p:nvSpPr>
        <p:spPr>
          <a:xfrm>
            <a:off x="5508720" y="6237360"/>
            <a:ext cx="32400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1582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ипотеза №1.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лки – это природные биополимеры, имеющие сложную структу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5435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Методика исследования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8f8f8"/>
                </a:solidFill>
                <a:latin typeface="Georgia"/>
              </a:rPr>
              <a:t>Используя научно-популярную литературу по данному вопросу, изучим состав и строение белков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5680" y="1980720"/>
            <a:ext cx="3754440" cy="45435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Ход исследования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8f8f8"/>
                </a:solidFill>
                <a:latin typeface="Arial"/>
              </a:rPr>
              <a:t>Вещества белковой природы известны с древних времен. Начало их изучения положено в середине </a:t>
            </a:r>
            <a:r>
              <a:rPr b="0" i="1" lang="en-US" sz="1600" spc="-1" strike="noStrike">
                <a:solidFill>
                  <a:srgbClr val="f8f8f8"/>
                </a:solidFill>
                <a:latin typeface="Arial"/>
              </a:rPr>
              <a:t>XVIII</a:t>
            </a:r>
            <a:r>
              <a:rPr b="0" i="1" lang="ru-RU" sz="1600" spc="-1" strike="noStrike">
                <a:solidFill>
                  <a:srgbClr val="f8f8f8"/>
                </a:solidFill>
                <a:latin typeface="Arial"/>
              </a:rPr>
              <a:t> века итальянцем Я. Беккари, но только через 100 лет ученым удалось систематизировать свойства изучаемых белков, определить их состав и сделать вывод, что белки – это главный компонент живых организмов. Затем из белковых гидролизатов были получены продукты расщепления и возникли гипотезы о строении белков из аминокислот. Немецкий химик Эмиль Фишер первым выяснил, как построены молекулы белков, и заложил основы химического синтеза.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9" name="Picture 6" descr="{26B43379-B857-4D0B-B4D4-D0D71255DC74}"/>
          <p:cNvPicPr/>
          <p:nvPr/>
        </p:nvPicPr>
        <p:blipFill>
          <a:blip r:embed="rId1"/>
          <a:stretch/>
        </p:blipFill>
        <p:spPr>
          <a:xfrm>
            <a:off x="1116000" y="3645000"/>
            <a:ext cx="3327480" cy="24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2"/>
          <p:cNvSpPr/>
          <p:nvPr/>
        </p:nvSpPr>
        <p:spPr>
          <a:xfrm>
            <a:off x="2268360" y="4221000"/>
            <a:ext cx="4680000" cy="2448000"/>
          </a:xfrm>
          <a:prstGeom prst="rect">
            <a:avLst/>
          </a:prstGeom>
          <a:solidFill>
            <a:srgbClr val="0099cc">
              <a:alpha val="31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Первичная структура 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250920" y="1836720"/>
            <a:ext cx="864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Times New Roman"/>
              </a:rPr>
              <a:t>Первичная структура белка определяется специфической последовательностью остатков аминокислот в его молекуле. В составе белков обнаружено более 20 </a:t>
            </a:r>
            <a:r>
              <a:rPr b="0" lang="ru-RU" sz="1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Times New Roman"/>
              </a:rPr>
              <a:t>-аминокислот, с общей формулой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50920" y="272232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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H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f8f8f8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– боковой радикал аминокислоты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зличное строение радикалов аминокислот обусловливает разнообразие белков и их биологические свойства. Аминокислотные остатки соединены в макромолекуле белка пептидными связям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14" name="Group 24"/>
          <p:cNvGrpSpPr/>
          <p:nvPr/>
        </p:nvGrpSpPr>
        <p:grpSpPr>
          <a:xfrm>
            <a:off x="1763640" y="2923920"/>
            <a:ext cx="235080" cy="345600"/>
            <a:chOff x="1763640" y="2923920"/>
            <a:chExt cx="235080" cy="345600"/>
          </a:xfrm>
        </p:grpSpPr>
        <p:sp>
          <p:nvSpPr>
            <p:cNvPr id="115" name="Line 25"/>
            <p:cNvSpPr/>
            <p:nvPr/>
          </p:nvSpPr>
          <p:spPr>
            <a:xfrm flipH="1" flipV="1">
              <a:off x="1763640" y="3164760"/>
              <a:ext cx="228240" cy="1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 flipV="1">
              <a:off x="1770480" y="2923920"/>
              <a:ext cx="228240" cy="104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117" name="Picture 60" descr="formula-1"/>
          <p:cNvPicPr/>
          <p:nvPr/>
        </p:nvPicPr>
        <p:blipFill>
          <a:blip r:embed="rId1"/>
          <a:stretch/>
        </p:blipFill>
        <p:spPr>
          <a:xfrm>
            <a:off x="2556000" y="4365720"/>
            <a:ext cx="415260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Вторичная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структура белк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24000" y="1731600"/>
            <a:ext cx="3673440" cy="201204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Arial"/>
                <a:ea typeface="Times New Roman"/>
              </a:rPr>
              <a:t>Вторичная структура характеризуется пространственной конфигурацией, которую принимает молекула белка. Наиболее часто вторичной структурой белка является спираль, которую удерживают водородные связи, образующиеся между группами 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00" y="3718440"/>
            <a:ext cx="3671640" cy="2163960"/>
          </a:xfrm>
          <a:prstGeom prst="rect">
            <a:avLst/>
          </a:prstGeom>
          <a:solidFill>
            <a:srgbClr val="0099cc">
              <a:alpha val="2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O                          H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C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 </a:t>
            </a:r>
            <a:r>
              <a:rPr b="0" lang="en-US" sz="1200" spc="-1" strike="noStrike">
                <a:solidFill>
                  <a:srgbClr val="f8f8f8"/>
                </a:solidFill>
                <a:latin typeface="Symbol"/>
                <a:ea typeface="Symbol"/>
              </a:rPr>
              <a:t></a:t>
            </a:r>
            <a:r>
              <a:rPr b="0" lang="ru-RU" sz="1200" spc="-1" strike="noStrike">
                <a:solidFill>
                  <a:srgbClr val="f8f8f8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находящимися на разных витках. На один виток спирали приходится 3,6 аминокислотных остатка. Радикалы аминокислотных звеньев обращены наружу, что позволяет их функциональным группам вступать в разнообразные химические реакции.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1595520" y="9674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811160" y="9890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027160" y="10105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1116000" y="4005360"/>
            <a:ext cx="0" cy="144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042920" y="4005360"/>
            <a:ext cx="0" cy="144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340000" y="4005360"/>
            <a:ext cx="0" cy="1443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7" name="Picture 15" descr="6elok2"/>
          <p:cNvPicPr/>
          <p:nvPr/>
        </p:nvPicPr>
        <p:blipFill>
          <a:blip r:embed="rId1"/>
          <a:stretch/>
        </p:blipFill>
        <p:spPr>
          <a:xfrm>
            <a:off x="6084720" y="1989000"/>
            <a:ext cx="145908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5:23:08Z</dcterms:created>
  <dc:creator>H.e.k.p.o</dc:creator>
  <dc:description/>
  <dc:language>en-US</dc:language>
  <cp:lastModifiedBy>User</cp:lastModifiedBy>
  <dcterms:modified xsi:type="dcterms:W3CDTF">2013-03-25T12:27:42Z</dcterms:modified>
  <cp:revision>85</cp:revision>
  <dc:subject>Творческое задание команды 03-06 "Диполь" УВК №2 город Воронеж</dc:subject>
  <dc:title>Творческое задание команды 03-06 "Диполь" УВК №2 город Воронеж</dc:title>
</cp:coreProperties>
</file>