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6C85-7628-4A4D-87E3-95CB4A8F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CFEA-1CB5-4D85-9C9E-A97C5F31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56A1-CDBD-4900-BD4F-E6EABE31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9D98-1273-43CC-9E09-C053CD51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FEA3-6E66-4443-A477-581C2BAF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72A2-3AD9-42A5-BE5F-A67A0D98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CA7E-EB00-475D-8239-9110C285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6F59-2C3D-4C1B-82B6-F887EDBD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BDBE-48EB-4EA3-8A70-ABF6D2DE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5A04-7722-4E82-86E7-26E0C964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D316-8062-43F9-947B-CE0F1929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B3E-817B-440A-BAA6-4C88FBC7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0D6C-45D2-4F47-9153-AE042667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CDF4-3FD7-49A5-BBCB-734FFF1F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E563-C142-4DDA-BBCA-89FB9952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EA9E-E68C-4622-A35F-DFD959D1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9BBF-DD04-4F21-9E72-82509D7F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19C8-F56F-4EFF-9B97-4803BF08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1249-B90C-4178-B5A8-B267789C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AA3D-71C6-4945-AD8C-1C95C11F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761-9374-42FD-98C8-0EE9BFAD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65FC-823C-4384-8AA0-9A836318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6522-F5EC-4A85-B730-DC0E6BB6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90A6-0C89-4BB8-8375-E0CB3FBC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1AEF-CD72-4857-A1B6-4E01EC70DF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6617-A82B-4C04-BB00-361C24F5D8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8203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</a:rPr>
              <a:t>Курение или здоровье – выбирайте сами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0560" y="2781000"/>
            <a:ext cx="88930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абак приносит вред телу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зрушает разум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            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отупляет целые нации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Оноре де Бальза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думай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14680" y="1442880"/>
            <a:ext cx="571500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ред кур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урение сокращает жизнь в среднем на 10 – 12 л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к легкого - 9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ругие виды рака - 45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сульты, инфаркты - 25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ангрена -25 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ннее стар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сплод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КОТИНОВАЯ ЗАВИСИМОСТЬ ПО СИЛЕ СОПОСТАВИМА С ГЕРОИН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Истинный состав сигарет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704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абачный дым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Легкие курильщ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43280" y="1457280"/>
            <a:ext cx="2800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 чему приводит куре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867280" y="981000"/>
            <a:ext cx="3081600" cy="4530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2828880" cy="4762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771640" y="2276640"/>
            <a:ext cx="3229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 вы задумывались об этом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333600" cy="4762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427640" y="2637000"/>
            <a:ext cx="3809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Вот какими должны быть пачки сигарет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76360" y="1822320"/>
            <a:ext cx="633564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6:02:53Z</dcterms:created>
  <dc:creator>Лариса</dc:creator>
  <dc:description/>
  <dc:language>en-US</dc:language>
  <cp:lastModifiedBy>Лариса</cp:lastModifiedBy>
  <dcterms:modified xsi:type="dcterms:W3CDTF">2009-12-06T21:01:52Z</dcterms:modified>
  <cp:revision>4</cp:revision>
  <dc:subject/>
  <dc:title>Слайд 1</dc:title>
</cp:coreProperties>
</file>