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07D35-3C67-4BA8-BE81-FF5D1B6F9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57B9C-9833-412A-97EE-B433DCA4F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39719-3D13-49D1-88A7-C074B6424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AD8D8-EE32-4386-8FE1-939211C5A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4F283-F50D-4CDB-B585-47848A443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DDB32-C737-426A-B878-C393D2E3D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21638-23FA-4778-81F6-83B754919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DC07B-6555-49B4-8390-EA9829BD2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E347B-9CB8-49AE-AA98-2463C31FE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CCFA5-7216-46B8-9762-092CDD7B1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249D1-4700-49A4-9C3C-07CD75401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6C77C-7CF6-401C-885A-C2C676968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51D6B-C4EE-433C-8759-F8487B5EC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BDA54-703D-43B3-8651-FC7EFCFF4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EFAF4-D99E-46D5-B2CD-2B1779169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AA1E4-6FED-40B9-BC6C-E4730E4F3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220E5-38FC-4E30-9038-3422385BC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45D3C-F562-4787-AB2A-755CEBA5F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8AA53-28FC-4995-A36C-30C227C9B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4595D-2059-4EB8-AFBE-A2151C287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A6C87-0442-4ACB-8507-453B74A8C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78C85-8E9A-4BF0-8EC4-D92F8354A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059D8-4039-4575-A60B-040D9BD00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FDE41-6C74-4736-802E-4775F5F17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71C5E-6E10-4A81-918C-C1E9A5C5BF1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16765-6563-4CDC-8146-ECDFCEE438A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8920" y="333360"/>
            <a:ext cx="8820360" cy="26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66"/>
                </a:solidFill>
                <a:latin typeface="Arial"/>
              </a:rPr>
              <a:t>Курение или здоровье – выбирайте сами</a:t>
            </a:r>
            <a:endParaRPr b="0" lang="en-US" sz="6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250560" y="2781000"/>
            <a:ext cx="889308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Табак приносит вред телу,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разрушает разум,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             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отупляет целые нации…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                  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Оноре де Бальзак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Подумай…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714680" y="1442880"/>
            <a:ext cx="5715000" cy="397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Вред курения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Курение сокращает жизнь в среднем на 10 – 12 ле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Рак легкого - 90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Другие виды рака - 45 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Инсульты, инфаркты - 25 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Гангрена -25 %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Раннее старени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Бесплод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НИКОТИНОВАЯ ЗАВИСИМОСТЬ ПО СИЛЕ СОПОСТАВИМА С ГЕРОИНОВО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8353440" cy="619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Истинный состав сигареты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755640" y="1341360"/>
            <a:ext cx="770400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Табачный дым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8207280" cy="48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Легкие курильщика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2843280" y="1457280"/>
            <a:ext cx="280044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К чему приводит курение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5867280" y="981000"/>
            <a:ext cx="3081600" cy="4530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0" y="1125360"/>
            <a:ext cx="2828880" cy="47628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2771640" y="2276640"/>
            <a:ext cx="322920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А вы задумывались об этом?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684360" y="1700280"/>
            <a:ext cx="3333600" cy="476244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4427640" y="2637000"/>
            <a:ext cx="380988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Вот какими должны быть пачки сигарет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476360" y="1822320"/>
            <a:ext cx="6335640" cy="398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5T16:02:53Z</dcterms:created>
  <dc:creator>Лариса</dc:creator>
  <dc:description/>
  <dc:language>en-US</dc:language>
  <cp:lastModifiedBy>Лариса</cp:lastModifiedBy>
  <dcterms:modified xsi:type="dcterms:W3CDTF">2009-12-06T21:01:52Z</dcterms:modified>
  <cp:revision>4</cp:revision>
  <dc:subject/>
  <dc:title>Слайд 1</dc:title>
</cp:coreProperties>
</file>