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762-F15B-442D-A632-6A2378CA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D83-C878-4C38-A598-B1F8978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F4A-622F-4FBB-BFDF-37369C97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C2E-A594-4416-B44D-FA7CE283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587-0067-4227-AABA-352A2AA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298-E97F-45E5-8263-C930C8E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1C2-108D-47B2-B05B-6C8ACFA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7DB-332B-4628-A3A4-D6CC83B6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3E6-A2FB-4B44-8D90-CF7575AD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05F-FCCD-4302-B233-0FA7A48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B82-20C4-44A2-ADC5-2BBD4C40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C9A-1CE2-49E1-84B2-107DFF4A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47DE-6E4D-4562-A942-ED28BD67C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9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Шаравин Владимир Харитонович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21 января 1927 года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DC19262"/>
          <p:cNvPicPr/>
          <p:nvPr/>
        </p:nvPicPr>
        <p:blipFill>
          <a:blip r:embed="rId2"/>
          <a:stretch/>
        </p:blipFill>
        <p:spPr>
          <a:xfrm>
            <a:off x="0" y="14479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 сентября 1984 года вышла замуж вторая дочь. 7 Января 1995 года, родилась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DC19266"/>
          <p:cNvPicPr/>
          <p:nvPr/>
        </p:nvPicPr>
        <p:blipFill>
          <a:blip r:embed="rId1"/>
          <a:stretch/>
        </p:blipFill>
        <p:spPr>
          <a:xfrm>
            <a:off x="0" y="1752480"/>
            <a:ext cx="5562720" cy="510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DC10774"/>
          <p:cNvPicPr/>
          <p:nvPr/>
        </p:nvPicPr>
        <p:blipFill>
          <a:blip r:embed="rId2"/>
          <a:stretch/>
        </p:blipFill>
        <p:spPr>
          <a:xfrm>
            <a:off x="5562720" y="1752480"/>
            <a:ext cx="3581280" cy="510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душка ушел на пенсию в звании майор. Умирал он страшно и мучительно. Сказалось второе ранение, барабанной перепонки . А диагноз врачи поставили «Обширная опухоль головного мозга правого полушария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4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ября1985 года он ум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SDC19277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10080" y="0"/>
            <a:ext cx="37339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, за побед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1627845"/>
          <p:cNvPicPr/>
          <p:nvPr/>
        </p:nvPicPr>
        <p:blipFill>
          <a:blip r:embed="rId2"/>
          <a:stretch/>
        </p:blipFill>
        <p:spPr>
          <a:xfrm>
            <a:off x="533412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тец : Шаравин Харитон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нисович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ать : Шаравина Екатерина Тимофеев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DC19256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6278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рат : Шаравин Николай  Харитонович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923 года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шёл всю войну . Но  в каком звании, в каком месте служил, к сожалению не изв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SDC19263"/>
          <p:cNvPicPr/>
          <p:nvPr/>
        </p:nvPicPr>
        <p:blipFill>
          <a:blip r:embed="rId2"/>
          <a:stretch/>
        </p:blipFill>
        <p:spPr>
          <a:xfrm>
            <a:off x="4800600" y="1981080"/>
            <a:ext cx="3962520" cy="487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16278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ушка, добровольцем ушел на фронт в 1943 году. Сразу же попал на Курскую дугу. Станция Боянь. Год был минометчиком, но в первом бою получил осколочное ранение в правую н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SDC19292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л войну в 1945 году в Берлине, танкистом. Бил врага на танке Т-3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DC19262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DC19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DC19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ноября 1956 года родилась первая дочь. В городе Симфероп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 АПРЕЛЯ 1958 года родилась вторая дочь. В городе Улан-Уд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DC19318"/>
          <p:cNvPicPr/>
          <p:nvPr/>
        </p:nvPicPr>
        <p:blipFill>
          <a:blip r:embed="rId1"/>
          <a:stretch/>
        </p:blipFill>
        <p:spPr>
          <a:xfrm>
            <a:off x="0" y="2362320"/>
            <a:ext cx="917244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9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1979 старшая дочь вышла замуж,  за офицера .Он служил 1,5 года в Авганистане.6 месяцев в Чернобыле. Вскоре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родились два сы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P1104973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9T22:21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