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4CE-1C20-4984-9BE1-F8CBFC68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D5B-A845-43AC-AD52-B17DB086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12F-6ADD-417D-AD25-DE0D9B20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3A0-1A95-48F0-B276-76EE43F0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6B2-D18C-4C82-913D-B117F1F0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70F-94DA-44FC-905F-7A37DC26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85A-9441-40C4-8CD0-A5B65525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0FF-255C-46A2-8236-7C1D22B9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4F3-908E-425E-AB4D-C7630FB6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B5C-3A35-48FC-B329-A43DF09C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7EC-00E5-4B00-857C-10E812F8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554-2B3A-4E14-A0CB-28C57EB1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C87-A04D-477B-85DA-09DBEA3A9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9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Шаравин Владимир Харитонович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21 января 1927 года р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DC19262"/>
          <p:cNvPicPr/>
          <p:nvPr/>
        </p:nvPicPr>
        <p:blipFill>
          <a:blip r:embed="rId2"/>
          <a:stretch/>
        </p:blipFill>
        <p:spPr>
          <a:xfrm>
            <a:off x="0" y="1447920"/>
            <a:ext cx="4800600" cy="5410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9 сентября 1984 года вышла замуж вторая дочь. 7 Января 1995 года, родилась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DC19266"/>
          <p:cNvPicPr/>
          <p:nvPr/>
        </p:nvPicPr>
        <p:blipFill>
          <a:blip r:embed="rId1"/>
          <a:stretch/>
        </p:blipFill>
        <p:spPr>
          <a:xfrm>
            <a:off x="0" y="1752480"/>
            <a:ext cx="5562720" cy="510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DC10774"/>
          <p:cNvPicPr/>
          <p:nvPr/>
        </p:nvPicPr>
        <p:blipFill>
          <a:blip r:embed="rId2"/>
          <a:stretch/>
        </p:blipFill>
        <p:spPr>
          <a:xfrm>
            <a:off x="5562720" y="1752480"/>
            <a:ext cx="3581280" cy="5105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душка ушел на пенсию в звании майор. Умирал он страшно и мучительно. Сказалось второе ранение, барабанной перепонки . А диагноз врачи поставили «Обширная опухоль головного мозга правого полушария»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4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ября1985 года он уме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SDC19277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10080" y="0"/>
            <a:ext cx="373392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, за победу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1627845"/>
          <p:cNvPicPr/>
          <p:nvPr/>
        </p:nvPicPr>
        <p:blipFill>
          <a:blip r:embed="rId2"/>
          <a:stretch/>
        </p:blipFill>
        <p:spPr>
          <a:xfrm>
            <a:off x="5334120" y="38862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тец : Шаравин Харитон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енисович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ать : Шаравина Екатерина Тимофеев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DC19256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16278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рат : Шаравин Николай  Харитонович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923 года р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шёл всю войну . Но  в каком звании, в каком месте служил, к сожалению не изв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SDC19263"/>
          <p:cNvPicPr/>
          <p:nvPr/>
        </p:nvPicPr>
        <p:blipFill>
          <a:blip r:embed="rId2"/>
          <a:stretch/>
        </p:blipFill>
        <p:spPr>
          <a:xfrm>
            <a:off x="4800600" y="1981080"/>
            <a:ext cx="3962520" cy="4876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16278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душка, добровольцем ушел на фронт в 1943 году. Сразу же попал на Курскую дугу. Станция Боянь. Год был минометчиком, но в первом бою получил осколочное ранение в правую н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SDC19292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ил войну в 1945 году в Берлине, танкистом. Бил врага на танке Т-3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SDC19262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SDC192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DC193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ноября 1956 года родилась первая дочь. В городе Симфероп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 АПРЕЛЯ 1958 года родилась вторая дочь. В городе Улан-Уд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SDC19318"/>
          <p:cNvPicPr/>
          <p:nvPr/>
        </p:nvPicPr>
        <p:blipFill>
          <a:blip r:embed="rId1"/>
          <a:stretch/>
        </p:blipFill>
        <p:spPr>
          <a:xfrm>
            <a:off x="0" y="2362320"/>
            <a:ext cx="917244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9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1979 старшая дочь вышла замуж,  за офицера .Он служил 1,5 года в Авганистане.6 месяцев в Чернобыле. Вскоре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родились два сы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P1104973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19T22:21:3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