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FC3-D29B-4784-AD39-71762B1E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171-BE6B-49A3-82EA-374748E5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7F3-98EE-43C7-98CF-67703132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8DF-21C1-44DC-9EE4-4E2C713B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C03-D969-46BC-B3E8-371347BD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4B9-BA3B-4027-A779-D0398816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18F-D10B-450A-9668-7CC8D3A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FF1-2216-4331-BE45-839C12A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77B-9953-4E0A-9E7A-7D30A49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7C9-071D-430B-982D-634E6158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7B5-9681-4E16-9B25-8986163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4CC-7A86-4B07-8B1E-469BEB1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B1C9-5403-4BDE-B7B1-B69434732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180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-311040" y="2335320"/>
            <a:ext cx="6089400" cy="1315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3"/>
          <a:stretch/>
        </p:blipFill>
        <p:spPr>
          <a:xfrm>
            <a:off x="1335240" y="5340240"/>
            <a:ext cx="74372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557520" y="214200"/>
            <a:ext cx="5586480" cy="55720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646200" y="5510160"/>
            <a:ext cx="699300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-285840" y="12600"/>
            <a:ext cx="60278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2041560" y="-55440"/>
            <a:ext cx="544968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-42840" y="5772240"/>
            <a:ext cx="87231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457200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1238400" y="66600"/>
            <a:ext cx="5497200" cy="1201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3"/>
          <a:stretch/>
        </p:blipFill>
        <p:spPr>
          <a:xfrm>
            <a:off x="-281160" y="5425920"/>
            <a:ext cx="9571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66880" y="1305000"/>
            <a:ext cx="381024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639720" y="285840"/>
            <a:ext cx="4511880" cy="903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857920"/>
            <a:ext cx="72723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5405400" cy="54054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3760920" y="231840"/>
            <a:ext cx="544968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244440" y="5346720"/>
            <a:ext cx="83329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5929560" cy="59292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4182840" cy="903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931000"/>
            <a:ext cx="69422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500800" y="285840"/>
            <a:ext cx="3500280" cy="52354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158760"/>
            <a:ext cx="5449680" cy="1152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-23760" y="5589720"/>
            <a:ext cx="9088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1:22:23Z</dcterms:created>
  <dc:creator>beerkof </dc:creator>
  <dc:description/>
  <dc:language>en-US</dc:language>
  <cp:lastModifiedBy>Comp_Instran_languare</cp:lastModifiedBy>
  <dcterms:modified xsi:type="dcterms:W3CDTF">2013-03-25T06:21:45Z</dcterms:modified>
  <cp:revision>18</cp:revision>
  <dc:subject/>
  <dc:title>  </dc:title>
</cp:coreProperties>
</file>