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EE0-29E6-4A60-B445-2E924192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F1C-2060-4ED0-B086-2C9CA66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AE0-CB0F-43A7-A314-AF8813CD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FBF-68C4-44CE-8E4A-52961CC7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050-86A7-4D79-8741-022374E8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308-9C6E-410A-A1A7-837FC143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C49-9004-4720-B386-84E08D54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A21-1AE4-4C58-B855-0442203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66D-CF43-4C3F-BC08-0D31668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1D9-A0B9-4135-A626-6EAB619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F61-1120-42F1-838C-01A8A50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5B3-FEA3-4B40-9593-D82D4E1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D3D2-B782-4A73-8AC4-E7A4D0A13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1802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-311040" y="2335320"/>
            <a:ext cx="6089400" cy="1315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3"/>
          <a:stretch/>
        </p:blipFill>
        <p:spPr>
          <a:xfrm>
            <a:off x="1335240" y="5340240"/>
            <a:ext cx="74372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557520" y="214200"/>
            <a:ext cx="5586480" cy="5572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646200" y="5510160"/>
            <a:ext cx="699300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3"/>
          <a:stretch/>
        </p:blipFill>
        <p:spPr>
          <a:xfrm>
            <a:off x="-285840" y="12600"/>
            <a:ext cx="60278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2041560" y="-5544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3" descr=""/>
          <p:cNvPicPr/>
          <p:nvPr/>
        </p:nvPicPr>
        <p:blipFill>
          <a:blip r:embed="rId3"/>
          <a:stretch/>
        </p:blipFill>
        <p:spPr>
          <a:xfrm>
            <a:off x="-42840" y="5772240"/>
            <a:ext cx="872316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4572000" cy="3810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1238400" y="66600"/>
            <a:ext cx="5497200" cy="1201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3"/>
          <a:stretch/>
        </p:blipFill>
        <p:spPr>
          <a:xfrm>
            <a:off x="-281160" y="5425920"/>
            <a:ext cx="9571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66880" y="1305000"/>
            <a:ext cx="381024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639720" y="285840"/>
            <a:ext cx="4511880" cy="903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857920"/>
            <a:ext cx="72723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5405400" cy="5405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3760920" y="23184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244440" y="5346720"/>
            <a:ext cx="8332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5929560" cy="59292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4182840" cy="903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3"/>
          <a:stretch/>
        </p:blipFill>
        <p:spPr>
          <a:xfrm>
            <a:off x="927000" y="5931000"/>
            <a:ext cx="69422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500280" cy="52354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158760"/>
            <a:ext cx="5449680" cy="1152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-23760" y="5589720"/>
            <a:ext cx="9088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21:22:23Z</dcterms:created>
  <dc:creator>beerkof </dc:creator>
  <dc:description/>
  <dc:language>en-US</dc:language>
  <cp:lastModifiedBy>Comp_Instran_languare</cp:lastModifiedBy>
  <dcterms:modified xsi:type="dcterms:W3CDTF">2013-03-25T06:21:45Z</dcterms:modified>
  <cp:revision>18</cp:revision>
  <dc:subject/>
  <dc:title>  </dc:title>
</cp:coreProperties>
</file>