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A3D-8597-4763-B43F-1EBD1402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C5C-74D7-4F35-A8C2-7985254A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7F1-883D-405F-B2DD-818A4283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F43-82DF-40B1-8B53-AB7B246F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4A4-180B-441D-BCE5-B446FF2F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62F-24DE-439A-81BC-0556E39C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E5D-B8C5-488C-BFAD-DBFB663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31E-875E-42DC-A714-851B104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B3B-E83E-4D8F-9642-E496A0B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503-F7FF-4C8F-B536-99D80AA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F31-ED79-47B9-AF8E-71E1CD6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BBC-DB18-4870-8D62-9C91FBF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7403-CDFF-4030-9B25-E385F6163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e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Georgia"/>
              </a:rPr>
              <a:t>Квадрат суммы. </a:t>
            </a:r>
            <a:br>
              <a:rPr sz="8000"/>
            </a:br>
            <a:r>
              <a:rPr b="1" lang="ru-RU" sz="8000" spc="-1" strike="noStrike">
                <a:solidFill>
                  <a:srgbClr val="333399"/>
                </a:solidFill>
                <a:latin typeface="Georgia"/>
              </a:rPr>
              <a:t>Квадрат разност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3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25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– 100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24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 (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2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25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300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28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9840" y="620280"/>
            <a:ext cx="8534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, применяя формулы сокращенного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+ m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( k + p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(3x – 2y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2. ( 2a – 3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( 0,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3. (0,1xy + 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, используя формулы сокращенного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9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4.  9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8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5.  8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n+m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nm+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k+p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kp+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3x-2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xy+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2a-3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ab+9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0,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a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0,1xy+3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,0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,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16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,01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,6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+9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9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100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90+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100 · 1+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9 ·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801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82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8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(80+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89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(90-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8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+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            =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400+160+1=6561              =8100-180+1=7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Оц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            №1, №2.            №1, №2, №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о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b24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Прочитайт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2ху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х – у;   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(а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Найдите удвоенное произведение чисе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и у;    1 и с;    3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2р и 5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пр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 + а;   ху + ху;  -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Найдите квадрат числ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;  5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(3х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(сх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(ур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Представь в виде квадра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25;  81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9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0,01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Верные и неверные утверж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 a + b )( a +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 a –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 a – b )( a –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4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4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5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7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екоторые правила сокращенного         умножения были сформулированы  около 4 тыс. лет тому назад в буквенно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йти более простой способ возведения в квадрат суммы и разности двух чисе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рости, проанализируй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( а +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 + 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(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+ 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( c - d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( m – 2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baseline="30000">
                <a:solidFill>
                  <a:srgbClr val="cc0000"/>
                </a:solidFill>
                <a:latin typeface="Arial"/>
              </a:rPr>
              <a:t>Формулы сокращенного умнож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84360" y="981000"/>
          <a:ext cx="4319640" cy="4435560"/>
        </p:xfrm>
        <a:graphic>
          <a:graphicData uri="http://schemas.openxmlformats.org/drawingml/2006/table">
            <a:tbl>
              <a:tblPr/>
              <a:tblGrid>
                <a:gridCol w="1368360"/>
                <a:gridCol w="2951280"/>
              </a:tblGrid>
              <a:tr h="19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5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5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2771640" y="5516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       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763640" y="1268280"/>
            <a:ext cx="46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звести в квадрат, используя формулы сокращенного умн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+ k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( x + 1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( a 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(p – k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( x – 1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( a – 2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шить задания из учеб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0(1,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1(1,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2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3(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ычислите, используя формулы сокращенного умн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9:13:43Z</dcterms:created>
  <dc:creator>математика</dc:creator>
  <dc:description/>
  <dc:language>en-US</dc:language>
  <cp:lastModifiedBy>учитель</cp:lastModifiedBy>
  <dcterms:modified xsi:type="dcterms:W3CDTF">2013-03-25T05:23:13Z</dcterms:modified>
  <cp:revision>10</cp:revision>
  <dc:subject/>
  <dc:title>Квадрат суммы. Квадрат  Квадрат разности.</dc:title>
</cp:coreProperties>
</file>