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71F-711E-44F0-B945-256ED7B6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4F0-6F78-45E3-8CC3-0096D73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C2C-1913-4E58-861C-66E2B850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546-158C-46C8-87A5-02955C9D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77FF-41EB-4E3D-91B1-2A5F4BEB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3FE5-642B-4936-8A24-6B71A9A7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1C34-71E0-4A3E-A96F-47C43540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EC13-C8A0-4062-99A9-67832107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FFD9-5D3D-449E-B8C8-FC704E4B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57E3-F282-4B47-889F-560F7A54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30A-E9BB-4D3A-8E9A-E01E1C14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3E3-D76F-4B17-8C2F-7C12A573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E32F-4A9D-4ADE-9960-584685D5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6205-9D24-455B-95B4-5DA06A4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282E-0B72-42B9-9CCF-C53023B3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918A-982F-45F1-BE8C-A96F403C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39D5-99B2-4607-A1EB-B756410D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076-FE79-4348-8427-51706D38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A68-B38F-4D7B-B2CE-D2D686A7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7C0-CC13-4BF3-8616-E1DCA23D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165-8434-44BE-9E53-DCDF9122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8B9-9307-4290-8CEA-FC5CF90F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968-1B1B-4B73-AC02-3E85AFA4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558-A60C-4D65-B065-F757A988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8674-0830-4645-81AC-C9679F0E44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2220-883E-4806-92A7-B967395376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8e73"/>
                </a:solidFill>
                <a:latin typeface="Times New Roman"/>
              </a:rPr>
              <a:t>Летопись</a:t>
            </a:r>
            <a:br>
              <a:rPr sz="3200"/>
            </a:br>
            <a:r>
              <a:rPr b="1" lang="ru-RU" sz="3600" spc="-1" strike="noStrike">
                <a:solidFill>
                  <a:srgbClr val="8f8e73"/>
                </a:solidFill>
                <a:latin typeface="Times New Roman"/>
              </a:rPr>
              <a:t>«80 лет педагогической династии»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353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ичкова Елена Юрьевн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ИЗ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го общеобразовательного учреждения Шипицынской средней общеобразовательной школ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2" descr="тётя-обр"/>
          <p:cNvPicPr/>
          <p:nvPr/>
        </p:nvPicPr>
        <p:blipFill>
          <a:blip r:embed="rId1"/>
          <a:stretch/>
        </p:blipFill>
        <p:spPr>
          <a:xfrm>
            <a:off x="1332000" y="620640"/>
            <a:ext cx="6553080" cy="3876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Garamond"/>
              </a:rPr>
              <a:t>Дети Зинаиды Феофановны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16000" y="443700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воих детей она воспитала образованными, талантливыми людьми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Младшая дочь Любовь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пошла по стопам матери и всю жизнь проработала воспитателем детского сада . На фотографии она после окончания курсов воспитателей. Посмотрите, её взгляд устремлён в будущее, она уже видит себя среди своих воспитанн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2411280" y="1557360"/>
            <a:ext cx="720720" cy="865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7"/>
          <p:cNvSpPr/>
          <p:nvPr/>
        </p:nvSpPr>
        <p:spPr>
          <a:xfrm>
            <a:off x="3708360" y="1571760"/>
            <a:ext cx="525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казывается, по наследству могут передаваться не только болезни , но и профессии. Младшая дочь - моя мама Любовь Федоровн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1946 года рождения .В 60-е годы не хватало преподавателей словесности, математики, воспитателей и при школах были организованы пед. классы. Моя мама в 1966 году поступила в такой класс осваивать профессию воспитател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Picture 12" descr="E:\Фотки\Хабаровск\SSL23211.JPG"/>
          <p:cNvPicPr/>
          <p:nvPr/>
        </p:nvPicPr>
        <p:blipFill>
          <a:blip r:embed="rId1"/>
          <a:stretch/>
        </p:blipFill>
        <p:spPr>
          <a:xfrm>
            <a:off x="142920" y="1428840"/>
            <a:ext cx="3571920" cy="41432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1143000" y="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Косицына Любовь Федоровн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999880" y="260280"/>
            <a:ext cx="58928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емейный альбом опять возвращает нас в прошлое. Моя бабушка Зинаида Феофановна уехала из Хабаровска в глухое село учить детей, и мама Любовь Федоровна,  воспитанная её примером, из Хабаровска уехала в далёкий северный город Магадан. Там она проработала воспитателем детского сада № 2 27 лет . За самоотверженный труд мама награждена грамотой Министерства образования РФ и имеет звание « Ветеран труда Магаданской области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Picture 3" descr="E:\Фотки\Хабаровск\SSL23215.JPG"/>
          <p:cNvPicPr/>
          <p:nvPr/>
        </p:nvPicPr>
        <p:blipFill>
          <a:blip r:embed="rId1"/>
          <a:stretch/>
        </p:blipFill>
        <p:spPr>
          <a:xfrm>
            <a:off x="357120" y="571680"/>
            <a:ext cx="2786040" cy="5000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Новичкова Елена Юрьевн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643280" y="981000"/>
            <a:ext cx="432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И, наконец, я- Новичкова Елена Юрьевна 1971 года рождения. Родилась в Северо-Эвенском районе, Магаданской области, р.п.С-Эвенск.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Когда меня спросили в шесть лет, кем я хочу бы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когда вырасту, я ответила: «Окончу «университет» и буду «учительницей». В одном из школьных сочинений я написала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00080" y="4714920"/>
            <a:ext cx="76867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«С детства меня окружало маленькое государство, придя в которое один раз, очень трудно уйти. Этим государством для меня был детский сад, в котором работала моя мама Косицына Любовь Федоровна. Впервые она привела меня в сад, когда мне исполнилось 3 года, и, пока она вела занятия, я тихо сидела за столом и твердо решила, что буду учителем.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5" name="Picture 6" descr="C:\Documents and Settings\Admin\Рабочий стол\SDC16332.JPG"/>
          <p:cNvPicPr/>
          <p:nvPr/>
        </p:nvPicPr>
        <p:blipFill>
          <a:blip r:embed="rId1"/>
          <a:stretch/>
        </p:blipFill>
        <p:spPr>
          <a:xfrm>
            <a:off x="285840" y="1285920"/>
            <a:ext cx="392904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4214880" y="115920"/>
            <a:ext cx="42148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Как задумала,  так и вышло. Вот уже 19 лет я учу детей изобразительному искусству. В 1992 году окончила Хабаровское педагогическое училище, получив профессию- воспитатель. В 2005 году закончила « Омский государственный педагогический университет» по специальности « Социальная педагогика» . В 2007 году прошла курсовую подготовку « Реализация современных подходов при обучении изобразительному искусству в школе». Продолжаю работать над методической темой « Дизайн и архитектура в жизни человека» 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5" descr="E:\Фотки\Последнее\SDC15358.JPG"/>
          <p:cNvPicPr/>
          <p:nvPr/>
        </p:nvPicPr>
        <p:blipFill>
          <a:blip r:embed="rId1"/>
          <a:stretch/>
        </p:blipFill>
        <p:spPr>
          <a:xfrm>
            <a:off x="142920" y="1143000"/>
            <a:ext cx="4000320" cy="3571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214880" y="2643120"/>
            <a:ext cx="4143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Мастерство учителя не случайная удача, не счастливые находки, а систематический, кропотливый поиск и труд, часто черновой, будничный, наполненный тревожными раздумьями, открытиями и неудачами. Условия, в которых формировался мой педагогический опыт,  поставили меня перед проблемой поиска и внедрения новых продуктивных технологий обучения.  При появлении в школах  компьютеров стремлюсь реализовать огромные возможности компьютерных технологий при обучении ИЗО.  Я изучила факультативный курс « Компьютерная графика». Пришлось постигать азы информатики, а затем конструировать методику урока с применением компьютера. Так в 2010 году дала открытый урок на  тему  «Пасхальный перезвон».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179280" y="450864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24000" y="260280"/>
            <a:ext cx="842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Мои обучающиеся принимают активное участие в муниципальных и региональных конкурсах, выставках, НПК. Так в 2006 году в конкурсе « СПИД- чума века» мой ученик занял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место, в 2009 году в творческом конкурсе « Сбереги себя для жизни» мои обучающиеся заняли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места, в 2010году-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I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место в конкурсе « ЗОЖ» и « Здоровая молодежь-будущее России»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Picture 4" descr="E:\Карбышево\Фотки Карбышева\ЗОЖ\IMG_7533.jpg"/>
          <p:cNvPicPr/>
          <p:nvPr/>
        </p:nvPicPr>
        <p:blipFill>
          <a:blip r:embed="rId1"/>
          <a:stretch/>
        </p:blipFill>
        <p:spPr>
          <a:xfrm>
            <a:off x="357120" y="1500120"/>
            <a:ext cx="3286080" cy="480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E:\Карбышево\Фотки Карбышева\ЗОЖ\IMG_7541.jpg"/>
          <p:cNvPicPr/>
          <p:nvPr/>
        </p:nvPicPr>
        <p:blipFill>
          <a:blip r:embed="rId2"/>
          <a:stretch/>
        </p:blipFill>
        <p:spPr>
          <a:xfrm>
            <a:off x="4071960" y="1785960"/>
            <a:ext cx="461484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Я сама являюсь активной участницей конкурсов, фестивалей, смотров художественной самодеятельности В 2010 году приняла участие в муниципальном туре фестиваля « К новым творческим вершинам», заняла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место; подготовила участника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районной ярмарки ученических идей « Моя новая школа» в 2010году, который занял стал победителем конкурса. Подготовила учащегося на региональную НПК « Открытый мир. Старт в науку» по теме « Казачий курень» в 2010 году. Выступала на муниципальной « Выставке-ярмарке» методических идей с работой « Формирование гражданского воспитания через создание волонтерских отрядов».  Уже 6 –й год являюсь классным руководителем казачьего класса. В 2009 году при музее боевой славы в г.Омске принимали участие в конкурсе « Казачество-щит отечества» ,заняли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место, в 2010 году принимали с ребятами участие в областном конкурсе казачьих классов , который проходил в Кадетском корпусе. В номинации « Театрализация» дети заняли первое место, показав отрывок из  « А зори здесь тихие»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4" name="Picture 3" descr="E:\Фотки\ж\SSL21830.JPG"/>
          <p:cNvPicPr/>
          <p:nvPr/>
        </p:nvPicPr>
        <p:blipFill>
          <a:blip r:embed="rId1"/>
          <a:stretch/>
        </p:blipFill>
        <p:spPr>
          <a:xfrm>
            <a:off x="285840" y="3143160"/>
            <a:ext cx="3857400" cy="3286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E:\Фотки\ж\SSL21835.JPG"/>
          <p:cNvPicPr/>
          <p:nvPr/>
        </p:nvPicPr>
        <p:blipFill>
          <a:blip r:embed="rId2"/>
          <a:stretch/>
        </p:blipFill>
        <p:spPr>
          <a:xfrm>
            <a:off x="4714920" y="3143160"/>
            <a:ext cx="40003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E:\Фотки\Праздники\9 мая\SSL21815.JPG"/>
          <p:cNvPicPr/>
          <p:nvPr/>
        </p:nvPicPr>
        <p:blipFill>
          <a:blip r:embed="rId1"/>
          <a:stretch/>
        </p:blipFill>
        <p:spPr>
          <a:xfrm>
            <a:off x="714240" y="428760"/>
            <a:ext cx="3714840" cy="307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E:\Фотки\Последнее\PICT0206.JPG"/>
          <p:cNvPicPr/>
          <p:nvPr/>
        </p:nvPicPr>
        <p:blipFill>
          <a:blip r:embed="rId2"/>
          <a:stretch/>
        </p:blipFill>
        <p:spPr>
          <a:xfrm>
            <a:off x="4857840" y="357120"/>
            <a:ext cx="3714840" cy="3143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E:\Фотки\Последнее\PICT0215.JPG"/>
          <p:cNvPicPr/>
          <p:nvPr/>
        </p:nvPicPr>
        <p:blipFill>
          <a:blip r:embed="rId3"/>
          <a:stretch/>
        </p:blipFill>
        <p:spPr>
          <a:xfrm>
            <a:off x="714240" y="3571920"/>
            <a:ext cx="3686400" cy="3065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E:\Фотки\ж\SSL21037.JPG"/>
          <p:cNvPicPr/>
          <p:nvPr/>
        </p:nvPicPr>
        <p:blipFill>
          <a:blip r:embed="rId4"/>
          <a:stretch/>
        </p:blipFill>
        <p:spPr>
          <a:xfrm>
            <a:off x="4857840" y="3571920"/>
            <a:ext cx="371484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8" descr="C:\Documents and Settings\Admin\Рабочий стол\SSL25479.JPG"/>
          <p:cNvPicPr/>
          <p:nvPr/>
        </p:nvPicPr>
        <p:blipFill>
          <a:blip r:embed="rId1"/>
          <a:stretch/>
        </p:blipFill>
        <p:spPr>
          <a:xfrm>
            <a:off x="500040" y="1285920"/>
            <a:ext cx="2857680" cy="478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:\Documents and Settings\Admin\Рабочий стол\SSL25478.JPG"/>
          <p:cNvPicPr/>
          <p:nvPr/>
        </p:nvPicPr>
        <p:blipFill>
          <a:blip r:embed="rId2"/>
          <a:stretch/>
        </p:blipFill>
        <p:spPr>
          <a:xfrm>
            <a:off x="3857760" y="2214720"/>
            <a:ext cx="4643280" cy="3414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2857680" y="189000"/>
            <a:ext cx="435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Мои награды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Admin\Рабочий стол\SSL25486.JPG"/>
          <p:cNvPicPr/>
          <p:nvPr/>
        </p:nvPicPr>
        <p:blipFill>
          <a:blip r:embed="rId1"/>
          <a:stretch/>
        </p:blipFill>
        <p:spPr>
          <a:xfrm>
            <a:off x="428760" y="642960"/>
            <a:ext cx="3286080" cy="535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Admin\Рабочий стол\SSL25490.JPG"/>
          <p:cNvPicPr/>
          <p:nvPr/>
        </p:nvPicPr>
        <p:blipFill>
          <a:blip r:embed="rId2"/>
          <a:stretch/>
        </p:blipFill>
        <p:spPr>
          <a:xfrm>
            <a:off x="4500720" y="1285920"/>
            <a:ext cx="40003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44280"/>
            <a:ext cx="81378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Times New Roman"/>
              </a:rPr>
              <a:t>80 лет педагогической династии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Picture 8" descr="бабушка"/>
          <p:cNvPicPr/>
          <p:nvPr/>
        </p:nvPicPr>
        <p:blipFill>
          <a:blip r:embed="rId1"/>
          <a:stretch/>
        </p:blipFill>
        <p:spPr>
          <a:xfrm>
            <a:off x="1357200" y="857160"/>
            <a:ext cx="2571840" cy="2357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8" name="Picture 10" descr="т"/>
          <p:cNvPicPr/>
          <p:nvPr/>
        </p:nvPicPr>
        <p:blipFill>
          <a:blip r:embed="rId2"/>
          <a:srcRect l="0" t="6636" r="0" b="0"/>
          <a:stretch/>
        </p:blipFill>
        <p:spPr>
          <a:xfrm>
            <a:off x="5072040" y="785880"/>
            <a:ext cx="1928880" cy="228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9" name="Picture 11" descr="E:\Фотки\Последнее\SDC15358.JPG"/>
          <p:cNvPicPr/>
          <p:nvPr/>
        </p:nvPicPr>
        <p:blipFill>
          <a:blip r:embed="rId3"/>
          <a:stretch/>
        </p:blipFill>
        <p:spPr>
          <a:xfrm>
            <a:off x="4643280" y="3571920"/>
            <a:ext cx="321480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E:\Фотки\Хабаровск\SSL23211.JPG"/>
          <p:cNvPicPr/>
          <p:nvPr/>
        </p:nvPicPr>
        <p:blipFill>
          <a:blip r:embed="rId4"/>
          <a:stretch/>
        </p:blipFill>
        <p:spPr>
          <a:xfrm>
            <a:off x="571680" y="3500280"/>
            <a:ext cx="3286080" cy="2786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C:\Documents and Settings\Admin\Рабочий стол\SSL25481.JPG"/>
          <p:cNvPicPr/>
          <p:nvPr/>
        </p:nvPicPr>
        <p:blipFill>
          <a:blip r:embed="rId1"/>
          <a:stretch/>
        </p:blipFill>
        <p:spPr>
          <a:xfrm>
            <a:off x="4929120" y="428760"/>
            <a:ext cx="3429000" cy="2714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C:\Documents and Settings\Admin\Рабочий стол\SSL25482.JPG"/>
          <p:cNvPicPr/>
          <p:nvPr/>
        </p:nvPicPr>
        <p:blipFill>
          <a:blip r:embed="rId2"/>
          <a:stretch/>
        </p:blipFill>
        <p:spPr>
          <a:xfrm>
            <a:off x="4929120" y="3571920"/>
            <a:ext cx="3429000" cy="285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Documents and Settings\Admin\Рабочий стол\SSL25475.JPG"/>
          <p:cNvPicPr/>
          <p:nvPr/>
        </p:nvPicPr>
        <p:blipFill>
          <a:blip r:embed="rId3"/>
          <a:stretch/>
        </p:blipFill>
        <p:spPr>
          <a:xfrm>
            <a:off x="357120" y="357120"/>
            <a:ext cx="328608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C:\Documents and Settings\Admin\Рабочий стол\SSL25473.JPG"/>
          <p:cNvPicPr/>
          <p:nvPr/>
        </p:nvPicPr>
        <p:blipFill>
          <a:blip r:embed="rId1"/>
          <a:stretch/>
        </p:blipFill>
        <p:spPr>
          <a:xfrm>
            <a:off x="3357720" y="142920"/>
            <a:ext cx="2414520" cy="4143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Admin\Рабочий стол\SSL25472.JPG"/>
          <p:cNvPicPr/>
          <p:nvPr/>
        </p:nvPicPr>
        <p:blipFill>
          <a:blip r:embed="rId2"/>
          <a:stretch/>
        </p:blipFill>
        <p:spPr>
          <a:xfrm>
            <a:off x="6215040" y="214200"/>
            <a:ext cx="2343240" cy="414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\Рабочий стол\SSL25480.JPG"/>
          <p:cNvPicPr/>
          <p:nvPr/>
        </p:nvPicPr>
        <p:blipFill>
          <a:blip r:embed="rId3"/>
          <a:stretch/>
        </p:blipFill>
        <p:spPr>
          <a:xfrm>
            <a:off x="2857680" y="442908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Documents and Settings\Admin\Рабочий стол\SSL25474.JPG"/>
          <p:cNvPicPr/>
          <p:nvPr/>
        </p:nvPicPr>
        <p:blipFill>
          <a:blip r:embed="rId4"/>
          <a:stretch/>
        </p:blipFill>
        <p:spPr>
          <a:xfrm>
            <a:off x="428760" y="428760"/>
            <a:ext cx="235584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857480" y="404640"/>
            <a:ext cx="3214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ын- Новичков Артем Игоревич. В 2010 году окончил Шипицынскую среднюю школу с золотой медалью. В настоящее время является студентом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курса СибАДИ по специально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«Комплексное обеспечение информационной безопасности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3" name="Picture 5" descr="E:\Фотки\выпуск2010\SSL25395.JPG"/>
          <p:cNvPicPr/>
          <p:nvPr/>
        </p:nvPicPr>
        <p:blipFill>
          <a:blip r:embed="rId1"/>
          <a:stretch/>
        </p:blipFill>
        <p:spPr>
          <a:xfrm>
            <a:off x="928800" y="571680"/>
            <a:ext cx="2985840" cy="52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684360" y="620640"/>
            <a:ext cx="784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Из поколения в поколение члены моей семьи как эстафету передавали гордое знамя учительской профессии. Они преподавали разные предметы, но их объединяли профессионализм,  стремление к творчеству,  строгая взыскательность к себе и желание отдавать сердце детям. Я также стремлюсь работать по их принципам и внедряю их опыт в свою педагогическую деятельность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8f8e73"/>
                </a:solidFill>
                <a:latin typeface="Monotype Corsiva"/>
              </a:rPr>
              <a:t>«Аз букву ведаю, глаголю добро, добро есть жизнь...».</a:t>
            </a: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115560"/>
            <a:ext cx="889308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Бабушка Зинаида Феофановна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аменщикова Зинаида Феофановна – моя бабушка - в 1930 году, окончив гимназию,  могла бы остаться работать в Хабаровске,  но по велению души уехала на свою малую Родину в  село Николаевка учить крестьянских детей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дна из ее сестер, последовав её примеру, тоже учительствовал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А жизнь сельского учителя в то время была очень тяжёлой. Зарплата маленькая, своего хозяйства не было. Жила бабушка  при школе . Ни о каких магазинах и рынках в то время в деревне и не слыхивали. Всё приходилось покупать у односельчан втридорога. Крестьянки приносили в школу молоко, яйца, овощи и приговаривали: «С кого же денег содрать, как не с «уцительницы». Моя мама вспоминает, что когда они с сестрой и братом приходили в дом деда, он недовольно ворчал: «А зачем «уцительские»  дети пришли? Опять побираться?»  А  её бабушка тайком уводила их в каморку и угощала чёрным  хлебом с растительным маслом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Двоюродная бабушка Анна Феофановн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аменщикова Анна Феофановна-1920 года рождения года. Окончив курсы учителей начальных классов, приехала в родное село Николаевка и стала преподавать вместе с моей бабушкой. Вдохновлённые общим стремлением  образовывать и воспитывать молодое поколение России, они всю жизнь прошли рука об руку,  не изменяя этой иде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4932360" y="936720"/>
            <a:ext cx="4032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Я смотрю семейный альбом. Вот эта красивая девушка в строгом  платье – моя бабушка Зинаида Феофановна. Такой она приехала работать учительницей в деревню.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14" descr="бабушка"/>
          <p:cNvPicPr/>
          <p:nvPr/>
        </p:nvPicPr>
        <p:blipFill>
          <a:blip r:embed="rId1"/>
          <a:stretch/>
        </p:blipFill>
        <p:spPr>
          <a:xfrm>
            <a:off x="468360" y="549360"/>
            <a:ext cx="4222800" cy="4392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6156360" y="260280"/>
            <a:ext cx="28083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А на этой фотографии Зинаида Феофановна через пятнадцать лет. Годы тяжёлого труда сделали своё дело, но она, как всегда, с детьми. Среди этих бедно одетых сельских детей будущие инженеры и учителя, известные учёные и военные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11" descr="бабушка-село-обр"/>
          <p:cNvPicPr/>
          <p:nvPr/>
        </p:nvPicPr>
        <p:blipFill>
          <a:blip r:embed="rId1"/>
          <a:stretch/>
        </p:blipFill>
        <p:spPr>
          <a:xfrm>
            <a:off x="324000" y="549360"/>
            <a:ext cx="5688000" cy="5489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Заслуженная награда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Государство отметило самоотверженный учительский труд Зинаиды Феофановны высокой наградой . Она была занесена в Книгу Почётных Граждан города  Хабаровска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3:39:08Z</dcterms:created>
  <dc:creator>Admin</dc:creator>
  <dc:description/>
  <dc:language>en-US</dc:language>
  <cp:lastModifiedBy>Admin</cp:lastModifiedBy>
  <dcterms:modified xsi:type="dcterms:W3CDTF">2002-12-31T18:18:57Z</dcterms:modified>
  <cp:revision>33</cp:revision>
  <dc:subject/>
  <dc:title>Летопись «100 лет учительской династии»</dc:title>
</cp:coreProperties>
</file>