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716-28E9-442B-9EF0-326828C4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566-5F69-418E-AD7A-D1A27C1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203-F30C-45FB-ADBB-95523E55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976-E33A-49CE-9847-3CB72B8A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AEC5-3F82-44DC-AEC2-F683577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FFA-C4A4-4527-A0BA-C0D35EC7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2497-08C7-46DE-AA44-C6F5FFAB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B77-CE51-4245-8902-96040DA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979-ABF2-41C2-9C37-70AA70CA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6D4C-8EF6-4AFA-BEEA-A40489C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CEBC-D64C-47A8-8EE5-113B74D7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9E2-05AD-4527-9878-427202B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B48-0A8E-43D6-925B-5965EB3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0E9F-7B61-43EC-8CFB-AE41195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0582-BE89-42E1-8A4E-84C1174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F9EA-7693-4D15-8DA5-58DD811E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6B38-940F-4657-9B96-28EF3683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B0DB-7BBA-4B44-88C0-42C36D5F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FA19-8C34-4EBA-BA4C-300A8F2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E6D7-1913-42F4-9448-4A30D7F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842F-4D00-462B-B392-FF0F445B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84A9-3813-4540-80E2-3BC3079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E56-B3DF-4421-9193-84930E2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CAC4-BE38-46FE-9C0D-C01B7993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5B95-9B6C-441B-9BCE-2804D57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4515-2346-43DC-97C2-8D044CB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A225-F357-4F23-9122-7A92B0C2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CEBD-706F-4F80-97CA-FEA44458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2BCF-F2B6-4C80-B7AD-81F91DE0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9109-3113-4F51-BB50-7FF2751E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EE2A-1E45-445B-A027-DE3B733C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FFAF-70D8-4861-A770-E5A85FC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3D38-85DA-40E1-A6D1-7ACCFF4A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7A6-D59A-4AD2-B63A-12CEC8FE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9BDE-CF2A-4A92-AB41-D273603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3E62-28B9-4433-857B-33567386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5582-655E-4264-B809-1AE8DCB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095B-EEA4-472F-B76A-258D819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5E95-9D86-4D4A-8FDD-97C78034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AEE7-ED4D-477C-AE05-4623449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5F1B-4FDD-4C81-BF6C-AE77FB9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293C9-0DCB-461A-BEDA-FB6F9909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AA32-D36E-497F-9A63-39E73063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CF9-6390-4205-894C-76F55D8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715-8FB2-4554-8637-C5D11963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B9A-CDC7-44D9-B0D4-932739E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A12-02B7-4B70-89F4-EF02DA5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2EA-0CB1-4C5C-8BAE-9DE6E77B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4839-D937-45C9-87D2-CE7C2867629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433-024E-441B-92D4-DF33E7DB581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7681-EDDE-43EE-8732-466A003394D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94B-2CDB-4DBD-9F60-D4F0DF7C45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1206360"/>
            <a:ext cx="7291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785880" y="1298520"/>
            <a:ext cx="69292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В правом верхнем углу обычно пишут дату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te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можно писать двояко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число, месяц, год (между ними запятая не ставится), например: 1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002; 2) месяц, число. год (между числом и годом ставится запятая), например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2, 200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428760" y="1472760"/>
            <a:ext cx="771516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Обращение/приветствие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reeting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типичными являются следующие обращ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r Ted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 friend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r pen-pal,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или приветствие пишется слева непосредственно у края поля письма. отступив одну строчку вниз от адреса отправителя. После обращения ставится запят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500040" y="1798560"/>
            <a:ext cx="792972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Собственно письмо или текст письма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ется на две строки ниже обращения и пишется с красной строки. Не забывайте делить текст письма на параграф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ность за письм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 на вопрос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 вопросы. (не более 3-х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00040" y="1161720"/>
            <a:ext cx="785808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вершающая часть пись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шествует подписи. Располагается одна в правой стороне, при этом первые буквы завершающей фразы, а так же адреса и даты обычно совпадают по вертика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ы типично завершающих фраз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r frien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incerely) you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lways) you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 wish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sing you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rs trul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ke car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785880" y="1424880"/>
            <a:ext cx="757224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дп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ишется четко, располагается под завершающей фразой (их начала часто совпадают по вертикали). Если письмо адресовано человеку, которого вы не очень хорошо знаете, подпишите письмо вашим полным именем и фамилией. Точка после подписи не ставится. 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cerel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u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71680" y="1428840"/>
          <a:ext cx="7358040" cy="365760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365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t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 Gagarin 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cow 12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July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r Sam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was really pleased to receive your letter saying that you will be spending the holidays in Scotl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 are leaving for the Seliger tomorrow. We hope to get the car packed and start off to the lake right after breakfast. We are bringing our fishing ro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v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as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928800" y="1452240"/>
            <a:ext cx="6929280" cy="50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лучил письмо от своего друга по переписке из Америки по имен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 Malone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н спрашивает тебя о твоих увлечениях, занятиях спортом, любимых певцах и группах. Он интересуется, есть ли у тебя компьютер, и любишь ты играть в компьютерные игры. Ещё он спрашивает о твоих любимых предметах в школе и планах на будущее. Напиши ему ответ, не забывая о правилах написания письма. Он живёт в Александрии, в доме 138 по ули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al Stree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почтовый код: 548- 128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6:07:03Z</dcterms:created>
  <dc:creator>ADMIN</dc:creator>
  <dc:description/>
  <dc:language>en-US</dc:language>
  <cp:lastModifiedBy>СОШ №20</cp:lastModifiedBy>
  <dcterms:modified xsi:type="dcterms:W3CDTF">2011-04-18T09:59:47Z</dcterms:modified>
  <cp:revision>3</cp:revision>
  <dc:subject/>
  <dc:title>Слайд 1</dc:title>
</cp:coreProperties>
</file>