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901-6D09-4720-9694-7F65E2D0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87E-6E64-4F64-8BD4-83E67F9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19E-FAC1-44C5-9BB7-FC3A3526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B95-0E56-459D-A5F7-9ECE1F85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174C-CCEE-496A-B732-7CD68E5F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5449-257D-47B2-B709-C019787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5158-8E6D-4962-BB96-C351F26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383-D787-4F94-9140-36581BB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E5B1-4F9E-40EC-9DF1-9995AA89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6B22-E1AC-4F5A-B520-38789CA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343-3E8D-4A30-A99A-3F21019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648-F153-4A99-9775-CBB387CC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780F-32EC-4BEC-8B90-ECA7868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305-45DC-4696-851B-494DEC6E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42B2-DCA9-4084-A06C-E94CFCA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680D-07D0-4A78-A107-57EE674C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48E-9F0A-4964-829D-25E15481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B327-747A-429A-AE0E-EC5B906A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3710-8338-4559-A495-87D93420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81EA-B303-4A39-B27D-C0BF8EAF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26FF-41A4-4661-A8BD-ABD499FE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9246-921D-4BEA-A65D-B9623DC8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12D-DEC5-4B19-87BA-F589AFC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904CF-20A4-4BEE-8B78-F8033A52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267F-FDF9-449F-AF62-11650E4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C5EE-C877-4299-973A-6E2004A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4458-8AA2-4B2E-88A8-F6EAF4E2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4CD2-89CA-48CA-B312-D0026C3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A2FD-A11A-4805-BB10-09F65F91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4379-6BF2-4B08-B6AB-9D5EDD7A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26D0-8064-4387-B919-632B820B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03B3-A5D8-4CDB-9E28-36591BB4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9EAA-944E-4043-B42C-0E9B505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3E8-951B-4555-A2E5-EA59D37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5F24-F51A-477A-8E3D-89CCC0FD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B982-8240-4C14-8776-46426795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83BE-3320-4D24-BC8A-8B26F0B7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E74A-8F51-4287-B24D-0844F29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32853-7FD4-4746-973F-B154345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B383-1E7D-491E-857F-3D22633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5B8A-E631-4100-BE57-EC5CF1D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8211-10ED-4110-8782-C6889CFF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FB6F-2399-4ABB-9205-4487B1AD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3AE-409F-4D0C-99C4-692F823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7FB-1704-4ABD-858F-487EB80E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991-14F2-4D84-9657-582C6EB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02D-5485-4E4B-84D5-CA9FD3A6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B94-34CB-4ECB-B2F4-17CA0F9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1CF-B3DE-40ED-B4B4-83C980ADE7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248E-BD15-46DC-ACB6-2B440E9FA9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D3A-F797-4745-885D-853C841F716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77B3-E72D-451B-A97F-E0B588C782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1328760" y="1206360"/>
            <a:ext cx="72914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785880" y="1298520"/>
            <a:ext cx="69292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В правом верхнем углу обычно пишут дату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te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можно писать двояко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 число, месяц, год (между ними запятая не ставится), например: 1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002; 2) месяц, число. год (между числом и годом ставится запятая), например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2, 200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428760" y="1472760"/>
            <a:ext cx="771516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 Обращение/приветствие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reeting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типичными являются следующие обращени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r Ted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 friend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ar pen-pal,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щение или приветствие пишется слева непосредственно у края поля письма. отступив одну строчку вниз от адреса отправителя. После обращения ставится запята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500040" y="1798560"/>
            <a:ext cx="792972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Собственно письмо или текст письма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ется на две строки ниже обращения и пишется с красной строки. Не забывайте делить текст письма на параграф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ность за письм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 на вопрос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и вопросы. (не более 3-х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00040" y="1161720"/>
            <a:ext cx="7858080" cy="43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вершающая часть пись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шествует подписи. Располагается одна в правой стороне, при этом первые буквы завершающей фразы, а так же адреса и даты обычно совпадают по вертикал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ы типично завершающих фраз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r friend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incerely) you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Always) your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st wishe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sing you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ours trul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ke car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785880" y="1424880"/>
            <a:ext cx="757224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дпис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ишется четко, располагается под завершающей фразой (их начала часто совпадают по вертикали). Если письмо адресовано человеку, которого вы не очень хорошо знаете, подпишите письмо вашим полным именем и фамилией. Точка после подписи не ставится. Например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cerely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u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71680" y="1428840"/>
          <a:ext cx="7358040" cy="365760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365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t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 Gagarin 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cow 125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July 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r Sam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was really pleased to receive your letter saying that you will be spending the holidays in Scotlan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 are leaving for the Seliger tomorrow. We hope to get the car packed and start off to the lake right after breakfast. We are bringing our fishing ro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v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as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928800" y="1452240"/>
            <a:ext cx="6929280" cy="500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лучил письмо от своего друга по переписке из Америки по имен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 Malone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н спрашивает тебя о твоих увлечениях, занятиях спортом, любимых певцах и группах. Он интересуется, есть ли у тебя компьютер, и любишь ты играть в компьютерные игры. Ещё он спрашивает о твоих любимых предметах в школе и планах на будущее. Напиши ему ответ, не забывая о правилах написания письма. Он живёт в Александрии, в доме 138 по ули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al Stree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го почтовый код: 548- 128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6:07:03Z</dcterms:created>
  <dc:creator>ADMIN</dc:creator>
  <dc:description/>
  <dc:language>en-US</dc:language>
  <cp:lastModifiedBy>СОШ №20</cp:lastModifiedBy>
  <dcterms:modified xsi:type="dcterms:W3CDTF">2011-04-18T09:59:47Z</dcterms:modified>
  <cp:revision>3</cp:revision>
  <dc:subject/>
  <dc:title>Слайд 1</dc:title>
</cp:coreProperties>
</file>