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9C8-DA46-46F3-9D87-B8199D26C1B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9218-0568-43D1-A4D5-9C7AB27CD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F914-EA48-49A0-B2BB-9A6AB2980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B91-96C1-4F81-ACED-845D7B7EA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C4A-FA10-4700-9EA3-682E2A9A9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949A-38B0-4D81-AE32-16C594A45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423E-80F7-45C4-B95F-084C106A3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3767-F5D4-4792-87B4-1E0C89EC2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32DB-EDD2-45AC-B92F-F103FF283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2AAA-6560-4A6D-9F6D-60EF532BC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2BD-2E89-47B3-9C24-55D2C6704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0F9-5ECE-4BA3-BB44-13BAC5826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690-7D9E-4EE7-8DA9-53BC99DA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0BD-EE59-49F5-A237-5D81E03A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BA7-400C-468F-8D76-74A92CE4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8EE-B4B4-47A1-895B-5E510AFC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FF76-8FDF-4A4B-B0D4-9E260A7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E75-6669-4D23-9392-6A9BB85C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49A6-16D5-4854-BB31-7D45FF4A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71D-CE49-43E1-8DF1-9AF5EF2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B5AF-CD30-491D-B923-0C2E6218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4675-4EC8-408B-9976-29F713C8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9CCC-737F-4AC8-8A6F-B1DD0F2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82A-2AC9-4863-B328-A341AFA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FCF1-E7F3-4BF8-8E13-4994A7D1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E9A0-67C9-4CE9-B4EB-2A1F455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B51-0B1B-4028-A7D1-844E127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7A96-370B-4FE7-AD07-026A53A2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7D7E-2912-4C0C-9548-D6A8092B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F5E-5CF6-43AF-B0BC-9F4A1AE7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325-9ACC-4318-B61A-EACEEA5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334-B22F-44E2-97BF-74197E19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71D-CD81-4E4A-A4ED-712C94C2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E4E-D1BC-4405-AF44-C1A5BEB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57D-E91C-49F2-99BF-8AE9794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9CA-B76F-475F-BC2D-42800D9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C70B-A57E-40E8-BAA7-97E817956FA2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94E0-DDEE-4C7F-A436-0FA037A57F5A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Лот к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266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3708360" y="404640"/>
            <a:ext cx="16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3964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Игнатенк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ика.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4 класс «А» МБОУ СОШ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4071960" y="52862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 сош № 6 п. 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тенко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нова 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7. Про кого так говорят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в болоте растёт, а чист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лотоса без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8. При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ь обрызганным водой из озера, где растёт лотос – к уда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лотосов на воде, - велико будет плодород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9. Поверь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оверье, что если на куст лотоса в дни когда он цветёт, повязать ленточку,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ся заветное жел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10. Зага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 ларьках не продают, за ним смельчак ныряет в п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олько рвать его нельзя, когда с природой вы друз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rcRect l="2900" t="58548" r="0" b="1952"/>
          <a:stretch/>
        </p:blipFill>
        <p:spPr>
          <a:xfrm>
            <a:off x="5292720" y="260280"/>
            <a:ext cx="3616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11. Заключение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вившись на Земле более ста миллионов лет назад, лотос мог бы и не сохраниться до наших дней. Но в связи с тем, что в последнее время всё чаще разведением лотосов занимаются люди, будущее лотоса Комарова не вызывает опасений, но все-таки это довольно редкое растение и бессмысленно рвать цветы лотоса  запрещено. Ведь сорвать лотос, всё равно, что его уничтожить. Так как всего в течение двух часов растение (стебель и корни) гибнет и больше никогда не будет радовать глаз новыми бут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им лотос вместе. Ведь для одн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– диковинка, а для других – целая рели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2610000" cy="354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394000" cy="179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1595520" cy="1193760"/>
          </a:xfrm>
          <a:prstGeom prst="rect">
            <a:avLst/>
          </a:prstGeom>
          <a:ln w="0">
            <a:noFill/>
          </a:ln>
        </p:spPr>
      </p:pic>
      <p:sp>
        <p:nvSpPr>
          <p:cNvPr id="198" name="Line 8"/>
          <p:cNvSpPr/>
          <p:nvPr/>
        </p:nvSpPr>
        <p:spPr>
          <a:xfrm>
            <a:off x="6156360" y="2492280"/>
            <a:ext cx="2592360" cy="19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H="1">
            <a:off x="6084720" y="2492280"/>
            <a:ext cx="2592720" cy="19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Почему лотос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56764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огретый лаской солнечных лучей, восходит лотос в солнечном наря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презентация посвящена лотосу потому, чт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о своей семьёй ежегодно, во время цветения дальневосточного лотоса,  отправляемся на озеро в Уссурийский район - на базу отдыха «Природа» (Лотос) полюбоваться красотой цветущих лотосов. Красота  этого удивительного цветка побудила меня выяснить почему такой красивый цв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ёт именно в воде.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зучении темы «Лотос» я также уз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честь кого назван дальневосточный лот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он размножа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 какому семейству относи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ей работе представл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россворд собственного соч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ичные фотограф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тересные фа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1. Самый древний цветок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– древнейшее растение планеты. Появился лотос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мле более ста миллионов лет назад. Но на протяж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кольких тысяч лет его разводили лю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е с греческого, лотос означает «умытый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-латыни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i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- означает купание, омов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ё название дальневосточный лотос носит в честь  выдающегося ботаника,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енника и общественного деятеля, президента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адемии наук СССР, создателя обширной шко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таников-систематиков, флористов и геог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ладимира Леонтьевича Кома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209680" cy="329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лот"/>
          <p:cNvPicPr/>
          <p:nvPr/>
        </p:nvPicPr>
        <p:blipFill>
          <a:blip r:embed="rId2"/>
          <a:stretch/>
        </p:blipFill>
        <p:spPr>
          <a:xfrm>
            <a:off x="6948360" y="333360"/>
            <a:ext cx="192564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26305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2. Лотос Комаров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тос Комарова также называют орехоносным лотосом. Растение принадлежит к роду лотос, семейства лотосовых. В Приморском крае, в основном, произрастает в озёрах, стариц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тос – травянистое водное многолетнее растение с ползучим ветвящимся корневищем. Надводные щитковидные листья 50-70 см в диаметре, сверху покрыты тонким восковым налётом. Тычинки цветка многочисленные. Семена – крупные орешки с прочным покровом, погружённые в сильно разросшееся цветоложе обратноконической формы, напоминающей с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ена и корневища лотосов после ледостава зимуют в непромёрзшем слое ила. Семена  лотоса обладают удивительным свойством сохранять всхожесть в течение очень длительного времени – 100 или даже 1000 ле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3. Волшебная красота лотос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лотоса нет соперников по крас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ущий лотос исключительно красив, цветки имеют приятный аромат, интенсивность которого меняется в течение дня. Наиболее сильный запах в пол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свежих цветков насыщенная розовая, со временем постепенно бледнеет.  Обычно после полудня лепестки венчика медленно складываются и на закате солнца закрываются полностью. Цветок живёт 4 дня. Простояв несколько дней, цветы лотоса постепенно теряют «лепест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лепестки лотоса отмирают, то на цветоложе остаётся соплодие. На его чуть выпуклой поверхности в углублениях созревают односемянные плодики - орешки величиной с кукурузное зе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лотос"/>
          <p:cNvPicPr/>
          <p:nvPr/>
        </p:nvPicPr>
        <p:blipFill>
          <a:blip r:embed="rId1"/>
          <a:stretch/>
        </p:blipFill>
        <p:spPr>
          <a:xfrm>
            <a:off x="755640" y="3789360"/>
            <a:ext cx="2400480" cy="22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лотос 2"/>
          <p:cNvPicPr/>
          <p:nvPr/>
        </p:nvPicPr>
        <p:blipFill>
          <a:blip r:embed="rId2"/>
          <a:stretch/>
        </p:blipFill>
        <p:spPr>
          <a:xfrm>
            <a:off x="6732720" y="4724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4. Лотос после цветени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выглядит лотос в октяб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444840" cy="258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41400" cy="397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_1127"/>
          <p:cNvPicPr/>
          <p:nvPr/>
        </p:nvPicPr>
        <p:blipFill>
          <a:blip r:embed="rId3"/>
          <a:stretch/>
        </p:blipFill>
        <p:spPr>
          <a:xfrm>
            <a:off x="395280" y="4005360"/>
            <a:ext cx="2774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5. Свойства лотос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еках в Китае появился обычай готовить для новогодних торжеств особую кашу, в которую обязательно входил корень лотоса. Из семян и корневищ лотоса также получали муку и крахмал, сахар и масло. В китайской медицине издавна все части растения  использовали для лечения заболеваний нерв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не стоит удивляться, если вы вдруг встретите лотос в списке ядовитых растений. В корнях, побегах, молодых листьях растения содержится яд нелюмбин. Замечено было, что у некоторых людей, сорвавших цветок лотоса, через некоторое время начиналось головокружение, учащался ритм сердечной деятельности, возникала рвота. Это происходило в результате попадания в организм человека сока рас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почувствовать недомогание и съев несколько орешков лотоса. Поэтому, рвать лотос, есть его семена, оказывается не всегда безопасно. К этому следует добавить, что  процесс отравления ядом лотоса не изучен, и меры оказания помощи пострадавшим не выработаны. Поэтому, чтобы правильно приготовить блюда из лотоса необходимо применять собранные веками знания: в какую пору, какие части растения и как нужно их рвать, а точнее брать, и хорошо изучив процесс приготовления лотосовых блю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6. Лотос на малой родин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на озере базы отдыха «Природа» (Лотос) в Уссурийском районе, администратор рассказала, что впервые, пять лет назад, её сын высадил в озеро несколько корней лотоса. И уже на второй год произрастания, лотос зацвёл. Разрастается лотос очень быстро. Растёт у берегов озера, где глубина не достигает более двух метров. Корневища лотосов находятся неглубоко в иле - на глубине 50 сантиметров. И если войти в воду рядом с растениями, то при хождении они ломаются, и, в конце концов, листья и всё остальное отмирает. Поэтому их очень легко поломать, надо об этом помнить и не спускаться в воду, где растут лотосы. Сотрудники базы отдыха рассказали, что восстанови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оса искусственным путем нельзя. Поможет только время. А штраф за сорванный цветок - о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а рублей. Но любоваться красотой никто не запрещ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292720" y="371628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1121"/>
          <p:cNvPicPr/>
          <p:nvPr/>
        </p:nvPicPr>
        <p:blipFill>
          <a:blip r:embed="rId2"/>
          <a:srcRect l="7754" t="4433" r="5534" b="2953"/>
          <a:stretch/>
        </p:blipFill>
        <p:spPr>
          <a:xfrm>
            <a:off x="755640" y="3860640"/>
            <a:ext cx="28209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3924360" y="2133720"/>
            <a:ext cx="360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124000" y="2781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24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8432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03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564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484360" y="2349360"/>
            <a:ext cx="360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2484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48436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564000" y="364500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3924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428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57200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4932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292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601200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3564000" y="443700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392436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464328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2484360" y="4797360"/>
            <a:ext cx="21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>
            <a:off x="39243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356400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320364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2843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924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2436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2484360" y="4437000"/>
            <a:ext cx="3589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48436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2484360" y="51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248436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2484360" y="58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5651640" y="1557360"/>
            <a:ext cx="360360" cy="28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6"/>
          <p:cNvSpPr/>
          <p:nvPr/>
        </p:nvSpPr>
        <p:spPr>
          <a:xfrm>
            <a:off x="565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7"/>
          <p:cNvSpPr/>
          <p:nvPr/>
        </p:nvSpPr>
        <p:spPr>
          <a:xfrm>
            <a:off x="565164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8"/>
          <p:cNvSpPr/>
          <p:nvPr/>
        </p:nvSpPr>
        <p:spPr>
          <a:xfrm>
            <a:off x="5651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565164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0"/>
          <p:cNvSpPr/>
          <p:nvPr/>
        </p:nvSpPr>
        <p:spPr>
          <a:xfrm>
            <a:off x="5651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1"/>
          <p:cNvSpPr/>
          <p:nvPr/>
        </p:nvSpPr>
        <p:spPr>
          <a:xfrm>
            <a:off x="565164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565164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>
            <a:off x="4932360" y="191628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5651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6012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>
            <a:off x="5292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>
            <a:off x="637236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9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6732720" y="2276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1"/>
          <p:cNvSpPr/>
          <p:nvPr/>
        </p:nvSpPr>
        <p:spPr>
          <a:xfrm>
            <a:off x="248436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2"/>
          <p:cNvSpPr/>
          <p:nvPr/>
        </p:nvSpPr>
        <p:spPr>
          <a:xfrm>
            <a:off x="4049640" y="2104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4"/>
          <p:cNvSpPr/>
          <p:nvPr/>
        </p:nvSpPr>
        <p:spPr>
          <a:xfrm>
            <a:off x="2536920" y="239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5724360" y="155736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8"/>
          <p:cNvSpPr/>
          <p:nvPr/>
        </p:nvSpPr>
        <p:spPr>
          <a:xfrm>
            <a:off x="2465640" y="440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"/>
          <p:cNvSpPr/>
          <p:nvPr/>
        </p:nvSpPr>
        <p:spPr>
          <a:xfrm>
            <a:off x="6786720" y="188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2"/>
          <p:cNvSpPr/>
          <p:nvPr/>
        </p:nvSpPr>
        <p:spPr>
          <a:xfrm>
            <a:off x="2124000" y="278136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3"/>
          <p:cNvSpPr/>
          <p:nvPr/>
        </p:nvSpPr>
        <p:spPr>
          <a:xfrm>
            <a:off x="4986360" y="188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3564000" y="3689280"/>
            <a:ext cx="4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7"/>
          <p:cNvSpPr/>
          <p:nvPr/>
        </p:nvSpPr>
        <p:spPr>
          <a:xfrm>
            <a:off x="3564000" y="443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8"/>
          <p:cNvSpPr/>
          <p:nvPr/>
        </p:nvSpPr>
        <p:spPr>
          <a:xfrm>
            <a:off x="2536920" y="484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3"/>
          <p:cNvSpPr/>
          <p:nvPr/>
        </p:nvSpPr>
        <p:spPr>
          <a:xfrm>
            <a:off x="395280" y="0"/>
            <a:ext cx="856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b812f"/>
                </a:solidFill>
                <a:latin typeface="Arial"/>
              </a:rPr>
              <a:t>По горизонтал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2. Месяц цветения лотоса в Приморском крае. 4. Что остаётся на цветоложе по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мирания лепестков лотоса. 6.  Односемянные плодики лотоса. 8. На что похоже по внешнему виду цветоложе. 10. Вслед за чем поворачивается лот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b812f"/>
                </a:solidFill>
                <a:latin typeface="Arial"/>
              </a:rPr>
              <a:t>По вертикали</a:t>
            </a:r>
            <a:r>
              <a:rPr b="1" lang="ru-RU" sz="1200" spc="-1" strike="noStrike">
                <a:solidFill>
                  <a:srgbClr val="3b812f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. Второе название лотоса Комарова. 3. Какое животное в природе мо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таться корневищем лотоса. 5. Как называется яд, содержащийся в корнях, побегах, молод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стьях лотоса. 7. Тонким налётом какого вещества покрыты листья лотоса. 9. Название грун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тором растёт лот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5"/>
          <p:cNvSpPr/>
          <p:nvPr/>
        </p:nvSpPr>
        <p:spPr>
          <a:xfrm>
            <a:off x="5364000" y="5229360"/>
            <a:ext cx="33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6"/>
          <p:cNvSpPr/>
          <p:nvPr/>
        </p:nvSpPr>
        <p:spPr>
          <a:xfrm>
            <a:off x="6084720" y="5445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812f"/>
                </a:solidFill>
                <a:latin typeface="Arial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11:03Z</dcterms:created>
  <dc:creator>Сергей</dc:creator>
  <dc:description/>
  <dc:language>en-US</dc:language>
  <cp:lastModifiedBy>User</cp:lastModifiedBy>
  <dcterms:modified xsi:type="dcterms:W3CDTF">2013-03-25T03:41:31Z</dcterms:modified>
  <cp:revision>24</cp:revision>
  <dc:subject/>
  <dc:title>ЛОТОС</dc:title>
</cp:coreProperties>
</file>