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7F6D-2440-439E-9409-3010A8BC28D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F240-AA38-4CA2-855F-79FB88346B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CF71-67BB-4371-8B8A-24B5E9DA89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2C85-2D53-4E04-96D8-89DABA2C2E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E114-DC6A-47A1-89AA-1401541A4C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9524-E523-4E69-B14D-3D9731FF96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56EE-A18D-4D6A-8C69-671398CA58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91E6-15E7-4C12-808B-047933DA4D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489E-8B7C-4A08-9B75-ADC9BDDAEF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1F84-6FAD-4FEA-8444-7A4D74F622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7ACE-F0D1-48EA-B0FD-D7A244CA4D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FD01-3E4B-4871-AF0D-90AD9003D9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A3B3-9D1D-48D5-80F7-F9211136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F5F2-D082-4514-ABC7-0AE2B67F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79FF-915A-4B8E-AFC9-30BB86A9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B338-AB43-480C-BC4B-6E6046D6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0E56-C565-4654-A258-3985C09C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D2DB-1FC8-42C8-AEC2-91D7CCED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6C1A-6F96-4A9A-AD10-A489E197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88D4-84E8-44A6-8055-19B7600B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9D7C-960D-49C7-B0D6-A7E2B437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7883-6719-4079-ACC7-639B1344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D61C-CB9B-4F73-8BBD-BCC475D4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C35-8101-4BDD-8DF2-9514F11D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1FC1-484E-46FE-816F-712778C2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2D79-ED01-44B5-BE2F-67DAAD4B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2B81-E34E-4714-AC05-669F7E70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DFD3-AD26-4186-BB53-0EFBCB49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DE96-D027-45BA-8AFD-71E7F7A4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792D-FA79-4CC4-B75B-3FE7E2F4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D32-A8B8-4B53-8492-DD064C04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E68-8BFD-4CAD-8B41-BAF5B912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C66-119C-4BE6-A705-1FCAE12E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6B9-991E-4EDA-8840-4E19F54F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709-5EBE-47E1-82D9-C982ABC0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FA7-6FBB-4494-A1B2-47554DB6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ED00-27BA-4BBF-965D-E275828043B5}" type="slidenum">
              <a:rPr b="0" lang="ru-RU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FFF7-A61E-40BD-B205-7FB44C3E1FF5}" type="slidenum">
              <a:rPr b="0" lang="ru-RU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Лот к"/>
          <p:cNvPicPr/>
          <p:nvPr/>
        </p:nvPicPr>
        <p:blipFill>
          <a:blip r:embed="rId1"/>
          <a:stretch/>
        </p:blipFill>
        <p:spPr>
          <a:xfrm>
            <a:off x="1763640" y="1268280"/>
            <a:ext cx="5545080" cy="2664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3708360" y="404640"/>
            <a:ext cx="16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539640" y="404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Игнатенк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Вика. 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4 класс «А» МБОУ СОШ №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4071960" y="52862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 сош № 6 п. Н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натенко Ви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 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ирнова  Светлан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3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7. Про кого так говорят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тос в болоте растёт, а чист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 лотоса без стеб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8. Прим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ть обрызганным водой из озера, где растёт лотос – к удач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 лотосов на воде, - велико будет плодород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9. Поверь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поверье, что если на куст лотоса в дни когда он цветёт, повязать ленточку, 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нится заветное жел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10. Зага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в ларьках не продают, за ним смельчак ныряет в пр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только рвать его нельзя, когда с природой вы друз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rcRect l="2900" t="58548" r="0" b="1952"/>
          <a:stretch/>
        </p:blipFill>
        <p:spPr>
          <a:xfrm>
            <a:off x="5292720" y="260280"/>
            <a:ext cx="36162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11. Заключение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явившись на Земле более ста миллионов лет назад, лотос мог бы и не сохраниться до наших дней. Но в связи с тем, что в последнее время всё чаще разведением лотосов занимаются люди, будущее лотоса Комарова не вызывает опасений, но все-таки это довольно редкое растение и бессмысленно рвать цветы лотоса  запрещено. Ведь сорвать лотос, всё равно, что его уничтожить. Так как всего в течение двух часов растение (стебель и корни) гибнет и больше никогда не будет радовать глаз новыми буто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храним лотос вместе. Ведь для одни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тос – диковинка, а для других – целая религ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2610000" cy="3543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6227640" y="2637000"/>
            <a:ext cx="2394000" cy="1796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3"/>
          <a:stretch/>
        </p:blipFill>
        <p:spPr>
          <a:xfrm>
            <a:off x="3924360" y="4076640"/>
            <a:ext cx="1595520" cy="1193760"/>
          </a:xfrm>
          <a:prstGeom prst="rect">
            <a:avLst/>
          </a:prstGeom>
          <a:ln w="0">
            <a:noFill/>
          </a:ln>
        </p:spPr>
      </p:pic>
      <p:sp>
        <p:nvSpPr>
          <p:cNvPr id="198" name="Line 8"/>
          <p:cNvSpPr/>
          <p:nvPr/>
        </p:nvSpPr>
        <p:spPr>
          <a:xfrm>
            <a:off x="6156360" y="2492280"/>
            <a:ext cx="2592360" cy="194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 flipH="1">
            <a:off x="6084720" y="2492280"/>
            <a:ext cx="2592720" cy="194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Почему лотос?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567640" cy="52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Согретый лаской солнечных лучей, восходит лотос в солнечном наряд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я презентация посвящена лотосу потому, чт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со своей семьёй ежегодно, во время цветения дальневосточного лотоса,  отправляемся на озеро в Уссурийский район - на базу отдыха «Природа» (Лотос) полюбоваться красотой цветущих лотосов. Красота  этого удивительного цветка побудила меня выяснить почему такой красивый цве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ёт именно в воде.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изучении темы «Лотос» я также узн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честь кого назван дальневосточный лото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ак он размножает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 какому семейству относи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ей работе представле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россворд собственного сочи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Личные фотограф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нтересные фа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243828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1. Самый древний цветок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тос – древнейшее растение планеты. Появился лотос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мле более ста миллионов лет назад. Но на протяж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скольких тысяч лет его разводили люд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ереводе с греческого, лотос означает «умытый»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-латыни 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ti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 - означает купание, омов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ё название дальневосточный лотос носит в честь  выдающегося ботаника,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тешественника и общественного деятеля, президента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адемии наук СССР, создателя обширной школ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таников-систематиков, флористов и географ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ладимира Леонтьевича Комар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3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2209680" cy="3299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лот"/>
          <p:cNvPicPr/>
          <p:nvPr/>
        </p:nvPicPr>
        <p:blipFill>
          <a:blip r:embed="rId2"/>
          <a:stretch/>
        </p:blipFill>
        <p:spPr>
          <a:xfrm>
            <a:off x="6948360" y="333360"/>
            <a:ext cx="1925640" cy="218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"/>
          <p:cNvPicPr/>
          <p:nvPr/>
        </p:nvPicPr>
        <p:blipFill>
          <a:blip r:embed="rId3"/>
          <a:stretch/>
        </p:blipFill>
        <p:spPr>
          <a:xfrm>
            <a:off x="6012000" y="4149720"/>
            <a:ext cx="263052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2. Лотос Комаров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отос Комарова также называют орехоносным лотосом. Растение принадлежит к роду лотос, семейства лотосовых. В Приморском крае, в основном, произрастает в озёрах, старицах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отос – травянистое водное многолетнее растение с ползучим ветвящимся корневищем. Надводные щитковидные листья 50-70 см в диаметре, сверху покрыты тонким восковым налётом. Тычинки цветка многочисленные. Семена – крупные орешки с прочным покровом, погружённые в сильно разросшееся цветоложе обратноконической формы, напоминающей сот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мена и корневища лотосов после ледостава зимуют в непромёрзшем слое ила. Семена  лотоса обладают удивительным свойством сохранять всхожесть в течение очень длительного времени – 100 или даже 1000 лет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3. Волшебная красота лотос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лотоса нет соперников по красо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ветущий лотос исключительно красив, цветки имеют приятный аромат, интенсивность которого меняется в течение дня. Наиболее сильный запах в полд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аска свежих цветков насыщенная розовая, со временем постепенно бледнеет.  Обычно после полудня лепестки венчика медленно складываются и на закате солнца закрываются полностью. Цветок живёт 4 дня. Простояв несколько дней, цветы лотоса постепенно теряют «лепестк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лепестки лотоса отмирают, то на цветоложе остаётся соплодие. На его чуть выпуклой поверхности в углублениях созревают односемянные плодики - орешки величиной с кукурузное зер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лотос"/>
          <p:cNvPicPr/>
          <p:nvPr/>
        </p:nvPicPr>
        <p:blipFill>
          <a:blip r:embed="rId1"/>
          <a:stretch/>
        </p:blipFill>
        <p:spPr>
          <a:xfrm>
            <a:off x="755640" y="3789360"/>
            <a:ext cx="2400480" cy="220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лотос 2"/>
          <p:cNvPicPr/>
          <p:nvPr/>
        </p:nvPicPr>
        <p:blipFill>
          <a:blip r:embed="rId2"/>
          <a:stretch/>
        </p:blipFill>
        <p:spPr>
          <a:xfrm>
            <a:off x="6732720" y="472428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"/>
          <p:cNvPicPr/>
          <p:nvPr/>
        </p:nvPicPr>
        <p:blipFill>
          <a:blip r:embed="rId3"/>
          <a:stretch/>
        </p:blipFill>
        <p:spPr>
          <a:xfrm>
            <a:off x="3851280" y="422100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4. Лотос после цветения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выглядит лотос в октяб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3444840" cy="2582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6012000" y="333360"/>
            <a:ext cx="2741400" cy="397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IMG_1127"/>
          <p:cNvPicPr/>
          <p:nvPr/>
        </p:nvPicPr>
        <p:blipFill>
          <a:blip r:embed="rId3"/>
          <a:stretch/>
        </p:blipFill>
        <p:spPr>
          <a:xfrm>
            <a:off x="395280" y="4005360"/>
            <a:ext cx="27748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5. Свойства лотос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еках в Китае появился обычай готовить для новогодних торжеств особую кашу, в которую обязательно входил корень лотоса. Из семян и корневищ лотоса также получали муку и крахмал, сахар и масло. В китайской медицине издавна все части растения  использовали для лечения заболеваний нервной сис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не стоит удивляться, если вы вдруг встретите лотос в списке ядовитых растений. В корнях, побегах, молодых листьях растения содержится яд нелюмбин. Замечено было, что у некоторых людей, сорвавших цветок лотоса, через некоторое время начиналось головокружение, учащался ритм сердечной деятельности, возникала рвота. Это происходило в результате попадания в организм человека сока раст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но почувствовать недомогание и съев несколько орешков лотоса. Поэтому, рвать лотос, есть его семена, оказывается не всегда безопасно. К этому следует добавить, что  процесс отравления ядом лотоса не изучен, и меры оказания помощи пострадавшим не выработаны. Поэтому, чтобы правильно приготовить блюда из лотоса необходимо применять собранные веками знания: в какую пору, какие части растения и как нужно их рвать, а точнее брать, и хорошо изучив процесс приготовления лотосовых блю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6. Лотос на малой родине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5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ясь на озере базы отдыха «Природа» (Лотос) в Уссурийском районе, администратор рассказала, что впервые, пять лет назад, её сын высадил в озеро несколько корней лотоса. И уже на второй год произрастания, лотос зацвёл. Разрастается лотос очень быстро. Растёт у берегов озера, где глубина не достигает более двух метров. Корневища лотосов находятся неглубоко в иле - на глубине 50 сантиметров. И если войти в воду рядом с растениями, то при хождении они ломаются, и, в конце концов, листья и всё остальное отмирает. Поэтому их очень легко поломать, надо об этом помнить и не спускаться в воду, где растут лотосы. Сотрудники базы отдыха рассказали, что восстанови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ень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тоса искусственным путем нельзя. Поможет только время. А штраф за сорванный цветок - од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яча рублей. Но любоваться красотой никто не запрещ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292720" y="371628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IMG_1121"/>
          <p:cNvPicPr/>
          <p:nvPr/>
        </p:nvPicPr>
        <p:blipFill>
          <a:blip r:embed="rId2"/>
          <a:srcRect l="7754" t="4433" r="5534" b="2953"/>
          <a:stretch/>
        </p:blipFill>
        <p:spPr>
          <a:xfrm>
            <a:off x="755640" y="3860640"/>
            <a:ext cx="282096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3924360" y="2133720"/>
            <a:ext cx="360360" cy="395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124000" y="2781360"/>
            <a:ext cx="216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392436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248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284328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320364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3564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2484360" y="2349360"/>
            <a:ext cx="36036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2484360" y="3141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2484360" y="27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9"/>
          <p:cNvSpPr/>
          <p:nvPr/>
        </p:nvSpPr>
        <p:spPr>
          <a:xfrm>
            <a:off x="2484360" y="342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3564000" y="3645000"/>
            <a:ext cx="287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1"/>
          <p:cNvSpPr/>
          <p:nvPr/>
        </p:nvSpPr>
        <p:spPr>
          <a:xfrm>
            <a:off x="392436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2"/>
          <p:cNvSpPr/>
          <p:nvPr/>
        </p:nvSpPr>
        <p:spPr>
          <a:xfrm>
            <a:off x="428472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457200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4"/>
          <p:cNvSpPr/>
          <p:nvPr/>
        </p:nvSpPr>
        <p:spPr>
          <a:xfrm>
            <a:off x="493236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5"/>
          <p:cNvSpPr/>
          <p:nvPr/>
        </p:nvSpPr>
        <p:spPr>
          <a:xfrm>
            <a:off x="529272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7"/>
          <p:cNvSpPr/>
          <p:nvPr/>
        </p:nvSpPr>
        <p:spPr>
          <a:xfrm>
            <a:off x="601200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3564000" y="4437000"/>
            <a:ext cx="143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9"/>
          <p:cNvSpPr/>
          <p:nvPr/>
        </p:nvSpPr>
        <p:spPr>
          <a:xfrm>
            <a:off x="3924360" y="44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1"/>
          <p:cNvSpPr/>
          <p:nvPr/>
        </p:nvSpPr>
        <p:spPr>
          <a:xfrm>
            <a:off x="4643280" y="44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2"/>
          <p:cNvSpPr/>
          <p:nvPr/>
        </p:nvSpPr>
        <p:spPr>
          <a:xfrm>
            <a:off x="2484360" y="4797360"/>
            <a:ext cx="21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3"/>
          <p:cNvSpPr/>
          <p:nvPr/>
        </p:nvSpPr>
        <p:spPr>
          <a:xfrm>
            <a:off x="4284720" y="47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4"/>
          <p:cNvSpPr/>
          <p:nvPr/>
        </p:nvSpPr>
        <p:spPr>
          <a:xfrm>
            <a:off x="3924360" y="47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5"/>
          <p:cNvSpPr/>
          <p:nvPr/>
        </p:nvSpPr>
        <p:spPr>
          <a:xfrm>
            <a:off x="3564000" y="47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6"/>
          <p:cNvSpPr/>
          <p:nvPr/>
        </p:nvSpPr>
        <p:spPr>
          <a:xfrm>
            <a:off x="3203640" y="479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7"/>
          <p:cNvSpPr/>
          <p:nvPr/>
        </p:nvSpPr>
        <p:spPr>
          <a:xfrm>
            <a:off x="2843280" y="47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8"/>
          <p:cNvSpPr/>
          <p:nvPr/>
        </p:nvSpPr>
        <p:spPr>
          <a:xfrm>
            <a:off x="3924360" y="54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9"/>
          <p:cNvSpPr/>
          <p:nvPr/>
        </p:nvSpPr>
        <p:spPr>
          <a:xfrm>
            <a:off x="392436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0"/>
          <p:cNvSpPr/>
          <p:nvPr/>
        </p:nvSpPr>
        <p:spPr>
          <a:xfrm>
            <a:off x="2484360" y="4437000"/>
            <a:ext cx="35892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2484360" y="47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2"/>
          <p:cNvSpPr/>
          <p:nvPr/>
        </p:nvSpPr>
        <p:spPr>
          <a:xfrm>
            <a:off x="2484360" y="51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3"/>
          <p:cNvSpPr/>
          <p:nvPr/>
        </p:nvSpPr>
        <p:spPr>
          <a:xfrm>
            <a:off x="2484360" y="5445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4"/>
          <p:cNvSpPr/>
          <p:nvPr/>
        </p:nvSpPr>
        <p:spPr>
          <a:xfrm>
            <a:off x="2484360" y="5805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5651640" y="1557360"/>
            <a:ext cx="360360" cy="28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6"/>
          <p:cNvSpPr/>
          <p:nvPr/>
        </p:nvSpPr>
        <p:spPr>
          <a:xfrm>
            <a:off x="565164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7"/>
          <p:cNvSpPr/>
          <p:nvPr/>
        </p:nvSpPr>
        <p:spPr>
          <a:xfrm>
            <a:off x="5651640" y="40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8"/>
          <p:cNvSpPr/>
          <p:nvPr/>
        </p:nvSpPr>
        <p:spPr>
          <a:xfrm>
            <a:off x="565164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9"/>
          <p:cNvSpPr/>
          <p:nvPr/>
        </p:nvSpPr>
        <p:spPr>
          <a:xfrm>
            <a:off x="5651640" y="22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0"/>
          <p:cNvSpPr/>
          <p:nvPr/>
        </p:nvSpPr>
        <p:spPr>
          <a:xfrm>
            <a:off x="565164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1"/>
          <p:cNvSpPr/>
          <p:nvPr/>
        </p:nvSpPr>
        <p:spPr>
          <a:xfrm>
            <a:off x="5651640" y="29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3"/>
          <p:cNvSpPr/>
          <p:nvPr/>
        </p:nvSpPr>
        <p:spPr>
          <a:xfrm>
            <a:off x="565164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4"/>
          <p:cNvSpPr/>
          <p:nvPr/>
        </p:nvSpPr>
        <p:spPr>
          <a:xfrm>
            <a:off x="4932360" y="1916280"/>
            <a:ext cx="2160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5"/>
          <p:cNvSpPr/>
          <p:nvPr/>
        </p:nvSpPr>
        <p:spPr>
          <a:xfrm>
            <a:off x="5651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6"/>
          <p:cNvSpPr/>
          <p:nvPr/>
        </p:nvSpPr>
        <p:spPr>
          <a:xfrm>
            <a:off x="601200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7"/>
          <p:cNvSpPr/>
          <p:nvPr/>
        </p:nvSpPr>
        <p:spPr>
          <a:xfrm>
            <a:off x="529272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8"/>
          <p:cNvSpPr/>
          <p:nvPr/>
        </p:nvSpPr>
        <p:spPr>
          <a:xfrm>
            <a:off x="637236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9"/>
          <p:cNvSpPr/>
          <p:nvPr/>
        </p:nvSpPr>
        <p:spPr>
          <a:xfrm>
            <a:off x="673272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0"/>
          <p:cNvSpPr/>
          <p:nvPr/>
        </p:nvSpPr>
        <p:spPr>
          <a:xfrm>
            <a:off x="6732720" y="2276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1"/>
          <p:cNvSpPr/>
          <p:nvPr/>
        </p:nvSpPr>
        <p:spPr>
          <a:xfrm>
            <a:off x="2484360" y="342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2"/>
          <p:cNvSpPr/>
          <p:nvPr/>
        </p:nvSpPr>
        <p:spPr>
          <a:xfrm>
            <a:off x="4049640" y="2104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4"/>
          <p:cNvSpPr/>
          <p:nvPr/>
        </p:nvSpPr>
        <p:spPr>
          <a:xfrm>
            <a:off x="2536920" y="2392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6"/>
          <p:cNvSpPr/>
          <p:nvPr/>
        </p:nvSpPr>
        <p:spPr>
          <a:xfrm>
            <a:off x="5724360" y="155736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8"/>
          <p:cNvSpPr/>
          <p:nvPr/>
        </p:nvSpPr>
        <p:spPr>
          <a:xfrm>
            <a:off x="2465640" y="4408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0"/>
          <p:cNvSpPr/>
          <p:nvPr/>
        </p:nvSpPr>
        <p:spPr>
          <a:xfrm>
            <a:off x="6786720" y="1889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2"/>
          <p:cNvSpPr/>
          <p:nvPr/>
        </p:nvSpPr>
        <p:spPr>
          <a:xfrm>
            <a:off x="2124000" y="2781360"/>
            <a:ext cx="5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3"/>
          <p:cNvSpPr/>
          <p:nvPr/>
        </p:nvSpPr>
        <p:spPr>
          <a:xfrm>
            <a:off x="4986360" y="1889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5"/>
          <p:cNvSpPr/>
          <p:nvPr/>
        </p:nvSpPr>
        <p:spPr>
          <a:xfrm>
            <a:off x="3564000" y="3689280"/>
            <a:ext cx="4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7"/>
          <p:cNvSpPr/>
          <p:nvPr/>
        </p:nvSpPr>
        <p:spPr>
          <a:xfrm>
            <a:off x="3564000" y="4437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8"/>
          <p:cNvSpPr/>
          <p:nvPr/>
        </p:nvSpPr>
        <p:spPr>
          <a:xfrm>
            <a:off x="2536920" y="4840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3"/>
          <p:cNvSpPr/>
          <p:nvPr/>
        </p:nvSpPr>
        <p:spPr>
          <a:xfrm>
            <a:off x="395280" y="0"/>
            <a:ext cx="856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b812f"/>
                </a:solidFill>
                <a:latin typeface="Arial"/>
              </a:rPr>
              <a:t>По горизонтал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 2. Месяц цветения лотоса в Приморском крае. 4. Что остаётся на цветоложе по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мирания лепестков лотоса. 6.  Односемянные плодики лотоса. 8. На что похоже по внешнему виду цветоложе. 10. Вслед за чем поворачивается лот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b812f"/>
                </a:solidFill>
                <a:latin typeface="Arial"/>
              </a:rPr>
              <a:t>По вертикали</a:t>
            </a:r>
            <a:r>
              <a:rPr b="1" lang="ru-RU" sz="1200" spc="-1" strike="noStrike">
                <a:solidFill>
                  <a:srgbClr val="3b812f"/>
                </a:solidFill>
                <a:latin typeface="Arial"/>
              </a:rPr>
              <a:t>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1. Второе название лотоса Комарова. 3. Какое животное в природе мо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итаться корневищем лотоса. 5. Как называется яд, содержащийся в корнях, побегах, молод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истьях лотоса. 7. Тонким налётом какого вещества покрыты листья лотоса. 9. Название грунт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отором растёт лот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5"/>
          <p:cNvSpPr/>
          <p:nvPr/>
        </p:nvSpPr>
        <p:spPr>
          <a:xfrm>
            <a:off x="5364000" y="5229360"/>
            <a:ext cx="33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6"/>
          <p:cNvSpPr/>
          <p:nvPr/>
        </p:nvSpPr>
        <p:spPr>
          <a:xfrm>
            <a:off x="6084720" y="544500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b812f"/>
                </a:solidFill>
                <a:latin typeface="Arial"/>
              </a:rPr>
              <a:t>Кроссво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09:11:03Z</dcterms:created>
  <dc:creator>Сергей</dc:creator>
  <dc:description/>
  <dc:language>en-US</dc:language>
  <cp:lastModifiedBy>User</cp:lastModifiedBy>
  <dcterms:modified xsi:type="dcterms:W3CDTF">2013-03-25T03:41:31Z</dcterms:modified>
  <cp:revision>24</cp:revision>
  <dc:subject/>
  <dc:title>ЛОТОС</dc:title>
</cp:coreProperties>
</file>