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A05-4420-4A29-971C-562FDD39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6CC-8A60-4D94-87ED-8B83E1BC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224-FA25-4AD6-A74B-1B3411E0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F63-019E-45E5-BD7D-42133213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C704-5E32-4640-B979-471FEECB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022C-1575-45E2-A59D-228D119F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649C-1C8F-4191-A116-41E057BC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A980-6AA9-4BBE-94B9-66F9562C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204F-817B-4352-B2E5-78F0ABDE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D543-A61E-41F4-AF64-E2DDBEFD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D53E-F1BA-4F95-B6C7-BABED508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53B-2B64-4FFA-8AA8-588C00F5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95F5-C101-447D-9CDA-CFEF3703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DDFB-4001-4CCF-82F1-F217806B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107F-79F7-4F36-A790-D6165DA6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FF66-74D7-4D64-8662-A55878B9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E5C6-FD3F-4DD8-BB8C-68DE285B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A9E-B5FA-4C1F-AE5D-72224F52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C43-0655-427D-B7FC-C9604A7E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BB3-8630-4AA1-9E4D-E9D9F53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28E-12EA-480A-9605-55F94C4B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DB0-0B2A-4B4F-9FFB-80190D04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89B-59E0-40EB-90C6-743C0DB0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0DF-255D-481D-AC37-C131AE6E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3308-04B5-47A9-B3CE-B16AF3E98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60D7-24FF-4E2C-BC60-CA196B8D3E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Местоимение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рок-обобщ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е"/>
          <p:cNvPicPr/>
          <p:nvPr/>
        </p:nvPicPr>
        <p:blipFill>
          <a:blip r:embed="rId1"/>
          <a:stretch/>
        </p:blipFill>
        <p:spPr>
          <a:xfrm>
            <a:off x="5786280" y="3214800"/>
            <a:ext cx="2880000" cy="2490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285840" y="300024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: Данилина Галина Олег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БОУ «Учхозская СОШ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ослобод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спублики Морд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авайте провери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215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икто не забыт, ничто не забыто; нигде  не мерцал огонек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кого-то похож; нечему удивляться, некогда бездельничать; какой-то случай; некоторое происшестви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е у кого в гост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Ответьте на эти шуточные вопросы и укажите, какие местоимения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 них употреблены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50104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ы за ней, она от тебя, ты от нее, а она за тобой. Что это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Тен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Назовите притяжательное местоимение, которое может быть глаголом повелительного накло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М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Какое местоимение можно назвать самым хвастливым и самым скромны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Какие три местоимения самые чисты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Вы-мы-ты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Какие два местоимения мешают ездить по дорогам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Я-мы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uim"/>
          <p:cNvPicPr/>
          <p:nvPr/>
        </p:nvPicPr>
        <p:blipFill>
          <a:blip r:embed="rId1"/>
          <a:stretch/>
        </p:blipFill>
        <p:spPr>
          <a:xfrm>
            <a:off x="6804000" y="1197000"/>
            <a:ext cx="18716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395280" y="549360"/>
            <a:ext cx="8353440" cy="416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1619280" y="4365720"/>
            <a:ext cx="64818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ейчас вс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лучат оценк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2600" y="1428840"/>
            <a:ext cx="82026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. И. Львова “Уроки словесности”, М., “Дрофа”,2000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русского языка для 5 класса под редакцией М. Т. Баранова,М., “Просвещение”, 1971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а фантазий и проказ”, М., ОАО “Московский учебник”, 200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Б. Голуб “Стилистика русого языка”, М., “Рольф”, 1997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дание 1. Ответьте на вопрос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Что такое местоимение? Назовите разряды местоим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Какие местоимения не склоняю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Как образуются отрицательные и неопределенные местоим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Какие местоимения пишутся с дефис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Когда пишется ни в отрицательных местоимениях? Когда 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В каких случаях не и ни в отрицательных местоимениях пишутся раздельн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дание 2. Заполните таблицу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397160"/>
          <a:ext cx="8424720" cy="5364000"/>
        </p:xfrm>
        <a:graphic>
          <a:graphicData uri="http://schemas.openxmlformats.org/drawingml/2006/table">
            <a:tbl>
              <a:tblPr/>
              <a:tblGrid>
                <a:gridCol w="1224000"/>
                <a:gridCol w="4203720"/>
                <a:gridCol w="2997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яд местоим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ы местоим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авайте провери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9640" y="1197000"/>
          <a:ext cx="8280360" cy="5479920"/>
        </p:xfrm>
        <a:graphic>
          <a:graphicData uri="http://schemas.openxmlformats.org/drawingml/2006/table">
            <a:tbl>
              <a:tblPr/>
              <a:tblGrid>
                <a:gridCol w="719280"/>
                <a:gridCol w="3673440"/>
                <a:gridCol w="3887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яд местоим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ы местоим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, ты, он, 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врат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б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то? Чт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то, ч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аз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т , это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тяж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й, твой, на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кто, не у к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предел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который, кое-к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сь, иной,сам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Задание 3. Выпишите из стихотворения местоимения, определите их разряд. Кто автор стихотворения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70028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жу за решеткой в темнице сы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кормленный в неволе орел молод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й грустный товарищ, махая крыл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овавую пищу клюет под ок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ет, и бросает, и смотрит в окн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будто со мною задумал од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овет меня взглядом и криком сво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ымолвить хочет: « Давай улетим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вольные птицы; пора, брат, пор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уда, где за тучей белеет гор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уда, где синеют морские кра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уда, где гуляем лишь ветер…да 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шш"/>
          <p:cNvPicPr/>
          <p:nvPr/>
        </p:nvPicPr>
        <p:blipFill>
          <a:blip r:embed="rId1"/>
          <a:stretch/>
        </p:blipFill>
        <p:spPr>
          <a:xfrm>
            <a:off x="6084720" y="2781360"/>
            <a:ext cx="2374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авайте провери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946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ритяжательное местоимение в мужском роде, в единственном числе, в именительном 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 мною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е местоимение в единственном числе, в творительном 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н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личное местоимение в единственном числ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одительном 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и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ритяжательное местоимение в мужском роде, в единственном числе, в творительном 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личное местоимение 1 лица множественного числа, в именительном 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личное местоимение 1 лица единственного числа, в именительном паде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Задание 4. Прочитайте текст. Выполните задание к нему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ое утро я отправляюсь в лес по грибы, но возвращаюсь с пустой корзинкой. Надо мной смеются мои соседи. Я выслушиваю все эти дружеские нападки. Они меня не задевают. Ведь никто из тех. кто надо мной подтрунивает, не подозревает, что я грибов не собираю. Мне жаль срывать грибы, которые выросли возле моей заветной тропинки. Я знаю на ней каждый грибок, но не рву их, а слежу за тем, как они расту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амматическое зада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йдите местоимения по их морфологическим признака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е, 1-го лица, единственного числа, стоит в творитель­ном падеж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'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указательное,  стоит  во  множественном  числе, родительном падеже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тельное,  стоит  во  множественном  числе, именительном падеже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4) определитель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стоит  во  единственном  числе, мужском роде, винительном падеже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делайте морфологический разбор местоимений: эти, о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авайте провери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94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е, 1-го лица, единственного числа, стоит в творитель­ном падеже –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надо мно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'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указательное,  стоит  во  множественном  числе, родительном падеже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з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те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азательное,  стоит  во  множественном  числе, именительном падеже -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э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4) определительно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 стоит  во  единственном  числе, мужском роде, винительном падеже -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аждый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дание 5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рфографическая диктовк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Ни, не)кто (не) забыт, (ни, не)что (не) забыто; (ни, не)где  (не) м..рцал огонек; на кого(то) п..хож; (ни,не)чему уд..вляться, (ни, не)когда бездельничать; какой(то) случай; (ни,не)которое происшеств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кое)у кого в гост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[[oo"/>
          <p:cNvPicPr/>
          <p:nvPr/>
        </p:nvPicPr>
        <p:blipFill>
          <a:blip r:embed="rId1"/>
          <a:stretch/>
        </p:blipFill>
        <p:spPr>
          <a:xfrm>
            <a:off x="7236000" y="260280"/>
            <a:ext cx="1584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5:43:31Z</dcterms:created>
  <dc:creator>User</dc:creator>
  <dc:description/>
  <dc:language>en-US</dc:language>
  <cp:lastModifiedBy>1</cp:lastModifiedBy>
  <dcterms:modified xsi:type="dcterms:W3CDTF">2013-03-25T17:41:31Z</dcterms:modified>
  <cp:revision>20</cp:revision>
  <dc:subject/>
  <dc:title>Местоимение </dc:title>
</cp:coreProperties>
</file>