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100-A186-4016-B1CC-9A130691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10C-D005-4506-81E8-034883B8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C23-76ED-4C4E-B95D-533EDFD8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65E-5A9D-4CEE-8203-95DE9E9F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A1E-136D-471F-ABAA-1FBDABDB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80FC-C631-46EB-9B5D-75C9C8D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263B-7AB7-4D42-8298-4AA7EEFB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D269-42AA-4047-8025-A90D45A3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146B-01F8-4CC5-9BC6-A0339F53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3C62-88C1-4787-9DA9-A3927EFF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1DBE-4A74-4F6C-AE62-5D31DE57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CE6-6996-4F77-8C8E-8F093B53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E163-0AE0-4096-89A5-379E19F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CB2C-2C65-413F-B7AA-F0498662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ED0E-2E39-4366-8C68-5BC4E423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626D-F06C-417C-9C56-FA6B3C96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2F22-271D-44B2-AE8C-2117209C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8FD-7B21-4379-B33A-823F5823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714-1D60-43A5-8D61-55750BF4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C1C-FAB5-477A-8066-FBA3426F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0F2-5F70-4AC6-BE8A-38731773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615-8470-4F71-BAE4-0BCDD1ED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37A-5375-4911-8623-EBD511C2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15F-D0C7-49D0-BDEC-D05C9CCE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5874-DC14-467B-99DE-EA4FADCB4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06E2-920C-4599-BC7B-CD4DA5FF7A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Местоимение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рок-обобщ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е"/>
          <p:cNvPicPr/>
          <p:nvPr/>
        </p:nvPicPr>
        <p:blipFill>
          <a:blip r:embed="rId1"/>
          <a:stretch/>
        </p:blipFill>
        <p:spPr>
          <a:xfrm>
            <a:off x="5786280" y="3214800"/>
            <a:ext cx="2880000" cy="24908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285840" y="300024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р: Данилина Галина Олег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ОУ «Учхозская СОШ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ослобод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спублики Мордо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авайте провери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215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икто не забыт, ничто не забыто; нигде  не мерцал огонек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кого-то похож; нечему удивляться, некогда бездельничать; какой-то случай; некоторое происшестви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е у кого в гост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Ответьте на эти шуточные вопросы и укажите, какие местоимения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в них употреблены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850104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за ней, она от тебя, ты от нее, а она за тобой. Что это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Тен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Назовите притяжательное местоимение, которое может быть глаголом повелительного накло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М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Какое местоимение можно назвать самым хвастливым и самым скромны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Какие три местоимения самые чисты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Вы-мы-ты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Какие два местоимения мешают ездить по дорогам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Я-мы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uim"/>
          <p:cNvPicPr/>
          <p:nvPr/>
        </p:nvPicPr>
        <p:blipFill>
          <a:blip r:embed="rId1"/>
          <a:stretch/>
        </p:blipFill>
        <p:spPr>
          <a:xfrm>
            <a:off x="6804000" y="1197000"/>
            <a:ext cx="1871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395280" y="549360"/>
            <a:ext cx="8353440" cy="416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1619280" y="4365720"/>
            <a:ext cx="64818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ейчас вс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олучат оценк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2600" y="1428840"/>
            <a:ext cx="8202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. И. Львова “Уроки словесности”, М., “Дрофа”,2000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русского языка для 5 класса под редакцией М. Т. Баранова,М., “Просвещение”, 1971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а фантазий и проказ”, М., ОАО “Московский учебник”, 2006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Б. Голуб “Стилистика русого языка”, М., “Рольф”, 1997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ние 1. Ответьте на вопрос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местоимение? Назовите разряды местоим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Какие местоимения не склоняю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Как образуются отрицательные и неопределенные местоим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Какие местоимения пишутся с дефис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Когда пишется ни в отрицательных местоимениях? Когда 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В каких случаях не и ни в отрицательных местоимениях пишутся раздель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ние 2. Заполните таблицу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397160"/>
          <a:ext cx="8424720" cy="5364000"/>
        </p:xfrm>
        <a:graphic>
          <a:graphicData uri="http://schemas.openxmlformats.org/drawingml/2006/table">
            <a:tbl>
              <a:tblPr/>
              <a:tblGrid>
                <a:gridCol w="1224000"/>
                <a:gridCol w="4203720"/>
                <a:gridCol w="2997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яд местоим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ы местоим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авайте провери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1197000"/>
          <a:ext cx="8280360" cy="5479920"/>
        </p:xfrm>
        <a:graphic>
          <a:graphicData uri="http://schemas.openxmlformats.org/drawingml/2006/table">
            <a:tbl>
              <a:tblPr/>
              <a:tblGrid>
                <a:gridCol w="719280"/>
                <a:gridCol w="3673440"/>
                <a:gridCol w="3887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яд местоим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ы местоим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, ты, он, 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рат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б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то? Чт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то, ч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аз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т , это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тяж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й, твой, на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кто, не у к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предел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который, кое-к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ь, иной,сам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Задание 3. Выпишите из стихотворения местоимения, определите их разряд. Кто автор стихотворения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жу за решеткой в темнице сы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кормленный в неволе орел молод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й грустный товарищ, махая крыло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овавую пищу клюет под ок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ет, и бросает, и смотрит в ок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будто со мною задумал од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овет меня взглядом и криком сво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ымолвить хочет: « Давай улетим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вольные птицы; пора, брат, пор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уда, где за тучей белеет го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уда, где синеют морские кра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уда, где гуляем лишь ветер…да 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шш"/>
          <p:cNvPicPr/>
          <p:nvPr/>
        </p:nvPicPr>
        <p:blipFill>
          <a:blip r:embed="rId1"/>
          <a:stretch/>
        </p:blipFill>
        <p:spPr>
          <a:xfrm>
            <a:off x="6084720" y="2781360"/>
            <a:ext cx="2374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авайте провери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46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ритяжательное местоимение в мужском роде, в единственном числе, в имен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 мною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е местоимение в единственном числе, в твор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н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личное местоимение в единственном числ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од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вои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ритяжательное местоимение в мужском роде, в единственном числе, в твор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личное местоимение 1 лица множественного числа, в именительном паде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личное местоимение 1 лица единственного числа, в именительном паде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Задание 4. Прочитайте текст. Выполните задание к нему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ое утро я отправляюсь в лес по грибы, но возвращаюсь с пустой корзинкой. Надо мной смеются мои соседи. Я выслушиваю все эти дружеские нападки. Они меня не задевают. Ведь никто из тех. кто надо мной подтрунивает, не подозревает, что я грибов не собираю. Мне жаль срывать грибы, которые выросли возле моей заветной тропинки. Я знаю на ней каждый грибок, но не рву их, а слежу за тем, как они расту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мматическое зад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йдите местоимения по их морфологическим признака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чное, 1-го лица, единственного числа, стоит в творитель­ном падеж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'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указательное,  стоит  во  множественном  числе, родительном падеже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тельное,  стоит  во  множественном  числе, именительном падеже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4) определите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стоит  во  единственном  числе, мужском роде, винительном падеже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делайте морфологический разбор местоимений: эти, о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авайте провери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94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е, 1-го лица, единственного числа, стоит в творитель­ном падеже –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адо мно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'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указательное,  стоит  во  множественном  числе, родительном падеже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з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е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азательное,  стоит  во  множественном  числе, именительном падеже -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э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) определительно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 стоит  во  единственном  числе, мужском роде, винительном падеже -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аждый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Задание 5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рфографическая диктовка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Ни, не)кто (не) забыт, (ни, не)что (не) забыто; (ни, не)где  (не) м..рцал огонек; на кого(то) п..хож; (ни,не)чему уд..вляться, (ни, не)когда бездельничать; какой(то) случай; (ни,не)которое происшеств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кое)у кого в гост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8" descr="[[oo"/>
          <p:cNvPicPr/>
          <p:nvPr/>
        </p:nvPicPr>
        <p:blipFill>
          <a:blip r:embed="rId1"/>
          <a:stretch/>
        </p:blipFill>
        <p:spPr>
          <a:xfrm>
            <a:off x="7236000" y="260280"/>
            <a:ext cx="1584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5:43:31Z</dcterms:created>
  <dc:creator>User</dc:creator>
  <dc:description/>
  <dc:language>en-US</dc:language>
  <cp:lastModifiedBy>1</cp:lastModifiedBy>
  <dcterms:modified xsi:type="dcterms:W3CDTF">2013-03-25T17:41:31Z</dcterms:modified>
  <cp:revision>20</cp:revision>
  <dc:subject/>
  <dc:title>Местоимение </dc:title>
</cp:coreProperties>
</file>