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B9F-F1C7-4030-8CBF-3C0352E8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C7C-64B6-4404-B22A-2528207A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70B-E67D-4C19-8395-97F51BFC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222-C5D8-4910-BE93-D2A98622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2AB0-9F51-4414-90ED-B11E6790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ABD9-5BB5-4005-A6C6-C5D03545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BEBF-EF63-4FEC-9E0F-73BA4BD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F713-AA62-4BD1-A354-3B700F20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8712-0AB1-40C0-BDA4-D17B5E24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F5B-6A46-4D50-B7B8-CAE7A491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13E1-A754-4E68-B972-FFE4653C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7D7-D901-4E7B-99E2-4E1960E8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0039-0131-4664-96F8-197CFEC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8185-4B91-4D1A-AC2B-357AC198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1CB1-044F-420D-8FAC-8A2D2694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355E-7D26-450A-8232-56348A97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31FA-154C-4D0F-91B8-0D633D98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F46-DF1C-4DB5-B8DE-B86E8AF0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911-C775-43D0-A162-276762E0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D27-8213-47E6-9CB0-BCB52F1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DF3-CF66-4BD5-91E3-FF359091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FFD-5160-44F9-AB1A-6652F44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6F3-A13B-4444-BF42-4786E46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ED3-4002-46DF-B2C6-0E1BB56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F2E2-8751-47AD-B809-2FD3AFA81FA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993A-9654-4502-AEF0-952A563E20A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Роль классного руководителя в становлении классного коллектива и его влияние на формирование личности каждого ученика</a:t>
            </a:r>
            <a:br>
              <a:rPr sz="40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БОУ СОШ № З86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анкт - Петербург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м.дир по ВР Галка Д.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7156440"/>
            <a:ext cx="40132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757224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5636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КАЗАТЕЛИ РАЗВИТИЯ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КОЛЛЕКТИВА: </a:t>
            </a:r>
            <a:br>
              <a:rPr sz="36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2362320"/>
            <a:ext cx="79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теллектуальна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ммуникативность(межличностное восприятие,взаимопонимание,общий язык, понимание с «полуслова»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моциональная коммуникативность (общение и поддержка в радости и в горе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левая коммуникативность(способность противостоять трудностям, стрессоустойчивость,надежность в экстремальных ситуациях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ФАКТОР СПЛОЧЕНИЯ 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             КОЛЛЕКТИВА:  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71280" y="2491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ие интересы групп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емление приспособиться в специфических условия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торитет лидер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личие социальных норм и т.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НЦИПЫ СОТРУДНИЧЕСТВА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ЧНОСТИ И КОЛЛЕКТИВА: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зусловное принятие личности, ее слабых и сильных сторон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спристрастность в оценке поступков учащихс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рпение в достижении результатов воздействия и терпимость в отношении к членам коллекти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алогичность в обще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страха признавать свою неправот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ование чувство юмор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бояться сделать ошибку и признать е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41600" y="1325880"/>
            <a:ext cx="7376040" cy="79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КОМЕНДАЦИИ ПО ФОРМИРОВАНИЮ УЧЕНИЧЕСКОГО 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КОЛЛЕКТИВ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крытость деятельности классного руководителя: «Планируем вместе, анализируем вместе, радуемся вместе»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уществление обратной связи: после каждого проведенного совместного дела учитель организует беседу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ализ,что благоприятствует неформальным отношениям между членами коллектив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творчество( сотрудничество в творчестве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пешность(с использованием инструмента оценки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вобода выбор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евая направленность на конкретный результат дел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влекательность деятель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ФЛЕКС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ая важная мысль педсовета для вас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ая спорная мысль педсовета, по вашему мнению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никла ли у вас какая-либо идея, которую вы захотите опробовать после педсовет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764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ртрет деятельности классного руководителя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2538000"/>
            <a:ext cx="7692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здание классного коллектива и организация совместной творческой деятельности различной направленност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казание помощи и поддержки каждому учащемуся в решении всего спектра имеющихся у него пробле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ключение учащихся в процесс управления жизнедеятельностью класса через создание ученического самоуправл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еспечение осознанного включения учащихся в образовательный процесс, решение проблем мотивации, успеваемости, посещаемости, дисциплинированности. Сохранения жизни и здоровья учащихс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ординация усилий педагогов, работающих с классом и включение класса в общественную жизнь, принятие учащимися класса основных ценностей сложившихся в ОУ образа жизн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заимодействие с родителями учащихся по преодолению противоречий между целями семейного и школьного воспит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: Решение педсовета: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лассным руководителям использовать разнообразные   воспитательные технологии в работе с классным коллектив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комендовать учителям начальной школы активнее привлекать воспитателей ГПД к проведению  мероприят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нообразить формы работы классных руководителей с родителям учащих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социокультурной среды Петербурга в воспитательной работе с классным коллектив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СПАСИБО КОЛЛЕГИ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ЗА         </a:t>
            </a:r>
            <a:br>
              <a:rPr sz="5400"/>
            </a:b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               СОТРУДНИЧЕСТВО 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од педсовета :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6932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Классный руководитель - его роль в становлении коллектива , формирование и воспитание личности ученика (Заместитель директора по ВР Галка Д.А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овместная работа классного руководителя и воспитателя ГПД в начальной школе по формированию коллектива (Классный руководитель 2а класса Орлова Т.В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Расширение взаимодействия классного руководителя, учащихся и родителей. Воспитательная работа в начальной школе (Классный руководитель 4а класса Масловская Н.А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Использование социокультурной среды в работе классного руководителя(Классный руководитель 6а класса Боганова Г.И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Организационное и эмоциональное сплочение детского сообщества по средствам деловой игры(Председатель МО классных руководителей школы БерманТ.В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Заключение (Заместитель директора по учебно -воспитательной работе Крупенко Г.Т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и задач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учить определять уровень развития коллекти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вести в систему воспитательной работы класса основные формы и методы организации коллекти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работать принципы сотрудничества коллектива и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Ы ПЕДСОВЕ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-й этап-определение основных проблем по тем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-й этап-коллектив и условия его формир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-й этап -формы и методы организации коллекти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-й этап-личность и условия ее формир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-й этап-решение основных проблем по тем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-й этап-решение педсовета и рефлекс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оли классного руководител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Контролёр 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спешное освоение  образовательного процесс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Проводник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формирование познавательной мотивац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Наставник 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равственное воспита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Носитель культуры 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мощь в освоении культурных ценносте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циальный педагог - помощь в решении соц. пробле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тарший товарищ – организация коллективной жизни в классе, воспитание лидерских качест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сихотерапевт -создание доброжелательной атмосферы, помощь в решении пробле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алеолог –воспитание потребностей к здоровому образу жизн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рганизатор досуга –воспитание культуры поведения свободного времен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иагност – аналитик анализ результативностивоспитательного процесс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асилитатор –создание условий для самоопределения и самореализац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ХЕМА ФОРМИРОВАНИЯ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КОЛЛЕКТИВА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Organization Chart 41"/>
          <p:cNvGrpSpPr/>
          <p:nvPr/>
        </p:nvGrpSpPr>
        <p:grpSpPr>
          <a:xfrm>
            <a:off x="826920" y="2781360"/>
            <a:ext cx="7692840" cy="3723120"/>
            <a:chOff x="826920" y="2781360"/>
            <a:chExt cx="7692840" cy="372312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885640" y="3058200"/>
              <a:ext cx="745200" cy="316908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 rot="16200000">
              <a:off x="5094360" y="3849480"/>
              <a:ext cx="745200" cy="158616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V="1" rot="16200000">
              <a:off x="4302000" y="4641840"/>
              <a:ext cx="745200" cy="180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5" name="_s1031"/>
            <p:cNvCxnSpPr>
              <a:stCxn id="116" idx="0"/>
              <a:endCxn id="110" idx="2"/>
            </p:cNvCxnSpPr>
            <p:nvPr/>
          </p:nvCxnSpPr>
          <p:spPr>
            <a:xfrm flipH="1" flipV="1" rot="5400000">
              <a:off x="3509280" y="3850560"/>
              <a:ext cx="745200" cy="158472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7" name="_s1032"/>
            <p:cNvCxnSpPr>
              <a:stCxn id="118" idx="0"/>
              <a:endCxn id="110" idx="2"/>
            </p:cNvCxnSpPr>
            <p:nvPr/>
          </p:nvCxnSpPr>
          <p:spPr>
            <a:xfrm flipH="1" flipV="1" rot="5400000">
              <a:off x="2717280" y="3058200"/>
              <a:ext cx="745200" cy="316908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10" name="_s1033"/>
            <p:cNvSpPr/>
            <p:nvPr/>
          </p:nvSpPr>
          <p:spPr>
            <a:xfrm>
              <a:off x="3993480" y="27813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Классный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руководитель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826920" y="50151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личность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2410920" y="50151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коллектив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_s1036"/>
            <p:cNvSpPr/>
            <p:nvPr/>
          </p:nvSpPr>
          <p:spPr>
            <a:xfrm>
              <a:off x="3995280" y="50151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Детская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_s1037"/>
            <p:cNvSpPr/>
            <p:nvPr/>
          </p:nvSpPr>
          <p:spPr>
            <a:xfrm>
              <a:off x="5579640" y="50151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КТД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1038"/>
            <p:cNvSpPr/>
            <p:nvPr/>
          </p:nvSpPr>
          <p:spPr>
            <a:xfrm>
              <a:off x="7163640" y="5015160"/>
              <a:ext cx="1356120" cy="1489320"/>
            </a:xfrm>
            <a:custGeom>
              <a:avLst/>
              <a:gdLst>
                <a:gd name="textAreaLeft" fmla="*/ 65880 w 1356120"/>
                <a:gd name="textAreaRight" fmla="*/ 1290240 w 1356120"/>
                <a:gd name="textAreaTop" fmla="*/ 65880 h 1489320"/>
                <a:gd name="textAreaBottom" fmla="*/ 1423440 h 1489320"/>
              </a:gdLst>
              <a:ahLst/>
              <a:rect l="textAreaLeft" t="textAreaTop" r="textAreaRight" b="textAreaBottom"/>
              <a:pathLst>
                <a:path w="21600" h="23721">
                  <a:moveTo>
                    <a:pt x="3600" y="0"/>
                  </a:moveTo>
                  <a:arcTo wR="3600" hR="3600" stAng="16200000" swAng="-5400000"/>
                  <a:lnTo>
                    <a:pt x="0" y="20121"/>
                  </a:lnTo>
                  <a:arcTo wR="3600" hR="3600" stAng="10800000" swAng="-5400000"/>
                  <a:lnTo>
                    <a:pt x="18000" y="23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Лидер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коллектива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АКТОРЫ, ВЛИЯЮЩИЕ НА ФОРМИРОВАНИЕ ГРУП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шения между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ерстник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ы социальные 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нтисоци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й фактор сплоч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е развит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и отличия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140360" y="4365720"/>
            <a:ext cx="431640" cy="473040"/>
          </a:xfrm>
          <a:prstGeom prst="downArrow">
            <a:avLst>
              <a:gd name="adj1" fmla="val 50000"/>
              <a:gd name="adj2" fmla="val 2739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067280" y="314172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упени формирования коллектив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2491920"/>
            <a:ext cx="76946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1-2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явление коллективистически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вык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3-4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ормирование коллективистических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 лидерских навык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5-6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ормирование коллекти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7-8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и становление коллекти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9-11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ормирование и социализаци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ичности через коллектив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5" name="AutoShape 14"/>
          <p:cNvCxnSpPr>
            <a:stCxn id="124" idx="0"/>
            <a:endCxn id="124" idx="0"/>
          </p:cNvCxnSpPr>
          <p:nvPr/>
        </p:nvCxnSpPr>
        <p:spPr>
          <a:xfrm flipH="1" rot="16200000">
            <a:off x="4819320" y="2491200"/>
            <a:ext cx="252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6" name="AutoShape 18"/>
          <p:cNvCxnSpPr/>
          <p:nvPr/>
        </p:nvCxnSpPr>
        <p:spPr>
          <a:xfrm flipH="1" rot="16200000">
            <a:off x="2411280" y="342864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7" name="AutoShape 19"/>
          <p:cNvCxnSpPr>
            <a:stCxn id="124" idx="0"/>
            <a:endCxn id="124" idx="0"/>
          </p:cNvCxnSpPr>
          <p:nvPr/>
        </p:nvCxnSpPr>
        <p:spPr>
          <a:xfrm>
            <a:off x="4819320" y="2491920"/>
            <a:ext cx="108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</p:spTree>
  </p:cSld>
  <p:transition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КРИТЕРИИ КОЛЛЕКТИВА: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упповая направленность (гуманные нормы отношений)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особность группы к самоуправлению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дготовленность группы к совместной деятель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9:37:48Z</dcterms:created>
  <dc:creator>Comp</dc:creator>
  <dc:description/>
  <dc:language>en-US</dc:language>
  <cp:lastModifiedBy>36</cp:lastModifiedBy>
  <dcterms:modified xsi:type="dcterms:W3CDTF">2013-03-24T15:06:57Z</dcterms:modified>
  <cp:revision>13</cp:revision>
  <dc:subject/>
  <dc:title>Роль классного руководителя в становлении классного коллектива и его влияние на формирование личности каждого ученика</dc:title>
</cp:coreProperties>
</file>