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7730-DCC8-4B4D-BA03-173A2E86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5144-09A1-483B-8DD3-4B6F42F6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8B23-C189-4082-9E03-3B2CFC69E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6816-89FC-4039-9950-0F8E84708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6CDE-332A-4E44-955D-2AD13E29F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028E-4460-43DC-9B9C-B2EF8864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121E-146B-4BA4-B825-6374B1B8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87E1-AD3C-4446-B4D3-0D96243D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4A3E-0752-4756-AAD5-A370699F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DFBA-3E59-4A2B-8CEA-29FB9128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700B-B4DD-46C9-922F-DBEEC863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562B-9806-400C-B66B-AFACFA31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1D3E-2458-4453-9C19-D7284445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55E5-C515-4D79-A8B4-F013EE2C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0F29-2B63-4181-A3A5-85276B53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517B-A3C9-4903-84FA-C761CE2D0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6A56-DB7C-40DE-B858-00A02796F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54A9-815B-40A4-88C9-2B74130D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7405-D9C0-4395-9445-0A34FA88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F512-8F18-4455-A4EC-A185021F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4918-1AAC-4A1C-ADDA-21F838BF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ADBB-8B10-4DF0-B709-8F2A7F93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897E-F155-4663-8D12-8AA97081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126C-733A-4A16-87A4-5EC38580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FB4E-F0C0-4FFD-9705-87B0903DF96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6999-8E8A-4E0C-A710-84DC8B0664B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Роль классного руководителя в становлении классного коллектива и его влияние на формирование личности каждого ученика</a:t>
            </a:r>
            <a:br>
              <a:rPr sz="40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ГБОУ СОШ № З86 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анкт - Петербург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зам.дир по ВР Галка Д.А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7156440"/>
            <a:ext cx="40132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7572240" y="428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4745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756360" y="1053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КАЗАТЕЛИ РАЗВИТИЯ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      КОЛЛЕКТИВА: </a:t>
            </a:r>
            <a:br>
              <a:rPr sz="36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11280" y="2362320"/>
            <a:ext cx="7920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теллектуальная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ммуникативность(межличностное восприятие,взаимопонимание,общий язык, понимание с «полуслова»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моциональная коммуникативность (общение и поддержка в радости и в горе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левая коммуникативность(способность противостоять трудностям, стрессоустойчивость,надежность в экстремальных ситуациях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ФАКТОР СПЛОЧЕНИЯ </a:t>
            </a:r>
            <a:br>
              <a:rPr sz="4000"/>
            </a:b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             КОЛЛЕКТИВА:   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71280" y="249192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щие интересы группы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тремление приспособиться в специфических условиях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вторитет лидер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личие социальных норм и т.д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ИНЦИПЫ СОТРУДНИЧЕСТВА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ЛИЧНОСТИ И КОЛЛЕКТИВА:            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езусловное принятие личности, ее слабых и сильных сторон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еспристрастность в оценке поступков учащихс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ерпение в достижении результатов воздействия и терпимость в отношении к членам коллектив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иалогичность в общен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сутствие страха признавать свою неправоту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спользование чувство юмор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 бояться сделать ошибку и признать е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741600" y="1325880"/>
            <a:ext cx="7376040" cy="79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ЕКОМЕНДАЦИИ ПО ФОРМИРОВАНИЮ УЧЕНИЧЕСКОГО 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      КОЛЛЕКТИВА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ткрытость деятельности классного руководителя: «Планируем вместе, анализируем вместе, радуемся вместе»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существление обратной связи: после каждого проведенного совместного дела учитель организует беседу,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нализ,что благоприятствует неформальным отношениям между членами коллектива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творчество( сотрудничество в творчестве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спешность(с использованием инструмента оценки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вобода выбора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Целевая направленность на конкретный результат дела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ивлекательность деятельност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768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9" dur="768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1" dur="76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3" dur="76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ФЛЕКС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мая важная мысль педсовета для вас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мая спорная мысль педсовета, по вашему мнению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зникла ли у вас какая-либо идея, которую вы захотите опробовать после педсовета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27640" y="548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ортрет деятельности классного руководителя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71280" y="2538000"/>
            <a:ext cx="76928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оздание классного коллектива и организация совместной творческой деятельности различной направленности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казание помощи и поддержки каждому учащемуся в решении всего спектра имеющихся у него пробле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ключение учащихся в процесс управления жизнедеятельностью класса через создание ученического самоуправл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еспечение осознанного включения учащихся в образовательный процесс, решение проблем мотивации, успеваемости, посещаемости, дисциплинированности. Сохранения жизни и здоровья учащихс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Координация усилий педагогов, работающих с классом и включение класса в общественную жизнь, принятие учащимися класса основных ценностей сложившихся в ОУ образа жизн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заимодействие с родителями учащихся по преодолению противоречий между целями семейного и школьного воспита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99280" y="8370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: Решение педсовета:              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лассным руководителям использовать разнообразные   воспитательные технологии в работе с классным коллективо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екомендовать учителям начальной школы активнее привлекать воспитателей ГПД к проведению  мероприят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знообразить формы работы классных руководителей с родителям учащихс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спользование социокультурной среды Петербурга в воспитательной работе с классным коллективо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66"/>
                </a:solidFill>
                <a:latin typeface="Arial"/>
              </a:rPr>
              <a:t>СПАСИБО КОЛЛЕГИ,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0" lang="ru-RU" sz="5400" spc="-1" strike="noStrike">
                <a:solidFill>
                  <a:srgbClr val="003366"/>
                </a:solidFill>
                <a:latin typeface="Arial"/>
              </a:rPr>
              <a:t>ЗА         </a:t>
            </a:r>
            <a:br>
              <a:rPr sz="5400"/>
            </a:br>
            <a:r>
              <a:rPr b="0" lang="ru-RU" sz="5400" spc="-1" strike="noStrike">
                <a:solidFill>
                  <a:srgbClr val="003366"/>
                </a:solidFill>
                <a:latin typeface="Arial"/>
              </a:rPr>
              <a:t>               СОТРУДНИЧЕСТВО !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од педсовета :              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00000" y="2491920"/>
            <a:ext cx="7693200" cy="33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Классный руководитель - его роль в становлении коллектива , формирование и воспитание личности ученика (Заместитель директора по ВР Галка Д.А.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Совместная работа классного руководителя и воспитателя ГПД в начальной школе по формированию коллектива (Классный руководитель 2а класса Орлова Т.В.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Расширение взаимодействия классного руководителя, учащихся и родителей. Воспитательная работа в начальной школе (Классный руководитель 4а класса Масловская Н.А.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Использование социокультурной среды в работе классного руководителя(Классный руководитель 6а класса Боганова Г.И.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Организационное и эмоциональное сплочение детского сообщества по средствам деловой игры(Председатель МО классных руководителей школы БерманТ.В.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Заключение (Заместитель директора по учебно -воспитательной работе Крупенко Г.Т.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и и задачи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учить определять уровень развития коллектив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вести в систему воспитательной работы класса основные формы и методы организации коллектив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зработать принципы сотрудничества коллектива и лич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Ы ПЕДСОВЕТ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-й этап-определение основных проблем по теме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-й этап-коллектив и условия его формирова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-й этап -формы и методы организации коллектив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4-й этап-личность и условия ее формирова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5-й этап-решение основных проблем по теме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6-й этап-решение педсовета и рефлекс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оли классного руководител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Контролёр -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успешное освоение  образовательного процесс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Проводник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- формирование познавательной мотиваци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Наставник -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равственное воспитани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Носитель культуры -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омощь в освоении культурных ценностей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оциальный педагог - помощь в решении соц. проблем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тарший товарищ – организация коллективной жизни в классе, воспитание лидерских качеств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сихотерапевт -создание доброжелательной атмосферы, помощь в решении проблем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алеолог –воспитание потребностей к здоровому образу жизн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рганизатор досуга –воспитание культуры поведения свободного времен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Диагност – аналитик анализ результативностивоспитательного процесс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Фасилитатор –создание условий для самоопределения и самореализаци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ХЕМА ФОРМИРОВАНИЯ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     КОЛЛЕКТИВА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7" name="Organization Chart 41"/>
          <p:cNvGrpSpPr/>
          <p:nvPr/>
        </p:nvGrpSpPr>
        <p:grpSpPr>
          <a:xfrm>
            <a:off x="826920" y="2781360"/>
            <a:ext cx="7692840" cy="3723120"/>
            <a:chOff x="826920" y="2781360"/>
            <a:chExt cx="7692840" cy="3723120"/>
          </a:xfrm>
        </p:grpSpPr>
        <p:cxnSp>
          <p:nvCxnSpPr>
            <p:cNvPr id="108" name="_s1028"/>
            <p:cNvCxnSpPr>
              <a:stCxn id="109" idx="0"/>
              <a:endCxn id="110" idx="2"/>
            </p:cNvCxnSpPr>
            <p:nvPr/>
          </p:nvCxnSpPr>
          <p:spPr>
            <a:xfrm flipV="1" rot="16200000">
              <a:off x="5885640" y="3058200"/>
              <a:ext cx="745200" cy="3169080"/>
            </a:xfrm>
            <a:prstGeom prst="bentConnector3">
              <a:avLst>
                <a:gd name="adj1" fmla="val 1527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11" name="_s1029"/>
            <p:cNvCxnSpPr>
              <a:stCxn id="112" idx="0"/>
              <a:endCxn id="110" idx="2"/>
            </p:cNvCxnSpPr>
            <p:nvPr/>
          </p:nvCxnSpPr>
          <p:spPr>
            <a:xfrm flipV="1" rot="16200000">
              <a:off x="5094360" y="3849480"/>
              <a:ext cx="745200" cy="1586160"/>
            </a:xfrm>
            <a:prstGeom prst="bentConnector3">
              <a:avLst>
                <a:gd name="adj1" fmla="val 1527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13" name="_s1030"/>
            <p:cNvCxnSpPr>
              <a:stCxn id="114" idx="0"/>
              <a:endCxn id="110" idx="2"/>
            </p:cNvCxnSpPr>
            <p:nvPr/>
          </p:nvCxnSpPr>
          <p:spPr>
            <a:xfrm flipV="1" rot="16200000">
              <a:off x="4302000" y="4641840"/>
              <a:ext cx="745200" cy="1800"/>
            </a:xfrm>
            <a:prstGeom prst="bentConnector3">
              <a:avLst>
                <a:gd name="adj1" fmla="val 1527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15" name="_s1031"/>
            <p:cNvCxnSpPr>
              <a:stCxn id="116" idx="0"/>
              <a:endCxn id="110" idx="2"/>
            </p:cNvCxnSpPr>
            <p:nvPr/>
          </p:nvCxnSpPr>
          <p:spPr>
            <a:xfrm flipH="1" flipV="1" rot="5400000">
              <a:off x="3509280" y="3850560"/>
              <a:ext cx="745200" cy="1584720"/>
            </a:xfrm>
            <a:prstGeom prst="bentConnector3">
              <a:avLst>
                <a:gd name="adj1" fmla="val 1527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17" name="_s1032"/>
            <p:cNvCxnSpPr>
              <a:stCxn id="118" idx="0"/>
              <a:endCxn id="110" idx="2"/>
            </p:cNvCxnSpPr>
            <p:nvPr/>
          </p:nvCxnSpPr>
          <p:spPr>
            <a:xfrm flipH="1" flipV="1" rot="5400000">
              <a:off x="2717280" y="3058200"/>
              <a:ext cx="745200" cy="3169080"/>
            </a:xfrm>
            <a:prstGeom prst="bentConnector3">
              <a:avLst>
                <a:gd name="adj1" fmla="val 15273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110" name="_s1033"/>
            <p:cNvSpPr/>
            <p:nvPr/>
          </p:nvSpPr>
          <p:spPr>
            <a:xfrm>
              <a:off x="3993480" y="2781360"/>
              <a:ext cx="1357920" cy="1489320"/>
            </a:xfrm>
            <a:custGeom>
              <a:avLst/>
              <a:gdLst>
                <a:gd name="textAreaLeft" fmla="*/ 66240 w 1357920"/>
                <a:gd name="textAreaRight" fmla="*/ 1291680 w 1357920"/>
                <a:gd name="textAreaTop" fmla="*/ 66240 h 1489320"/>
                <a:gd name="textAreaBottom" fmla="*/ 1423080 h 1489320"/>
              </a:gdLst>
              <a:ahLst/>
              <a:rect l="textAreaLeft" t="textAreaTop" r="textAreaRight" b="textAreaBottom"/>
              <a:pathLst>
                <a:path w="21600" h="23690">
                  <a:moveTo>
                    <a:pt x="3600" y="0"/>
                  </a:moveTo>
                  <a:arcTo wR="3600" hR="3600" stAng="16200000" swAng="-5400000"/>
                  <a:lnTo>
                    <a:pt x="0" y="20090"/>
                  </a:lnTo>
                  <a:arcTo wR="3600" hR="3600" stAng="10800000" swAng="-5400000"/>
                  <a:lnTo>
                    <a:pt x="18000" y="236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Классный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руководитель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_s1034"/>
            <p:cNvSpPr/>
            <p:nvPr/>
          </p:nvSpPr>
          <p:spPr>
            <a:xfrm>
              <a:off x="826920" y="5015160"/>
              <a:ext cx="1357920" cy="1489320"/>
            </a:xfrm>
            <a:custGeom>
              <a:avLst/>
              <a:gdLst>
                <a:gd name="textAreaLeft" fmla="*/ 66240 w 1357920"/>
                <a:gd name="textAreaRight" fmla="*/ 1291680 w 1357920"/>
                <a:gd name="textAreaTop" fmla="*/ 66240 h 1489320"/>
                <a:gd name="textAreaBottom" fmla="*/ 1423080 h 1489320"/>
              </a:gdLst>
              <a:ahLst/>
              <a:rect l="textAreaLeft" t="textAreaTop" r="textAreaRight" b="textAreaBottom"/>
              <a:pathLst>
                <a:path w="21600" h="23690">
                  <a:moveTo>
                    <a:pt x="3600" y="0"/>
                  </a:moveTo>
                  <a:arcTo wR="3600" hR="3600" stAng="16200000" swAng="-5400000"/>
                  <a:lnTo>
                    <a:pt x="0" y="20090"/>
                  </a:lnTo>
                  <a:arcTo wR="3600" hR="3600" stAng="10800000" swAng="-5400000"/>
                  <a:lnTo>
                    <a:pt x="18000" y="236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личность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_s1035"/>
            <p:cNvSpPr/>
            <p:nvPr/>
          </p:nvSpPr>
          <p:spPr>
            <a:xfrm>
              <a:off x="2410920" y="5015160"/>
              <a:ext cx="1357920" cy="1489320"/>
            </a:xfrm>
            <a:custGeom>
              <a:avLst/>
              <a:gdLst>
                <a:gd name="textAreaLeft" fmla="*/ 66240 w 1357920"/>
                <a:gd name="textAreaRight" fmla="*/ 1291680 w 1357920"/>
                <a:gd name="textAreaTop" fmla="*/ 66240 h 1489320"/>
                <a:gd name="textAreaBottom" fmla="*/ 1423080 h 1489320"/>
              </a:gdLst>
              <a:ahLst/>
              <a:rect l="textAreaLeft" t="textAreaTop" r="textAreaRight" b="textAreaBottom"/>
              <a:pathLst>
                <a:path w="21600" h="23690">
                  <a:moveTo>
                    <a:pt x="3600" y="0"/>
                  </a:moveTo>
                  <a:arcTo wR="3600" hR="3600" stAng="16200000" swAng="-5400000"/>
                  <a:lnTo>
                    <a:pt x="0" y="20090"/>
                  </a:lnTo>
                  <a:arcTo wR="3600" hR="3600" stAng="10800000" swAng="-5400000"/>
                  <a:lnTo>
                    <a:pt x="18000" y="236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коллектив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_s1036"/>
            <p:cNvSpPr/>
            <p:nvPr/>
          </p:nvSpPr>
          <p:spPr>
            <a:xfrm>
              <a:off x="3995280" y="5015160"/>
              <a:ext cx="1357920" cy="1489320"/>
            </a:xfrm>
            <a:custGeom>
              <a:avLst/>
              <a:gdLst>
                <a:gd name="textAreaLeft" fmla="*/ 66240 w 1357920"/>
                <a:gd name="textAreaRight" fmla="*/ 1291680 w 1357920"/>
                <a:gd name="textAreaTop" fmla="*/ 66240 h 1489320"/>
                <a:gd name="textAreaBottom" fmla="*/ 1423080 h 1489320"/>
              </a:gdLst>
              <a:ahLst/>
              <a:rect l="textAreaLeft" t="textAreaTop" r="textAreaRight" b="textAreaBottom"/>
              <a:pathLst>
                <a:path w="21600" h="23690">
                  <a:moveTo>
                    <a:pt x="3600" y="0"/>
                  </a:moveTo>
                  <a:arcTo wR="3600" hR="3600" stAng="16200000" swAng="-5400000"/>
                  <a:lnTo>
                    <a:pt x="0" y="20090"/>
                  </a:lnTo>
                  <a:arcTo wR="3600" hR="3600" stAng="10800000" swAng="-5400000"/>
                  <a:lnTo>
                    <a:pt x="18000" y="236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Детская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организация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_s1037"/>
            <p:cNvSpPr/>
            <p:nvPr/>
          </p:nvSpPr>
          <p:spPr>
            <a:xfrm>
              <a:off x="5579640" y="5015160"/>
              <a:ext cx="1357920" cy="1489320"/>
            </a:xfrm>
            <a:custGeom>
              <a:avLst/>
              <a:gdLst>
                <a:gd name="textAreaLeft" fmla="*/ 66240 w 1357920"/>
                <a:gd name="textAreaRight" fmla="*/ 1291680 w 1357920"/>
                <a:gd name="textAreaTop" fmla="*/ 66240 h 1489320"/>
                <a:gd name="textAreaBottom" fmla="*/ 1423080 h 1489320"/>
              </a:gdLst>
              <a:ahLst/>
              <a:rect l="textAreaLeft" t="textAreaTop" r="textAreaRight" b="textAreaBottom"/>
              <a:pathLst>
                <a:path w="21600" h="23690">
                  <a:moveTo>
                    <a:pt x="3600" y="0"/>
                  </a:moveTo>
                  <a:arcTo wR="3600" hR="3600" stAng="16200000" swAng="-5400000"/>
                  <a:lnTo>
                    <a:pt x="0" y="20090"/>
                  </a:lnTo>
                  <a:arcTo wR="3600" hR="3600" stAng="10800000" swAng="-5400000"/>
                  <a:lnTo>
                    <a:pt x="18000" y="236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КТД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_s1038"/>
            <p:cNvSpPr/>
            <p:nvPr/>
          </p:nvSpPr>
          <p:spPr>
            <a:xfrm>
              <a:off x="7163640" y="5015160"/>
              <a:ext cx="1356120" cy="1489320"/>
            </a:xfrm>
            <a:custGeom>
              <a:avLst/>
              <a:gdLst>
                <a:gd name="textAreaLeft" fmla="*/ 65880 w 1356120"/>
                <a:gd name="textAreaRight" fmla="*/ 1290240 w 1356120"/>
                <a:gd name="textAreaTop" fmla="*/ 65880 h 1489320"/>
                <a:gd name="textAreaBottom" fmla="*/ 1423440 h 1489320"/>
              </a:gdLst>
              <a:ahLst/>
              <a:rect l="textAreaLeft" t="textAreaTop" r="textAreaRight" b="textAreaBottom"/>
              <a:pathLst>
                <a:path w="21600" h="23721">
                  <a:moveTo>
                    <a:pt x="3600" y="0"/>
                  </a:moveTo>
                  <a:arcTo wR="3600" hR="3600" stAng="16200000" swAng="-5400000"/>
                  <a:lnTo>
                    <a:pt x="0" y="20121"/>
                  </a:lnTo>
                  <a:arcTo wR="3600" hR="3600" stAng="10800000" swAng="-5400000"/>
                  <a:lnTo>
                    <a:pt x="18000" y="237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Лидер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коллектива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768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768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76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76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ФАКТОРЫ, ВЛИЯЮЩИЕ НА ФОРМИРОВАНИЕ ГРУПП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         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ношения между                         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верстника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         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руппы социальные 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нтисоциальны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вой фактор сплоче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вое развитие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вои отличия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4140360" y="4365720"/>
            <a:ext cx="431640" cy="473040"/>
          </a:xfrm>
          <a:prstGeom prst="downArrow">
            <a:avLst>
              <a:gd name="adj1" fmla="val 50000"/>
              <a:gd name="adj2" fmla="val 27398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4067280" y="3141720"/>
            <a:ext cx="431640" cy="503280"/>
          </a:xfrm>
          <a:prstGeom prst="downArrow">
            <a:avLst>
              <a:gd name="adj1" fmla="val 50000"/>
              <a:gd name="adj2" fmla="val 29149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тупени формирования коллектив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71640" y="2491920"/>
            <a:ext cx="769464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3366"/>
                </a:solidFill>
                <a:latin typeface="Arial"/>
              </a:rPr>
              <a:t>                        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1-2 кл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  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ыявление коллективистических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                    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выков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                         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3-4 кл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                  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формирование коллективистических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                             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и лидерских навыков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                                   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5-6 кл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                          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формирование коллектив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                                        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7-8 кл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                                     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развитие и становление коллектив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9-11 кл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формирование и социализация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  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личности через коллектив   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25" name="AutoShape 14"/>
          <p:cNvCxnSpPr>
            <a:stCxn id="124" idx="0"/>
            <a:endCxn id="124" idx="0"/>
          </p:cNvCxnSpPr>
          <p:nvPr/>
        </p:nvCxnSpPr>
        <p:spPr>
          <a:xfrm flipH="1" rot="16200000">
            <a:off x="4819320" y="2491200"/>
            <a:ext cx="2520" cy="2160"/>
          </a:xfrm>
          <a:prstGeom prst="curvedConnector5">
            <a:avLst>
              <a:gd name="adj1" fmla="val -14400000"/>
              <a:gd name="adj2" fmla="val 40000"/>
              <a:gd name="adj3" fmla="val -14400000"/>
            </a:avLst>
          </a:prstGeom>
          <a:ln w="9360">
            <a:solidFill>
              <a:srgbClr val="003366"/>
            </a:solidFill>
            <a:miter/>
          </a:ln>
        </p:spPr>
      </p:cxnSp>
      <p:cxnSp>
        <p:nvCxnSpPr>
          <p:cNvPr id="126" name="AutoShape 18"/>
          <p:cNvCxnSpPr/>
          <p:nvPr/>
        </p:nvCxnSpPr>
        <p:spPr>
          <a:xfrm flipH="1" rot="16200000">
            <a:off x="2411280" y="3428640"/>
            <a:ext cx="2160" cy="252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3366"/>
            </a:solidFill>
            <a:miter/>
          </a:ln>
        </p:spPr>
      </p:cxnSp>
      <p:cxnSp>
        <p:nvCxnSpPr>
          <p:cNvPr id="127" name="AutoShape 19"/>
          <p:cNvCxnSpPr>
            <a:stCxn id="124" idx="0"/>
            <a:endCxn id="124" idx="0"/>
          </p:cNvCxnSpPr>
          <p:nvPr/>
        </p:nvCxnSpPr>
        <p:spPr>
          <a:xfrm>
            <a:off x="4819320" y="2491920"/>
            <a:ext cx="1080" cy="1080"/>
          </a:xfrm>
          <a:prstGeom prst="straightConnector1">
            <a:avLst/>
          </a:prstGeom>
          <a:ln w="9360">
            <a:solidFill>
              <a:srgbClr val="003366"/>
            </a:solidFill>
            <a:miter/>
          </a:ln>
        </p:spPr>
      </p:cxnSp>
    </p:spTree>
  </p:cSld>
  <p:transition>
    <p:push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КРИТЕРИИ КОЛЛЕКТИВА:</a:t>
            </a:r>
            <a:br>
              <a:rPr sz="4000"/>
            </a:b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Групповая направленность (гуманные нормы отношений)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пособность группы к самоуправлению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одготовленность группы к совместной деятельно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3T09:37:48Z</dcterms:created>
  <dc:creator>Comp</dc:creator>
  <dc:description/>
  <dc:language>en-US</dc:language>
  <cp:lastModifiedBy>36</cp:lastModifiedBy>
  <dcterms:modified xsi:type="dcterms:W3CDTF">2013-03-24T15:06:57Z</dcterms:modified>
  <cp:revision>13</cp:revision>
  <dc:subject/>
  <dc:title>Роль классного руководителя в становлении классного коллектива и его влияние на формирование личности каждого ученика</dc:title>
</cp:coreProperties>
</file>