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gif" ContentType="image/gif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832-6123-47C4-8AA7-9CC988A1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4EF-31BC-4AE4-912D-9B8BBF70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19D-7A7C-451F-99F9-A454E5F0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DA8-801D-4DCA-97CE-7D897440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8EE-3AC9-49B1-8A65-33C88262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0DC-76C4-4E39-BB49-08B0FBF2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1A8-0A3F-4DAB-A44B-D0D3E321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AAE-9789-4386-BA97-DC217D9E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AA1-D695-42E3-B3BF-583B65D1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8ED-D5D2-4532-8AE7-BE96D392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D85-58CE-4579-954F-E2F97F59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407-EDC1-4869-B82A-4003A31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941B-1FB3-4A4A-BD11-B8E5EC4397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0108-629B-4033-8149-591C5A353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hyperlink" Target="http://makarov02.narod.ru/2006/4.jpg" TargetMode="External"/><Relationship Id="rId4" Type="http://schemas.openxmlformats.org/officeDocument/2006/relationships/image" Target="../media/image23.png"/><Relationship Id="rId5" Type="http://schemas.openxmlformats.org/officeDocument/2006/relationships/image" Target="../media/image22.gif"/><Relationship Id="rId6" Type="http://schemas.openxmlformats.org/officeDocument/2006/relationships/image" Target="../media/image24.png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5214960"/>
            <a:ext cx="9144000" cy="1357200"/>
          </a:xfrm>
          <a:prstGeom prst="rect">
            <a:avLst/>
          </a:prstGeom>
          <a:solidFill>
            <a:srgbClr val="e46c0a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:\Documents and Settings\Aida\Рабочий стол\канцелярия учёба ученик\sb_main.jpg"/>
          <p:cNvPicPr/>
          <p:nvPr/>
        </p:nvPicPr>
        <p:blipFill>
          <a:blip r:embed="rId2"/>
          <a:stretch/>
        </p:blipFill>
        <p:spPr>
          <a:xfrm>
            <a:off x="2908440" y="1206360"/>
            <a:ext cx="3254400" cy="6510600"/>
          </a:xfrm>
          <a:prstGeom prst="rect">
            <a:avLst/>
          </a:prstGeom>
          <a:ln w="0">
            <a:noFill/>
          </a:ln>
        </p:spPr>
      </p:pic>
      <p:grpSp>
        <p:nvGrpSpPr>
          <p:cNvPr id="43" name="Заголовок 1"/>
          <p:cNvGrpSpPr/>
          <p:nvPr/>
        </p:nvGrpSpPr>
        <p:grpSpPr>
          <a:xfrm>
            <a:off x="122400" y="4979880"/>
            <a:ext cx="8673840" cy="1749600"/>
            <a:chOff x="122400" y="4979880"/>
            <a:chExt cx="8673840" cy="1749600"/>
          </a:xfrm>
        </p:grpSpPr>
        <p:pic>
          <p:nvPicPr>
            <p:cNvPr id="44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22400" y="4979880"/>
              <a:ext cx="867384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42920" y="5000760"/>
              <a:ext cx="8639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лан текст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Куб 3"/>
          <p:cNvGrpSpPr/>
          <p:nvPr/>
        </p:nvGrpSpPr>
        <p:grpSpPr>
          <a:xfrm>
            <a:off x="55440" y="401760"/>
            <a:ext cx="2022480" cy="1865160"/>
            <a:chOff x="55440" y="401760"/>
            <a:chExt cx="2022480" cy="1865160"/>
          </a:xfrm>
        </p:grpSpPr>
        <p:pic>
          <p:nvPicPr>
            <p:cNvPr id="47" name="Куб 3" descr=""/>
            <p:cNvPicPr/>
            <p:nvPr/>
          </p:nvPicPr>
          <p:blipFill>
            <a:blip r:embed="rId4"/>
            <a:stretch/>
          </p:blipFill>
          <p:spPr>
            <a:xfrm>
              <a:off x="55440" y="401760"/>
              <a:ext cx="202248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655200">
              <a:off x="491760" y="880560"/>
              <a:ext cx="750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Х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Куб 5" descr=""/>
          <p:cNvPicPr/>
          <p:nvPr/>
        </p:nvPicPr>
        <p:blipFill>
          <a:blip r:embed="rId5"/>
          <a:stretch/>
        </p:blipFill>
        <p:spPr>
          <a:xfrm>
            <a:off x="5218200" y="360360"/>
            <a:ext cx="1908000" cy="2475000"/>
          </a:xfrm>
          <a:prstGeom prst="rect">
            <a:avLst/>
          </a:prstGeom>
          <a:ln w="0">
            <a:noFill/>
          </a:ln>
        </p:spPr>
      </p:pic>
      <p:pic>
        <p:nvPicPr>
          <p:cNvPr id="50" name="Куб 7" descr=""/>
          <p:cNvPicPr/>
          <p:nvPr/>
        </p:nvPicPr>
        <p:blipFill>
          <a:blip r:embed="rId6"/>
          <a:stretch/>
        </p:blipFill>
        <p:spPr>
          <a:xfrm>
            <a:off x="858960" y="585720"/>
            <a:ext cx="1993680" cy="2602080"/>
          </a:xfrm>
          <a:prstGeom prst="rect">
            <a:avLst/>
          </a:prstGeom>
          <a:ln w="0">
            <a:noFill/>
          </a:ln>
        </p:spPr>
      </p:pic>
      <p:pic>
        <p:nvPicPr>
          <p:cNvPr id="51" name="Куб 9" descr=""/>
          <p:cNvPicPr/>
          <p:nvPr/>
        </p:nvPicPr>
        <p:blipFill>
          <a:blip r:embed="rId7"/>
          <a:stretch/>
        </p:blipFill>
        <p:spPr>
          <a:xfrm>
            <a:off x="3449520" y="3876840"/>
            <a:ext cx="1854360" cy="2401560"/>
          </a:xfrm>
          <a:prstGeom prst="rect">
            <a:avLst/>
          </a:prstGeom>
          <a:ln w="0">
            <a:noFill/>
          </a:ln>
        </p:spPr>
      </p:pic>
      <p:pic>
        <p:nvPicPr>
          <p:cNvPr id="52" name="Куб 10" descr=""/>
          <p:cNvPicPr/>
          <p:nvPr/>
        </p:nvPicPr>
        <p:blipFill>
          <a:blip r:embed="rId8"/>
          <a:stretch/>
        </p:blipFill>
        <p:spPr>
          <a:xfrm>
            <a:off x="5278320" y="3597120"/>
            <a:ext cx="2067120" cy="2767320"/>
          </a:xfrm>
          <a:prstGeom prst="rect">
            <a:avLst/>
          </a:prstGeom>
          <a:ln w="0">
            <a:noFill/>
          </a:ln>
        </p:spPr>
      </p:pic>
      <p:pic>
        <p:nvPicPr>
          <p:cNvPr id="53" name="Куб 11" descr=""/>
          <p:cNvPicPr/>
          <p:nvPr/>
        </p:nvPicPr>
        <p:blipFill>
          <a:blip r:embed="rId9"/>
          <a:stretch/>
        </p:blipFill>
        <p:spPr>
          <a:xfrm>
            <a:off x="1805040" y="438120"/>
            <a:ext cx="1859040" cy="2414520"/>
          </a:xfrm>
          <a:prstGeom prst="rect">
            <a:avLst/>
          </a:prstGeom>
          <a:ln w="0">
            <a:noFill/>
          </a:ln>
        </p:spPr>
      </p:pic>
      <p:pic>
        <p:nvPicPr>
          <p:cNvPr id="54" name="Куб 13" descr=""/>
          <p:cNvPicPr/>
          <p:nvPr/>
        </p:nvPicPr>
        <p:blipFill>
          <a:blip r:embed="rId10"/>
          <a:stretch/>
        </p:blipFill>
        <p:spPr>
          <a:xfrm>
            <a:off x="4413240" y="3882960"/>
            <a:ext cx="1847880" cy="2517840"/>
          </a:xfrm>
          <a:prstGeom prst="rect">
            <a:avLst/>
          </a:prstGeom>
          <a:ln w="0">
            <a:noFill/>
          </a:ln>
        </p:spPr>
      </p:pic>
      <p:pic>
        <p:nvPicPr>
          <p:cNvPr id="55" name="Куб 14" descr=""/>
          <p:cNvPicPr/>
          <p:nvPr/>
        </p:nvPicPr>
        <p:blipFill>
          <a:blip r:embed="rId11"/>
          <a:stretch/>
        </p:blipFill>
        <p:spPr>
          <a:xfrm>
            <a:off x="6114960" y="523800"/>
            <a:ext cx="1859040" cy="2505240"/>
          </a:xfrm>
          <a:prstGeom prst="rect">
            <a:avLst/>
          </a:prstGeom>
          <a:ln w="0">
            <a:noFill/>
          </a:ln>
        </p:spPr>
      </p:pic>
      <p:pic>
        <p:nvPicPr>
          <p:cNvPr id="56" name="Куб 15" descr=""/>
          <p:cNvPicPr/>
          <p:nvPr/>
        </p:nvPicPr>
        <p:blipFill>
          <a:blip r:embed="rId12"/>
          <a:stretch/>
        </p:blipFill>
        <p:spPr>
          <a:xfrm>
            <a:off x="1384200" y="3614760"/>
            <a:ext cx="1968480" cy="2676600"/>
          </a:xfrm>
          <a:prstGeom prst="rect">
            <a:avLst/>
          </a:prstGeom>
          <a:ln w="0">
            <a:noFill/>
          </a:ln>
        </p:spPr>
      </p:pic>
      <p:pic>
        <p:nvPicPr>
          <p:cNvPr id="57" name="Куб 17" descr=""/>
          <p:cNvPicPr/>
          <p:nvPr/>
        </p:nvPicPr>
        <p:blipFill>
          <a:blip r:embed="rId13"/>
          <a:stretch/>
        </p:blipFill>
        <p:spPr>
          <a:xfrm>
            <a:off x="6851520" y="682560"/>
            <a:ext cx="2030400" cy="2689200"/>
          </a:xfrm>
          <a:prstGeom prst="rect">
            <a:avLst/>
          </a:prstGeom>
          <a:ln w="0">
            <a:noFill/>
          </a:ln>
        </p:spPr>
      </p:pic>
      <p:pic>
        <p:nvPicPr>
          <p:cNvPr id="58" name="Куб 18" descr=""/>
          <p:cNvPicPr/>
          <p:nvPr/>
        </p:nvPicPr>
        <p:blipFill>
          <a:blip r:embed="rId14"/>
          <a:stretch/>
        </p:blipFill>
        <p:spPr>
          <a:xfrm>
            <a:off x="7229520" y="3743280"/>
            <a:ext cx="16653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Куб 6" descr=""/>
          <p:cNvPicPr/>
          <p:nvPr/>
        </p:nvPicPr>
        <p:blipFill>
          <a:blip r:embed="rId15"/>
          <a:stretch/>
        </p:blipFill>
        <p:spPr>
          <a:xfrm>
            <a:off x="2657520" y="201600"/>
            <a:ext cx="193824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Куб 4" descr=""/>
          <p:cNvPicPr/>
          <p:nvPr/>
        </p:nvPicPr>
        <p:blipFill>
          <a:blip r:embed="rId16"/>
          <a:stretch/>
        </p:blipFill>
        <p:spPr>
          <a:xfrm>
            <a:off x="2425680" y="3809880"/>
            <a:ext cx="1897200" cy="2408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0"/>
          <p:cNvSpPr/>
          <p:nvPr/>
        </p:nvSpPr>
        <p:spPr>
          <a:xfrm>
            <a:off x="147960" y="663408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9B1E-D37F-4871-ABDB-5B304C91702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1947-6DB3-4E15-8D9A-980E7F4C8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Итог 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89160" y="1571760"/>
            <a:ext cx="60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тебе понравилось и запом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Минутка  чистопис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51D4-CDAC-4311-BB59-77DDFBECC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857240" y="1500120"/>
            <a:ext cx="592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ыльце — Красивый Ко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Курица Клю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мит Кошечка Котя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чет Козочка Козл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11"/>
          <p:cNvGrpSpPr/>
          <p:nvPr/>
        </p:nvGrpSpPr>
        <p:grpSpPr>
          <a:xfrm>
            <a:off x="2000160" y="4000680"/>
            <a:ext cx="5826240" cy="1285560"/>
            <a:chOff x="2000160" y="4000680"/>
            <a:chExt cx="5826240" cy="1285560"/>
          </a:xfrm>
        </p:grpSpPr>
        <p:pic>
          <p:nvPicPr>
            <p:cNvPr id="66" name="Рисунок 8" descr="Новый рисунок.bmp"/>
            <p:cNvPicPr/>
            <p:nvPr/>
          </p:nvPicPr>
          <p:blipFill>
            <a:blip r:embed="rId1"/>
            <a:srcRect l="44899" t="37507" r="29586" b="51044"/>
            <a:stretch/>
          </p:blipFill>
          <p:spPr>
            <a:xfrm>
              <a:off x="2000160" y="4000680"/>
              <a:ext cx="175356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Рисунок 9" descr="Новый рисунок.bmp"/>
            <p:cNvPicPr/>
            <p:nvPr/>
          </p:nvPicPr>
          <p:blipFill>
            <a:blip r:embed="rId2"/>
            <a:srcRect l="44899" t="37507" r="29586" b="51044"/>
            <a:stretch/>
          </p:blipFill>
          <p:spPr>
            <a:xfrm>
              <a:off x="3929040" y="4000680"/>
              <a:ext cx="175356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Рисунок 10" descr="Новый рисунок.bmp"/>
            <p:cNvPicPr/>
            <p:nvPr/>
          </p:nvPicPr>
          <p:blipFill>
            <a:blip r:embed="rId3"/>
            <a:srcRect l="44899" t="37507" r="29586" b="51044"/>
            <a:stretch/>
          </p:blipFill>
          <p:spPr>
            <a:xfrm>
              <a:off x="6072840" y="4000680"/>
              <a:ext cx="1753560" cy="128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085B-0457-48BB-9F89-62B257B0F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5716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Давай   поду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42920" y="142884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правильный ответ и запиши в тетрадь букву, обозначающую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85840" y="214308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- м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слышим и произно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пишем и вид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произносим и 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85840" y="350028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у  - м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) слышим и произно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пишем и видим, чит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произносим и 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85840" y="492912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арные мягкие согласные  -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 ч, щ, 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ч, щ, 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) х, ш, 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CE06-7CA1-48C5-822A-218EA4A7F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85840" y="150012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обозначают мягкость соглас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е, ю, а, ё, у,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ч, щ, е, ё, ю,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ё, е, ю, ь, я, 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85840" y="278604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пары по звонкости-глух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) в-ф, п-ф, з-ж, с-ш, ж-г, ш-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б-п, в-ф, г-к, з-с, ж-ш, д-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б-п, ф-п, г-х, с-ш, ч-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85840" y="428616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ласных букв в русском алфав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85840" y="528624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ПРОВЕРЬ 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2865960" y="514368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 о  с  м  о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CEF0-245C-4995-A2F5-B176B7577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Словарная 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21760" y="1500120"/>
            <a:ext cx="17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im8-tub-ru.yandex.net/i?id=511421482-68-72&amp;n=21"/>
          <p:cNvPicPr/>
          <p:nvPr/>
        </p:nvPicPr>
        <p:blipFill>
          <a:blip r:embed="rId1"/>
          <a:stretch/>
        </p:blipFill>
        <p:spPr>
          <a:xfrm>
            <a:off x="285840" y="21430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1939680" y="150012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л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30120" y="3643200"/>
            <a:ext cx="23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т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im3-tub-ru.yandex.net/i?id=481307826-56-72&amp;n=21"/>
          <p:cNvPicPr/>
          <p:nvPr/>
        </p:nvPicPr>
        <p:blipFill>
          <a:blip r:embed="rId2"/>
          <a:stretch/>
        </p:blipFill>
        <p:spPr>
          <a:xfrm>
            <a:off x="357120" y="4214880"/>
            <a:ext cx="1646280" cy="1928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2571840" y="364320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совершающий полёт в космос с целью испытания космическ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4616-0C95-44A5-A040-0D9FC28F9E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Однокоренн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573360" y="30718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Группа 9"/>
          <p:cNvGrpSpPr/>
          <p:nvPr/>
        </p:nvGrpSpPr>
        <p:grpSpPr>
          <a:xfrm>
            <a:off x="367200" y="1785960"/>
            <a:ext cx="7968960" cy="3438360"/>
            <a:chOff x="367200" y="1785960"/>
            <a:chExt cx="7968960" cy="3438360"/>
          </a:xfrm>
        </p:grpSpPr>
        <p:sp>
          <p:nvSpPr>
            <p:cNvPr id="93" name="TextBox 5"/>
            <p:cNvSpPr/>
            <p:nvPr/>
          </p:nvSpPr>
          <p:spPr>
            <a:xfrm>
              <a:off x="367200" y="2000160"/>
              <a:ext cx="254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ически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492480" y="4214520"/>
              <a:ext cx="220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одро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6001200" y="1785960"/>
              <a:ext cx="18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олё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8"/>
            <p:cNvSpPr/>
            <p:nvPr/>
          </p:nvSpPr>
          <p:spPr>
            <a:xfrm>
              <a:off x="5640840" y="464292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онавти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HTLTOP"/>
          <p:cNvPicPr/>
          <p:nvPr/>
        </p:nvPicPr>
        <p:blipFill>
          <a:blip r:embed="rId1"/>
          <a:stretch/>
        </p:blipFill>
        <p:spPr>
          <a:xfrm>
            <a:off x="755640" y="3760920"/>
            <a:ext cx="1341360" cy="309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a5"/>
          <p:cNvPicPr/>
          <p:nvPr/>
        </p:nvPicPr>
        <p:blipFill>
          <a:blip r:embed="rId2"/>
          <a:stretch/>
        </p:blipFill>
        <p:spPr>
          <a:xfrm>
            <a:off x="0" y="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Картинка 1 из 3">
            <a:hlinkClick r:id="rId3"/>
          </p:cNvPr>
          <p:cNvPicPr/>
          <p:nvPr/>
        </p:nvPicPr>
        <p:blipFill>
          <a:blip r:embed="rId4"/>
          <a:srcRect l="0" t="0" r="2750" b="3433"/>
          <a:stretch/>
        </p:blipFill>
        <p:spPr>
          <a:xfrm>
            <a:off x="0" y="0"/>
            <a:ext cx="9685440" cy="702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5"/>
          <p:cNvPicPr/>
          <p:nvPr/>
        </p:nvPicPr>
        <p:blipFill>
          <a:blip r:embed="rId5"/>
          <a:stretch/>
        </p:blipFill>
        <p:spPr>
          <a:xfrm>
            <a:off x="9396360" y="-7920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Картинка 18 из 12241"/>
          <p:cNvPicPr/>
          <p:nvPr/>
        </p:nvPicPr>
        <p:blipFill>
          <a:blip r:embed="rId6"/>
          <a:srcRect l="3792" t="5669" r="5499" b="5499"/>
          <a:stretch/>
        </p:blipFill>
        <p:spPr>
          <a:xfrm>
            <a:off x="2771640" y="1916280"/>
            <a:ext cx="3456000" cy="33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128"/>
          <p:cNvPicPr/>
          <p:nvPr/>
        </p:nvPicPr>
        <p:blipFill>
          <a:blip r:embed="rId7"/>
          <a:stretch/>
        </p:blipFill>
        <p:spPr>
          <a:xfrm>
            <a:off x="-2448000" y="6858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31792E-006 L -3.05556E-006 -0.63977 E">
                                      <p:cBhvr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63976 L 0.71649 -0.63976 E">
                                      <p:cBhvr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-0.63976 L 0.71649 -0.02104 E">
                                      <p:cBhvr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-0.02104 L 0.00781 -0.03144 E">
                                      <p:cBhvr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9.82659E-007 L -3.05556E-006 -0.62913 E">
                                      <p:cBhvr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100000">
                                      <p:cBhvr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64051 L 0.71649 -0.03148 E">
                                      <p:cBhvr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100000">
                                      <p:cBhvr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-0.02104 L 0.71649 -0.65017 E">
                                      <p:cBhvr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500"/>
                            </p:stCondLst>
                            <p:childTnLst>
                              <p:par>
                                <p:cTn id="2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100000">
                                      <p:cBhvr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-0.63976 L -3.05556E-006 -0.04208 E">
                                      <p:cBhvr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7341E-007 L 1.33472 -1.30705 E">
                                      <p:cBhvr>
                                        <p:cTn id="25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1.12604 0.93056 E">
                                      <p:cBhvr>
                                        <p:cTn id="267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22222E-006 L -1.23628 1.23889 E">
                                      <p:cBhvr>
                                        <p:cTn id="281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398C-7DC8-4652-AF67-00A5CD833B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AC24-90D2-42F9-8D45-E8995735F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Группа 6"/>
          <p:cNvGrpSpPr/>
          <p:nvPr/>
        </p:nvGrpSpPr>
        <p:grpSpPr>
          <a:xfrm>
            <a:off x="2835360" y="1571760"/>
            <a:ext cx="6022800" cy="3131280"/>
            <a:chOff x="2835360" y="1571760"/>
            <a:chExt cx="6022800" cy="3131280"/>
          </a:xfrm>
        </p:grpSpPr>
        <p:sp>
          <p:nvSpPr>
            <p:cNvPr id="106" name="Прямоугольник 3"/>
            <p:cNvSpPr/>
            <p:nvPr/>
          </p:nvSpPr>
          <p:spPr>
            <a:xfrm>
              <a:off x="2835360" y="1571760"/>
              <a:ext cx="6022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одился Юрий Гагарин в 1934 году 9 марта в деревне Клушино . Семья была большой – у Юрия была сестра Зоя и братья Борис и Валентин.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1941 году Юрий пошел в первый класс, однако уже через месяц ему пришлось забыть о школе – деревню, где он жил, оккупировали немецкие солдаты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рямоугольник 5"/>
            <p:cNvSpPr/>
            <p:nvPr/>
          </p:nvSpPr>
          <p:spPr>
            <a:xfrm>
              <a:off x="2857680" y="3786120"/>
              <a:ext cx="592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2 апреля 1961 года  Юрий Алексеевич Гагарин совершил первый полет  в космос. Полет продолжался ровно 108 минут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Юрий Алексеевич 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Фото Гагарина Юрия Алексеевича"/>
          <p:cNvPicPr/>
          <p:nvPr/>
        </p:nvPicPr>
        <p:blipFill>
          <a:blip r:embed="rId1"/>
          <a:stretch/>
        </p:blipFill>
        <p:spPr>
          <a:xfrm>
            <a:off x="214200" y="1643040"/>
            <a:ext cx="234324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D2ED-482E-4817-9645-9ABAC5BAA5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ED34-306B-4F08-B11C-5A393B3893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811440" y="1643040"/>
            <a:ext cx="448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и юнош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лет в 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Составляем 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63600" y="335772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  план. Спиши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8:22:06Z</dcterms:created>
  <dc:creator>Ира</dc:creator>
  <dc:description>http://aida.ucoz.ru</dc:description>
  <dc:language>en-US</dc:language>
  <cp:lastModifiedBy>Ира</cp:lastModifiedBy>
  <dcterms:modified xsi:type="dcterms:W3CDTF">2013-03-21T19:42:32Z</dcterms:modified>
  <cp:revision>7</cp:revision>
  <dc:subject/>
  <dc:title>План текста</dc:title>
</cp:coreProperties>
</file>