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8C3-714C-4688-A422-626F6CE6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F9B-D2CA-4436-9B85-F6771F3F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A074-FF36-40C8-A835-47EDD4DA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8A7-DE84-41D0-8D97-2FA871AD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DCBD-0A15-45B6-9C13-70D2C603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436C-DF7A-4B95-90F4-6AAAEBA7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5B4C-9BBC-430D-9576-1499D1D4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9284-8152-4A23-9694-AEBAB005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24F3-49A4-497C-B837-CAAE0645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1C82-AFFC-40B8-A295-05CE9B42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81DA-01DE-4B92-A636-0FA84F65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079-D02F-4387-B87A-4710CC79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F9ED-6956-4B1F-B0EF-2F48AFBD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1FC8-79ED-4BB3-B658-B04D6558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713F-FEA2-4492-9F02-0B3004A4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9C48-75B9-4803-BC03-89DA762A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9FFB-DEB9-4F8C-B903-918E3643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E44-DD8F-439B-8C7D-6D30E0F4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2D8-157A-48B2-A26D-9FABABB9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97E-9354-4CCE-B4C8-4C0D345C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56D-6475-4C5B-9B92-AB480D7B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51C-92F4-4329-A5ED-1D57EA5C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8B7-DAF1-43F1-BA82-790353B5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D37-E18D-42B1-B289-E2043107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F073-488A-46ED-BB14-9E2355CE95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A668-B7FD-411A-B655-FC052FAB8F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LTURE CORN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ITED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6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rafalgar Squ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chingham Pal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624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glish kings and quee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38080" y="407628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932360" y="1557360"/>
            <a:ext cx="3887640" cy="4967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55640" y="4005360"/>
            <a:ext cx="3745080" cy="2519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403280" y="1268280"/>
            <a:ext cx="2737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ymbols of the U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38080" y="407628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917960" y="407628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84360" y="1628640"/>
            <a:ext cx="3671640" cy="244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1280" y="4292640"/>
            <a:ext cx="41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5003640" y="162864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5003640" y="4292640"/>
            <a:ext cx="3889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key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Northern Ire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Cardi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Bel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Edin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ymbols of Russ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920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18:54:54Z</dcterms:created>
  <dc:creator>Наталья</dc:creator>
  <dc:description/>
  <dc:language>en-US</dc:language>
  <cp:lastModifiedBy>Наталья</cp:lastModifiedBy>
  <dcterms:modified xsi:type="dcterms:W3CDTF">2013-03-25T17:39:17Z</dcterms:modified>
  <cp:revision>3</cp:revision>
  <dc:subject/>
  <dc:title>Слайд 1</dc:title>
</cp:coreProperties>
</file>