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7A1-9F70-4644-844A-B673F9B1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007-C9E2-46EE-ABE6-1859A55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53B-6AFC-466E-A534-F65F7927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9D1-A674-4E69-A953-CD446710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478-36AB-4A28-8CBB-2A2983D8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77BB-45A9-47C4-BCFE-3ABEEC3F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C6E-1400-42CF-94E1-62E1DA6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BDA4-D379-4EFF-9D69-5402C55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A13E-E7D0-4947-BEAF-E38BA81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5040-AC3E-4E03-A79A-424FE630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97F-E94C-442E-9EB4-0E00E16C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76B-A4DD-490F-B035-E15563CA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DF83-3714-40B9-955D-91A4101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BF1F-E409-4BAF-AA64-839C8AE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1CE-2FF7-49DB-95D5-16028101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B51B-52B7-4ECF-8B79-26455B8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7654-2EF8-41EB-9CDF-059C4D9D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B67-FE2B-41A8-B2FD-A6CED896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42B-AD20-4EFA-9C52-E239859D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64B-A0F1-4C11-BB50-6CF47A06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FF7-8A4F-4415-A9FB-27C44A9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940-D0F6-49F3-B81C-FE767AA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67F-55ED-4015-8E15-9A9E995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13-7079-4F1F-994E-3778F163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AE94-146A-49EA-BAA4-DCF1DAA3B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C3F-E4ED-4DF8-BD2D-86B74B0A1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E CORN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696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rafalgar Squ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chingham Pa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62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nglish kings and quee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932360" y="1557360"/>
            <a:ext cx="3887640" cy="4967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55640" y="4005360"/>
            <a:ext cx="37450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403280" y="1268280"/>
            <a:ext cx="2737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mbols of the U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1796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67164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41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003640" y="162864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003640" y="4292640"/>
            <a:ext cx="3889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key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orthern Ire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rd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Bel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din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mbols of Russ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920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8:54:54Z</dcterms:created>
  <dc:creator>Наталья</dc:creator>
  <dc:description/>
  <dc:language>en-US</dc:language>
  <cp:lastModifiedBy>Наталья</cp:lastModifiedBy>
  <dcterms:modified xsi:type="dcterms:W3CDTF">2013-03-25T17:39:17Z</dcterms:modified>
  <cp:revision>3</cp:revision>
  <dc:subject/>
  <dc:title>Слайд 1</dc:title>
</cp:coreProperties>
</file>