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533-1CB4-4E91-A898-E428322E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8EA-F96B-45AE-B2C2-EE0E2F9C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FAA-3D0B-4F5A-B4BD-386B9ECD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ED3-4F27-4505-B819-148F4101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08EA-E247-4E90-9F73-92ECF483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C24D-8DCF-4425-816E-9CAF6ABB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FEAB-3434-44FC-BB3E-5F87B3A0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FD24-83CC-4C31-9D3F-A212726D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6F85-160F-46A5-A08E-94080F09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DB91-1218-413A-9144-B530E32D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BC5B-47F6-48DC-B558-84BE4443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4D5-05A5-470B-96B3-5DE2E641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99D5-7537-4927-81BB-92C4DE3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947A-418F-4424-A3C1-29AA649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EAC1-B02A-40EF-8EAF-BCFE0787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2A4C-E340-4515-9FBC-6E13D8B5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205A-127C-46DF-B9C1-51E23630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EA2-5088-42C2-9061-BFCCCF5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5AC-AB00-47D3-A8C9-2BD14DE9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F4B-CA98-4896-94EE-154B7801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B1D-CC3A-47C9-B5A5-5220051B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670-AA2D-4CFF-9634-FE1558F6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0D0-BF4F-43BA-9801-AED371B9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F08-A175-4ECD-8C5E-1AF6B8A3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BEFF-720E-4A46-945E-58510F3D62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8A4F-7C95-4932-80B4-513B67BB19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icture.art-catalog.ru/picture.php?id_picture=817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tatu.announcements.ru/albums/gallery/00001/0600-0800/11_00698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772400" cy="173664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26d18"/>
                </a:solidFill>
                <a:latin typeface="Monotype Corsiva"/>
              </a:rPr>
              <a:t>Портрет  в русской живописи </a:t>
            </a:r>
            <a:r>
              <a:rPr b="1" lang="en-US" sz="6000" spc="-1" strike="noStrike">
                <a:solidFill>
                  <a:srgbClr val="a26d18"/>
                </a:solidFill>
                <a:latin typeface="Monotype Corsiva"/>
              </a:rPr>
              <a:t>XVIII</a:t>
            </a:r>
            <a:r>
              <a:rPr b="1" lang="ru-RU" sz="6000" spc="-1" strike="noStrike">
                <a:solidFill>
                  <a:srgbClr val="a26d18"/>
                </a:solidFill>
                <a:latin typeface="Monotype Corsiva"/>
              </a:rPr>
              <a:t>века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627280" y="4005360"/>
            <a:ext cx="6113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Руководитель: учитель МХ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Болдина Т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ыполнила: ученица 11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Усачева Я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А. Антропов. Портрет А.И. Измайлово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 показательно власть сословного статуса проявилась в «Портрете А.И. Измайловой», на котором модель горделиво демонстрирует портрет Елизаветы I — высшую награду придворной дамы. Дело даже не в награде, а в том, как она написана. Художник не хочет ракурсом нарушать целостное представление о портрете царицы», к которому и модель, и Антропов относятся как к священному символу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Рисунок 7" descr="http://art.1september.ru/2007/05/no5_153.jpg"/>
          <p:cNvPicPr/>
          <p:nvPr/>
        </p:nvPicPr>
        <p:blipFill>
          <a:blip r:embed="rId1"/>
          <a:stretch/>
        </p:blipFill>
        <p:spPr>
          <a:xfrm>
            <a:off x="5292720" y="1700280"/>
            <a:ext cx="331164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Ф. Рокот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В середине 1760 годов завоевывает известность живописец, выразительно непохожий ни на кого из своих современников. Творчество Ф.С.Рокотова составляет одну из самых обаятельных и труднообъяснимых страниц нашей культуры. Тайну выражения глаз и улыбки губ, отражающих жизнь и движение души, впервые в полную меру постиг Леонардо. В отечественном искусстве роль Леонардо сыграл Ф.С. Рокотов. Загадка и Леонардо и Рокотова кроется в том, что они воплотили в своих портретах не конкретные, а некие общие принципы трепета духовной жизни, духовных порывов и изменчивости психической жизни, которые трудно улавливаются и тем более поддаются словесному описанию. Именно Ф. Рокотов стал родоначальником «Времени психологического» в русском портрете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Ф.Рокотов.  Портрет  В.И. Майкова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60е годы Рокотов пишет ряд мужских портретов. В них ощущается большой интерес к своеобразию внешнего облика человека, индивидуальности характера. Особенно выделяется портрет В. И. Майкова. Это произведение одно из самых значительных в искусстве XVIII ве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attach"/>
          <p:cNvPicPr/>
          <p:nvPr/>
        </p:nvPicPr>
        <p:blipFill>
          <a:blip r:embed="rId1"/>
          <a:stretch/>
        </p:blipFill>
        <p:spPr>
          <a:xfrm>
            <a:off x="5219640" y="1557360"/>
            <a:ext cx="3540240" cy="4530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Федор  Рокот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  пору своего творческого расцвета живописец создает галерею прекрасных женских образов: А. П. Струйской(1772), В. Е. Новосильцевой (1780), В. Н. Суровцевой (1780), Е. В. Санти (178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женских образах Рокотова есть нечто общее - это богатство и красота внутреннего мира, возвышенный строй человеческих чувств. Раскрывая сокровенное в человеческой душе, художник всегда что-то оставляет недосказанным. Это придает рокотовским  портретам очарование тайны, особую поэтич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attach"/>
          <p:cNvPicPr/>
          <p:nvPr/>
        </p:nvPicPr>
        <p:blipFill>
          <a:blip r:embed="rId1"/>
          <a:stretch/>
        </p:blipFill>
        <p:spPr>
          <a:xfrm>
            <a:off x="5364000" y="1341360"/>
            <a:ext cx="3480120" cy="468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9" name="Picture 7" descr="портрет суровцей"/>
          <p:cNvPicPr/>
          <p:nvPr/>
        </p:nvPicPr>
        <p:blipFill>
          <a:blip r:embed="rId1"/>
          <a:stretch/>
        </p:blipFill>
        <p:spPr>
          <a:xfrm>
            <a:off x="324000" y="765000"/>
            <a:ext cx="3600360" cy="460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портрет новосильцовой"/>
          <p:cNvPicPr/>
          <p:nvPr/>
        </p:nvPicPr>
        <p:blipFill>
          <a:blip r:embed="rId2"/>
          <a:stretch/>
        </p:blipFill>
        <p:spPr>
          <a:xfrm>
            <a:off x="4859280" y="765000"/>
            <a:ext cx="38862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826920" y="5950080"/>
            <a:ext cx="1841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640560" y="6018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238760" y="594684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рет В. Суровце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435640" y="5950080"/>
            <a:ext cx="30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рет В.Новосильце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ортрет Александры Струйско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525636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Любите живопись, поэ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Лишь ей, единственной, да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Души изменчивой приме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ереносить на полот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Ты помнишь, как из тьмы былог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Едва закутана в атлас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 портрета Рокотова сн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мотрела Струйская на нас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Ее глаза - как два туман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олуулыбка, полуплач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Ее глаза - как два обман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окрытых мглою неудач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оединенье двух загад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олувосторг, полуиспуг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Безумной нежности припад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редвосхищенье смертных му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огда потемки наступа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И приближается гроз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о дна души моей мерца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Ее прекрасные гла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портрет струйской"/>
          <p:cNvPicPr/>
          <p:nvPr/>
        </p:nvPicPr>
        <p:blipFill>
          <a:blip r:embed="rId1"/>
          <a:stretch/>
        </p:blipFill>
        <p:spPr>
          <a:xfrm>
            <a:off x="681120" y="1600200"/>
            <a:ext cx="3587760" cy="4530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ортрет Александры Струйской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738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олотне обаятельная юная женщина, полная пленительной грации. Изящный овал лица, тонкие летящие брови, легкий румянец и задумчиво отсутствующий взгляд. В глазах ее – гордость и душевная чистота .Портрет написан переливами цветов, света и тени. Тени неуловимо переходят в свет, пепельно-серые тона перетекают в голубые, а розоватые — в бледно-золот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Д. Левицки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3927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. Левицкий – крупнейший портретист второй половин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а. Левицкий – художник прочно стоявший на реальной почве и в то же время чуткий к истинной поэзии, способный к возвышенным порывам.  В творчестве Левицкого поражает не только охвата действительности, но и та сила  таланта, с которой художник выразил стиль эпохи, богатство эстетических устремлений, образ мышления чувствований своих современ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6600"/>
                </a:solidFill>
                <a:uFillTx/>
                <a:latin typeface="Georgia"/>
              </a:rPr>
              <a:t>Д. Левицкий. «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eorgia"/>
                <a:hlinkClick r:id="rId1"/>
              </a:rPr>
              <a:t>Портрет Екатерины II в виде законодательницы в храме богини Правосудия</a:t>
            </a:r>
            <a:r>
              <a:rPr b="1" lang="ru-RU" sz="2400" spc="-1" strike="noStrike" u="sng">
                <a:solidFill>
                  <a:srgbClr val="cc6600"/>
                </a:solidFill>
                <a:uFillTx/>
                <a:latin typeface="Georgia"/>
              </a:rPr>
              <a:t>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ажное место в творчестве Левицкого занимает работа над портретом Екатерины II. Возвышенная, мифологизированная интерпретация не могла не нравиться императрице, которая более чем внимательно относилась к своим изображениям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7" descr="Екатерина"/>
          <p:cNvPicPr/>
          <p:nvPr/>
        </p:nvPicPr>
        <p:blipFill>
          <a:blip r:embed="rId2"/>
          <a:stretch/>
        </p:blipFill>
        <p:spPr>
          <a:xfrm>
            <a:off x="5162400" y="1600200"/>
            <a:ext cx="3008520" cy="4530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. Левицкий. «Портрет Е.Н. Хованской и Е.Н. Хрущевой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6" name="Picture 8" descr="Хованская"/>
          <p:cNvPicPr/>
          <p:nvPr/>
        </p:nvPicPr>
        <p:blipFill>
          <a:blip r:embed="rId1"/>
          <a:stretch/>
        </p:blipFill>
        <p:spPr>
          <a:xfrm>
            <a:off x="2987640" y="1484280"/>
            <a:ext cx="3557520" cy="4924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77" name="Rectangle 7"/>
          <p:cNvSpPr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:\Documents and Settings\User\Рабочий стол\партрет\1010506_8348_102.jpg"/>
          <p:cNvPicPr/>
          <p:nvPr/>
        </p:nvPicPr>
        <p:blipFill>
          <a:blip r:embed="rId1"/>
          <a:stretch/>
        </p:blipFill>
        <p:spPr>
          <a:xfrm>
            <a:off x="717480" y="1600200"/>
            <a:ext cx="3517920" cy="4530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42764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Портр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зображение или описание какого-либо человека либо группы людей, существующих или существовавших в реальной действ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. Боровиковски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ву русского живописного портрета преумножил В.Боровиковский. Главной заслугой Боровиковского стало то, что он вывел душевные переживания человека из мрака барочной полутьмы в ровный полуденный свет классицистической картины. Творчество В.Боровиковского явилось важным этапом на пути становления реалистической живопис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В. Боровиковский. «Портрет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. Е. Нарышкиной»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8960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ассицизм предписывал при изображении женщин величественно скромную одежду греческих богинь . Ткань естественно облегали, поэтому было легко придать изящество.Подчеркнутая простота одежды давала художникам возможность уделить особое внимание пластическому совершенству рук и шеи. На портретах художника В. Боровиковского женщины уже не носят пышных и обольстительных нарядов, одеты в простые одеяния античных богинь. Облик Е. Нарышкиной вполне соответствует идеалу своего време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Рисунок 7" descr="Боровиковский. Портрет Елены Александровны Нарышкиной. 1799.  Холст, масло. 72,8x59,6 см"/>
          <p:cNvPicPr/>
          <p:nvPr/>
        </p:nvPicPr>
        <p:blipFill>
          <a:blip r:embed="rId1"/>
          <a:stretch/>
        </p:blipFill>
        <p:spPr>
          <a:xfrm>
            <a:off x="395280" y="1557360"/>
            <a:ext cx="3738600" cy="4530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В. Боровиковский «Портрет М.И. Лопухиной»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51847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редование самых противоречивых и тонких  чувству Лопухиной отражено нежной живописью, её мягкой и светлой гаммой. Это создает особую поэзию обра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Лопухина"/>
          <p:cNvPicPr/>
          <p:nvPr/>
        </p:nvPicPr>
        <p:blipFill>
          <a:blip r:embed="rId1"/>
          <a:stretch/>
        </p:blipFill>
        <p:spPr>
          <a:xfrm>
            <a:off x="5003640" y="1484280"/>
            <a:ext cx="3889440" cy="4897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2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85988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a26d18"/>
                </a:solidFill>
                <a:latin typeface="Georgia"/>
              </a:rPr>
              <a:t>Значение В. Боровиковского в истории  живописи и в том, что он создал галерею прекрасных женских образов.</a:t>
            </a:r>
            <a:br>
              <a:rPr sz="2000"/>
            </a:b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information_items_1160205780"/>
          <p:cNvPicPr/>
          <p:nvPr/>
        </p:nvPicPr>
        <p:blipFill>
          <a:blip r:embed="rId1"/>
          <a:stretch/>
        </p:blipFill>
        <p:spPr>
          <a:xfrm>
            <a:off x="4859280" y="1557360"/>
            <a:ext cx="3809880" cy="44863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189" name="Picture 10" descr="Портрет Екатерины Николаевны Арсеньевой &#10; Боровиковский, Владимир Лукич&#13;&#10;Портрет Екатерины Николаевны Арсеньевой&#13;&#10;Вторая половина 1790-х&#13;&#10;71,5 x 56,5 см&#13;&#10;Холст, масло&#13;&#10;Россия&#13;&#10;Санкт-Петербург. Государственный Русский муз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628640"/>
            <a:ext cx="3355920" cy="4464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826920" y="6308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рет Е.Арсеньев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536400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рет сестер Гагари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усские художники 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XVIII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ека сумели воплотить в красках  облик, характеры, духовный мир своих современников. Именно в портрете создало искусство этого времени свои лучшие произвед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1716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истоков портретной живописи  стоит И.Н.Никитин (1680 – 1742).  Он ярко воплощает силу человеческих возможностей, открытых петровской эпох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69192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ий художник реализует свои собственные представления о мире, красоте и индивидуальных особенностях модели. Так возникает свой вариант портрета- общепонятный и вполне неповторимы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176560" y="4437000"/>
            <a:ext cx="59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671480" y="4722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6" descr="http://art.1september.ru/2007/05/no5_137.jpg"/>
          <p:cNvPicPr/>
          <p:nvPr/>
        </p:nvPicPr>
        <p:blipFill>
          <a:blip r:embed="rId1"/>
          <a:stretch/>
        </p:blipFill>
        <p:spPr>
          <a:xfrm>
            <a:off x="611280" y="2781360"/>
            <a:ext cx="3600360" cy="3743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29" name="Text Box 10"/>
          <p:cNvSpPr/>
          <p:nvPr/>
        </p:nvSpPr>
        <p:spPr>
          <a:xfrm>
            <a:off x="4284720" y="602136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трет царевны Натальи Алексеев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И. Никитин «Портрет канцлера 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Г. Головкина»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вриил Иванович Головкин легок, изящен, достаточно уверен в себе.  Портрет не говорит, что перед нами дальний родственник Петр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человек с весьма скверным характер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тянутое сглаженное лицо, обрамленное длинным французским париком,  полно настороженного внимания. На портрете шестидесятилетний Высокопоставленный чиновник, канцлер, диплома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Головкин"/>
          <p:cNvPicPr/>
          <p:nvPr/>
        </p:nvPicPr>
        <p:blipFill>
          <a:blip r:embed="rId1"/>
          <a:stretch/>
        </p:blipFill>
        <p:spPr>
          <a:xfrm>
            <a:off x="684360" y="1700280"/>
            <a:ext cx="3816360" cy="4392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349200"/>
            <a:ext cx="80773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А.Матвеев «Автопортрет с женой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4" name="Рисунок 9" descr="http://art.1september.ru/2007/05/no5_136.jpg"/>
          <p:cNvPicPr/>
          <p:nvPr/>
        </p:nvPicPr>
        <p:blipFill>
          <a:blip r:embed="rId1"/>
          <a:stretch/>
        </p:blipFill>
        <p:spPr>
          <a:xfrm>
            <a:off x="5614920" y="2276640"/>
            <a:ext cx="3529080" cy="2952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539640" y="1557360"/>
            <a:ext cx="46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веев буквально за руку вводит свою жену в новый мир. Делает он это с подобающим и своей юности, и юности представляемой им страны  достоинством. Молодость персонажей в данном случае как бы является метафорой молодости новой России.. Свет юных лиц счастливых супругов, кажется, не замечает клубящуюся за ними ть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89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еди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 в России связана с именами таких крупных и значительных художников как И.Вишняков, А. Антроп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И.Вишняков «Портрет Сарры Фермор»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3008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Вешняков – художник своебычный и  во многом загадочный . Его портретные образы привлекают к себе хрупкой изысканностью. Пробиваясь сквозь условности парадного портрета, Вишняков наделяет свои модели , теплотой затаенных чувств, какой-то трогательной незащищенностью, соединенной с несколько наивной торжественностью композиции. Сложная гамма чувств находит воплощение в красивых оттенках словно вибрирующего цвета. Сарра Фермор покоряет трогательной хрупкостью, чистотой и одухотворенностью. Серьезно и чуть напряженно лицо деву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Сара Фермор"/>
          <p:cNvPicPr/>
          <p:nvPr/>
        </p:nvPicPr>
        <p:blipFill>
          <a:blip r:embed="rId1"/>
          <a:stretch/>
        </p:blipFill>
        <p:spPr>
          <a:xfrm>
            <a:off x="5003640" y="1484280"/>
            <a:ext cx="3816360" cy="47530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</p:spTree>
  </p:cSld>
  <p:transition>
    <p:cover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ортрет Сарры  Фермор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ом портрете отразились характерные чер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а середин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олетия. Это и чисто русское понимание образа, где на первом плане – внимание к духовному миру человека. Это и особенности стиля: сплав европейского искусства рококо и традиций древнерусской  живописи. Фронтальная постановка  фигуры, плоскостное решение пространства – это от традиционного старого письма, а от рококо – утонченность пейзажа, изысканное сочетание голубого и жемчужно-серого цве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Сара Фермор"/>
          <p:cNvPicPr/>
          <p:nvPr/>
        </p:nvPicPr>
        <p:blipFill>
          <a:blip r:embed="rId1"/>
          <a:stretch/>
        </p:blipFill>
        <p:spPr>
          <a:xfrm>
            <a:off x="611280" y="1989000"/>
            <a:ext cx="3504960" cy="4286520"/>
          </a:xfrm>
          <a:prstGeom prst="rect">
            <a:avLst/>
          </a:prstGeom>
          <a:ln w="73080">
            <a:solidFill>
              <a:srgbClr val="cc6600"/>
            </a:solidFill>
            <a:miter/>
          </a:ln>
        </p:spPr>
      </p:pic>
    </p:spTree>
  </p:cSld>
  <p:transition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А. Антропов. Портрет А.И. Измайлово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зрителем предстает своенравная и умная старая барыня с острым, властным и умным лицом, покрытым плотным слоем румян. Это уже не просто статс-дама двора Елизаветы Петровны, цельный и яркий характер,  типичный для русского общества  той эпо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Рисунок 7" descr="http://art.1september.ru/2007/05/no5_153.jpg"/>
          <p:cNvPicPr/>
          <p:nvPr/>
        </p:nvPicPr>
        <p:blipFill>
          <a:blip r:embed="rId1"/>
          <a:stretch/>
        </p:blipFill>
        <p:spPr>
          <a:xfrm>
            <a:off x="539640" y="1773360"/>
            <a:ext cx="3529080" cy="4392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9:59:30Z</dcterms:created>
  <dc:creator>USER</dc:creator>
  <dc:description/>
  <dc:language>en-US</dc:language>
  <cp:lastModifiedBy>User</cp:lastModifiedBy>
  <dcterms:modified xsi:type="dcterms:W3CDTF">2011-12-20T20:01:53Z</dcterms:modified>
  <cp:revision>40</cp:revision>
  <dc:subject/>
  <dc:title>Портрет  в русской живописи XVIIIвека</dc:title>
</cp:coreProperties>
</file>