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BB1-49E5-4C2E-83C5-B5AE3B09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B8E-98CC-48B8-AA97-726A7AAC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1FB-54CE-4062-BDF4-7F40A8F4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2D5-1784-4F73-9535-99A93B78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AE7-7BA2-4A7A-9D0A-78AF7517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39E-6CA0-4176-BA50-1053C80A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A05-8167-4230-B880-B35607E2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3ED-0A09-4BDB-860F-E6419BBC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BB2-2158-4217-8959-236E6E09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0E9-21E5-4212-938A-8FAACC66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CD2-CADF-465A-9146-88CFDD3F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4F6-D32A-428E-9976-8084FDFF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534C-ACE0-4A71-A858-ADD7917CF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рок  «Пересадка и вегетативное размножение комнатных  растений»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(совместно   с группой  «Цветоводство и декоративное садоводство»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(руководитель Сухова Л.А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ли на урок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разовательные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Закреплять знания о роли растений в природе и в жизни человека, правилах  ухода за ними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овторить  знания о составе воздуха, типах поч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3 .Формировать практические умения по пересадке и посадке листовых черенков растения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ррекционные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Развивать наблюдательность, память, тонкую моторику ру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Развивать речь учащихся и  обогащать  словарь за счет введения новых слов: пересадка, посадка, размножение листовыми черенк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Формировать  умения правильно пользоваться садоводческими инструмент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Формировать  у  учащихся умения организовывать своё рабочее место, правильно размещать на столе необходимые инструменты и предметы, аккуратно убирать их после работы, уметь приводить в порядок испачканный стол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итательные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Воспитывать трудолюбие, аккуратность, любознательность, наблюдательност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Воспитывать бережное отношение к комнатным растения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Воспитывать умение работать  группами, договариваться о распределении обязанност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листовые черенки в стаканчиках, горшки для пересадки растений, совки, деревянные палочки и пластмассовые вилки для рыхления почвы,  раствор  для дезинфекции, бутылки с водой, готовые почвенные смеси, камешки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wnload\Новая папка\DSC00082.JPG"/>
          <p:cNvPicPr/>
          <p:nvPr/>
        </p:nvPicPr>
        <p:blipFill>
          <a:blip r:embed="rId1"/>
          <a:stretch/>
        </p:blipFill>
        <p:spPr>
          <a:xfrm>
            <a:off x="2195640" y="115920"/>
            <a:ext cx="489744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wnload\Новая папка\DSC00084.JPG"/>
          <p:cNvPicPr/>
          <p:nvPr/>
        </p:nvPicPr>
        <p:blipFill>
          <a:blip r:embed="rId1"/>
          <a:stretch/>
        </p:blipFill>
        <p:spPr>
          <a:xfrm>
            <a:off x="2050920" y="260280"/>
            <a:ext cx="4824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wnload\Новая папка\DSC00087.JPG"/>
          <p:cNvPicPr/>
          <p:nvPr/>
        </p:nvPicPr>
        <p:blipFill>
          <a:blip r:embed="rId1"/>
          <a:stretch/>
        </p:blipFill>
        <p:spPr>
          <a:xfrm>
            <a:off x="250920" y="139680"/>
            <a:ext cx="86421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wnload\Новая папка\DSC00089.JPG"/>
          <p:cNvPicPr/>
          <p:nvPr/>
        </p:nvPicPr>
        <p:blipFill>
          <a:blip r:embed="rId1"/>
          <a:stretch/>
        </p:blipFill>
        <p:spPr>
          <a:xfrm>
            <a:off x="250920" y="19368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wnload\Новая папка\DSC00090.JPG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 Организационный момент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ообщение темы уро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годня мы  будем заниматься пересадкой растений и  размножением растений  с помощью листовых черенков , а поможет нам в этом группа цветоводства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.  Актуализация опорных знани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Обоснование важности  растений  для природы, животных и жизни человека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абота с таблицей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таблица с процентным содержанием состава воздуха)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Из каких газов состоит воздух, которым мы дышим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Воздух состоит из смеси газов: азота-78%  , кислорода – 21% , углекислого газа -0,03% 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Какой газ необходим для дыхания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кислород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Человек и животные постоянно вдыхают кислород, а выдыхают углекислый газ. Почему же углекислого газа не становится меньше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 количество кислорода восполняется растениями  - растения больше выделяют кислород, чем поглощают его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Зачем мы выращиваем растения, ухаживаем за ними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растения – часть природы; для питания; для того, чтобы пополнить запасы кислорода; для красоты)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Практическая работа.  Пересадка комнатных растени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 № 1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ие  из этих растений  нуждаются в пересадке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5 комнатных растений : 4 из них нуждаются в пересадке- растения вялые, листочки опадают)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 №2. В какой горшок  пересаживаем растение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Выберите горшок, в который вы будете пересаживать расте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каждого растения подбираем свой горшок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Требования к горшку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Горшок должен быть с дренажными отверстиями, чтоб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через  них  стекала лишняя вода и поступал возду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рем  горшок с отверстия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Размеры горшка зависят от величины кроны  растения, которое будем пересаживать. Горшок должен быть больше предыдущего на 2-3 см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 №3. Какая должна быть почва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авнение типов почвы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1-ой ученик ставит  перед учащимися 3 тазика: с песчаной почвой, глинистой почвой и готовой смесью из магази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В какую почву мы посадим растение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в песчаной почве растение засохнет, в глинистой – замокнет, лучше использовать готовую смесь – комковатая, есть все необходимые питательные вещества )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так, определили растения для пересадки и горшок, в который его пересаживаем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емонстрация пересадки растения учениками  из садоводческой группы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2-ой  ученик показывает приемы  пересадк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Увлажняем  слегка почву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Вынимаем земляной ком из горшка (горшок держит в левой руке, правой постукивает по нему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Рассматриваем земляной ком ( корни выходят на поверхность земляного ком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Стряхиваем лишнюю землю, осторожно удаляем подгнившие корни ( иногда обрабатываем в мягком растворе марганцовки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Кладем в горшок мелкие камешки, насыпаем землю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Помещаем растение, так чтобы оно находилось на той же глубине, что и раньш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Наполняем горшок приготовленной смесью и слегка прижимаем пальцами землю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Поливаем расте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им растение в теплое место, подальше от сквозняков и прямых солнечных луче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садка выбранных  растений группами учащих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ходу практической работы ученики из садоводческой группы контролируют правильность пересадки растений (3 рабочие группы по 3 человека в каждой)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Оценка выполненной работы самими учащимис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IV.  Упражнения  на правильное дыхани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V.  Практическая работа.  Размножение растения листовым черенко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3-ий ученик показывает приемы посадки листового черенка в горшо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)  Делаем небольшую ямку в  горшк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д посадкой листового черенка опускаем его в раствор для дезинфекци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)  Сажаем  листовой черенок  в ямку и присыпаем его  землей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) Утрамбовываем пальц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) Поливае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2. Выполнение практической работы группами учащихся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Ученики из садоводческой группы проверяют правильность посадки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Закрепление изученного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ревнование двух команд:  садоводческой и классной «Вопрос – ответ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ждый из членов 2-х команд по очереди  задает  вопрос по пересадке и размножению растени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ефлекси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 мне больше всего  понравилось делать на уроке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му бы я хотел научиться в следующий раз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Домашнее зада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и любимые цветы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Как я ухаживаю за своими цветами дома?»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wnload\Новая папка\DSC00071.JPG"/>
          <p:cNvPicPr/>
          <p:nvPr/>
        </p:nvPicPr>
        <p:blipFill>
          <a:blip r:embed="rId1"/>
          <a:stretch/>
        </p:blipFill>
        <p:spPr>
          <a:xfrm>
            <a:off x="250920" y="115920"/>
            <a:ext cx="8605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wnload\Новая папка\DSC00075.JPG"/>
          <p:cNvPicPr/>
          <p:nvPr/>
        </p:nvPicPr>
        <p:blipFill>
          <a:blip r:embed="rId1"/>
          <a:stretch/>
        </p:blipFill>
        <p:spPr>
          <a:xfrm>
            <a:off x="250920" y="279360"/>
            <a:ext cx="856908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wnload\Новая папка\DSC00076.JPG"/>
          <p:cNvPicPr/>
          <p:nvPr/>
        </p:nvPicPr>
        <p:blipFill>
          <a:blip r:embed="rId1"/>
          <a:stretch/>
        </p:blipFill>
        <p:spPr>
          <a:xfrm>
            <a:off x="324000" y="189000"/>
            <a:ext cx="859284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wnload\Новая папка\DSC00077.JPG"/>
          <p:cNvPicPr/>
          <p:nvPr/>
        </p:nvPicPr>
        <p:blipFill>
          <a:blip r:embed="rId1"/>
          <a:stretch/>
        </p:blipFill>
        <p:spPr>
          <a:xfrm>
            <a:off x="250920" y="189000"/>
            <a:ext cx="865800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wnload\Новая папка\DSC00078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5:54:50Z</dcterms:created>
  <dc:creator>Пользователь</dc:creator>
  <dc:description/>
  <dc:language>en-US</dc:language>
  <cp:lastModifiedBy>Пользователь</cp:lastModifiedBy>
  <dcterms:modified xsi:type="dcterms:W3CDTF">2013-02-13T18:46:55Z</dcterms:modified>
  <cp:revision>19</cp:revision>
  <dc:subject/>
  <dc:title>Слайд 1</dc:title>
</cp:coreProperties>
</file>