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847-82E9-48D5-8BCB-9AB5A811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D72-5FB3-4966-BFBF-20EFCD1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D8C-B18C-44EB-B316-F6339B8D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41D-2064-4221-901F-5BDCC696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BC47-CC33-4C06-9A61-4C02EEE2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2DCD-6673-4BFE-A385-17019241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0C47-100C-4767-8152-F99A21FB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CDE9-1BD3-4ABC-BCF3-9F536EC4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23B9-FB3D-426D-AC9C-E2442F14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211E-54FF-4660-A2C5-300612C7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4AC0-740D-4F21-AC57-EF3D86E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3FD-106E-459A-8AEF-BCCF6C4A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EB69-675E-4118-8A19-636CC8A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82C0-8B91-46D1-AA89-9EF158D7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637A-68C4-44BD-98E7-CBFD38D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0968-84C2-46F2-B406-2E0844BD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5C29-2BA1-48F0-B4F3-B5EE0292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48897-2B6D-4472-A2BF-1B0B7CC2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4CA84-7C79-4187-B885-B49F589E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30478-1D5C-4B1F-B205-0E893515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BB932-7CD3-4095-9960-648B91D4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AA11D-909C-44D0-A622-5F7C5E2D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462-CE3B-4BDF-BB90-662DCEC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29DB9-DFEC-42ED-9104-397B5116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D6435-AD2F-498F-88EE-6B112DB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7EE3F-6B9C-48DB-9CE5-C96325D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DCF48-529E-478D-9503-5B4F5A50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4BDBF-F9DF-4C98-A614-8752E7FC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D707C-5639-466E-BFA9-981CE60E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C8BB2-8560-4F60-A0EC-D4216666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418B-0DEE-4B1C-A780-D190EF81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0EA11-1AC2-4DED-B204-726533B8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7630B-9E9D-433A-8D92-936B2DB4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E71-FF18-48FF-9DE7-2488E0F6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462E4-7BB9-4CB8-AE24-88584194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B7C3-E68C-49B8-BB80-9DDE881C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007B-1348-4C0D-82F0-8BFD78EA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0903D-E088-4DFF-BC74-1E7DF1C7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2D46-6F22-4D9C-BE20-41850B5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BDAC-5857-4BC6-9A28-6501CDB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1064B-6133-4F00-952F-DC00B285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086D5-40BF-4B51-9111-6DEF7831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D13D-2F43-4EAF-B52E-BEE03F42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AD2-9DD5-4AD4-BDCD-23963DD7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A72-5C72-429E-8824-F6685D5C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262-F82F-41A7-9C17-083F2AA4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069-8A62-4B1A-9F0E-A10137C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53F-1656-4214-8DE9-5898503C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CF73-2A83-4A54-A058-00DADB3B206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5075-E23D-4886-9C78-73D65D8D389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82E-7026-4E62-8C84-FE30BE868C2E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433-A25F-4C93-84CD-DC342AA15DFF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mosportal.ru/mdoo/12/3/3/i63_109-1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айте поклоняться доброте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айте с думой жить о доброт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я в голубой и звездной красо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емля добра: она дарит нас хлебом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вой водой и деревом в цвет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 этим вечно неспокойным неб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айте воевать за доброту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. Чепуро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66720" y="1904760"/>
            <a:ext cx="44197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учшее, что храню в себе, - это живое чувство к добрым людя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2" descr="http://im8-tub-ru.yandex.net/i?id=24344995-65-72&amp;n=17"/>
          <p:cNvPicPr/>
          <p:nvPr/>
        </p:nvPicPr>
        <p:blipFill>
          <a:blip r:embed="rId1"/>
          <a:stretch/>
        </p:blipFill>
        <p:spPr>
          <a:xfrm>
            <a:off x="457200" y="205740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343040" y="1294920"/>
            <a:ext cx="434340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ебялюбие – самоубийство. Себялюбивый человек засыхает, словно одинокое дерев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http://im3-tub-ru.yandex.net/i?id=433209322-70-72&amp;n=17"/>
          <p:cNvPicPr/>
          <p:nvPr/>
        </p:nvPicPr>
        <p:blipFill>
          <a:blip r:embed="rId1"/>
          <a:stretch/>
        </p:blipFill>
        <p:spPr>
          <a:xfrm>
            <a:off x="533520" y="1054080"/>
            <a:ext cx="33526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    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А  теперь вы можете засчитать себе 1 очко за ответ «да» на вопросы: 1, 3, 4, 7, 11 и за ответ «нет» на вопросы: 2, 5, 6, 8, 9, 10, 12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 набрали больше 8 очков. Вы любезны. Нравитесь окружающим, умеете общаться с людьми. У вас, наверное, много друзей. Одно предостережение: никогда не пытайтесь иметь хорошие отношения со всеми – всем не угодишь, да и на пользу это вам не пойдёт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 4 до 8 очков. Ну что же, ваша доброта – вопрос случая. Добры вы далеко не со всеми. Для одних вы можете пойти на всё, но общение с вами более чем неприятно для тех, кто вам не нравится. Это не так уж плохо. Но, наверное, надо стараться быть ровным со всеми, чтобы люди не обижались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 набрали меньше 4 очков. Общение с вами, надо признаться, порой бывает просто мукой даже для самых близких вам людей. Будьте доброжелательны, и у вас будет больше друзей. Ведь дружба требует доброго отношения…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Памятник доктору Ф.П. Гаазу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990720" cy="4324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mosportal.ru/mdoo/12/3/3/i63_109-1_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362320"/>
            <a:ext cx="3124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Помогать людя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Защищать слабог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Делиться последним с друго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) Не завидоват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) Прощать ошибки други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зентация к уроку «Добро и зло» по модулю «Основы светской этики» подготовлена с использованием  интернет – сайтов Симаковой Т. И. , учителем нач. кл МБО У ЛСОШ№1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3f9a"/>
                </a:solidFill>
                <a:latin typeface="Trebuchet MS"/>
              </a:rPr>
              <a:t>Эпиграф к уроку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«Делать людям хорошо – хорошеть самом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. Татьяничев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Добро и зло неразделимы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Борьба идет под плач и смех,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Но жаждет каждый видеть зрим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Когда добро одержит верх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обр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обрый челове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оброе дел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л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лой человек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лое дело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жество, честь, хвастливость,  жестокость, скромность, милосердие, совесть,  трусость, зависть, жадность, честность,  тактичность, болтливость,  правдивость, хитрость,  бестактность, лживость,  малодушие, справедливость, выдержка, эгоизм, вежливость, вер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Народная мудрос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                о добре и зле</a:t>
            </a:r>
            <a:endParaRPr b="0" lang="en-US" sz="4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Georgia"/>
              </a:rPr>
              <a:t>Доброе слово лечит – злое калечи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Georgia"/>
              </a:rPr>
              <a:t>Злой не верит, что есть добры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Georgia"/>
              </a:rPr>
              <a:t>Добрая слава лежит, а худая – бежи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Georgia"/>
              </a:rPr>
              <a:t>Худо тому, кто добра не творит ником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Стараясь о счастье других, мы находим своё собственное счастье.</a:t>
            </a:r>
            <a:br>
              <a:rPr sz="2800"/>
            </a:b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                                                                        Платон</a:t>
            </a:r>
            <a:endParaRPr b="0" lang="en-US" sz="2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4267080"/>
            <a:ext cx="579132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еловек, который думает только о себе и ищет во всем своей выгоды, не может быть счастлив. Хочешь жить для себя, живи для други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ене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http://im4-tub-ru.yandex.net/i?id=408304803-65-72"/>
          <p:cNvPicPr/>
          <p:nvPr/>
        </p:nvPicPr>
        <p:blipFill>
          <a:blip r:embed="rId1"/>
          <a:stretch/>
        </p:blipFill>
        <p:spPr>
          <a:xfrm>
            <a:off x="155520" y="533520"/>
            <a:ext cx="1825560" cy="2819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://im3-tub-ru.yandex.net/i?id=407293829-43-72"/>
          <p:cNvPicPr/>
          <p:nvPr/>
        </p:nvPicPr>
        <p:blipFill>
          <a:blip r:embed="rId2"/>
          <a:stretch/>
        </p:blipFill>
        <p:spPr>
          <a:xfrm>
            <a:off x="6550200" y="3429000"/>
            <a:ext cx="1984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686800" y="-3772440"/>
            <a:ext cx="460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837720"/>
            <a:ext cx="335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жизни есть только одно несомненное счасть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ть для други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брота. Вот качество, которое я желаю приобрести больше всех други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http://im4-tub-ru.yandex.net/i?id=115252507-14-72&amp;n=17"/>
          <p:cNvPicPr/>
          <p:nvPr/>
        </p:nvPicPr>
        <p:blipFill>
          <a:blip r:embed="rId1"/>
          <a:stretch/>
        </p:blipFill>
        <p:spPr>
          <a:xfrm>
            <a:off x="4495680" y="60948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13T14:24:33Z</dcterms:modified>
  <cp:revision>9</cp:revision>
  <dc:subject/>
  <dc:title>Народная мудрость                  о добре и зле</dc:title>
</cp:coreProperties>
</file>