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E2B-02C6-43CD-AE5E-54CE62A8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292-A3E5-4F11-8414-2E4FA0CB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CCD-E1CC-4FB3-9ED8-029B4875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D79E-9A34-4E24-974C-1BE00BD0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7EAE-F704-4680-938E-28432954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AC3A-77CF-4B08-9681-2653DBEC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2D11-0928-4702-823F-4FC9E14E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DCDF-C297-4711-A7AC-DDF68A64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A77D-10D8-492D-8464-7A1C8C3F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FF3B-0932-4205-95DC-C443B01E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41A5-F450-4137-B9CB-A9AED993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EC6C-0365-4E5D-97D7-F08D0A23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06CE-CA54-4634-B7F3-28268313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F9D4-7E8E-44E4-8E05-8A26A2ED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613B-B4D0-4D3F-8D2C-EB943EB8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46DA-834C-4B56-9F78-82CBD074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4B07-497A-4B13-B3FB-177939DD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26ECF-99F8-47F0-8A6F-BC3C38FD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38A75-C81C-4BFC-A9C6-2CD0DD28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4A4E5-FD4C-405A-A8A4-646CF117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5BFBC7-1C50-4CC0-8332-EA8F1D38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644EA8-63CB-4077-A0D1-A6CFF5AA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D0EB-6803-4211-BF9B-EFFED623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742C2-D0B5-4881-8E2D-268AB69D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45C5A-912F-4267-ABE2-5E76DD7F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7D44F5-FEC8-4FFD-9F8C-EC59A320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BE3B8-9DCA-4F20-9595-0CDF93F9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D42AD-8311-48C4-A8AB-C79F79B6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EAE7C-2836-4886-89AD-056B8975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E1199-8997-41D3-987E-820B4427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B8187-5621-488B-ACF7-C1030A56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9662A-D3F8-4C28-90E2-B7DB3282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A46BB-6A8A-475B-BCFC-67DA30CA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554-DDA4-4838-A147-8B2EAF02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AEF4A-24ED-4790-A266-664FE462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76A11-8A7B-490A-ABC1-FD8C8C1A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8F4BF-73FB-4584-AAF4-3041DF28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E612D-E04B-420A-81E3-90B52630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A9F09-CC96-4CD2-9EE0-08E1DE64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CBC9D-334D-4CD1-8571-0B4474DE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62C74-F458-4B65-8AEA-63841738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98280-D019-44FA-A2F3-0334FB96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F00F6-D0D3-4975-9BEE-3123B4F5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6C48-3A2D-44EC-8F01-0BEF192F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F03-848D-4B2F-BDC9-FF1E0E5F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274-D226-4CD9-BFF9-7CAB518A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E81-D068-408D-8194-2FB3E6D5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666D-CE29-43E5-919C-AFF05652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87BF-110D-4952-A4BE-794E2551CD69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ac66bb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81C2-A345-4A7D-8550-EA6775AE3602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0FF3-9593-4857-AC21-2AFE4D920503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C60E-7673-4A13-A87C-A74366379375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mosportal.ru/mdoo/12/3/3/i63_109-1.htm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айте поклоняться доброте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айте с думой жить о доброт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я в голубой и звездной красо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емля добра: она дарит нас хлебом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ивой водой и деревом в цвет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 этим вечно неспокойным небо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айте воевать за доброту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. Чепуров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66720" y="1904760"/>
            <a:ext cx="441972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Лучшее, что храню в себе, - это живое чувство к добрым людям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Picture 2" descr="http://im8-tub-ru.yandex.net/i?id=24344995-65-72&amp;n=17"/>
          <p:cNvPicPr/>
          <p:nvPr/>
        </p:nvPicPr>
        <p:blipFill>
          <a:blip r:embed="rId1"/>
          <a:stretch/>
        </p:blipFill>
        <p:spPr>
          <a:xfrm>
            <a:off x="457200" y="205740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343040" y="1294920"/>
            <a:ext cx="434340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ебялюбие – самоубийство. Себялюбивый человек засыхает, словно одинокое дерево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Picture 2" descr="http://im3-tub-ru.yandex.net/i?id=433209322-70-72&amp;n=17"/>
          <p:cNvPicPr/>
          <p:nvPr/>
        </p:nvPicPr>
        <p:blipFill>
          <a:blip r:embed="rId1"/>
          <a:stretch/>
        </p:blipFill>
        <p:spPr>
          <a:xfrm>
            <a:off x="533520" y="1054080"/>
            <a:ext cx="33526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   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  теперь вы можете засчитать себе 1 очко за ответ «да» на вопросы: 1, 3, 4, 7, 11 и за ответ «нет» на вопросы: 2, 5, 6, 8, 9, 10, 12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 набрали больше 8 очков. Вы любезны. Нравитесь окружающим, умеете общаться с людьми. У вас, наверное, много друзей. Одно предостережение: никогда не пытайтесь иметь хорошие отношения со всеми – всем не угодишь, да и на пользу это вам не пойдёт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т 4 до 8 очков. Ну что же, ваша доброта – вопрос случая. Добры вы далеко не со всеми. Для одних вы можете пойти на всё, но общение с вами более чем неприятно для тех, кто вам не нравится. Это не так уж плохо. Но, наверное, надо стараться быть ровным со всеми, чтобы люди не обижались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 набрали меньше 4 очков. Общение с вами, надо признаться, порой бывает просто мукой даже для самых близких вам людей. Будьте доброжелательны, и у вас будет больше друзей. Ведь дружба требует доброго отношения…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Trebuchet MS"/>
              </a:rPr>
              <a:t>Памятник доктору Ф.П. Гаазу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990720" cy="4324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http://www.mosportal.ru/mdoo/12/3/3/i63_109-1_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2362320"/>
            <a:ext cx="3124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) Помогать людям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) Защищать слабого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) Делиться последним с другом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) Не завидовать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5) Прощать ошибки другим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зентация к уроку «Добро и зло» по модулю «Основы светской этики» подготовлена с использованием  интернет – сайтов Симаковой Т. И. , учителем нач. кл МБО У ЛСОШ№1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Trebuchet MS"/>
              </a:rPr>
              <a:t>Эпиграф к уроку: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«Делать людям хорошо – хорошеть самому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. Татьяничев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Добро и зло неразделимы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Борьба идет под плач и смех,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Но жаждет каждый видеть зримо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Когда добро одержит верх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Добро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Добрый человек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Доброе дело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Зло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Злой человек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Злое дело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ужество, честь, хвастливость,  жестокость, скромность, милосердие, совесть,  трусость, зависть, жадность, честность,  тактичность, болтливость,  правдивость, хитрость,  бестактность, лживость,  малодушие, справедливость, выдержка, эгоизм, вежливость, вернос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Народная мудрос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                 о добре и зле</a:t>
            </a:r>
            <a:endParaRPr b="0" lang="en-US" sz="44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Georgia"/>
              </a:rPr>
              <a:t>Доброе слово лечит – злое калечит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Georgia"/>
              </a:rPr>
              <a:t>Злой не верит, что есть добры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Georgia"/>
              </a:rPr>
              <a:t>Добрая слава лежит, а худая – бежит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Georgia"/>
              </a:rPr>
              <a:t>Худо тому, кто добра не творит никому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057040" y="11426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Стараясь о счастье других, мы находим своё собственное счастье.</a:t>
            </a:r>
            <a:br>
              <a:rPr sz="2800"/>
            </a:b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                                                                        Платон</a:t>
            </a:r>
            <a:endParaRPr b="0" lang="en-US" sz="2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4267080"/>
            <a:ext cx="579132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3508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еловек, который думает только о себе и ищет во всем своей выгоды, не может быть счастлив. Хочешь жить для себя, живи для других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ене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http://im4-tub-ru.yandex.net/i?id=408304803-65-72"/>
          <p:cNvPicPr/>
          <p:nvPr/>
        </p:nvPicPr>
        <p:blipFill>
          <a:blip r:embed="rId1"/>
          <a:stretch/>
        </p:blipFill>
        <p:spPr>
          <a:xfrm>
            <a:off x="155520" y="533520"/>
            <a:ext cx="1825560" cy="2819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http://im3-tub-ru.yandex.net/i?id=407293829-43-72"/>
          <p:cNvPicPr/>
          <p:nvPr/>
        </p:nvPicPr>
        <p:blipFill>
          <a:blip r:embed="rId2"/>
          <a:stretch/>
        </p:blipFill>
        <p:spPr>
          <a:xfrm>
            <a:off x="6550200" y="3429000"/>
            <a:ext cx="1984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686800" y="-3772440"/>
            <a:ext cx="4608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837720"/>
            <a:ext cx="335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жизни есть только одно несомненное счастье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ить для други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брота. Вот качество, которое я желаю приобрести больше всех други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2" descr="http://im4-tub-ru.yandex.net/i?id=115252507-14-72&amp;n=17"/>
          <p:cNvPicPr/>
          <p:nvPr/>
        </p:nvPicPr>
        <p:blipFill>
          <a:blip r:embed="rId1"/>
          <a:stretch/>
        </p:blipFill>
        <p:spPr>
          <a:xfrm>
            <a:off x="4495680" y="609480"/>
            <a:ext cx="4343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13T14:24:33Z</dcterms:modified>
  <cp:revision>9</cp:revision>
  <dc:subject/>
  <dc:title>Народная мудрость                  о добре и зле</dc:title>
</cp:coreProperties>
</file>