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2D4-ACB8-46FD-9C20-B1051E05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BD1-856B-4DC9-BBA5-20FE4D2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70D-A689-4A6C-80CE-460384C7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7CF-D763-4CD7-8723-29EDD35E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2E3-A1D0-4A03-9462-151A24A5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7BE-6B21-4823-93E6-34E1D5A1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1B2-6C86-4D23-9D04-3290EFE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3FC-CF94-4DEC-B44D-ACA1349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35E-1AA7-491B-A847-8234725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CD7-EE6E-4802-8B69-F754A2AC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382-5C98-4E96-A571-98CB29DE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A2E-0317-4C3B-9C24-C3951A3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-284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930-8E00-4954-9FDC-470C616DD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Segoe Script"/>
              </a:rPr>
              <a:t>Учимся по программе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Segoe Script"/>
              </a:rPr>
              <a:t>«Школа 2100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95288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76"/>
          <p:cNvGrpSpPr/>
          <p:nvPr/>
        </p:nvGrpSpPr>
        <p:grpSpPr>
          <a:xfrm>
            <a:off x="1143000" y="380880"/>
            <a:ext cx="2742480" cy="1587240"/>
            <a:chOff x="1143000" y="380880"/>
            <a:chExt cx="2742480" cy="1587240"/>
          </a:xfrm>
        </p:grpSpPr>
        <p:sp>
          <p:nvSpPr>
            <p:cNvPr id="44" name="Freeform 414"/>
            <p:cNvSpPr/>
            <p:nvPr/>
          </p:nvSpPr>
          <p:spPr>
            <a:xfrm>
              <a:off x="1315440" y="487080"/>
              <a:ext cx="1753200" cy="1360080"/>
            </a:xfrm>
            <a:prstGeom prst="pie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16"/>
            <p:cNvSpPr/>
            <p:nvPr/>
          </p:nvSpPr>
          <p:spPr>
            <a:xfrm>
              <a:off x="1143000" y="489960"/>
              <a:ext cx="816840" cy="47376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17"/>
            <p:cNvSpPr/>
            <p:nvPr/>
          </p:nvSpPr>
          <p:spPr>
            <a:xfrm>
              <a:off x="1315440" y="1917000"/>
              <a:ext cx="1753200" cy="51120"/>
            </a:xfrm>
            <a:prstGeom prst="rect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19"/>
            <p:cNvSpPr/>
            <p:nvPr/>
          </p:nvSpPr>
          <p:spPr>
            <a:xfrm>
              <a:off x="2431800" y="496800"/>
              <a:ext cx="806400" cy="47160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20"/>
            <p:cNvSpPr/>
            <p:nvPr/>
          </p:nvSpPr>
          <p:spPr>
            <a:xfrm>
              <a:off x="2000160" y="1210680"/>
              <a:ext cx="395640" cy="63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22"/>
            <p:cNvSpPr/>
            <p:nvPr/>
          </p:nvSpPr>
          <p:spPr>
            <a:xfrm>
              <a:off x="1868400" y="1089720"/>
              <a:ext cx="1980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23"/>
            <p:cNvSpPr/>
            <p:nvPr/>
          </p:nvSpPr>
          <p:spPr>
            <a:xfrm>
              <a:off x="1521000" y="1089720"/>
              <a:ext cx="3578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24"/>
            <p:cNvSpPr/>
            <p:nvPr/>
          </p:nvSpPr>
          <p:spPr>
            <a:xfrm>
              <a:off x="1521000" y="1096560"/>
              <a:ext cx="1764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25"/>
            <p:cNvSpPr/>
            <p:nvPr/>
          </p:nvSpPr>
          <p:spPr>
            <a:xfrm>
              <a:off x="1528200" y="1596600"/>
              <a:ext cx="3600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26"/>
            <p:cNvSpPr/>
            <p:nvPr/>
          </p:nvSpPr>
          <p:spPr>
            <a:xfrm>
              <a:off x="1530720" y="1238400"/>
              <a:ext cx="345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27"/>
            <p:cNvSpPr/>
            <p:nvPr/>
          </p:nvSpPr>
          <p:spPr>
            <a:xfrm>
              <a:off x="1530720" y="1422000"/>
              <a:ext cx="345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28"/>
            <p:cNvSpPr/>
            <p:nvPr/>
          </p:nvSpPr>
          <p:spPr>
            <a:xfrm>
              <a:off x="1688400" y="1105560"/>
              <a:ext cx="1980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29"/>
            <p:cNvSpPr/>
            <p:nvPr/>
          </p:nvSpPr>
          <p:spPr>
            <a:xfrm>
              <a:off x="2847600" y="1089720"/>
              <a:ext cx="1764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30"/>
            <p:cNvSpPr/>
            <p:nvPr/>
          </p:nvSpPr>
          <p:spPr>
            <a:xfrm>
              <a:off x="2500200" y="1089720"/>
              <a:ext cx="3578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1"/>
            <p:cNvSpPr/>
            <p:nvPr/>
          </p:nvSpPr>
          <p:spPr>
            <a:xfrm>
              <a:off x="2500200" y="1096560"/>
              <a:ext cx="1764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32"/>
            <p:cNvSpPr/>
            <p:nvPr/>
          </p:nvSpPr>
          <p:spPr>
            <a:xfrm>
              <a:off x="2510640" y="1596600"/>
              <a:ext cx="354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33"/>
            <p:cNvSpPr/>
            <p:nvPr/>
          </p:nvSpPr>
          <p:spPr>
            <a:xfrm>
              <a:off x="2515320" y="1238400"/>
              <a:ext cx="3376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34"/>
            <p:cNvSpPr/>
            <p:nvPr/>
          </p:nvSpPr>
          <p:spPr>
            <a:xfrm>
              <a:off x="2515320" y="1422000"/>
              <a:ext cx="3376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35"/>
            <p:cNvSpPr/>
            <p:nvPr/>
          </p:nvSpPr>
          <p:spPr>
            <a:xfrm>
              <a:off x="2667600" y="1105560"/>
              <a:ext cx="1980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39"/>
            <p:cNvSpPr/>
            <p:nvPr/>
          </p:nvSpPr>
          <p:spPr>
            <a:xfrm>
              <a:off x="2381040" y="1073520"/>
              <a:ext cx="1764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40"/>
            <p:cNvSpPr/>
            <p:nvPr/>
          </p:nvSpPr>
          <p:spPr>
            <a:xfrm>
              <a:off x="2000160" y="927000"/>
              <a:ext cx="39852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441"/>
            <p:cNvSpPr/>
            <p:nvPr/>
          </p:nvSpPr>
          <p:spPr>
            <a:xfrm>
              <a:off x="2000160" y="1073520"/>
              <a:ext cx="17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2"/>
            <p:cNvSpPr/>
            <p:nvPr/>
          </p:nvSpPr>
          <p:spPr>
            <a:xfrm>
              <a:off x="2010600" y="1094040"/>
              <a:ext cx="3880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43"/>
            <p:cNvSpPr/>
            <p:nvPr/>
          </p:nvSpPr>
          <p:spPr>
            <a:xfrm>
              <a:off x="2193120" y="936000"/>
              <a:ext cx="1764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44"/>
            <p:cNvSpPr/>
            <p:nvPr/>
          </p:nvSpPr>
          <p:spPr>
            <a:xfrm>
              <a:off x="2196000" y="975240"/>
              <a:ext cx="15696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45"/>
            <p:cNvSpPr/>
            <p:nvPr/>
          </p:nvSpPr>
          <p:spPr>
            <a:xfrm>
              <a:off x="2055960" y="973440"/>
              <a:ext cx="152280" cy="13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47"/>
            <p:cNvSpPr/>
            <p:nvPr/>
          </p:nvSpPr>
          <p:spPr>
            <a:xfrm>
              <a:off x="2048400" y="380880"/>
              <a:ext cx="167400" cy="1112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48"/>
            <p:cNvSpPr/>
            <p:nvPr/>
          </p:nvSpPr>
          <p:spPr>
            <a:xfrm>
              <a:off x="2774160" y="959400"/>
              <a:ext cx="235800" cy="232200"/>
            </a:xfrm>
            <a:prstGeom prst="pie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53"/>
            <p:cNvSpPr/>
            <p:nvPr/>
          </p:nvSpPr>
          <p:spPr>
            <a:xfrm>
              <a:off x="3144600" y="1082520"/>
              <a:ext cx="106200" cy="1605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54"/>
            <p:cNvSpPr/>
            <p:nvPr/>
          </p:nvSpPr>
          <p:spPr>
            <a:xfrm>
              <a:off x="1614600" y="1159560"/>
              <a:ext cx="215640" cy="1159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59"/>
            <p:cNvSpPr/>
            <p:nvPr/>
          </p:nvSpPr>
          <p:spPr>
            <a:xfrm>
              <a:off x="1784520" y="1670760"/>
              <a:ext cx="190440" cy="1695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60"/>
            <p:cNvSpPr/>
            <p:nvPr/>
          </p:nvSpPr>
          <p:spPr>
            <a:xfrm>
              <a:off x="1868400" y="664200"/>
              <a:ext cx="203040" cy="259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62"/>
            <p:cNvSpPr/>
            <p:nvPr/>
          </p:nvSpPr>
          <p:spPr>
            <a:xfrm>
              <a:off x="2350440" y="643320"/>
              <a:ext cx="200160" cy="925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64"/>
            <p:cNvSpPr/>
            <p:nvPr/>
          </p:nvSpPr>
          <p:spPr>
            <a:xfrm>
              <a:off x="3684960" y="1580040"/>
              <a:ext cx="93600" cy="81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65"/>
            <p:cNvSpPr/>
            <p:nvPr/>
          </p:nvSpPr>
          <p:spPr>
            <a:xfrm>
              <a:off x="3489840" y="1608120"/>
              <a:ext cx="39564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66"/>
            <p:cNvSpPr/>
            <p:nvPr/>
          </p:nvSpPr>
          <p:spPr>
            <a:xfrm>
              <a:off x="2896200" y="1491480"/>
              <a:ext cx="304200" cy="37872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67"/>
            <p:cNvSpPr/>
            <p:nvPr/>
          </p:nvSpPr>
          <p:spPr>
            <a:xfrm>
              <a:off x="2916360" y="1589760"/>
              <a:ext cx="167400" cy="90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68"/>
            <p:cNvSpPr/>
            <p:nvPr/>
          </p:nvSpPr>
          <p:spPr>
            <a:xfrm>
              <a:off x="3246120" y="1491480"/>
              <a:ext cx="304920" cy="3816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9"/>
            <p:cNvSpPr/>
            <p:nvPr/>
          </p:nvSpPr>
          <p:spPr>
            <a:xfrm>
              <a:off x="3396240" y="1619640"/>
              <a:ext cx="52920" cy="558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0"/>
            <p:cNvSpPr/>
            <p:nvPr/>
          </p:nvSpPr>
          <p:spPr>
            <a:xfrm>
              <a:off x="3241440" y="1575360"/>
              <a:ext cx="129240" cy="144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71"/>
            <p:cNvSpPr/>
            <p:nvPr/>
          </p:nvSpPr>
          <p:spPr>
            <a:xfrm>
              <a:off x="2541240" y="1542600"/>
              <a:ext cx="27900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2"/>
            <p:cNvSpPr/>
            <p:nvPr/>
          </p:nvSpPr>
          <p:spPr>
            <a:xfrm>
              <a:off x="2480040" y="1635840"/>
              <a:ext cx="149400" cy="788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3"/>
            <p:cNvSpPr/>
            <p:nvPr/>
          </p:nvSpPr>
          <p:spPr>
            <a:xfrm>
              <a:off x="1982520" y="1291680"/>
              <a:ext cx="479880" cy="567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74"/>
            <p:cNvSpPr/>
            <p:nvPr/>
          </p:nvSpPr>
          <p:spPr>
            <a:xfrm flipV="1">
              <a:off x="1825200" y="424440"/>
              <a:ext cx="36504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75"/>
            <p:cNvSpPr/>
            <p:nvPr/>
          </p:nvSpPr>
          <p:spPr>
            <a:xfrm flipH="1" flipV="1">
              <a:off x="2190600" y="424440"/>
              <a:ext cx="24336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2"/>
          <p:cNvGrpSpPr/>
          <p:nvPr/>
        </p:nvGrpSpPr>
        <p:grpSpPr>
          <a:xfrm>
            <a:off x="6286680" y="5072040"/>
            <a:ext cx="2590200" cy="1452600"/>
            <a:chOff x="6286680" y="5072040"/>
            <a:chExt cx="2590200" cy="1452600"/>
          </a:xfrm>
        </p:grpSpPr>
        <p:pic>
          <p:nvPicPr>
            <p:cNvPr id="90" name="Picture 91" descr="BS00554_"/>
            <p:cNvPicPr/>
            <p:nvPr/>
          </p:nvPicPr>
          <p:blipFill>
            <a:blip r:embed="rId1"/>
            <a:stretch/>
          </p:blipFill>
          <p:spPr>
            <a:xfrm>
              <a:off x="7862760" y="5072040"/>
              <a:ext cx="1014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9" descr="BS00554_"/>
            <p:cNvPicPr/>
            <p:nvPr/>
          </p:nvPicPr>
          <p:blipFill>
            <a:blip r:embed="rId2"/>
            <a:stretch/>
          </p:blipFill>
          <p:spPr>
            <a:xfrm>
              <a:off x="6286680" y="5224680"/>
              <a:ext cx="1014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0" descr="BS00554_"/>
            <p:cNvPicPr/>
            <p:nvPr/>
          </p:nvPicPr>
          <p:blipFill>
            <a:blip r:embed="rId3"/>
            <a:stretch/>
          </p:blipFill>
          <p:spPr>
            <a:xfrm>
              <a:off x="7124760" y="5453280"/>
              <a:ext cx="10137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c00000"/>
                </a:solidFill>
                <a:latin typeface="Arial"/>
              </a:rPr>
              <a:t>Английский язык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5000"/>
          </a:bodyPr>
          <a:p>
            <a:pPr marL="212760" indent="-21276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.Н.Верещагина, Т.А. Притык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agesCA2ZVZIW"/>
          <p:cNvPicPr/>
          <p:nvPr/>
        </p:nvPicPr>
        <p:blipFill>
          <a:blip r:embed="rId1"/>
          <a:stretch/>
        </p:blipFill>
        <p:spPr>
          <a:xfrm>
            <a:off x="3124080" y="20574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imagesCAJ5QQKP"/>
          <p:cNvPicPr/>
          <p:nvPr/>
        </p:nvPicPr>
        <p:blipFill>
          <a:blip r:embed="rId2"/>
          <a:stretch/>
        </p:blipFill>
        <p:spPr>
          <a:xfrm>
            <a:off x="1295280" y="1752480"/>
            <a:ext cx="1895760" cy="2419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ANd9GcQp-grReOKfW1wmCz7d0cGP6udvvfMGUz09wXnp25Y3JhMOv34K"/>
          <p:cNvPicPr/>
          <p:nvPr/>
        </p:nvPicPr>
        <p:blipFill>
          <a:blip r:embed="rId3"/>
          <a:stretch/>
        </p:blipFill>
        <p:spPr>
          <a:xfrm>
            <a:off x="5638680" y="1676520"/>
            <a:ext cx="1857600" cy="245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ANd9GcRTZDe_rV8oQA-8PVFF0uBVQLDBSicGy4HkcjQDdlzTae_D_hFqKg"/>
          <p:cNvPicPr/>
          <p:nvPr/>
        </p:nvPicPr>
        <p:blipFill>
          <a:blip r:embed="rId4"/>
          <a:stretch/>
        </p:blipFill>
        <p:spPr>
          <a:xfrm>
            <a:off x="6781680" y="3429000"/>
            <a:ext cx="186696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ANd9GcQsj01wTl5AiD6R_WVsafB2Wjp6GNELYDfC1jGuYhgFWFwb6FgvXA"/>
          <p:cNvPicPr/>
          <p:nvPr/>
        </p:nvPicPr>
        <p:blipFill>
          <a:blip r:embed="rId5"/>
          <a:stretch/>
        </p:blipFill>
        <p:spPr>
          <a:xfrm>
            <a:off x="1447920" y="4572000"/>
            <a:ext cx="2133360" cy="174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ANd9GcTuppYahRoeUIRGvQXRMyk-4CQ-w62ZRd2UtghU5fjJ0T_aAQwR3w"/>
          <p:cNvPicPr/>
          <p:nvPr/>
        </p:nvPicPr>
        <p:blipFill>
          <a:blip r:embed="rId6"/>
          <a:stretch/>
        </p:blipFill>
        <p:spPr>
          <a:xfrm>
            <a:off x="5105520" y="4343400"/>
            <a:ext cx="152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914400" y="38088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«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В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  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информационн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о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обществе главными стали не знания, а умения ими пользоваться!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5720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34320" cy="797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Arial"/>
              </a:rPr>
              <a:t>Что же означает название?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505320"/>
            <a:ext cx="4952880" cy="1109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Arial"/>
              </a:rPr>
              <a:t>Век, в котором мы жив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867280" y="350532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Arial"/>
              </a:rPr>
              <a:t>Бесконечнос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14400" y="4800600"/>
            <a:ext cx="792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Живем в настоящем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готовя будущее!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066680" y="1066680"/>
            <a:ext cx="7543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</a:rPr>
              <a:t>Школа </a:t>
            </a:r>
            <a:r>
              <a:rPr b="1" lang="ru-RU" sz="8000" spc="-1" strike="noStrike">
                <a:solidFill>
                  <a:srgbClr val="00b050"/>
                </a:solidFill>
                <a:latin typeface="Arial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635280" y="1066680"/>
            <a:ext cx="475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095880" y="-252360"/>
            <a:ext cx="3048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800" spc="-1" strike="noStrike">
                <a:solidFill>
                  <a:srgbClr val="00b050"/>
                </a:solidFill>
                <a:latin typeface="Arial"/>
                <a:ea typeface="Arial"/>
              </a:rPr>
              <a:t>∞</a:t>
            </a:r>
            <a:endParaRPr b="0" lang="en-US" sz="2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>
            <a:off x="4572000" y="2438280"/>
            <a:ext cx="129528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6934320" y="2438280"/>
            <a:ext cx="79200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66320" y="457200"/>
            <a:ext cx="7162920" cy="6019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Школа 2100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—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щероссийская общественная программа</a:t>
            </a:r>
            <a:r>
              <a:rPr b="0" lang="en-US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я общего среднего образования, охватывающая массовые</a:t>
            </a:r>
            <a:r>
              <a:rPr b="0" lang="en-US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щеобразовательные учреждения (школы) и различные формы дополнительного образова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Данная программа</a:t>
            </a:r>
            <a:r>
              <a:rPr b="0" lang="ru-RU" sz="2300" spc="-1" strike="noStrike">
                <a:solidFill>
                  <a:srgbClr val="0c1c1d"/>
                </a:solidFill>
                <a:latin typeface="Arial"/>
                <a:ea typeface="Calibri"/>
              </a:rPr>
              <a:t> полностью соответствует ФГОС (новым федеральным государственным образовательным стандартам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 </a:t>
            </a: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помогает сегодняшним школьникам вырасти людьми, максимально подготовленными к сложной современной жизни. Научить их не выживать, а становиться самими собой: раскрывать свои способности, реализовывать свой потенциал, занимать своё достойное место в обществ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s1XZSiFVRBMETj6HpUHUQYF_ejfGhCEGEt-CHDQEqLv9yQoEhPg"/>
          <p:cNvPicPr/>
          <p:nvPr/>
        </p:nvPicPr>
        <p:blipFill>
          <a:blip r:embed="rId1"/>
          <a:stretch/>
        </p:blipFill>
        <p:spPr>
          <a:xfrm>
            <a:off x="6095880" y="5715000"/>
            <a:ext cx="27432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676520" y="-3113640"/>
            <a:ext cx="6157800" cy="9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О программе «Школа 2100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9966"/>
                </a:solidFill>
                <a:uFillTx/>
                <a:latin typeface="Arial Black"/>
                <a:ea typeface="Times New Roman"/>
              </a:rPr>
              <a:t>Главная цель «Школы 2100»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научить ребенка самостоятельно учить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организовывать свою деятельность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добывать необходимые знания, анализировать , систематизировать и применять их на практик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ставить перед собой цели и добиваться их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адекватно оценивать свою деятельнос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ru-RU" sz="3700" spc="-1" strike="noStrike">
                <a:solidFill>
                  <a:srgbClr val="224b50"/>
                </a:solidFill>
                <a:latin typeface="Segoe Script"/>
                <a:ea typeface="Cordia New"/>
              </a:rPr>
              <a:t>Учебники программы</a:t>
            </a:r>
            <a:br>
              <a:rPr sz="3700"/>
            </a:br>
            <a:r>
              <a:rPr b="1" lang="ru-RU" sz="3700" spc="-1" strike="noStrike">
                <a:solidFill>
                  <a:srgbClr val="224b50"/>
                </a:solidFill>
                <a:latin typeface="Segoe Script"/>
                <a:ea typeface="Cordia New"/>
              </a:rPr>
              <a:t>«Школа 2100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307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4klass"/>
          <p:cNvPicPr/>
          <p:nvPr/>
        </p:nvPicPr>
        <p:blipFill>
          <a:blip r:embed="rId2"/>
          <a:stretch/>
        </p:blipFill>
        <p:spPr>
          <a:xfrm>
            <a:off x="2057400" y="2117880"/>
            <a:ext cx="56386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ОБУЧЕНИЕ ГРАМОТ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3" descr="76665_1.jpg"/>
          <p:cNvPicPr/>
          <p:nvPr/>
        </p:nvPicPr>
        <p:blipFill>
          <a:blip r:embed="rId1"/>
          <a:stretch/>
        </p:blipFill>
        <p:spPr>
          <a:xfrm>
            <a:off x="5562720" y="106668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Мои Документы\Desktop\Новая папка\714576.jpg"/>
          <p:cNvPicPr/>
          <p:nvPr/>
        </p:nvPicPr>
        <p:blipFill>
          <a:blip r:embed="rId2"/>
          <a:stretch/>
        </p:blipFill>
        <p:spPr>
          <a:xfrm>
            <a:off x="1066680" y="3429000"/>
            <a:ext cx="3048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371600" y="1752480"/>
            <a:ext cx="403848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укварь.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неев Р.Н., Бунеева Е.В.,  Пронина О.В.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 flipV="1" rot="10800000">
            <a:off x="4648320" y="447084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писи «Мои волшебные пальч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неев Р.Н., Бунеева Е.В.,  Пронина О.В. 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Русский язык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-284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  Бунеев Р.Н., Бунеева Е.В., Пронина О.В. 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D:\Мои Документы\Desktop\Новая папка\p1394340.jpg"/>
          <p:cNvPicPr/>
          <p:nvPr/>
        </p:nvPicPr>
        <p:blipFill>
          <a:blip r:embed="rId1"/>
          <a:stretch/>
        </p:blipFill>
        <p:spPr>
          <a:xfrm>
            <a:off x="5334120" y="182880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:\Мои Документы\Desktop\Новая папка\8866-249213-4-obl-l.jpg"/>
          <p:cNvPicPr/>
          <p:nvPr/>
        </p:nvPicPr>
        <p:blipFill>
          <a:blip r:embed="rId2"/>
          <a:stretch/>
        </p:blipFill>
        <p:spPr>
          <a:xfrm>
            <a:off x="1371600" y="3581280"/>
            <a:ext cx="2590920" cy="2914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1371600" y="1981080"/>
            <a:ext cx="38098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ебник «Русский язы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(первые уро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 flipV="1" rot="10800000">
            <a:off x="4114800" y="5020200"/>
            <a:ext cx="457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бочая тетрадь по русскому языку для 1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Литературное чтени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5000"/>
          </a:bodyPr>
          <a:p>
            <a:pPr marL="269640" indent="-2696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  Бунеев Р.Н., Бунеева Е.В., Пронина О.В. 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Мои Документы\Desktop\Новая папка\650434.jpg"/>
          <p:cNvPicPr/>
          <p:nvPr/>
        </p:nvPicPr>
        <p:blipFill>
          <a:blip r:embed="rId1"/>
          <a:stretch/>
        </p:blipFill>
        <p:spPr>
          <a:xfrm>
            <a:off x="5410080" y="1828800"/>
            <a:ext cx="24386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Мои Документы\Desktop\Новая папка\558084.jpg"/>
          <p:cNvPicPr/>
          <p:nvPr/>
        </p:nvPicPr>
        <p:blipFill>
          <a:blip r:embed="rId2"/>
          <a:stretch/>
        </p:blipFill>
        <p:spPr>
          <a:xfrm>
            <a:off x="1905120" y="365760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 flipV="1" rot="10800000">
            <a:off x="4419720" y="5263920"/>
            <a:ext cx="4038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бочая тетрадь по литературному чт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447920" y="2057400"/>
            <a:ext cx="37335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Литературное чтение «Капельки солн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Математи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685800" y="4572000"/>
            <a:ext cx="64771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бник - тетрадь в 4 – ёх част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рольные и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ы к учеб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.Г.Пет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 flipV="1" rot="10800000">
            <a:off x="3200400" y="1905120"/>
            <a:ext cx="45720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2286000" y="2967120"/>
            <a:ext cx="2743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peterson_perspektiva"/>
          <p:cNvPicPr/>
          <p:nvPr/>
        </p:nvPicPr>
        <p:blipFill>
          <a:blip r:embed="rId1"/>
          <a:stretch/>
        </p:blipFill>
        <p:spPr>
          <a:xfrm>
            <a:off x="2057400" y="1295280"/>
            <a:ext cx="5391000" cy="276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images"/>
          <p:cNvPicPr/>
          <p:nvPr/>
        </p:nvPicPr>
        <p:blipFill>
          <a:blip r:embed="rId2"/>
          <a:stretch/>
        </p:blipFill>
        <p:spPr>
          <a:xfrm>
            <a:off x="6400800" y="4191120"/>
            <a:ext cx="175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оничка</dc:creator>
  <dc:description/>
  <dc:language>en-US</dc:language>
  <cp:lastModifiedBy>HP</cp:lastModifiedBy>
  <dcterms:modified xsi:type="dcterms:W3CDTF">2012-02-25T22:18:47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