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A69D-BCBF-4093-8F1C-AD853FCB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E310-FCA6-46FB-93A1-7D033ECA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BE0FF-F1D5-4D70-B4C6-35F614A8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2EDA9-455C-4BDA-857D-69569D09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48D79-ABDA-4D8D-BD99-C9F024C7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45B9D-32C8-4523-9FB0-000EDF30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A1044-A9B0-4A1C-B517-CFD1898C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4099E-C6BE-4E8B-9E88-BA34C3E9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8D6A1-64F8-4CF6-A7C8-F353FC58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9B62A-E193-46B2-815B-3207500B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BE940-B85D-4FA4-9854-FC8B217B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996F2-27FD-448D-B4FA-8499431B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887-83C1-4220-8D59-C1AC47D0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E9943-DF2A-40A7-B2E6-7334C327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F6BDB-47C9-4336-9004-775A8696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765E3-43C7-4B24-94EA-53A08A1C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FFA02-6112-4F0B-978B-09BE53A5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553E8-DED7-4318-9FAC-736E6566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A318B-EE3E-4390-A6C8-F1FA24F2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C032F-C41C-489E-BA75-792922F2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6D738-31BC-4939-84EC-95316AFC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0418E-A7F0-44D2-864A-D67A7D7D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F005F-215E-4981-B5F2-95D8B1EA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947-3762-4DF8-A18B-8CE4AFBD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F5281-F684-4B4A-9048-FD0981CE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7605E-0723-4B4B-AD9E-16B65144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B47C1-DF60-455E-966B-F53ED32C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83BA8-19F8-4CF3-A571-B817B523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949C7-F5B4-4C48-99A7-C78A61D3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3F55E-C076-49F9-B2C4-29D492BF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55435-E3BE-4633-9CD4-16AEFE5F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BA8F1-C8C5-45B7-A0CB-8FC42A80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5B4EF-7A04-4966-A496-4EE91B0E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6885D-6972-4A38-A645-014C489B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169C-169F-4E09-8B08-9C839852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187C2-D0AE-4399-B4B5-5AD5562D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FFA38-62FA-4F6F-957B-6E5A0248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D20EA-8061-49B7-BDA9-3DBABBDC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9DB44-5C99-45A7-9F83-2E08485A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DC959-7F42-4D05-A422-5F4DB1C7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27DF6-7CB1-44D1-9A37-4313CA59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B0CE2-3688-478E-B291-2038196B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60538-9522-439B-8F66-A2BB2A3C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E3D39-734D-480A-81E3-4DB7FD82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439EB-BFA5-4BA1-882B-48892A7F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2A84-7D49-4CF8-AEDF-C98198A5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4D90A-18A1-4DA2-9710-9290FB02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F5EE2-AECA-47BD-B237-ED097705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DFE8A-4074-44F7-A85A-68285630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65270-E93D-4FF4-A997-5BB6FFA3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C2062-C51F-4317-B641-028F967E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067A-1E67-4B03-A775-190506EF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34F1-E017-4064-99D1-52F553D9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A540-71DD-44E9-A81B-DE682A02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0E25-CC74-4BDA-B8E9-4945BE0B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AAD4-D381-4D74-BC63-CF215CEE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7344-0CE9-4B80-BFFA-24B2957D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A40A-AA15-4248-BF7A-B78F4E55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4A6C-01C6-4860-807B-F9841B6B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A78B-67BE-4F21-A81B-E379CFF4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A4AC-B412-427F-8A1A-B9DBCACA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9F53-A462-4CE6-AF97-CA2EE739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D8BDA-1630-4C46-AB3F-30ED6A03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F00D0-2526-4FFC-BC3C-852FAF1E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4A666-03EA-4D80-8950-06D8712C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95261-3B0E-4F4F-BBA5-87875A37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128C3-656D-4DE5-B62B-517B2DF3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FED3-A279-4DA5-B081-D6C114BA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AD895-FD89-4073-AC92-4A8DCE5B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87151-CCB3-4F6C-A9F7-7B6F3741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F900D-5E4D-44FB-A65D-0587CFED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DB5D7-E52C-4B5B-950C-AA671D03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0CBBB-8B03-4835-99B1-B4D15A71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FF01D-6FA9-4C6F-B0F9-4C1753A9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9016F-E3E7-4531-8D3C-20140004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9A425-4C24-4179-8B6A-A190E41D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67F9D-39FF-4439-9CB1-5B381932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5CE9C-4FB8-4B5D-ABB4-16B82BCE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FED-BD80-49AE-AC57-AFDF59C3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791AF-CC5B-4D18-9318-9344C978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951AE-CE02-4FC2-9919-FA7FA130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49458-0857-44C8-B6E3-605BE6A9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D751E-FDE4-449F-8B9C-EBDD2CAE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983D3-BCCC-42E6-BBB3-CC0976DB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C9244-C587-4403-B1DF-4FFA09D7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22777-FEA1-4321-A268-1BFA923E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D15FD-99BF-4613-A65C-0EC5402B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7B495-27A2-46B7-9A11-889E740D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35AD0-122F-4EA2-A886-AA3C0197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BF13-C13E-401D-B905-B11BA802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E340E-5841-4CC5-912E-33E95EB1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D2F68-32FF-4ABB-83E7-17C9E95F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D5E22-02B7-4539-B8C9-721DE150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1A12D-8E79-4863-8282-98A9429C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58B0D-1D7A-4C21-B30E-BD6A7614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934C1-2FC6-4017-BADB-90D6A1E0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E2B79-62F2-4C62-9A5C-3233530D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519CD-ED4D-4CA8-84CB-820E0FF3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20D40-F8AC-420A-84D1-1237871D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88DC8-EF30-45CE-B14B-B4087CF4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E236-38DF-4421-9DBC-ABC8C9D8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E2F94-7BC6-4E5D-95FA-15FD50AB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3E350-9354-4948-9497-50747FA2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37152-13A2-4237-AFDC-69C678CD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BDF5E-FD17-4BEC-A881-E4253845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6273E-224D-4E70-9742-9841A047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5F321-6AB1-40AB-803D-689D5FA9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6E768-6F8D-46BD-8C28-40BF98C3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9E9CA-7B0A-4DE6-9B02-4D412E68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6A8D5-BC01-45D9-9827-42D2B383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FE391-578F-4C95-B784-4096B8CA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B3D-EEFE-44A8-9B54-D3F7C0A0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B3A75-D680-4439-89F5-7349C832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12F1D-2137-4BF4-97FF-F10CDD6E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F3457-F7FC-46BD-B33E-2ABC02F6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DDA16-9059-4829-935B-43AF69DE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9C6BA-8834-4C5D-AC80-8E48AF9E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0552C-5595-43CA-B448-3BC81F37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E1607-DA92-490E-8A9B-C2B559D0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0D6E1-375D-4B33-83D1-852910B6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B23E0-8FB5-4199-AB38-A64DBFCC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03437-E3D3-42F6-B755-AB490EAE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3F6D-F660-4DBA-9A74-FEC5FC02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1C280-A139-4820-98F1-F01C0B5E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D4014-978A-4451-B353-87C28E54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A3D94-2930-4FDC-A205-1FCAA950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4855D-72FB-4A5D-B40A-249949BF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BF060-2EE5-49E4-B0DE-5A419877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4DBFA-D2DD-4125-BC4C-51C5A677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2A6F2-3ABA-4FE0-B182-97B3EA5E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881FA-669E-4812-A125-7AD6C1B2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F8D5E-F9C8-4C06-9E92-88A39A3C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355E3-FA30-4C54-8FCC-839E0BC6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5B2-F0CC-47F3-9E1F-A69993E6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CEF07-0A47-4929-B819-DD29BC2D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9A6B1-04C5-4950-9708-72EA8F81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8E0E9-4F87-4ED5-8D98-A422AE48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E9158-2A0C-4266-BE57-A5F686E3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8573A-BFCE-41E9-A34A-2126E702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A5012-B988-4879-8183-B15BEDE0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7356C-2FDE-4E99-A333-696638FD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88C55-14F8-496A-9635-FCC3C3F7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9FA60-20B8-4C4B-A0D1-E9ADDE18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5D241-4BA8-4ADF-9BFA-9857C499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AD8B-FBC2-4B75-98A8-D8938C0E1B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868B-5C87-4D9A-A722-37EEE7BB94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B603-5451-4232-8C8E-3B8E269CAE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15C1-8C9D-4F2E-884A-DA3D9B256A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390D-C0EE-4DE8-B6FA-96F113E4B3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7A50-BC0D-4CCC-8608-D7D5D92EA4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6606-1304-413D-9244-2FFBD92E14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1EC0-A7F2-4C6C-B713-7354046588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AC80-63F7-4C95-8E45-5D31D3E2AD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7C5B-5728-4980-9620-24061AE194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F97E-242D-4D97-811E-326E6F1424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0D73-4F39-4BDD-BAF4-996C8C4034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ыявление уровня загрязненности рек природного парка «Щербаковский»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 помощью метода биоиндик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2"/>
          <p:cNvSpPr/>
          <p:nvPr/>
        </p:nvSpPr>
        <p:spPr>
          <a:xfrm>
            <a:off x="1209600" y="115920"/>
            <a:ext cx="676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имназия №3 Центрального райо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Волгогр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"/>
          <p:cNvSpPr/>
          <p:nvPr/>
        </p:nvSpPr>
        <p:spPr>
          <a:xfrm>
            <a:off x="6804000" y="3573360"/>
            <a:ext cx="21956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у выполни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к 10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имназии 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м Дани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елов Владимир Павлович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рший научный сотрудник ВНИИОР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тефанова Татьяна Георги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" descr="G:\Щербаковка, июнь2011\Щербаковка, июнь 2011\Щербаковка\Поход\S6301268.JPG"/>
          <p:cNvPicPr/>
          <p:nvPr/>
        </p:nvPicPr>
        <p:blipFill>
          <a:blip r:embed="rId2"/>
          <a:stretch/>
        </p:blipFill>
        <p:spPr>
          <a:xfrm>
            <a:off x="5310360" y="549360"/>
            <a:ext cx="3671640" cy="4895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" descr="G:\Щербаковка, июнь2011\Щербаковка, июнь 2011\Щербаковка\Поход\S6301282.JPG"/>
          <p:cNvPicPr/>
          <p:nvPr/>
        </p:nvPicPr>
        <p:blipFill>
          <a:blip r:embed="rId3"/>
          <a:stretch/>
        </p:blipFill>
        <p:spPr>
          <a:xfrm>
            <a:off x="324000" y="241200"/>
            <a:ext cx="4464000" cy="28321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G:\Щербаковка, июнь2011\Щербаковка, июнь 2011\Щербаковка\IMG_1793.jpg"/>
          <p:cNvPicPr/>
          <p:nvPr/>
        </p:nvPicPr>
        <p:blipFill>
          <a:blip r:embed="rId4"/>
          <a:stretch/>
        </p:blipFill>
        <p:spPr>
          <a:xfrm>
            <a:off x="250920" y="3213000"/>
            <a:ext cx="47322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4" name=""/>
          <p:cNvGraphicFramePr/>
          <p:nvPr/>
        </p:nvGraphicFramePr>
        <p:xfrm>
          <a:off x="0" y="0"/>
          <a:ext cx="9144000" cy="6816600"/>
        </p:xfrm>
        <a:graphic>
          <a:graphicData uri="http://schemas.openxmlformats.org/drawingml/2006/table">
            <a:tbl>
              <a:tblPr/>
              <a:tblGrid>
                <a:gridCol w="3059280"/>
                <a:gridCol w="1657080"/>
                <a:gridCol w="576360"/>
                <a:gridCol w="647640"/>
                <a:gridCol w="719280"/>
                <a:gridCol w="792000"/>
                <a:gridCol w="865440"/>
                <a:gridCol w="826920"/>
              </a:tblGrid>
              <a:tr h="627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ли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идов-индикат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-во видов индикат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щее количество присутствующих групп бентосных организ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1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6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мфы веснянок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lec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1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мфы поденок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phemer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ичинки ручей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rich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окоплав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одяной осл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sellus aquatic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лигохеты или Личинки звонц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тсутствует вс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званные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8"/>
          <p:cNvSpPr/>
          <p:nvPr/>
        </p:nvSpPr>
        <p:spPr>
          <a:xfrm>
            <a:off x="395280" y="33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0" y="1503360"/>
          <a:ext cx="9109080" cy="5165640"/>
        </p:xfrm>
        <a:graphic>
          <a:graphicData uri="http://schemas.openxmlformats.org/drawingml/2006/table">
            <a:tbl>
              <a:tblPr/>
              <a:tblGrid>
                <a:gridCol w="1260360"/>
                <a:gridCol w="1440000"/>
                <a:gridCol w="1008000"/>
                <a:gridCol w="936720"/>
                <a:gridCol w="934920"/>
                <a:gridCol w="787320"/>
                <a:gridCol w="1333800"/>
                <a:gridCol w="1407960"/>
              </a:tblGrid>
              <a:tr h="172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меряемый учас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корость те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и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луб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мп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зрач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анил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5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м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алька, пес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7+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зрачная, чис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бри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5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.5 м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 м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5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5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12+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ут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Щербак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5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м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альк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с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8+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зрачная, чис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Rectangle 12"/>
          <p:cNvSpPr/>
          <p:nvPr/>
        </p:nvSpPr>
        <p:spPr>
          <a:xfrm>
            <a:off x="1172160" y="338760"/>
            <a:ext cx="564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следуемые учас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довой и количественный состав гидробион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36" descr=""/>
          <p:cNvPicPr/>
          <p:nvPr/>
        </p:nvPicPr>
        <p:blipFill>
          <a:blip r:embed="rId2"/>
          <a:stretch/>
        </p:blipFill>
        <p:spPr>
          <a:xfrm>
            <a:off x="468360" y="455760"/>
            <a:ext cx="820728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4" name=""/>
          <p:cNvGraphicFramePr/>
          <p:nvPr/>
        </p:nvGraphicFramePr>
        <p:xfrm>
          <a:off x="0" y="41400"/>
          <a:ext cx="9144000" cy="6816600"/>
        </p:xfrm>
        <a:graphic>
          <a:graphicData uri="http://schemas.openxmlformats.org/drawingml/2006/table">
            <a:tbl>
              <a:tblPr/>
              <a:tblGrid>
                <a:gridCol w="3059280"/>
                <a:gridCol w="1657080"/>
                <a:gridCol w="576360"/>
                <a:gridCol w="647640"/>
                <a:gridCol w="719280"/>
                <a:gridCol w="792000"/>
                <a:gridCol w="865440"/>
                <a:gridCol w="826920"/>
              </a:tblGrid>
              <a:tr h="62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ли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идов-индикат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-во видов индикат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щее количество присутствующих групп бентосных организ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1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6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мфы веснянок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lec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1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мфы поденок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phemer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ичинки ручей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rich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окоплав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одяной осл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sellus aquatic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лигохеты или Личинки звонц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тсутствует вс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званные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"/>
          <p:cNvPicPr/>
          <p:nvPr/>
        </p:nvPicPr>
        <p:blipFill>
          <a:blip r:embed="rId2"/>
          <a:stretch/>
        </p:blipFill>
        <p:spPr>
          <a:xfrm>
            <a:off x="241200" y="404640"/>
            <a:ext cx="8651880" cy="63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8" name=""/>
          <p:cNvGraphicFramePr/>
          <p:nvPr/>
        </p:nvGraphicFramePr>
        <p:xfrm>
          <a:off x="0" y="41400"/>
          <a:ext cx="9144000" cy="6816600"/>
        </p:xfrm>
        <a:graphic>
          <a:graphicData uri="http://schemas.openxmlformats.org/drawingml/2006/table">
            <a:tbl>
              <a:tblPr/>
              <a:tblGrid>
                <a:gridCol w="3059280"/>
                <a:gridCol w="1657080"/>
                <a:gridCol w="576360"/>
                <a:gridCol w="647640"/>
                <a:gridCol w="719280"/>
                <a:gridCol w="792000"/>
                <a:gridCol w="865440"/>
                <a:gridCol w="826920"/>
              </a:tblGrid>
              <a:tr h="62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ли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идов-индикат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-во видов индикат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щее количество присутствующих групп бентосных организ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1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6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мфы веснянок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lec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1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мфы поденок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phemer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ичинки ручей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rich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окоплав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одяной осл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sellus aquatic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лигохеты или Личинки звонц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тсутствует вс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званные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Прямоугольник 4"/>
          <p:cNvSpPr/>
          <p:nvPr/>
        </p:nvSpPr>
        <p:spPr>
          <a:xfrm>
            <a:off x="249120" y="9360"/>
            <a:ext cx="864072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.Щербаков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ка протекает по территории Камышинского района Волгоградской области. Русло лежит на дне живописной Щербаковской балки вoзрастом 50-60 млн. лет, которая числится ландшафтным памятником природы рeгионального значени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а по характеру течения гoрная, быстрая и хoлодная, с пoрогами и вoдопадиками, скoрость её течения достигает 2 м/с, глубина не бoльше 30-40 сантиметров. Вода чистая, питьевая. Питaние за счет многочисленных, вытекающих из-под мощного слoя опок (минерала типа известняка, образованного морскими отложениями диатомовых вoдорослей), чистeйших рoдников, струящихся по склонам Щeрбаковской балки</a:t>
            </a:r>
            <a:r>
              <a:rPr b="0" lang="ru-RU" sz="16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ru-RU" sz="16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АрхиповЕ.М.,ГореловВ.П.идр.Система наблюдений за животными-объектами мониторинга в природном парке «Щербаковский», материалы конференции 2005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503280" y="3068640"/>
          <a:ext cx="8137440" cy="342108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видов-индикат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видов индикат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мфы веснянок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ecopte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ш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мфы подено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Ephemeropte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н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инки ручейнико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Trichopte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н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копла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ш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ный осл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ш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лигохеты, личинки  звонц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ОБНАРУЖ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3" name=""/>
          <p:cNvGraphicFramePr/>
          <p:nvPr/>
        </p:nvGraphicFramePr>
        <p:xfrm>
          <a:off x="0" y="41400"/>
          <a:ext cx="9144000" cy="6816600"/>
        </p:xfrm>
        <a:graphic>
          <a:graphicData uri="http://schemas.openxmlformats.org/drawingml/2006/table">
            <a:tbl>
              <a:tblPr/>
              <a:tblGrid>
                <a:gridCol w="3059280"/>
                <a:gridCol w="1657080"/>
                <a:gridCol w="576360"/>
                <a:gridCol w="647640"/>
                <a:gridCol w="719280"/>
                <a:gridCol w="792000"/>
                <a:gridCol w="865440"/>
                <a:gridCol w="826920"/>
              </a:tblGrid>
              <a:tr h="62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ли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идов-индикат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-во видов индикат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щее количество присутствующих групп бентосных организ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1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6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мфы веснянок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lec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1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мфы поденок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phemer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ичинки ручей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rich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окоплав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одяной осл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sellus aquatic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лигохеты или Личинки звонц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тсутствует вс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званные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щий 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3"/>
          <p:cNvSpPr/>
          <p:nvPr/>
        </p:nvSpPr>
        <p:spPr>
          <a:xfrm>
            <a:off x="324000" y="620640"/>
            <a:ext cx="8496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чественный и качественный показатель индекса Вудивисса по реке Даниловка 9-10 , что свидетельствует о чистой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чественный и качественный показатель индекса Вудивисса по реке Добринка  4, что свидетельствует о загразненности водо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чественный и качественный показатель индекса Вудивисса по реке Щербаковка  10, что свидетельствует о чистой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уя биологический метод оценки экологического состояния водоема, на основе гидрологического индекса Вудивисса, установлено, что 2 исследуемые реки природного парка «Щербаковский» Камышинского района Волгоградской области, являются экологически чистыми  водое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пользуя биологические способы оценки качества воды, выявить уровень загрязнённости рек  Даниловки, Добринки и Щербаковки природного парка «Щербаковский» Камышинского района Волгоградской обла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TextBox 2"/>
          <p:cNvSpPr/>
          <p:nvPr/>
        </p:nvSpPr>
        <p:spPr>
          <a:xfrm>
            <a:off x="826920" y="1773360"/>
            <a:ext cx="749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я теоретическое обоснование и географическое местоположение реки Добринки, мы предполагаем, что уровень загрязненности напрямую зависит от антропогенного фактора : на протяжении реки находятся небольшие поселения, для которых речка является единственным источником удовлетворения хозяйственных нужд, выпас скота, организация рекреационных территор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"/>
          <p:cNvSpPr/>
          <p:nvPr/>
        </p:nvSpPr>
        <p:spPr>
          <a:xfrm>
            <a:off x="611280" y="18900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чина загрязнённости реки Добр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Проанализировать имеющуюся литературу по данной тем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Познакомиться с биологическими методами оценки качества воды.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4" descr="G:\Рисунок1.jpg"/>
          <p:cNvPicPr/>
          <p:nvPr/>
        </p:nvPicPr>
        <p:blipFill>
          <a:blip r:embed="rId2"/>
          <a:stretch/>
        </p:blipFill>
        <p:spPr>
          <a:xfrm>
            <a:off x="3132000" y="2852640"/>
            <a:ext cx="500544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Прямоугольник 2"/>
          <p:cNvSpPr/>
          <p:nvPr/>
        </p:nvSpPr>
        <p:spPr>
          <a:xfrm>
            <a:off x="181080" y="134136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Используя результаты комплексной практики в Камышинский район Волгоградской области, составить оценку качества воды рек Даниловка,Щербаковка, Добринк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2" descr="G:\Щербаковка, июнь2011\Щербаковка, июнь 2011\Щербаковка\Поход\S6301238.JPG"/>
          <p:cNvPicPr/>
          <p:nvPr/>
        </p:nvPicPr>
        <p:blipFill>
          <a:blip r:embed="rId2"/>
          <a:stretch/>
        </p:blipFill>
        <p:spPr>
          <a:xfrm>
            <a:off x="2195640" y="278136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504" name="Прямоугольник 4"/>
          <p:cNvSpPr/>
          <p:nvPr/>
        </p:nvSpPr>
        <p:spPr>
          <a:xfrm>
            <a:off x="179280" y="115920"/>
            <a:ext cx="88934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Познакомиться с методикой биоиндикации Вудивисс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Прямоугольник 2"/>
          <p:cNvSpPr/>
          <p:nvPr/>
        </p:nvSpPr>
        <p:spPr>
          <a:xfrm>
            <a:off x="250920" y="404640"/>
            <a:ext cx="9144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Оформить полученные результаты в виде сводного     отчёта, составить учебную презентаци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6.Познакомить с результатами исследования  одноклассников и всех интересующихся вопросами охраны прир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G:\Щербаковка, июнь2011\Щербаковка, июнь 2011\Щербаковка\Поход\S6301264.JPG"/>
          <p:cNvPicPr/>
          <p:nvPr/>
        </p:nvPicPr>
        <p:blipFill>
          <a:blip r:embed="rId2"/>
          <a:stretch/>
        </p:blipFill>
        <p:spPr>
          <a:xfrm>
            <a:off x="1871640" y="2448000"/>
            <a:ext cx="572472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ктуальность темы исследов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3"/>
          <p:cNvSpPr/>
          <p:nvPr/>
        </p:nvSpPr>
        <p:spPr>
          <a:xfrm>
            <a:off x="0" y="692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территории Волгоградской области имеется 7 природных пар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"/>
          <p:cNvSpPr/>
          <p:nvPr/>
        </p:nvSpPr>
        <p:spPr>
          <a:xfrm>
            <a:off x="0" y="155736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их территории созданы центры изучения естественного произрастания и проживания видов растений и животных, а также основные меры по сохранению биоразнообразия диких фор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5"/>
          <p:cNvSpPr/>
          <p:nvPr/>
        </p:nvSpPr>
        <p:spPr>
          <a:xfrm>
            <a:off x="0" y="3213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обучающихся эти центры и природные площадки являются хорошей базой для проведения несложных полевых экспериментов и исследов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0"/>
          <p:cNvSpPr/>
          <p:nvPr/>
        </p:nvSpPr>
        <p:spPr>
          <a:xfrm>
            <a:off x="0" y="4508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из результатов позволяет оценить антропогенное воздействие на окружающую при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ы исследования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сбор проб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2) физический  анализ воды рек Даниловка, Добринка, Щербаковка;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4" descr="G:\Изображение 106.jpg"/>
          <p:cNvPicPr/>
          <p:nvPr/>
        </p:nvPicPr>
        <p:blipFill>
          <a:blip r:embed="rId2"/>
          <a:stretch/>
        </p:blipFill>
        <p:spPr>
          <a:xfrm>
            <a:off x="1692360" y="2349360"/>
            <a:ext cx="58323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Прямоугольник 4"/>
          <p:cNvSpPr/>
          <p:nvPr/>
        </p:nvSpPr>
        <p:spPr>
          <a:xfrm>
            <a:off x="334080" y="260280"/>
            <a:ext cx="38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ы исследов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7"/>
          <p:cNvSpPr/>
          <p:nvPr/>
        </p:nvSpPr>
        <p:spPr>
          <a:xfrm>
            <a:off x="395280" y="76500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камеральная обработка собранного материала ( работа со справочниками-определителями      водных беспозвоночных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G:\Изображение 117.jpg"/>
          <p:cNvPicPr/>
          <p:nvPr/>
        </p:nvPicPr>
        <p:blipFill>
          <a:blip r:embed="rId2"/>
          <a:stretch/>
        </p:blipFill>
        <p:spPr>
          <a:xfrm>
            <a:off x="1763640" y="2349360"/>
            <a:ext cx="561672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Прямоугольник 3"/>
          <p:cNvSpPr/>
          <p:nvPr/>
        </p:nvSpPr>
        <p:spPr>
          <a:xfrm>
            <a:off x="549720" y="168120"/>
            <a:ext cx="38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ы исследов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оугольник 4"/>
          <p:cNvSpPr/>
          <p:nvPr/>
        </p:nvSpPr>
        <p:spPr>
          <a:xfrm>
            <a:off x="324000" y="69048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количественный  и качественный анализ про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 биоиндикация при помощи гидрологического индекса Вудиви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" descr="G:\Изображение 115.jpg"/>
          <p:cNvPicPr/>
          <p:nvPr/>
        </p:nvPicPr>
        <p:blipFill>
          <a:blip r:embed="rId2"/>
          <a:stretch/>
        </p:blipFill>
        <p:spPr>
          <a:xfrm>
            <a:off x="1593720" y="2060640"/>
            <a:ext cx="59310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8:56:51Z</dcterms:created>
  <dc:creator>XP GAME 2008</dc:creator>
  <dc:description/>
  <dc:language>en-US</dc:language>
  <cp:lastModifiedBy>пень4</cp:lastModifiedBy>
  <dcterms:modified xsi:type="dcterms:W3CDTF">2013-03-25T18:17:52Z</dcterms:modified>
  <cp:revision>27</cp:revision>
  <dc:subject/>
  <dc:title>Биоиндикация состояния реки Даниловки Камышинского района Волгоградской области с помощью донных организмов.</dc:title>
</cp:coreProperties>
</file>