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667-CE79-4876-92E0-137FFC61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C7F-F4B2-4AE8-AF82-A6ECE29B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66F59-D927-4F7D-9F87-05860BD2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C3862-8B87-488F-A2DE-DC5D882E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E74AF-4B9A-4DCA-9404-E766BD21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48DD5-0710-49EB-9048-DD4AE7A0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8D313-2A0C-4E37-8C1F-58DAC189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2D39A-2FCC-4F47-9404-6BBE909A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30DF2-4953-46F1-BAD4-E474CCED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83A62-7FFB-4E46-8EDC-7D8D7B3A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C609F-3492-498C-9408-1FAF1136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5F8C7-C656-4254-B506-47F84D03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A18C-BD45-4691-A344-944DBFAD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A689B-ADB9-411C-81CF-3327F736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F1FEC-2A48-45C2-B9A6-D518EA40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65788-424D-436B-B806-BA11E8FC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CD724-201C-4CF4-8436-A1B11AE7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1C124-2594-4966-B862-AC468FCA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AC3EA-EB90-4E34-93FD-736879F9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48828-F24C-4C3E-983B-2A73BC4E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166CB-626A-49AE-A6AC-92CD7393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EAA0E-E769-4F38-8FB1-26ACB5BB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96AD7-E70A-4063-9320-7F1C1917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E12-C3A1-4476-AA36-F29080A9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A5284-4D7C-456F-9DA4-10A59119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1FA75-A7C6-4683-B678-357437E0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6A734-2662-412C-AEAD-6B13FE1B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2C764-5A89-477B-9684-C3D95D1C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11EEE-11E3-4616-8964-52AA9B2A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F4278-6A90-4FE3-8863-319EA25D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7E0B5-4039-4998-96F3-78D1E576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53CE5-32CD-438B-9575-B1D558C7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92827-DA02-40C8-95CC-DF74AF09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75189-B153-41E4-9BD5-4C85C89F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A149-EB23-43B6-9F01-29EC764E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09AD6-BA27-4ECB-AB90-ADB448CB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4C104-0F1E-4974-BBDA-B99B6D6B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17DDE-C884-4681-8CAF-344A56A6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E66FD-9F82-4CC7-85C3-1B8A8DC8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464D7-C6E8-472A-A93C-394AF858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13AA1-6BD1-4F93-A05D-75EC2B7B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C7E7D-78A3-401B-953A-A48039A4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DD52D-CE0F-464E-8A36-871DDE4D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D8554-9E27-49E5-B9CD-281BE222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ED4C3-5CC7-4845-8270-ED3E9645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8906-A914-44CF-BCC0-B0DA960C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68A2E-FA74-4A84-AC1D-4E6EED49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EE0FC-C352-4CFF-86FC-0201981A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A41A3-4A6D-4133-B40E-01D521C7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7361C-C0DB-45B5-8A74-E302CA9F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6753E-E5AF-42B2-8AAF-87031FA1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F8AF-F048-409E-AB78-03AB2A53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95BA-0BE5-459C-8E43-2D795456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F844-2545-4064-8EFF-EB60EF7F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2B8C-5240-46DA-A624-F64B3520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8F69-F0C8-46FF-AEB0-17E5477C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081A-4560-4F4D-BC15-06CD7D3F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3DE9-E89C-438E-9F55-3AC51C5A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A03A-288E-473E-BD9F-B020480A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0434-111C-4027-9A57-EF17116E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C7DF-CB45-4F02-A091-E8BA91D5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4E69-3392-475C-AB88-20C43C5C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05ED5-7753-4A89-859E-BBA57C2E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06DC8-DE1E-4E80-9704-89A7F66C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319CA-6834-4C34-98D7-5AEAE7D2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56F2F-0697-469C-9410-311CB7CF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6D65B-9E86-43E7-82BD-9A924383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9938-06B0-4808-93E7-B5C2C4F1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CF549-9867-4BD0-9B18-9555EAAD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CC3E6-2DAF-4D42-B888-FC7B2F27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821E6-6CF6-4186-A530-EC5F29E2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F1E79-0A25-4C02-A8B9-19917C60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BC8F8-8104-4976-A121-BFB4A3BF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D7EC9-7149-47CB-9098-E035923C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AB690-573A-4193-AE2B-53199DF9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FBA11-6140-4AED-B6BB-D515DD0F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F54F8-CB2C-4845-902C-47A7547D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08F75-4FD3-4873-A152-AE3AF3C4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ACA-F356-4091-A7A3-1E10CD11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F1DBC-1258-4423-8B35-05D63AB7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3BAF0-86D4-4353-B361-EC6EB875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75AED-9E2D-4789-ABAD-EE2122E2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33B12-CD8B-4B0B-8FB3-CA0227FA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F7914-3FC6-4682-B853-C7223985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D9E13-9288-4DCE-8DD9-9D789301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06973-F8A5-44A9-BCE8-FF92CF3E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C5EBC-64DA-478E-A1ED-559A6CD0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19F17-42FA-4722-A5B8-AD2121B9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052C1-0599-43B3-BA44-BB1B5C6B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6D52-F66C-45FD-9262-34774949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51659-39FA-421E-8B78-E2ED9E9F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31C51-FE3F-40E9-AB60-00DFACFA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CECB3-552A-44C8-8615-8CE67232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095FE-759E-4460-8317-92D28CBA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DF1DB-A4BD-4B5D-8D0C-52DFF6EF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83524-F037-473F-9EE4-B5D07682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AC373-F923-4764-861A-6DF608B3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86C9C-D739-45DE-9716-42C998B9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CE612-C308-44C9-9334-60E606EC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3A020-4DAE-4FCF-B928-A842F5BB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9A6-6D31-4350-90BA-85FA5B30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8B05D-CEFD-445E-94E4-B77F2434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4F283-8808-47EB-A18A-F67E99C3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28321-C1F4-485C-9FAF-4DA6E4F0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CF9F3-7C12-4BFB-8746-A43CDC23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D0B7E-2ADC-4CC6-B63B-A58C74C4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19B4E-2306-43A9-8229-B959BA3B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E59E1-F352-4AF8-A7AB-20D52477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EE1D4-2ADA-4E2C-9469-D45A42DF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8B66A-0D8F-4096-A138-70D92AA5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929BC-41A8-4BD9-89D1-626E27FD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34E8-0A91-4080-805E-B50FFB3D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EDCD6-5DD9-40C2-B387-86570991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5646D-EF2D-48C8-88EE-7DA8EDE1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50A34-DA1B-46BE-B333-212C7464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DA00C-E60A-4986-8841-F1135C30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18914-E1AB-4ECA-B7D1-BE285E48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410C1-3172-478F-B545-0375F1EE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00CD1-11FE-4459-863A-22C76677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5A6AF-FB95-48A6-8C36-641053EE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A6A7A-2CB7-4FCE-A53D-3800ADA5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97F88-1E5C-4DFF-A6D6-88A8ED24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66A-9040-4DBE-B79D-BB880CC5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15F86-4976-435B-87EF-E9DE4ED9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23920-EBD2-4D8E-A187-2C588277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11CED-B0A4-4251-99E6-9CAF49EF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B8BBE-2561-4093-9FFB-51612EDC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54D94-8F1A-4784-BD6B-BBB03070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6EEDD-88B4-4FFA-8A6A-7EF8AF5F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AF56D-DA0E-4949-96BF-E783E1CE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4FD44-5670-4AAE-A0C2-4DDA01EB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08219-038F-4BA0-8DA8-76D9AADE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A1510-33AA-4B17-AF8E-0CEF6F91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4D82-8D97-4D6B-8737-4E40DC2A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48429-CA4A-40C6-B49B-8496759E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64BDA-7ABA-4CE9-AB5F-0386435A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94764-0413-49C9-89F0-1D16C366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D7059-7ECD-4403-BE84-6B37D6A9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154D9-5162-4C2C-BF6D-D128C355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C0D99-7242-4E2F-B498-D36C259A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C7E0B-7FA8-480E-B766-07D81922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6AF79-21B4-4804-B2DF-D5D3E469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CCD72-349C-47AF-8EEC-F5A20622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99AEC-93EC-4572-B8FE-25C4CD62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21E8-66A8-4454-AF44-5CD561D32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90B0-D552-4958-82A4-9F1138E2D3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CDCA-0FF0-483A-9A48-20C04DBB03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948A-1D93-4F9E-A043-FD5E9A863B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A95E-0DA8-4942-8638-1C10890FA3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5B05-7381-419C-914E-DA916FBEAB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87D6-BA3F-497E-9F53-AB09B41329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31BD-8373-4521-AFA0-A7808E7B86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D6AA-8ED0-4E9E-90EF-486B6E34B7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873D-EBA6-45F3-B723-4AC67579C4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688E-B430-4E68-9B0A-9E8E6ED2EE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6442-61C8-4F7F-A402-A1726A6AEC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ыявление уровня загрязненности рек природного парка «Щербаковский»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 помощью метода биоиндик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2"/>
          <p:cNvSpPr/>
          <p:nvPr/>
        </p:nvSpPr>
        <p:spPr>
          <a:xfrm>
            <a:off x="1209600" y="115920"/>
            <a:ext cx="676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имназия №3 Центрального райо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Волгогр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3"/>
          <p:cNvSpPr/>
          <p:nvPr/>
        </p:nvSpPr>
        <p:spPr>
          <a:xfrm>
            <a:off x="6804000" y="3573360"/>
            <a:ext cx="21956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у выполни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к 10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имназии 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м Дани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елов Владимир Павлович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рший научный сотрудник ВНИИОР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тефанова Татьяна Георги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" descr="G:\Щербаковка, июнь2011\Щербаковка, июнь 2011\Щербаковка\Поход\S6301268.JPG"/>
          <p:cNvPicPr/>
          <p:nvPr/>
        </p:nvPicPr>
        <p:blipFill>
          <a:blip r:embed="rId2"/>
          <a:stretch/>
        </p:blipFill>
        <p:spPr>
          <a:xfrm>
            <a:off x="5310360" y="549360"/>
            <a:ext cx="3671640" cy="4895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" descr="G:\Щербаковка, июнь2011\Щербаковка, июнь 2011\Щербаковка\Поход\S6301282.JPG"/>
          <p:cNvPicPr/>
          <p:nvPr/>
        </p:nvPicPr>
        <p:blipFill>
          <a:blip r:embed="rId3"/>
          <a:stretch/>
        </p:blipFill>
        <p:spPr>
          <a:xfrm>
            <a:off x="324000" y="241200"/>
            <a:ext cx="4464000" cy="28321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G:\Щербаковка, июнь2011\Щербаковка, июнь 2011\Щербаковка\IMG_1793.jpg"/>
          <p:cNvPicPr/>
          <p:nvPr/>
        </p:nvPicPr>
        <p:blipFill>
          <a:blip r:embed="rId4"/>
          <a:stretch/>
        </p:blipFill>
        <p:spPr>
          <a:xfrm>
            <a:off x="250920" y="3213000"/>
            <a:ext cx="47322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4" name=""/>
          <p:cNvGraphicFramePr/>
          <p:nvPr/>
        </p:nvGraphicFramePr>
        <p:xfrm>
          <a:off x="0" y="0"/>
          <a:ext cx="9144000" cy="6816600"/>
        </p:xfrm>
        <a:graphic>
          <a:graphicData uri="http://schemas.openxmlformats.org/drawingml/2006/table">
            <a:tbl>
              <a:tblPr/>
              <a:tblGrid>
                <a:gridCol w="3059280"/>
                <a:gridCol w="1657080"/>
                <a:gridCol w="576360"/>
                <a:gridCol w="647640"/>
                <a:gridCol w="719280"/>
                <a:gridCol w="792000"/>
                <a:gridCol w="865440"/>
                <a:gridCol w="826920"/>
              </a:tblGrid>
              <a:tr h="627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ли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идов-индикат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-во видов индикат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щее количество присутствующих групп бентосных организ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1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6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мфы веснянок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lec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1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мфы поденок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phemer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ичинки ручей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rich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окоплав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одяной осл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sellus aquatic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лигохеты или Личинки звонц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тсутствует вс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званные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Box 8"/>
          <p:cNvSpPr/>
          <p:nvPr/>
        </p:nvSpPr>
        <p:spPr>
          <a:xfrm>
            <a:off x="395280" y="33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0" y="1503360"/>
          <a:ext cx="9109080" cy="5165640"/>
        </p:xfrm>
        <a:graphic>
          <a:graphicData uri="http://schemas.openxmlformats.org/drawingml/2006/table">
            <a:tbl>
              <a:tblPr/>
              <a:tblGrid>
                <a:gridCol w="1260360"/>
                <a:gridCol w="1440000"/>
                <a:gridCol w="1008000"/>
                <a:gridCol w="936720"/>
                <a:gridCol w="934920"/>
                <a:gridCol w="787320"/>
                <a:gridCol w="1333800"/>
                <a:gridCol w="1407960"/>
              </a:tblGrid>
              <a:tr h="172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меряемый учас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корость те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и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луб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мп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зрач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анило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5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м/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алька, пес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7+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зрачная, чис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бри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5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.5 м/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 м/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5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5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12+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ут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Щербако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5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м/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альк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с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8+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зрачная, чис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Rectangle 12"/>
          <p:cNvSpPr/>
          <p:nvPr/>
        </p:nvSpPr>
        <p:spPr>
          <a:xfrm>
            <a:off x="1172160" y="338760"/>
            <a:ext cx="564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следуемые учас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довой и количественный состав гидробион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36" descr=""/>
          <p:cNvPicPr/>
          <p:nvPr/>
        </p:nvPicPr>
        <p:blipFill>
          <a:blip r:embed="rId2"/>
          <a:stretch/>
        </p:blipFill>
        <p:spPr>
          <a:xfrm>
            <a:off x="468360" y="455760"/>
            <a:ext cx="820728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4" name=""/>
          <p:cNvGraphicFramePr/>
          <p:nvPr/>
        </p:nvGraphicFramePr>
        <p:xfrm>
          <a:off x="0" y="41400"/>
          <a:ext cx="9144000" cy="6816600"/>
        </p:xfrm>
        <a:graphic>
          <a:graphicData uri="http://schemas.openxmlformats.org/drawingml/2006/table">
            <a:tbl>
              <a:tblPr/>
              <a:tblGrid>
                <a:gridCol w="3059280"/>
                <a:gridCol w="1657080"/>
                <a:gridCol w="576360"/>
                <a:gridCol w="647640"/>
                <a:gridCol w="719280"/>
                <a:gridCol w="792000"/>
                <a:gridCol w="865440"/>
                <a:gridCol w="826920"/>
              </a:tblGrid>
              <a:tr h="62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ли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идов-индикат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-во видов индикат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щее количество присутствующих групп бентосных организ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1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6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мфы веснянок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lec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1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мфы поденок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phemer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ичинки ручей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rich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окоплав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одяной осл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sellus aquatic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лигохеты или Личинки звонц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тсутствует вс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званные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"/>
          <p:cNvPicPr/>
          <p:nvPr/>
        </p:nvPicPr>
        <p:blipFill>
          <a:blip r:embed="rId2"/>
          <a:stretch/>
        </p:blipFill>
        <p:spPr>
          <a:xfrm>
            <a:off x="241200" y="404640"/>
            <a:ext cx="8651880" cy="631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8" name=""/>
          <p:cNvGraphicFramePr/>
          <p:nvPr/>
        </p:nvGraphicFramePr>
        <p:xfrm>
          <a:off x="0" y="41400"/>
          <a:ext cx="9144000" cy="6816600"/>
        </p:xfrm>
        <a:graphic>
          <a:graphicData uri="http://schemas.openxmlformats.org/drawingml/2006/table">
            <a:tbl>
              <a:tblPr/>
              <a:tblGrid>
                <a:gridCol w="3059280"/>
                <a:gridCol w="1657080"/>
                <a:gridCol w="576360"/>
                <a:gridCol w="647640"/>
                <a:gridCol w="719280"/>
                <a:gridCol w="792000"/>
                <a:gridCol w="865440"/>
                <a:gridCol w="826920"/>
              </a:tblGrid>
              <a:tr h="62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ли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идов-индикат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-во видов индикат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щее количество присутствующих групп бентосных организ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1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6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мфы веснянок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lec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1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мфы поденок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phemer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ичинки ручей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rich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окоплав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одяной осл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sellus aquatic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лигохеты или Личинки звонц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тсутствует вс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званные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Прямоугольник 4"/>
          <p:cNvSpPr/>
          <p:nvPr/>
        </p:nvSpPr>
        <p:spPr>
          <a:xfrm>
            <a:off x="249120" y="9360"/>
            <a:ext cx="864072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.Щербаков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ка протекает по территории Камышинского района Волгоградской области. Русло лежит на дне живописной Щербаковской балки вoзрастом 50-60 млн. лет, которая числится ландшафтным памятником природы рeгионального значени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а по характеру течения гoрная, быстрая и хoлодная, с пoрогами и вoдопадиками, скoрость её течения достигает 2 м/с, глубина не бoльше 30-40 сантиметров. Вода чистая, питьевая. Питaние за счет многочисленных, вытекающих из-под мощного слoя опок (минерала типа известняка, образованного морскими отложениями диатомовых вoдорослей), чистeйших рoдников, струящихся по склонам Щeрбаковской балки</a:t>
            </a:r>
            <a:r>
              <a:rPr b="0" lang="ru-RU" sz="16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ru-RU" sz="16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АрхиповЕ.М.,ГореловВ.П.идр.Система наблюдений за животными-объектами мониторинга в природном парке «Щербаковский», материалы конференции 2005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503280" y="3068640"/>
          <a:ext cx="8137440" cy="342108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видов-индикат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видов индикат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мфы веснянок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ecopter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ш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мфы подено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Ephemeropter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н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инки ручейнико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Trichopter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н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копла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ш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ный осл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ш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лигохеты, личинки  звонц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ОБНАРУЖ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3" name=""/>
          <p:cNvGraphicFramePr/>
          <p:nvPr/>
        </p:nvGraphicFramePr>
        <p:xfrm>
          <a:off x="0" y="41400"/>
          <a:ext cx="9144000" cy="6816600"/>
        </p:xfrm>
        <a:graphic>
          <a:graphicData uri="http://schemas.openxmlformats.org/drawingml/2006/table">
            <a:tbl>
              <a:tblPr/>
              <a:tblGrid>
                <a:gridCol w="3059280"/>
                <a:gridCol w="1657080"/>
                <a:gridCol w="576360"/>
                <a:gridCol w="647640"/>
                <a:gridCol w="719280"/>
                <a:gridCol w="792000"/>
                <a:gridCol w="865440"/>
                <a:gridCol w="826920"/>
              </a:tblGrid>
              <a:tr h="62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ли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идов-индикат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-во видов индикат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бщее количество присутствующих групп бентосных организ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1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6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мфы веснянок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lec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1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мфы поденок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phemer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ичинки ручей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richopte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олее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окоплав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одяной осл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sellus aquatic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лигохеты или Личинки звонц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-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тсутствует вс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званные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щий 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3"/>
          <p:cNvSpPr/>
          <p:nvPr/>
        </p:nvSpPr>
        <p:spPr>
          <a:xfrm>
            <a:off x="324000" y="620640"/>
            <a:ext cx="8496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ичественный и качественный показатель индекса Вудивисса по реке Даниловка 9-10 , что свидетельствует о чистой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ичественный и качественный показатель индекса Вудивисса по реке Добринка  4, что свидетельствует о загразненности водо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ичественный и качественный показатель индекса Вудивисса по реке Щербаковка  10, что свидетельствует о чистой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уя биологический метод оценки экологического состояния водоема, на основе гидрологического индекса Вудивисса, установлено, что 2 исследуемые реки природного парка «Щербаковский» Камышинского района Волгоградской области, являются экологически чистыми  водое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пользуя биологические способы оценки качества воды, выявить уровень загрязнённости рек  Даниловки, Добринки и Щербаковки природного парка «Щербаковский» Камышинского района Волгоградской обла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TextBox 2"/>
          <p:cNvSpPr/>
          <p:nvPr/>
        </p:nvSpPr>
        <p:spPr>
          <a:xfrm>
            <a:off x="826920" y="1773360"/>
            <a:ext cx="749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я теоретическое обоснование и географическое местоположение реки Добринки, мы предполагаем, что уровень загрязненности напрямую зависит от антропогенного фактора : на протяжении реки находятся небольшие поселения, для которых речка является единственным источником удовлетворения хозяйственных нужд, выпас скота, организация рекреационных территор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"/>
          <p:cNvSpPr/>
          <p:nvPr/>
        </p:nvSpPr>
        <p:spPr>
          <a:xfrm>
            <a:off x="611280" y="18900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чина загрязнённости реки Добр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Проанализировать имеющуюся литературу по данной тем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Познакомиться с биологическими методами оценки качества воды.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4" descr="G:\Рисунок1.jpg"/>
          <p:cNvPicPr/>
          <p:nvPr/>
        </p:nvPicPr>
        <p:blipFill>
          <a:blip r:embed="rId2"/>
          <a:stretch/>
        </p:blipFill>
        <p:spPr>
          <a:xfrm>
            <a:off x="3132000" y="2852640"/>
            <a:ext cx="500544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Прямоугольник 2"/>
          <p:cNvSpPr/>
          <p:nvPr/>
        </p:nvSpPr>
        <p:spPr>
          <a:xfrm>
            <a:off x="181080" y="134136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Используя результаты комплексной практики в Камышинский район Волгоградской области, составить оценку качества воды рек Даниловка,Щербаковка, Добринк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2" descr="G:\Щербаковка, июнь2011\Щербаковка, июнь 2011\Щербаковка\Поход\S6301238.JPG"/>
          <p:cNvPicPr/>
          <p:nvPr/>
        </p:nvPicPr>
        <p:blipFill>
          <a:blip r:embed="rId2"/>
          <a:stretch/>
        </p:blipFill>
        <p:spPr>
          <a:xfrm>
            <a:off x="2195640" y="278136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504" name="Прямоугольник 4"/>
          <p:cNvSpPr/>
          <p:nvPr/>
        </p:nvSpPr>
        <p:spPr>
          <a:xfrm>
            <a:off x="179280" y="115920"/>
            <a:ext cx="88934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Познакомиться с методикой биоиндикации Вудивисс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Прямоугольник 2"/>
          <p:cNvSpPr/>
          <p:nvPr/>
        </p:nvSpPr>
        <p:spPr>
          <a:xfrm>
            <a:off x="250920" y="404640"/>
            <a:ext cx="9144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.Оформить полученные результаты в виде сводного     отчёта, составить учебную презентаци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6.Познакомить с результатами исследования  одноклассников и всех интересующихся вопросами охраны прир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G:\Щербаковка, июнь2011\Щербаковка, июнь 2011\Щербаковка\Поход\S6301264.JPG"/>
          <p:cNvPicPr/>
          <p:nvPr/>
        </p:nvPicPr>
        <p:blipFill>
          <a:blip r:embed="rId2"/>
          <a:stretch/>
        </p:blipFill>
        <p:spPr>
          <a:xfrm>
            <a:off x="1871640" y="2448000"/>
            <a:ext cx="572472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ктуальность темы исследов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3"/>
          <p:cNvSpPr/>
          <p:nvPr/>
        </p:nvSpPr>
        <p:spPr>
          <a:xfrm>
            <a:off x="0" y="692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территории Волгоградской области имеется 7 природных пар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4"/>
          <p:cNvSpPr/>
          <p:nvPr/>
        </p:nvSpPr>
        <p:spPr>
          <a:xfrm>
            <a:off x="0" y="155736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их территории созданы центры изучения естественного произрастания и проживания видов растений и животных, а также основные меры по сохранению биоразнообразия диких фор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5"/>
          <p:cNvSpPr/>
          <p:nvPr/>
        </p:nvSpPr>
        <p:spPr>
          <a:xfrm>
            <a:off x="0" y="3213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обучающихся эти центры и природные площадки являются хорошей базой для проведения несложных полевых экспериментов и исследов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0"/>
          <p:cNvSpPr/>
          <p:nvPr/>
        </p:nvSpPr>
        <p:spPr>
          <a:xfrm>
            <a:off x="0" y="4508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из результатов позволяет оценить антропогенное воздействие на окружающую при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ы исследования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сбор проб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2) физический  анализ воды рек Даниловка, Добринка, Щербаковка;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4" descr="G:\Изображение 106.jpg"/>
          <p:cNvPicPr/>
          <p:nvPr/>
        </p:nvPicPr>
        <p:blipFill>
          <a:blip r:embed="rId2"/>
          <a:stretch/>
        </p:blipFill>
        <p:spPr>
          <a:xfrm>
            <a:off x="1692360" y="2349360"/>
            <a:ext cx="58323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Прямоугольник 4"/>
          <p:cNvSpPr/>
          <p:nvPr/>
        </p:nvSpPr>
        <p:spPr>
          <a:xfrm>
            <a:off x="334080" y="260280"/>
            <a:ext cx="38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ы исследов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7"/>
          <p:cNvSpPr/>
          <p:nvPr/>
        </p:nvSpPr>
        <p:spPr>
          <a:xfrm>
            <a:off x="395280" y="76500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камеральная обработка собранного материала ( работа со справочниками-определителями      водных беспозвоночных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" descr="G:\Изображение 117.jpg"/>
          <p:cNvPicPr/>
          <p:nvPr/>
        </p:nvPicPr>
        <p:blipFill>
          <a:blip r:embed="rId2"/>
          <a:stretch/>
        </p:blipFill>
        <p:spPr>
          <a:xfrm>
            <a:off x="1763640" y="2349360"/>
            <a:ext cx="561672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2" descr="G:\Щербаковка, июнь2011\Щербаковка, июнь 2011\Щербаковка\полевой лагерь июнь\Изображение 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Прямоугольник 3"/>
          <p:cNvSpPr/>
          <p:nvPr/>
        </p:nvSpPr>
        <p:spPr>
          <a:xfrm>
            <a:off x="549720" y="168120"/>
            <a:ext cx="38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ы исследов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оугольник 4"/>
          <p:cNvSpPr/>
          <p:nvPr/>
        </p:nvSpPr>
        <p:spPr>
          <a:xfrm>
            <a:off x="324000" y="69048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количественный  и качественный анализ про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 биоиндикация при помощи гидрологического индекса Вудиви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" descr="G:\Изображение 115.jpg"/>
          <p:cNvPicPr/>
          <p:nvPr/>
        </p:nvPicPr>
        <p:blipFill>
          <a:blip r:embed="rId2"/>
          <a:stretch/>
        </p:blipFill>
        <p:spPr>
          <a:xfrm>
            <a:off x="1593720" y="2060640"/>
            <a:ext cx="59310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8:56:51Z</dcterms:created>
  <dc:creator>XP GAME 2008</dc:creator>
  <dc:description/>
  <dc:language>en-US</dc:language>
  <cp:lastModifiedBy>пень4</cp:lastModifiedBy>
  <dcterms:modified xsi:type="dcterms:W3CDTF">2013-03-25T18:17:52Z</dcterms:modified>
  <cp:revision>27</cp:revision>
  <dc:subject/>
  <dc:title>Биоиндикация состояния реки Даниловки Камышинского района Волгоградской области с помощью донных организмов.</dc:title>
</cp:coreProperties>
</file>