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8DC-E253-460D-9821-AFE22023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AA4-B738-447B-9B9C-4F7EDC7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2D8-856B-43EA-B777-B1489332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46A-5E41-4856-845C-84B84D56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40D8-027B-46F1-887A-32C6A151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5D7-192A-4EFB-9E5D-E074CB79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ED65-8A54-4F4D-A8CE-02F6A6FC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0E01-58A2-4213-A16F-950681E8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B03C-A600-45A1-81D5-3CE970C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2839-26E0-4EC2-805A-A35BCD8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BF72-6213-46C1-A2F5-373C459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068-0F97-4378-A1A5-78B85901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10B5-0DD2-431E-ACFB-C01C989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B9E9-30CF-405C-9473-5C9891B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636B-6EB5-4013-9727-928FB461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919-7AE3-4DA6-9B73-FC050326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14FB-3B43-4DA5-A298-788ACD7B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E8CB0-B2DD-4B65-887E-05A0BC85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4A57-0980-41D4-8162-D87CCCF3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F398-8BF0-4287-B2FC-3BC9078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1083-C62E-4A72-960C-B58B5784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41B6-5214-4E99-B170-CA267E3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5CA-D6A6-431A-9ECB-1086A26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2AB7-2494-44B7-9D87-53F554B9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BF7E-EAEF-4FF7-915E-0A515FC1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4464-E9D6-4B3A-B9BF-F64FD3A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E590-CE71-44E0-812D-8216437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620A-4EDB-4436-811B-485583E2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3D2F-7BE3-4ACF-B6E3-3A5CFBAE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ED4B-8086-4BC9-A1F4-99BBD6A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83D16-BB56-40DC-B7E2-67A74712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F82E1-90F8-4F1E-A06C-85A72311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E9C2E-5526-41F4-8C18-12C60CC4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20D-E198-4DE3-AFBD-12AC466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456D-B498-4AB5-9CA3-A0125696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98A8-6765-40D6-8CA9-07FEEF48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4720-5CEF-42C7-BB7B-C307B2A5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7BCB-7DCD-431A-B94C-06C413A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CD96-9946-4BF4-B27C-0F9324B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9F19-CE57-4963-843B-C2E769A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5825-AB66-4388-8AE6-8D4A865A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B4566-487D-4964-B613-3D641AAB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7321-A807-4F24-BFFD-A803F670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FA9-789D-401A-99F7-6BC1AB5F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004-ED3C-4617-9871-34BA8623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223-35D2-4782-A60E-8152D56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C24-EF8B-4A67-BEDE-4D223E9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4E2-AA35-478D-9E5E-EB077D9D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A74-DFBA-40A0-9088-B7B80F43308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F023-32BE-420F-8EC9-CBF940F50B2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7BC7-E1C7-4927-88FD-B091E4389A7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165F-F3A1-474A-A0DA-93F434C568F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120160" cy="1749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14800"/>
            <a:ext cx="7854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оспитание культурно-гигиенические навыки у детей 3-4 лет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Будь здоров, малыш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D:\ЗАВУЧ\доу\Воспитатель-2013\фото для портфолио\113PHOTO\3.JPG"/>
          <p:cNvPicPr/>
          <p:nvPr/>
        </p:nvPicPr>
        <p:blipFill>
          <a:blip r:embed="rId2"/>
          <a:stretch/>
        </p:blipFill>
        <p:spPr>
          <a:xfrm>
            <a:off x="571680" y="214200"/>
            <a:ext cx="1785600" cy="238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D:\ЗАВУЧ\доу\Воспитатель-2013\фото для портфолио\113PHOTO\5.JPG"/>
          <p:cNvPicPr/>
          <p:nvPr/>
        </p:nvPicPr>
        <p:blipFill>
          <a:blip r:embed="rId3"/>
          <a:stretch/>
        </p:blipFill>
        <p:spPr>
          <a:xfrm>
            <a:off x="5786280" y="4340160"/>
            <a:ext cx="30528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лючительны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ведение итогов работы над проектом: опрос детей, презентация проек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нкетирование родителей по теме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Чему научился Ваш ребёнок? 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тоговое занят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т какие мы больши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иагностика детей по данной тем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ентация проекта для педагогов ДОУ, сообщение из опыта работы по проек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Содержимое 4" descr="SAM_0765.JPG"/>
          <p:cNvPicPr/>
          <p:nvPr/>
        </p:nvPicPr>
        <p:blipFill>
          <a:blip r:embed="rId1"/>
          <a:stretch/>
        </p:blipFill>
        <p:spPr>
          <a:xfrm>
            <a:off x="5005440" y="1920960"/>
            <a:ext cx="33242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гиеническая культура столь же важна для человека, как и умение разговаривать, писать, читать. Уход за собой дарит человеку прекрасное ощущение чистоты, здоровья: каждая клеточка организма начинает жить в оптимальном режиме, не огорчая ее владельца. Главная задача - формировать простейшие навыки опрятности и самообслуживания, закладывать фундамент гигиенической культур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Цель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культурно – гигиенических навыков у детей младшего дошкольного возраста через использование художественной литературы в разных видах деятельн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ть культурно-гигиенические навыки у детей младшего дошкольного возраст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крепить представления о правилах личной гигиены; уточнить и систематизировать знания детей о необходимости гигиенических процедур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спитывать у детей желание выглядеть чистыми, аккуратными и опрятным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огатить предметно-развивающую среду группы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репить связи между детским садом и семьёй, изменить позицию родителей в отношении своего здоровья и здоровья дет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Участники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тел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ладший воспитатель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дител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евая группа проект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ект предназначен детям младшего дошкольного возрас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D:\ЗАВУЧ\доу\Воспитатель-2013\фото для портфолио\113PHOTO\4.JPG"/>
          <p:cNvPicPr/>
          <p:nvPr/>
        </p:nvPicPr>
        <p:blipFill>
          <a:blip r:embed="rId1"/>
          <a:stretch/>
        </p:blipFill>
        <p:spPr>
          <a:xfrm>
            <a:off x="6500880" y="1071720"/>
            <a:ext cx="207180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новные формы реализации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Занятия по ознакомлению с окружающим мир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идактические игры и упражн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Художественное сло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Чтение художественной литератур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 Бесе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* Работа с родителя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D:\ЗАВУЧ\доу\Воспитатель-2013\фото для портфолио\113PHOTO\2.JPG"/>
          <p:cNvPicPr/>
          <p:nvPr/>
        </p:nvPicPr>
        <p:blipFill>
          <a:blip r:embed="rId1"/>
          <a:stretch/>
        </p:blipFill>
        <p:spPr>
          <a:xfrm>
            <a:off x="4857840" y="3943440"/>
            <a:ext cx="3981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жидаемые конечные результаты реализации проект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8600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ти от 3–4 лет должн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Следить за своим внешним вид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Пользоваться мылом, аккуратно мыть руки, лицо, уши; насух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ытираться после умывани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Вешать полотенце на место, пользоваться расчёской и носовым платк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Правильно пользоваться столовой и чайной ложками, салфеткой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* Не крошить хлеб, пережёвывать пищу с закрытым ртом, не разговаривать  с полным рто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Содержимое 4" descr="SAM_0605.JPG"/>
          <p:cNvPicPr/>
          <p:nvPr/>
        </p:nvPicPr>
        <p:blipFill>
          <a:blip r:embed="rId1"/>
          <a:stretch/>
        </p:blipFill>
        <p:spPr>
          <a:xfrm>
            <a:off x="4648320" y="2452680"/>
            <a:ext cx="40384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еречень основных направлений проек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ащение предметно-развивающей среды группы детского са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с родител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SAM_0017.JPG"/>
          <p:cNvPicPr/>
          <p:nvPr/>
        </p:nvPicPr>
        <p:blipFill>
          <a:blip r:embed="rId1"/>
          <a:stretch/>
        </p:blipFill>
        <p:spPr>
          <a:xfrm>
            <a:off x="642960" y="3828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D:\ЗАВУЧ\доу\Воспитатель-2013\фото для портфолио\113PHOTO\1.JPG"/>
          <p:cNvPicPr/>
          <p:nvPr/>
        </p:nvPicPr>
        <p:blipFill>
          <a:blip r:embed="rId2"/>
          <a:stretch/>
        </p:blipFill>
        <p:spPr>
          <a:xfrm>
            <a:off x="5715000" y="200016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раткое описание проекта по этап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43040"/>
            <a:ext cx="403848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ип проекта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пповой, творчески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должительность проекта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одовой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оки реализации проекта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нтябрь 2012года –август 2013год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4" descr="SAM_0599.JPG"/>
          <p:cNvPicPr/>
          <p:nvPr/>
        </p:nvPicPr>
        <p:blipFill>
          <a:blip r:embed="rId1"/>
          <a:stretch/>
        </p:blipFill>
        <p:spPr>
          <a:xfrm>
            <a:off x="49435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D:\ЗАВУЧ\доу\Воспитатель-2013\фото для портфолио\SAM_0339.JPG"/>
          <p:cNvPicPr/>
          <p:nvPr/>
        </p:nvPicPr>
        <p:blipFill>
          <a:blip r:embed="rId2"/>
          <a:stretch/>
        </p:blipFill>
        <p:spPr>
          <a:xfrm>
            <a:off x="4357800" y="4214880"/>
            <a:ext cx="3524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новной этап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71760"/>
            <a:ext cx="4038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ение подробного плана работы по всем видам деятельности с детьми; большая совместная образовательная работа с детьми, родителями для решения поставленных задач; подборка художественных произведений, потешек, загадок, словесных игр по данной теме; блок занятий по ознакомлению с окружающим мир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SAM_0247.JPG"/>
          <p:cNvPicPr/>
          <p:nvPr/>
        </p:nvPicPr>
        <p:blipFill>
          <a:blip r:embed="rId1"/>
          <a:stretch/>
        </p:blipFill>
        <p:spPr>
          <a:xfrm>
            <a:off x="4786200" y="642960"/>
            <a:ext cx="4038840" cy="281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D:\ЗАВУЧ\доу\Воспитатель-2013\фото для портфолио\113PHOTO\SAM_0763.JPG"/>
          <p:cNvPicPr/>
          <p:nvPr/>
        </p:nvPicPr>
        <p:blipFill>
          <a:blip r:embed="rId2"/>
          <a:stretch/>
        </p:blipFill>
        <p:spPr>
          <a:xfrm>
            <a:off x="4818240" y="3714840"/>
            <a:ext cx="40590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ография</cp:lastModifiedBy>
  <dcterms:modified xsi:type="dcterms:W3CDTF">2013-03-21T06:35:19Z</dcterms:modified>
  <cp:revision>11</cp:revision>
  <dc:subject/>
  <dc:title>Воспитание культурно-гигиенические навыки у детей 3-4 лет</dc:title>
</cp:coreProperties>
</file>