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89C-0E91-49C8-B737-FEF67067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27D-CB24-4705-AAAD-80B86630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5FC-8684-4C91-9A06-2033F006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C26-D4A2-450D-82BA-FF7A8BD3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E2DD-9688-4ADA-A4D8-F8ECF7CC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956-C804-49D0-BC3F-A4722DA0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55CD-E4F8-4EA9-A1A9-2D9DB06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0E3-2BC0-4A13-A339-EABF960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3070-39CD-403D-AB28-1C0CF7A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4463-DB3B-49C9-A610-1B8A499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D514-4D08-403C-86ED-5383535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FEF-62B0-440C-B757-AAF7937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8821-3652-42AE-B4E7-2B38A4E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F42F-ABCD-4220-ACB3-77457C4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302-86DF-4498-8029-C5AE8B18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5BA0-817E-49EF-9522-1462A200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79B-1156-4A2D-9F17-DFB2AACB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8A40-650C-4AB2-AD0C-13172EAE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E404-43F4-46F8-BD95-4D101BD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AE8F-F140-4F8A-8BD5-35253226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7DEA-431F-4506-8F29-9A181C1D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3AF6-FC9F-4358-96A7-DE76153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983-44BF-47C1-9EC3-14EBD2C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9167-BDAF-4DDF-AE10-6738EF2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BBCA-669B-48A4-9F39-1B9420A2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6716-9C83-4145-8FC7-35F434A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2069F-57E4-4A42-A31D-CFC96B4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261F-C8EB-444A-8C5A-47E92BD3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0B37-32A4-4210-BAE9-F17CF06C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5224-0DCA-460E-A30E-773991B8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1536-3D5C-4347-B9A2-E804B75A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9CB1-4033-4A89-89DB-68A5B598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4757-99A5-4166-A46D-28EC0218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228-550B-4F27-8357-7582BD1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CFFD8-7D40-4AAC-A016-D364ABD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1C79-5688-406A-97B0-B1709B1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69C1-6906-4ED0-8732-2E04E59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EDE32-249C-4AE0-9F13-424A3A0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953D-DBA7-47A7-8E90-929577F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CA8E-989C-4C5A-84C6-47C590F0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1926-47CD-4638-84B8-E73057A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F4B1-5D1A-4306-BAC8-40E30281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41A0-6E35-4963-BD29-4E93D5EC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301-0C26-44CE-98C7-4DFE333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3DD-FBA6-4AC6-B516-58CD75C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BDF-6241-4E02-9A6D-9C07AC1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7B2-FB72-4062-9370-6AECE18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3E0-74E3-4571-94BB-9696E1A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2432-772F-4A98-BC65-DF6D2411ADF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D19D-1AFD-4834-8293-4C9260E017E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EC3A-A416-4610-8A26-14580D70DDD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B8EF-F8DD-4027-A389-71EB8EE3DC4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120160" cy="1749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14800"/>
            <a:ext cx="7854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питание культурно-гигиенические навыки у детей 3-4 лет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удь здоров, малыш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D:\ЗАВУЧ\доу\Воспитатель-2013\фото для портфолио\113PHOTO\3.JPG"/>
          <p:cNvPicPr/>
          <p:nvPr/>
        </p:nvPicPr>
        <p:blipFill>
          <a:blip r:embed="rId2"/>
          <a:stretch/>
        </p:blipFill>
        <p:spPr>
          <a:xfrm>
            <a:off x="571680" y="214200"/>
            <a:ext cx="1785600" cy="238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ЗАВУЧ\доу\Воспитатель-2013\фото для портфолио\113PHOTO\5.JPG"/>
          <p:cNvPicPr/>
          <p:nvPr/>
        </p:nvPicPr>
        <p:blipFill>
          <a:blip r:embed="rId3"/>
          <a:stretch/>
        </p:blipFill>
        <p:spPr>
          <a:xfrm>
            <a:off x="5786280" y="4340160"/>
            <a:ext cx="30528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лючительны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ведение итогов работы над проектом: опрос детей, презентация проек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нкетирование родителей по теме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Чему научился Ваш ребёнок? 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тоговое занят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т какие мы больши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иагностика детей по данной тем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проекта для педагогов ДОУ, сообщение из опыта работы по проек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Содержимое 4" descr="SAM_0765.JPG"/>
          <p:cNvPicPr/>
          <p:nvPr/>
        </p:nvPicPr>
        <p:blipFill>
          <a:blip r:embed="rId1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гиеническая культура столь же важна для человека, как и умение разговаривать, писать, читать. Уход за собой дарит человеку прекрасное ощущение чистоты, здоровья: каждая клеточка организма начинает жить в оптимальном режиме, не огорчая ее владельца. Главная задача - формировать простейшие навыки опрятности и самообслуживания, закладывать фундамент гигиенической культур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ель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культурно – гигиенических навыков у детей младшего дошкольного возраста через использование художественной литературы в разных видах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культурно-гигиенические навыки у детей младшего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спитывать у детей желание выглядеть чистыми, аккуратными и опрятны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огатить предметно-развивающую среду групп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репить связи между детским садом и семьёй, изменить позицию родителей в отношении своего здоровья и здоровья дет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Участник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тел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ладший воспитатель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евая группа проект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ект предназначен детям младшего дошкольного возрас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D:\ЗАВУЧ\доу\Воспитатель-2013\фото для портфолио\113PHOTO\4.JPG"/>
          <p:cNvPicPr/>
          <p:nvPr/>
        </p:nvPicPr>
        <p:blipFill>
          <a:blip r:embed="rId1"/>
          <a:stretch/>
        </p:blipFill>
        <p:spPr>
          <a:xfrm>
            <a:off x="6500880" y="1071720"/>
            <a:ext cx="207180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новные формы реализации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Занятия по ознакомлению с окружающим мир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идактические игры и упражн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Художественное сло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художественной литератур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 Бесе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 Работа с родителя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D:\ЗАВУЧ\доу\Воспитатель-2013\фото для портфолио\113PHOTO\2.JPG"/>
          <p:cNvPicPr/>
          <p:nvPr/>
        </p:nvPicPr>
        <p:blipFill>
          <a:blip r:embed="rId1"/>
          <a:stretch/>
        </p:blipFill>
        <p:spPr>
          <a:xfrm>
            <a:off x="4857840" y="3943440"/>
            <a:ext cx="3981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жидаемые конечные результаты реализации проект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860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ти от 3–4 лет должн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Следить за своим внешним вид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Пользоваться мылом, аккуратно мыть руки, лицо, уши; насух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тираться после умывани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Вешать полотенце на место, пользоваться расчёской и носовым платк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Правильно пользоваться столовой и чайной ложками, салфеткой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Не крошить хлеб, пережёвывать пищу с закрытым ртом, не разговаривать  с полным рт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Содержимое 4" descr="SAM_0605.JPG"/>
          <p:cNvPicPr/>
          <p:nvPr/>
        </p:nvPicPr>
        <p:blipFill>
          <a:blip r:embed="rId1"/>
          <a:stretch/>
        </p:blipFill>
        <p:spPr>
          <a:xfrm>
            <a:off x="4648320" y="2452680"/>
            <a:ext cx="40384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еречень основных направлений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ащение предметно-развивающей среды группы детского са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родител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SAM_0017.JPG"/>
          <p:cNvPicPr/>
          <p:nvPr/>
        </p:nvPicPr>
        <p:blipFill>
          <a:blip r:embed="rId1"/>
          <a:stretch/>
        </p:blipFill>
        <p:spPr>
          <a:xfrm>
            <a:off x="64296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D:\ЗАВУЧ\доу\Воспитатель-2013\фото для портфолио\113PHOTO\1.JPG"/>
          <p:cNvPicPr/>
          <p:nvPr/>
        </p:nvPicPr>
        <p:blipFill>
          <a:blip r:embed="rId2"/>
          <a:stretch/>
        </p:blipFill>
        <p:spPr>
          <a:xfrm>
            <a:off x="5715000" y="200016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раткое описание проекта по этап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43040"/>
            <a:ext cx="4038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ип проект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пповой, творческ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должительность проекта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дов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оки реализации проекта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нтябрь 2012года –август 2013г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4" descr="SAM_0599.JPG"/>
          <p:cNvPicPr/>
          <p:nvPr/>
        </p:nvPicPr>
        <p:blipFill>
          <a:blip r:embed="rId1"/>
          <a:stretch/>
        </p:blipFill>
        <p:spPr>
          <a:xfrm>
            <a:off x="49435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D:\ЗАВУЧ\доу\Воспитатель-2013\фото для портфолио\SAM_0339.JPG"/>
          <p:cNvPicPr/>
          <p:nvPr/>
        </p:nvPicPr>
        <p:blipFill>
          <a:blip r:embed="rId2"/>
          <a:stretch/>
        </p:blipFill>
        <p:spPr>
          <a:xfrm>
            <a:off x="4357800" y="421488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новной этап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71760"/>
            <a:ext cx="4038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ение подробного плана работы по всем видам деятельности с детьми; большая совместная образовательная работа с детьми, родителями для решения поставленных задач; подборка художественных произведений, потешек, загадок, словесных игр по данной теме; блок занятий по ознакомлению с окружающим мир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SAM_0247.JPG"/>
          <p:cNvPicPr/>
          <p:nvPr/>
        </p:nvPicPr>
        <p:blipFill>
          <a:blip r:embed="rId1"/>
          <a:stretch/>
        </p:blipFill>
        <p:spPr>
          <a:xfrm>
            <a:off x="4786200" y="642960"/>
            <a:ext cx="4038840" cy="281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D:\ЗАВУЧ\доу\Воспитатель-2013\фото для портфолио\113PHOTO\SAM_0763.JPG"/>
          <p:cNvPicPr/>
          <p:nvPr/>
        </p:nvPicPr>
        <p:blipFill>
          <a:blip r:embed="rId2"/>
          <a:stretch/>
        </p:blipFill>
        <p:spPr>
          <a:xfrm>
            <a:off x="4818240" y="3714840"/>
            <a:ext cx="40590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ография</cp:lastModifiedBy>
  <dcterms:modified xsi:type="dcterms:W3CDTF">2013-03-21T06:35:19Z</dcterms:modified>
  <cp:revision>11</cp:revision>
  <dc:subject/>
  <dc:title>Воспитание культурно-гигиенические навыки у детей 3-4 лет</dc:title>
</cp:coreProperties>
</file>