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5A0-E788-4A7F-8DBD-BC3F5B8C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20F-446F-4F36-A239-E954DEB7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A5B-39F4-4871-81BF-EBD3AC47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159-7DA5-4338-AC09-8AE0D0BF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2DB-52E3-4DBA-9940-26568DAA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715-F949-44AC-B082-727A916A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824-7EFD-4C97-865B-8CCDAAA0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F71-EA6D-4306-B95E-9C1B523C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7D1-6897-4E14-8262-DC51045E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54B-67D6-45F5-9428-8A537D67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220-0652-4315-9749-3CA624A9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002-6B35-49E7-BD5A-F135A58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DEED-C044-4EAE-BC67-B44F937F57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692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Arial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3714840"/>
            <a:ext cx="417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Работу выполнила ученица 8-Б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Лащёнова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Учитель Максименко В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Дворцовый ансамбль в Петергофе</a:t>
            </a:r>
            <a:br>
              <a:rPr sz="2900"/>
            </a:br>
            <a:r>
              <a:rPr b="1" lang="ru-RU" sz="2000" spc="-1" strike="noStrike">
                <a:solidFill>
                  <a:srgbClr val="f8f8f8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Санкт-Петербур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54400" y="3786120"/>
            <a:ext cx="4703760" cy="278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0" y="3714840"/>
            <a:ext cx="3929040" cy="29462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57120" y="78588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Петерго́ф (нидерл. </a:t>
            </a:r>
            <a:r>
              <a:rPr b="1" i="1" lang="nl-NL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Peterhof</a:t>
            </a:r>
            <a:r>
              <a:rPr b="1" lang="ru-RU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, «двор Петра») — дворцово-парковый ансамбль на южном берегу Финского залива в 29 км от Санкт-Петербург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7_petergof3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0" y="628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  <a:ea typeface="Times New Roman"/>
              </a:rPr>
              <a:t>Поражает огромное количество фонта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7b37e4836d9437fcadf018d2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Центр ансамбля — Большой дворец, построенный на приморской террасе и обращенный к мор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6a00e5517a64b288340147e36815dc970b-800wi.jpg"/>
          <p:cNvPicPr/>
          <p:nvPr/>
        </p:nvPicPr>
        <p:blipFill>
          <a:blip r:embed="rId1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Первый дворец сооружен в стиле «петровского барокко» в 1714—1725 годах, затем достроен в стиле «зрелого барокко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34691876_Neptun_Fountain_Peterho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324589438_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Rossia2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Долина гейзеров на Камчатке</a:t>
            </a: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долина гейзеров 2"/>
          <p:cNvPicPr/>
          <p:nvPr/>
        </p:nvPicPr>
        <p:blipFill>
          <a:blip r:embed="rId1"/>
          <a:stretch/>
        </p:blipFill>
        <p:spPr>
          <a:xfrm>
            <a:off x="4300560" y="1857240"/>
            <a:ext cx="4843440" cy="3214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долина гейзеров"/>
          <p:cNvPicPr/>
          <p:nvPr/>
        </p:nvPicPr>
        <p:blipFill>
          <a:blip r:embed="rId2"/>
          <a:stretch/>
        </p:blipFill>
        <p:spPr>
          <a:xfrm>
            <a:off x="0" y="3429000"/>
            <a:ext cx="4375080" cy="32860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0" y="857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Доли́на ге́йзеров — это одно из наиболее крупных гейзерных полей мира и единственное в Евраз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3843861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0" y="5286240"/>
            <a:ext cx="942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У слияния рек Гейзерная и Шумная на территории около 2 км² находится около 20 крупных гейзеров и множество источников, периодически выбрасывающих фонтаны почти кипящей воды (более 95°С) или горячего па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1341308187_003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0" y="5288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Долина Гейзеров расположена на Камчатке в Кроноцком государственном биосферном заповедн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800" y="213840"/>
            <a:ext cx="52862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2 июня 2008 года в День независимости России на Красной площади были объявлены победители конкурс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Семь чудес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58680" y="189000"/>
            <a:ext cx="90853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5" descr="2468f96cf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61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Столбы выветривания в Коми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285840" y="1071720"/>
            <a:ext cx="8318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Столбы́ выве́тривания — уникальный геологический памятник в Троицко-Печорском районе Республики Коми на горе Мань-Пупу-нёр (что на языке манси означает "Малая гора идолов"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столбы выветривания 2"/>
          <p:cNvPicPr/>
          <p:nvPr/>
        </p:nvPicPr>
        <p:blipFill>
          <a:blip r:embed="rId1"/>
          <a:srcRect l="0" t="22262" r="0" b="0"/>
          <a:stretch/>
        </p:blipFill>
        <p:spPr>
          <a:xfrm>
            <a:off x="1835280" y="1197000"/>
            <a:ext cx="5632200" cy="5661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Твёрдые серицитокварцитовые сланцы, из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сложены останцы, разрушались меньше сохранились до наших дней, а мягкие породы были разрушены выветриванием и снесены водой и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в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3" descr="091110postt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0" y="504180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Останцев 7, высота от 30 до 42 м. С ним связаны многочисленные легенды, прежде всего Столбы Выветривания являлись объектами культа ман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stolbi-vivetrivania1.jpg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0" y="54936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Дождь, снег, ветер, мороз и жара постепенно разрушали горы, и в первую очередь слабые по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9360" y="0"/>
            <a:ext cx="79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оло 200 миллионов лет назад  на месте каменных стол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ыли высокие горы. Проходили тысячелет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Calibri"/>
              </a:rPr>
              <a:t>Собор Василия Блаженного в Москве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собор василия"/>
          <p:cNvPicPr/>
          <p:nvPr/>
        </p:nvPicPr>
        <p:blipFill>
          <a:blip r:embed="rId1"/>
          <a:stretch/>
        </p:blipFill>
        <p:spPr>
          <a:xfrm>
            <a:off x="6316560" y="857160"/>
            <a:ext cx="2827440" cy="425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С"/>
          <p:cNvPicPr/>
          <p:nvPr/>
        </p:nvPicPr>
        <p:blipFill>
          <a:blip r:embed="rId2"/>
          <a:srcRect l="0" t="0" r="17827" b="0"/>
          <a:stretch/>
        </p:blipFill>
        <p:spPr>
          <a:xfrm>
            <a:off x="0" y="2660760"/>
            <a:ext cx="3929040" cy="41972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428760" y="1000080"/>
            <a:ext cx="871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Собор Покрова, что на Р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также называем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Василия Блаженного 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православный хр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расположенны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Красной площа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Китай-города в Моск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4" descr="С"/>
          <p:cNvPicPr/>
          <p:nvPr/>
        </p:nvPicPr>
        <p:blipFill>
          <a:blip r:embed="rId1"/>
          <a:srcRect l="0" t="0" r="17827" b="0"/>
          <a:stretch/>
        </p:blipFill>
        <p:spPr>
          <a:xfrm>
            <a:off x="1214280" y="0"/>
            <a:ext cx="6429600" cy="68724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0" y="50720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. В 1588 году с северо-востока к собору был пристроен придел, освящённый в честь Василия Блаженного, мощи которого находились на месте постройки собора. Название этого придела дало собору второе, обиходное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0_59563_95836e16_XL.jpg"/>
          <p:cNvPicPr/>
          <p:nvPr/>
        </p:nvPicPr>
        <p:blipFill>
          <a:blip r:embed="rId1"/>
          <a:stretch/>
        </p:blipFill>
        <p:spPr>
          <a:xfrm>
            <a:off x="1979640" y="-50760"/>
            <a:ext cx="5329080" cy="69087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Куполов всего 10. Девять куполов над храмом (по числу престолов).  плюс один купол над колокольней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1833476.jpg"/>
          <p:cNvPicPr/>
          <p:nvPr/>
        </p:nvPicPr>
        <p:blipFill>
          <a:blip r:embed="rId1"/>
          <a:stretch/>
        </p:blipFill>
        <p:spPr>
          <a:xfrm>
            <a:off x="1692360" y="-25560"/>
            <a:ext cx="5400720" cy="68835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В старину Собор Василия Блаженного имел 25 куполов, обозначавших Господа и 24-х старцев, сидящих у престола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3" descr="sobor2.jpg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69134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"/>
          <p:cNvSpPr/>
          <p:nvPr/>
        </p:nvSpPr>
        <p:spPr>
          <a:xfrm>
            <a:off x="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Покровский собор был построен в 1555—60 годах по приказу Ивана Грозного в память о взятии Казани и победе над Казанским хан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66438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Озеро Байкал</a:t>
            </a: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(Иркутская область, Бурят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Байкал2"/>
          <p:cNvPicPr/>
          <p:nvPr/>
        </p:nvPicPr>
        <p:blipFill>
          <a:blip r:embed="rId1"/>
          <a:stretch/>
        </p:blipFill>
        <p:spPr>
          <a:xfrm>
            <a:off x="4951440" y="3643200"/>
            <a:ext cx="4192560" cy="285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байкал 3"/>
          <p:cNvPicPr/>
          <p:nvPr/>
        </p:nvPicPr>
        <p:blipFill>
          <a:blip r:embed="rId2"/>
          <a:stretch/>
        </p:blipFill>
        <p:spPr>
          <a:xfrm>
            <a:off x="19080" y="3643200"/>
            <a:ext cx="4348080" cy="2835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357120" y="115272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Байкал находится в центре Азии, на границе Иркутской области и Республики Бурятия. Озеро протянулось с севера на юго-запад на 636 км в виде гигантского полумесяца. Ширина Байкала колеблется от 25 до 80 к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8743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Мамаев Курган</a:t>
            </a: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и Родина-мать</a:t>
            </a:r>
            <a:br>
              <a:rPr sz="4800"/>
            </a:br>
            <a:r>
              <a:rPr b="1" lang="en-US" sz="2000" spc="-1" strike="noStrike">
                <a:solidFill>
                  <a:srgbClr val="f8f8f8"/>
                </a:solidFill>
                <a:latin typeface="Calibri"/>
              </a:rPr>
              <a:t>(Волгогра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9" descr="маев курган 2"/>
          <p:cNvPicPr/>
          <p:nvPr/>
        </p:nvPicPr>
        <p:blipFill>
          <a:blip r:embed="rId1"/>
          <a:stretch/>
        </p:blipFill>
        <p:spPr>
          <a:xfrm>
            <a:off x="5929200" y="4143240"/>
            <a:ext cx="3789360" cy="25131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428760" y="785880"/>
            <a:ext cx="842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Мама́ев курга́н расположен на месте ожесточённых боёв во время Сталинградской битвы  продолжительностью 200 дней. Контроль за «высотой 102,0», как обозначался Мамаев курган на военных картах, неоднократно переходил от советских войск к немецким и наоборот, так как занимал главенствующую позицию над центральной частью Сталинграда и Волг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3" descr="4288059.jpg"/>
          <p:cNvPicPr/>
          <p:nvPr/>
        </p:nvPicPr>
        <p:blipFill>
          <a:blip r:embed="rId1"/>
          <a:stretch/>
        </p:blipFill>
        <p:spPr>
          <a:xfrm>
            <a:off x="2143080" y="0"/>
            <a:ext cx="4896000" cy="68547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0" y="49197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В 1588 году с северо-востока к собору был пристроен придел, освящённый в честь Василия Блаженного, мощи которого находились на месте постройки собора. Название этого придела дало собору второе, обиходное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1213300336.jpg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538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Строительство монумента было начато в мае 1959 года и завершено 15 октября 1967 года. Скульптура на момент создания была самым высоким в мире извая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Содержимое 3" descr="i-2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0" y="5934240"/>
            <a:ext cx="917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Статуя является аллегорическим образом Родины, зовущей своих сыновей на бой с вр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8840" y="14256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Гора Эльбрус</a:t>
            </a:r>
            <a:br>
              <a:rPr sz="2900"/>
            </a:br>
            <a:r>
              <a:rPr b="1" lang="ru-RU" sz="2500" spc="-1" strike="noStrike">
                <a:solidFill>
                  <a:srgbClr val="f8f8f8"/>
                </a:solidFill>
                <a:latin typeface="Calibri"/>
              </a:rPr>
              <a:t>(Кабардино-Балкария, Карачаево-Черкесия)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эльбрус"/>
          <p:cNvPicPr/>
          <p:nvPr/>
        </p:nvPicPr>
        <p:blipFill>
          <a:blip r:embed="rId1"/>
          <a:stretch/>
        </p:blipFill>
        <p:spPr>
          <a:xfrm>
            <a:off x="1643040" y="2827440"/>
            <a:ext cx="6072120" cy="38876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428760" y="100008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  <a:ea typeface="Arial"/>
              </a:rPr>
              <a:t>Эльбру́с — гора на Кавказе, на границе республик Кабардино-Балкария и Карачаево-Черкес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169.jpg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0" y="5041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Эльбрус называют также высочайшей европейской горной вершиной. Эльбрус — это двувершинный конус вулкана. Западная вершина имеет высоту 5642 м, Восточная — 5621 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45507.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-14400" y="5337000"/>
            <a:ext cx="915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Эльбрус расположен севернее Главного Кавказского Хребта и является высочайшей вершиной России. Учитывая, что границы части света Европы неоднозначны, неред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3" descr="6246398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1" descr=""/>
          <p:cNvPicPr/>
          <p:nvPr/>
        </p:nvPicPr>
        <p:blipFill>
          <a:blip r:embed="rId1"/>
          <a:stretch/>
        </p:blipFill>
        <p:spPr>
          <a:xfrm>
            <a:off x="298440" y="2309760"/>
            <a:ext cx="85471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4303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0" y="537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исхождение Байкала до сих пор вызывает научные сп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327610016_10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Возраст озера учёные традиционно определяют в 25−35 млн лет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325118462393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0" y="48261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Этот факт также делает Байкал уникальным природным объектом, так как большинство озёр, особенно ледникового происхождения, живут в среднем 10−15 тыс. лет, а потом заполняются илистыми осадками и заболачи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f65a6c94e559442e18d0aeab3ca6344b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Происхождение названия озера точно не установл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article_image-image-artic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0" y="5041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Наиболее распространённые версии происхождения «Байкал»: Бай-Куль (тюрк.) — богатое озеро; Байгаал-Далай (монг.) — богатый огонь; Бэй-Хай (кит.) — северное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dd36e08a39f184b679839bfc9a9.jpg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f8f8f8"/>
                </a:solidFill>
                <a:latin typeface="Calibri"/>
              </a:rPr>
              <a:t>Вид озера Байкал из космос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16:41Z</dcterms:created>
  <dc:creator>pavel</dc:creator>
  <dc:description/>
  <dc:language>en-US</dc:language>
  <cp:lastModifiedBy>Егорлыкский фил. РКТ</cp:lastModifiedBy>
  <dcterms:modified xsi:type="dcterms:W3CDTF">2013-03-24T22:39:42Z</dcterms:modified>
  <cp:revision>50</cp:revision>
  <dc:subject/>
  <dc:title>Семь чудес России</dc:title>
</cp:coreProperties>
</file>