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1.jpeg" ContentType="image/jpeg"/>
  <Override PartName="/ppt/media/image23.wmf" ContentType="image/x-wmf"/>
  <Override PartName="/ppt/media/image9.png" ContentType="image/png"/>
  <Override PartName="/ppt/media/image10.wmf" ContentType="image/x-wmf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6.wmf" ContentType="image/x-wmf"/>
  <Override PartName="/ppt/media/image2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25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E06-7E46-4C3D-816A-B868390C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B3F-5CEC-44B0-83CE-A17C9346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D4D-F16D-420E-8AB4-3DD509A6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785-6B6E-4592-B6CF-FAFA8FA8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3A850-550C-42FE-A401-593ED0D38B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2A219-0241-47A8-84BC-396A5E7385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62E3D-A58B-4992-B63A-ED399AFAF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615EB-24C9-4CBB-A00F-2E030D17B8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1FF52-7C68-461F-B370-94CC1F4774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3E544-2203-419C-8474-8F9D8126EA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EF573-8274-44CB-8237-2BC5AAB5B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713-E6F2-4EF8-ADCB-97D93641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440BE-F206-4E8C-888F-6A4FC1B8B2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9A860-2759-48A8-BDE4-4A8ABB2AD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617D2-45D5-4948-9253-531E39884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4CA75-30EB-4BE2-92F1-0843E9736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42191-46A4-4E07-B026-CD660B2311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7E5-2220-4948-BAA1-7BA09B23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024-1008-4ED1-AA5A-86D1F5D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7104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092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0800" y="8015040"/>
            <a:ext cx="2513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9AD-9734-443D-A47A-0F1BB87D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037-9615-44BC-829D-F36B31BF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9DC-0981-4439-813D-66B2E27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801504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B93-7AA3-42B9-957D-0801AE76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015040"/>
            <a:ext cx="780732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AE7-9224-4F12-A292-03AE994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6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3744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3744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82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790ABE-7269-4F11-898F-9BE087723AA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600" y="2739960"/>
            <a:ext cx="62942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1F14C4-BD9D-4AFF-8A23-6B6BB2FACF34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520" y="569520"/>
            <a:ext cx="636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2130480" y="1906560"/>
            <a:ext cx="6348240" cy="13714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1169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История ЭВ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: Славицкий Влад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 8Б класса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508720" y="2206800"/>
            <a:ext cx="2824200" cy="3612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81800" y="2611440"/>
            <a:ext cx="2952720" cy="26287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427640" y="22780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02160" y="2060640"/>
            <a:ext cx="424512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148360" y="33480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34200" y="166680"/>
            <a:ext cx="27003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Times New Roman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181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294160" y="2419200"/>
            <a:ext cx="3278520" cy="2794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Times New Roman"/>
                <a:ea typeface="msminch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869000" y="384660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19440" y="5105880"/>
            <a:ext cx="1663200" cy="1655280"/>
            <a:chOff x="-19440" y="5105880"/>
            <a:chExt cx="1663200" cy="1655280"/>
          </a:xfrm>
        </p:grpSpPr>
        <p:sp>
          <p:nvSpPr>
            <p:cNvPr id="168" name=""/>
            <p:cNvSpPr/>
            <p:nvPr/>
          </p:nvSpPr>
          <p:spPr>
            <a:xfrm rot="3840000">
              <a:off x="913680" y="5759640"/>
              <a:ext cx="609840" cy="647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3840000">
              <a:off x="248040" y="5215680"/>
              <a:ext cx="728640" cy="774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3840000">
              <a:off x="139680" y="5778360"/>
              <a:ext cx="809640" cy="860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15920"/>
            <a:ext cx="1584360" cy="1665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ска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0560" y="21351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/>
  <dcterms:modified xsi:type="dcterms:W3CDTF">2013-01-18T09:02:27Z</dcterms:modified>
  <cp:revision>8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