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11.jpeg" ContentType="image/jpeg"/>
  <Override PartName="/ppt/media/image23.wmf" ContentType="image/x-wmf"/>
  <Override PartName="/ppt/media/image9.png" ContentType="image/png"/>
  <Override PartName="/ppt/media/image10.wmf" ContentType="image/x-wmf"/>
  <Override PartName="/ppt/media/image7.jpeg" ContentType="image/jpe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6.wmf" ContentType="image/x-wmf"/>
  <Override PartName="/ppt/media/image2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25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D7F-B8C9-4C07-9B65-B71CA39A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EC9-100D-4FA1-A0CA-0F424D66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B94-8E4C-42E1-9113-C129F0AF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0A9-D335-4BAB-811B-E098BC42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B24CD-F9BB-4FA9-80E9-287F7482A1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F7D41-EBE1-48ED-B263-968F6DBC68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F22E5-40A6-47CC-8A14-ED9E54C6DE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2BFF7-ACAA-4301-A3FF-A7C31C8DDE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99921-17C7-45BA-A7A1-20AA6973DA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D8A95-7B51-48F3-B221-4E80B6107D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B9CCA-C0CA-4E26-9944-EE5C0F6750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37C-18B3-4B89-B0C7-3F144AF9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E89A2-2C38-43A6-B16E-9B6D5D4920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03BD6-FBD7-46CB-9A1A-D9111E7488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24D6F-1769-45CF-9D5B-54D0BDF3AB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BE89D-ECB7-4040-A1A8-ED1DA2D286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6193B-FBD8-4ED9-84CB-042239FFEB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7C7-8A90-42C0-AFD8-77FF30CD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867-DCBE-446F-B5D7-054429A4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3C6-93EB-4BC5-8678-1D7AED18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BD7-84B4-4885-A4C8-4D7EF34C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FE4-BDEF-46CE-A5CE-E57D05E4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A2A-324F-4E56-9837-5BE32CC6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C2E-2579-4422-BA60-8FB5AD7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6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3744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3744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82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F0A6FC-DFED-41A3-9562-9EA3D1043A7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600" y="2739960"/>
            <a:ext cx="62942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9B168CE-E842-43F0-8D62-C2AFC73E1E2A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17520" y="569520"/>
            <a:ext cx="6360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130480" y="1906560"/>
            <a:ext cx="6348240" cy="13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64087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История ЭВ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716280"/>
            <a:ext cx="62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: Славицкий Влад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5388120"/>
            <a:ext cx="305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к 8Б класса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320364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508200" cy="44528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ut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(буквально —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48 году появил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Cur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небольшой механический калькулятор, который можно было держать в одной ру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508720" y="2206800"/>
            <a:ext cx="2824200" cy="36129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25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81800" y="2611440"/>
            <a:ext cx="2952720" cy="26287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36 году, работая в изоляции в нацистской Германии, Конра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Цуз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224920" y="5972040"/>
            <a:ext cx="91908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7640" y="148392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27640" y="2278080"/>
            <a:ext cx="4316400" cy="32367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4248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2000" spc="-1" strike="noStrike">
                <a:solidFill>
                  <a:srgbClr val="e9770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619880" cy="3465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288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02160" y="2060640"/>
            <a:ext cx="4245120" cy="36734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148360" y="334800"/>
            <a:ext cx="3673440" cy="2630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673440" cy="29242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34200" y="166680"/>
            <a:ext cx="270036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7640" y="1341360"/>
            <a:ext cx="431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программ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245120" cy="4032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 транзисто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ычно говорят как о «втором поколении», которое доминирова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 1950-х и начале 1960-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7200" cy="23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Times New Roman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«Сетунь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718160" y="2133720"/>
            <a:ext cx="4056120" cy="3043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405560" y="5030640"/>
            <a:ext cx="173844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и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зня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208400" cy="33019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46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льтимедийный персональный 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294160" y="2419200"/>
            <a:ext cx="3278520" cy="27943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245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ба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чёты).</a:t>
            </a:r>
            <a:r>
              <a:rPr b="0" lang="ru-RU" sz="3200" spc="-1" strike="noStrike">
                <a:solidFill>
                  <a:srgbClr val="e9770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4969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2400" spc="-1" strike="noStrike">
                <a:solidFill>
                  <a:srgbClr val="e9770a"/>
                </a:solidFill>
                <a:latin typeface="Times New Roman"/>
                <a:ea typeface="msminch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869000" y="3846600"/>
            <a:ext cx="4103640" cy="32306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-19440" y="5105880"/>
            <a:ext cx="1663200" cy="1655280"/>
            <a:chOff x="-19440" y="5105880"/>
            <a:chExt cx="1663200" cy="1655280"/>
          </a:xfrm>
        </p:grpSpPr>
        <p:sp>
          <p:nvSpPr>
            <p:cNvPr id="168" name=""/>
            <p:cNvSpPr/>
            <p:nvPr/>
          </p:nvSpPr>
          <p:spPr>
            <a:xfrm rot="3840000">
              <a:off x="913680" y="5759640"/>
              <a:ext cx="609840" cy="647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3840000">
              <a:off x="248040" y="5215680"/>
              <a:ext cx="728640" cy="774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3840000">
              <a:off x="139680" y="5778360"/>
              <a:ext cx="809640" cy="860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15920"/>
            <a:ext cx="1584360" cy="1665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скал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88840" y="1952640"/>
            <a:ext cx="736452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01 год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Жозеф Мари Жакк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4316400" cy="2197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0560" y="2135160"/>
            <a:ext cx="4316400" cy="33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5075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67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21Z</dcterms:created>
  <dc:creator>Zver</dc:creator>
  <dc:description/>
  <cp:keywords>"PowerLexis" - Презентационное агентство</cp:keywords>
  <dc:language>en-US</dc:language>
  <cp:lastModifiedBy/>
  <dcterms:modified xsi:type="dcterms:W3CDTF">2013-01-18T09:02:27Z</dcterms:modified>
  <cp:revision>8</cp:revision>
  <dc:subject/>
  <dc:title>   История ЭВ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e000000000001023620</vt:lpwstr>
  </property>
</Properties>
</file>