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9E6-6F68-4611-A42F-57449CF8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DCB-14FF-4FAC-B06D-6E2B721F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447-A421-4745-A062-A3ED027D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C66-1D42-42C6-846C-C9A0D6AC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313-4AB2-42B5-91F6-F1D9613A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5A72-7523-4735-B73A-C4ED31A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6AAA-8E8D-4732-9739-8EB548E2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7A5D-03F1-47E8-B92A-A021A56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F23D-0B5B-431D-9369-F229CCC0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7BBC-63B0-4A5A-9B52-B754205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68E3-6ABB-4D42-8B40-45C55F0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7C8-4104-419E-8913-491452F4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E280-56A6-4858-A4DE-63D5369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20DE-BAE9-46BC-B80B-DC8D6B4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131A-709E-4202-B0A1-97395282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576-8130-472B-A706-65DF4DA8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E02-68FC-4F44-B379-7DB665E6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AC2-906B-45E5-B023-D1CD7863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2B4-FB31-400C-A384-558B1068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CC6-3C80-4AF0-81BD-EF87A81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873-FDD8-45DC-A5E4-F9E68CDB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ECB-8EB2-4E6A-91C1-A259120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B37-B7A5-4833-81B7-FB733BE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6B2-42F0-4E58-BF2C-BB8E09D0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09B4-E7CF-4E81-907C-7D19B63582C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D0C8-2CE5-496F-9245-B43C97080F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35453041"/>
          <p:cNvPicPr/>
          <p:nvPr/>
        </p:nvPicPr>
        <p:blipFill>
          <a:blip r:embed="rId1"/>
          <a:stretch/>
        </p:blipFill>
        <p:spPr>
          <a:xfrm>
            <a:off x="826920" y="-171360"/>
            <a:ext cx="7345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779356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68434893_image13"/>
          <p:cNvPicPr/>
          <p:nvPr/>
        </p:nvPicPr>
        <p:blipFill>
          <a:blip r:embed="rId1"/>
          <a:stretch/>
        </p:blipFill>
        <p:spPr>
          <a:xfrm>
            <a:off x="97164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C:\Documents and Settings\Admin\Рабочий стол\20060313.snowgirl-3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2684520" y="5805360"/>
            <a:ext cx="6459480" cy="9144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5bb0"/>
                </a:solidFill>
                <a:latin typeface="Times New Roman"/>
              </a:rPr>
              <a:t>А.Н.Римский – Корсаков фрагмент оперы  - хор «Прощай, Маслен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7aaec465a0dddae8dfd39ef3dfcf3c1"/>
          <p:cNvPicPr/>
          <p:nvPr/>
        </p:nvPicPr>
        <p:blipFill>
          <a:blip r:embed="rId1"/>
          <a:stretch/>
        </p:blipFill>
        <p:spPr>
          <a:xfrm>
            <a:off x="-181080" y="0"/>
            <a:ext cx="9109080" cy="7389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987640" y="6237360"/>
            <a:ext cx="5688000" cy="765000"/>
          </a:xfrm>
          <a:prstGeom prst="rect">
            <a:avLst/>
          </a:prstGeom>
          <a:solidFill>
            <a:srgbClr val="6bb1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.А. Римский – Корсаков опера « Снегуроч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_212b4_482915e2_XL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3995640" y="6021360"/>
            <a:ext cx="3961080" cy="720720"/>
          </a:xfrm>
          <a:prstGeom prst="rect">
            <a:avLst/>
          </a:prstGeom>
          <a:gradFill rotWithShape="0">
            <a:gsLst>
              <a:gs pos="0">
                <a:srgbClr val="815f94"/>
              </a:gs>
              <a:gs pos="100000">
                <a:srgbClr val="815f94"/>
              </a:gs>
            </a:gsLst>
            <a:lin ang="8340000"/>
          </a:gradFill>
          <a:ln w="9360">
            <a:solidFill>
              <a:srgbClr val="755388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Б. Кустодиев « Зима. Масленичное гулянь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486de5b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obichai"/>
          <p:cNvPicPr/>
          <p:nvPr/>
        </p:nvPicPr>
        <p:blipFill>
          <a:blip r:embed="rId1"/>
          <a:stretch/>
        </p:blipFill>
        <p:spPr>
          <a:xfrm>
            <a:off x="539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2"/>
          <p:cNvSpPr/>
          <p:nvPr/>
        </p:nvSpPr>
        <p:spPr>
          <a:xfrm>
            <a:off x="3348000" y="5805360"/>
            <a:ext cx="4969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354a0"/>
              </a:gs>
              <a:gs pos="100000">
                <a:srgbClr val="6354a0"/>
              </a:gs>
            </a:gsLst>
            <a:lin ang="8340000"/>
          </a:gradFill>
          <a:ln w="9360">
            <a:solidFill>
              <a:srgbClr val="5748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удожник Б. Кустодиев « Маслени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7d00968bf377deff2fee740be2a8f9a_full"/>
          <p:cNvPicPr/>
          <p:nvPr/>
        </p:nvPicPr>
        <p:blipFill>
          <a:blip r:embed="rId1"/>
          <a:stretch/>
        </p:blipFill>
        <p:spPr>
          <a:xfrm>
            <a:off x="900000" y="115920"/>
            <a:ext cx="7201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71640" y="0"/>
          <a:ext cx="7416720" cy="6858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14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не зря в народе говорили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лины брюхо не портя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 на масляной неделе - в потолок блины летел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а горках покататься, в блинах повалятьс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житье, а маслениц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Хоть с себя все заложить, а масленицу проводит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все коту масленица, будет и Великий Пос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асленица объедуха, деньги приберух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линцы, блинчики, блины, как колеса у Весн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асленица – блиноеда, накормила людей и сама  - за плетень!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aslenica-foto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8010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9T18:38:56Z</dcterms:modified>
  <cp:revision>6</cp:revision>
  <dc:subject/>
  <dc:title>Слайд 1</dc:title>
</cp:coreProperties>
</file>