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65E-FADB-4A83-8598-70DF9C95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9C5-98E7-49EF-B9AD-ADAE58F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A29-4DD4-483A-92B8-D35E2BDD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9E1-5C25-4CD3-82F3-8B44C8BC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EF2A-AE2B-498E-AEFB-6603DF9A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7CE4-C62C-4D32-83C1-0376A3FE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1282-3766-4F92-AC54-DAB7A9D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F332-77DE-4F9F-8F2A-ADF680AC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654D-1F8D-4BF6-82DB-4A689B9D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264-5013-402B-8AC0-E2A2BB30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FF89-4437-4E39-972E-D58DE70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962-9D69-49B6-BCC9-DFEA9DE7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163-0564-41A7-91FD-0C2D9F7F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07A-DC66-4590-86E4-5893AA26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E8C4-2E46-44EE-B13D-EE699AF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97F3-0BDD-414D-9410-3A1CB394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1F3-6FFB-4FA3-94D4-97BE7EEE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2F7-F886-4797-95AF-6A926A6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7CF-D0D8-4216-BA89-6AD6621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461-D799-440B-BCEC-B070FF5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4DF-7A9F-46CB-964E-2A99ECC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64E-C06E-40D5-AC83-7A3B538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DF7-EB50-4870-872C-07152AD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A96-2990-4958-A4D2-06F5C3C8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6B5-05F7-4635-A4D3-93083A0E630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F73-8831-4812-9208-0538129E107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35453041"/>
          <p:cNvPicPr/>
          <p:nvPr/>
        </p:nvPicPr>
        <p:blipFill>
          <a:blip r:embed="rId1"/>
          <a:stretch/>
        </p:blipFill>
        <p:spPr>
          <a:xfrm>
            <a:off x="826920" y="-171360"/>
            <a:ext cx="734544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779356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68434893_image13"/>
          <p:cNvPicPr/>
          <p:nvPr/>
        </p:nvPicPr>
        <p:blipFill>
          <a:blip r:embed="rId1"/>
          <a:stretch/>
        </p:blipFill>
        <p:spPr>
          <a:xfrm>
            <a:off x="97164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C:\Documents and Settings\Admin\Рабочий стол\20060313.snowgirl-3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3"/>
          <p:cNvSpPr/>
          <p:nvPr/>
        </p:nvSpPr>
        <p:spPr>
          <a:xfrm>
            <a:off x="2684520" y="5805360"/>
            <a:ext cx="6459480" cy="9144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5bb0"/>
                </a:solidFill>
                <a:latin typeface="Times New Roman"/>
              </a:rPr>
              <a:t>А.Н.Римский – Корсаков фрагмент оперы  - хор «Прощай, Маслен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7aaec465a0dddae8dfd39ef3dfcf3c1"/>
          <p:cNvPicPr/>
          <p:nvPr/>
        </p:nvPicPr>
        <p:blipFill>
          <a:blip r:embed="rId1"/>
          <a:stretch/>
        </p:blipFill>
        <p:spPr>
          <a:xfrm>
            <a:off x="-181080" y="0"/>
            <a:ext cx="9109080" cy="73897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987640" y="6237360"/>
            <a:ext cx="5688000" cy="765000"/>
          </a:xfrm>
          <a:prstGeom prst="rect">
            <a:avLst/>
          </a:prstGeom>
          <a:solidFill>
            <a:srgbClr val="6bb1c9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.А. Римский – Корсаков опера « Снегуроч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_212b4_482915e2_XL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3995640" y="6021360"/>
            <a:ext cx="3961080" cy="720720"/>
          </a:xfrm>
          <a:prstGeom prst="rect">
            <a:avLst/>
          </a:prstGeom>
          <a:gradFill rotWithShape="0">
            <a:gsLst>
              <a:gs pos="0">
                <a:srgbClr val="815f94"/>
              </a:gs>
              <a:gs pos="100000">
                <a:srgbClr val="815f94"/>
              </a:gs>
            </a:gsLst>
            <a:lin ang="8340000"/>
          </a:gradFill>
          <a:ln w="9360">
            <a:solidFill>
              <a:srgbClr val="755388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удожник Б. Кустодиев « Зима. Масленичное гулянь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486de5b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obichai"/>
          <p:cNvPicPr/>
          <p:nvPr/>
        </p:nvPicPr>
        <p:blipFill>
          <a:blip r:embed="rId1"/>
          <a:stretch/>
        </p:blipFill>
        <p:spPr>
          <a:xfrm>
            <a:off x="539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2"/>
          <p:cNvSpPr/>
          <p:nvPr/>
        </p:nvSpPr>
        <p:spPr>
          <a:xfrm>
            <a:off x="3348000" y="5805360"/>
            <a:ext cx="4969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354a0"/>
              </a:gs>
              <a:gs pos="100000">
                <a:srgbClr val="6354a0"/>
              </a:gs>
            </a:gsLst>
            <a:lin ang="8340000"/>
          </a:gradFill>
          <a:ln w="9360">
            <a:solidFill>
              <a:srgbClr val="5748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удожник Б. Кустодиев « Маслениц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7d00968bf377deff2fee740be2a8f9a_full"/>
          <p:cNvPicPr/>
          <p:nvPr/>
        </p:nvPicPr>
        <p:blipFill>
          <a:blip r:embed="rId1"/>
          <a:stretch/>
        </p:blipFill>
        <p:spPr>
          <a:xfrm>
            <a:off x="900000" y="115920"/>
            <a:ext cx="720108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971640" y="0"/>
          <a:ext cx="7416720" cy="68580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14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 не зря в народе говорили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Блины брюхо не портя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Как на масляной неделе - в потолок блины летел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а горках покататься, в блинах повалятьс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житье, а маслениц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Хоть с себя все заложить, а масленицу проводит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Не все коту масленица, будет и Великий Пос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асленица объедуха, деньги приберух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Блинцы, блинчики, блины, как колеса у Весны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асленица – блиноеда, накормила людей и сама  - за плетень!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aslenica-foto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8010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9T18:38:56Z</dcterms:modified>
  <cp:revision>6</cp:revision>
  <dc:subject/>
  <dc:title>Слайд 1</dc:title>
</cp:coreProperties>
</file>