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chimes.wav" ContentType="audio/x-wav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CF0-6791-4E15-B37D-136AE44270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691A-B777-4556-80B3-B389D34029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C88B-B0A4-40C5-BD54-77ECE7A67F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6C49-39BA-490B-B30F-66274AE106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61FA-2C17-41C7-985B-2CB387DC8F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3AD1-FE2C-44A1-B565-1CF3F5E290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881A-B1C2-4911-B06B-E6E7D1C661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1E8B-4BCB-42C4-9CCD-F477DFFF13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CBAB-6394-4DA4-B699-1BE31AB1E64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CD3-0252-4056-8F30-72E9548E7C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8B3-A855-4BD6-9F12-A1726BC5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75F-B6FD-4422-A021-7B6730E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89B10-DEB8-484B-AA9F-FBF4ED2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D812B-E256-4218-AFB7-6F0FD1F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8E57F-C08C-441D-AB5C-23A6C22B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4EE2A-5FAE-4209-89AB-5504B82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64C3C-A399-4650-B5FF-6B76BE5B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1A31D-13B3-4A29-8115-16F23D9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5AFC3-EAD0-46DE-A36C-B8329B9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7131D-0CB0-4959-9C2B-2A20DF8D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28619-FAC2-4675-9E9F-7A47D4B9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C4BAA-B466-4B18-97FC-610E8BB2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75D-85FE-47D9-BA2C-F92BEC5F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E9FE3-967C-45C4-8E6D-13CA9C7D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04D10-2888-4724-87B8-F9DF23A7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853D5-03C5-4986-AC8D-7CE19652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295D0-72F0-4DB9-8D89-090E0DED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897BD-B9D1-4B64-A041-DD649D7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A07C7-BDC7-4A49-8482-15D6137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AFE5-AD3E-487A-834C-6FB808D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B4C15-22AC-4967-84A1-86BF3D5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6ECE9-F110-44E3-BF43-7803DB7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19D7A-0088-4C04-9EF0-CA6BFB9E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941-871E-4CAC-A286-DF44D5D7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7FE5A-3172-43EF-9EEE-82123F7D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EC98F-04C5-470C-9012-C1323749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CC36D-8A39-4ED2-8169-ED6C213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420EC-152A-4B8E-BE28-0DAFB4D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9BF1B-7270-46ED-AAD1-85DC62DD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AD18-C00B-42EA-8912-7FDE3AB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635F3-F639-4AC8-80AF-390AB9AB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843FF-C23D-480D-AD33-F354DC2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4AE7-5D0D-45BD-817E-9D6F72E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E6DE4-10CD-4E2B-B56A-B9538FE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2137-7C78-4AEA-A7BD-B647AC38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290D8-56A6-4A87-8F8E-4760D29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A07EE-96FA-4047-AEA8-BD6A69D7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2AB33-C460-4F87-B001-2FD35E42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DDE62-0EC5-436B-AA99-4A332D3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9EA11-ACF2-47C9-950F-ECFA08D8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B791-EBDC-49AB-B690-DE4042F7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9E9F6-58E6-45FE-B1BD-A9539DA3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7F6C8-4DBD-4974-B3C6-2AC42A92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2407D-0263-4C26-A2FA-95BDE26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68AD4-995E-42B2-8D6E-7E172E74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F59A-5A48-488F-8DF7-715FE91F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B7D13-C84F-4FCE-83CF-BCD0BB1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AA096-294E-465C-A6C6-3BB74BC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9D0C9-1027-4466-93C2-FF5743D8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28D3F-1381-494E-B429-F4CD0D07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AD32D-71F5-459A-9BB2-813FDC35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6919D-2524-44B9-A6E7-9984293B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2E872-A05E-4CB9-BF9E-588781DD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C8DDA-7A9B-48BB-B4C7-06A27B8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1E62D-1D54-4501-BB77-4DFDAA0A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BB764-07C0-4534-A929-38686D3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4868-A227-4FFD-9DA1-3156B49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3D5B0-87BD-41F6-AE12-0D503BA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4C526-B68D-41A3-9162-5FEE509E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6BF96-67A9-4DC9-98A9-3DD6591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2F0C9-F19C-4C43-83E8-0680DA6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CB743-0D7F-4937-86A2-B76E789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A6DAC-B989-4C90-9E10-A0DF8EE1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AA2F3-FF25-49F5-A331-CE120C6A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D3D67-0B5A-40C1-8F6E-11EA9BF0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86A84-1D51-4C19-AFBC-A98DEBFA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432F3-02F8-4AA1-901A-65763210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43BC-DF3C-4C1A-8CC7-5A3F354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85162-263F-4E3D-972B-B6173E91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C032D-270E-4A77-B15C-2CFAC208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14698-36BE-45EF-AB85-F1FE3E9A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94DF0-1A99-44DC-9D67-B881621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68F48-B971-4D0E-9110-9730655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75BAE-6E9B-43D2-A959-AD257ACA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975BC-F217-4172-A63A-4230E828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D645B-ACF5-47EF-B5D5-724BA9CE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127A8-14F0-4205-B4B8-56B3CC5A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3F4C4-8309-4C62-BA95-6B7EAC90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5D6-6F7D-4D38-A918-B950F2D6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0CA07-A727-4F7D-BDEE-2A51F029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895A9-FAEC-47EB-87DF-4A2B98C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82882-F3C4-4BB7-9D74-239115E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54010-F0EE-406F-990A-10BC9288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10524-744D-4C3A-9C21-E313533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B7FA6-00FE-45A1-953F-13F082A9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B0097-9887-4955-924A-319DCB3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4D520-9BDE-4E51-92EA-B927E5F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582F8-D4FE-47EB-9781-D2C417C7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68697-2497-4512-B0ED-E4F7A52B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5661-FE47-4524-82DD-E95C23B9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7C8F4-58E5-44A5-9C55-E733A05B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FFE-1F96-440E-B897-0F5D713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C05-BEB4-4D4E-989D-03A252E9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D8D6-598A-4863-A60F-0329ACC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928E-6540-42A1-B314-50B77E3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CFB-1CA2-4745-BED1-EDBBBE2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29A-DA05-49EF-8938-42C0CABF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67FC-E03C-4C3B-8221-B365824F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9895-91E8-4C5D-9CF5-0D3BA6F0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8FC8-F12B-47BE-B235-EC389BD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6119-5538-4D68-A3BA-D53F9D35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046F-BC52-4DAA-A5B9-AADDC391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156B-E45C-43AE-92AB-3AC029D5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08D-1580-42AB-AB7A-0E913C8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6924-96F0-4A77-9233-0B3A8A0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3C05-8DDB-48F3-B7BE-F6A6F7C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8258-0ABD-42C5-AE66-C6CA873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4B95-509E-4160-B63E-46FFC76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149F-8F7C-471D-9E9F-C01BDD5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E6AC-F51C-4014-84B5-C91FC9EF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2A40-F795-4E9A-878F-1F1F23B2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75F4-0C6B-4121-9E06-A5CE474C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005DC-EB3A-495A-900B-BCBE4403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EEE7-DE52-4C0E-952D-8FC5AB9D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D06-4E15-4D7A-ADDC-5C26DCA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88D6-C74A-4DD0-A22A-FEC2C78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2D62-A5B8-43EF-9919-DEBDD704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8647-178D-4EAD-A45D-8DD9772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0AF77-5ED9-424B-83E2-1F9EA79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A0CBF-DC70-40A7-BFA0-DE7E14BD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E487-CF40-45D7-9FE0-5716E82F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3860-CAD2-4143-9BC7-51FBE3D8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CDBB-3BAA-4F30-A0E7-10E48C52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3F7E-356F-4CBB-8554-B3852288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B1EF-BB41-49BE-ABF2-65D9E1C5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283-3794-41A2-B7E8-30B7A9F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80EE-3467-431B-BEA0-AAD891C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2EC2-F807-4B0B-81F4-4AECF07F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77F1-1DC2-4FF9-BA23-1FE9FC0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DA6D-1C07-4B60-A643-D51275F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EA44E-8D9E-429F-A67F-F02B6A2D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F8269-E6EA-412A-941F-7309A65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27A8-500E-4EE1-9F25-2CAC172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5705-BE58-4FB2-8714-7DA650E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4492-8641-4008-8A5E-601282BA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ACA3-44E4-44D7-ACB7-C3F6E7D1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C94-D54D-48D9-89C3-404FCD8D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66E4B-19F8-470A-9FC9-5D44C01B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7278-A3C1-44D7-9388-2BA5D67B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AA02-F6A5-410A-B228-CB594CD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ABEA1-0E38-4338-9634-7AE2D8C2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3FA01-4134-4450-BBA5-FC7BA1CA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9A69-CE7E-4ADD-A844-248652A0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DBA87-09DE-4BB3-B47E-925A17C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68ED-9C9E-4488-AD14-60CB505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0C239-5958-4450-BF24-10DF91B4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4513-2A0A-40AF-B257-0DA6542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774-836C-4AF4-B428-3624BEC1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8E632-CAFC-4213-865A-F5732FC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8B53-439E-40E4-AF84-3BC8DD34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7772-776E-4C1D-A098-1C17BB87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5BAE-1710-4724-9F58-0EF70FAE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D013-1FEE-4FE2-B55A-CFBF66E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161A9-B2CE-409F-B281-6AD93CED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9834-7B21-4C48-9A6A-A879233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14C98-F20B-468D-BE8E-FB78E8F9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1B66-D92B-429F-ACFB-813CA5A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75BF-E2D6-407C-A32A-8AA4E9B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C41-2A4D-4118-B229-19BA509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4074-F0AF-4578-A86A-BF30B0B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52AA-F942-440F-B5B8-BF6FBF77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E54B7-1ECE-447F-A793-B359C61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C2CC-79A0-4197-9558-4CDE87AA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FEC6-4436-4CB4-9404-DE72D1C2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9C42-699D-47E8-B49E-C6797CBA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0C67-218A-435F-BB79-AF558794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B9637-961C-4150-8B00-7027FB32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8678-3E41-4D4D-8735-B788B429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7D29-782B-4221-A893-849AF30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EFF-1BE6-4592-B03A-891DE19B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5B26C-0153-41EE-93F0-B8E4878B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A33AB-5F39-4DFD-89F6-7BDF16E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23E63-45DF-466B-8F77-6DBA39D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F921-CAC6-48D6-A5E3-B79F452C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2C26-D921-4C08-9377-34BCE0C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0CB45-721B-4B59-8E6B-E3B4E23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D3AE3-8C4C-46E2-BCA7-8534AB6B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95FC-E97C-4B2E-9A68-9B5FCA6C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21C52-4422-4A8A-A776-FFE0741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97E2B-2417-4BCA-8023-FAFC818F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11D0-0B72-4F80-B9AC-B9EA2E416F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824D-744C-4CED-9ECA-E4B79D29C0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9FDD-2014-40C0-A6D4-2B43B5D531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47C6-5F8F-4CFE-B1AE-9FFA4F4A44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B47A-F3BC-45C4-BEDB-CE6623D600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6478-39A5-4F7D-A241-5E1C670B00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1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FEEC-3A38-4F82-8339-F511B77A2A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5000-2D10-481D-8515-780A2420A0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BBDE-4ECA-40A6-8DD3-080CA04031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E48D-31B6-421C-AF57-7AA1D4F4D6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CED6-E003-4903-93D4-D673E0CC11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4BD5-797E-4C10-B1EC-01DE893A9B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A18-EFBA-4C39-B01A-E4BE534F75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80F8-5FED-431F-9083-C61BB3E701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FA59-CBC8-49EC-93FA-3389E9EA0A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овременные требования к методическим разработка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504960" y="3962160"/>
            <a:ext cx="5638680" cy="15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наева О.А., зав. отделом  МОУ ДОД «Детско-юношеский центр Киренского района «Гармония» на основе курса Иголинициной Л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80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исание разде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539640" y="1163520"/>
            <a:ext cx="8136000" cy="7520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Описание разделов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с точки зрения содержательного компонента, форм, методов, средств его освоения учащими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755640" y="2276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чебно-тематический пл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39640" y="3108240"/>
            <a:ext cx="8136000" cy="7520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Учебно-тематических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план включает в себя перечень тем занятий с указанием времени отводимого на их выполнен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903240" y="4157640"/>
            <a:ext cx="7772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и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611280" y="4975200"/>
            <a:ext cx="81360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Приложение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содержит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методическое обеспечение диагностические программы, дидактический материал, творческие задания для самостоятельной работы, список литературы для учителя и учащихс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492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Алгорит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5580000" y="1143000"/>
            <a:ext cx="6629400" cy="5715000"/>
            <a:chOff x="5580000" y="1143000"/>
            <a:chExt cx="6629400" cy="5715000"/>
          </a:xfrm>
        </p:grpSpPr>
        <p:sp>
          <p:nvSpPr>
            <p:cNvPr id="742" name="Pyr1"/>
            <p:cNvSpPr/>
            <p:nvPr/>
          </p:nvSpPr>
          <p:spPr>
            <a:xfrm>
              <a:off x="8159760" y="1143000"/>
              <a:ext cx="1486080" cy="126684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692280 h 1266840"/>
                <a:gd name="textAreaBottom" fmla="*/ 120816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Pyr2"/>
            <p:cNvSpPr/>
            <p:nvPr/>
          </p:nvSpPr>
          <p:spPr>
            <a:xfrm>
              <a:off x="7299360" y="2409840"/>
              <a:ext cx="3198960" cy="1486080"/>
            </a:xfrm>
            <a:custGeom>
              <a:avLst/>
              <a:gdLst>
                <a:gd name="textAreaLeft" fmla="*/ 857160 w 3198960"/>
                <a:gd name="textAreaRight" fmla="*/ 2341800 w 3198960"/>
                <a:gd name="textAreaTop" fmla="*/ 34920 h 1486080"/>
                <a:gd name="textAreaBottom" fmla="*/ 145116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Pyr3"/>
            <p:cNvSpPr/>
            <p:nvPr/>
          </p:nvSpPr>
          <p:spPr>
            <a:xfrm>
              <a:off x="6448320" y="3895920"/>
              <a:ext cx="4900680" cy="1484280"/>
            </a:xfrm>
            <a:custGeom>
              <a:avLst/>
              <a:gdLst>
                <a:gd name="textAreaLeft" fmla="*/ 1200240 w 4900680"/>
                <a:gd name="textAreaRight" fmla="*/ 3700440 w 4900680"/>
                <a:gd name="textAreaTop" fmla="*/ 34560 h 1484280"/>
                <a:gd name="textAreaBottom" fmla="*/ 1449720 h 14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Pyr4"/>
            <p:cNvSpPr/>
            <p:nvPr/>
          </p:nvSpPr>
          <p:spPr>
            <a:xfrm>
              <a:off x="5580000" y="5372280"/>
              <a:ext cx="6629400" cy="1485720"/>
            </a:xfrm>
            <a:custGeom>
              <a:avLst/>
              <a:gdLst>
                <a:gd name="textAreaLeft" fmla="*/ 1007640 w 6629400"/>
                <a:gd name="textAreaRight" fmla="*/ 5313600 w 6629400"/>
                <a:gd name="textAreaTop" fmla="*/ 34920 h 1485720"/>
                <a:gd name="textAreaBottom" fmla="*/ 14508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Text Box 8"/>
          <p:cNvSpPr/>
          <p:nvPr/>
        </p:nvSpPr>
        <p:spPr>
          <a:xfrm>
            <a:off x="6084720" y="6093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I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6804000" y="46465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II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7667640" y="32781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III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8244000" y="21258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IV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0" name="Group 12"/>
          <p:cNvGrpSpPr/>
          <p:nvPr/>
        </p:nvGrpSpPr>
        <p:grpSpPr>
          <a:xfrm>
            <a:off x="324000" y="5300640"/>
            <a:ext cx="5400360" cy="1557360"/>
            <a:chOff x="324000" y="5300640"/>
            <a:chExt cx="5400360" cy="1557360"/>
          </a:xfrm>
        </p:grpSpPr>
        <p:sp>
          <p:nvSpPr>
            <p:cNvPr id="751" name="AutoShape 13"/>
            <p:cNvSpPr/>
            <p:nvPr/>
          </p:nvSpPr>
          <p:spPr>
            <a:xfrm>
              <a:off x="324000" y="5300640"/>
              <a:ext cx="5400360" cy="1557360"/>
            </a:xfrm>
            <a:prstGeom prst="rightArrow">
              <a:avLst>
                <a:gd name="adj1" fmla="val 50000"/>
                <a:gd name="adj2" fmla="val 8669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Text Box 14"/>
            <p:cNvSpPr/>
            <p:nvPr/>
          </p:nvSpPr>
          <p:spPr>
            <a:xfrm>
              <a:off x="395280" y="5734080"/>
              <a:ext cx="460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Выяснение актуальности рабо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Что не устраивает меня в образовательном пространстве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1116000" y="4005360"/>
            <a:ext cx="5400720" cy="1557360"/>
            <a:chOff x="1116000" y="4005360"/>
            <a:chExt cx="5400720" cy="1557360"/>
          </a:xfrm>
        </p:grpSpPr>
        <p:sp>
          <p:nvSpPr>
            <p:cNvPr id="754" name="AutoShape 16"/>
            <p:cNvSpPr/>
            <p:nvPr/>
          </p:nvSpPr>
          <p:spPr>
            <a:xfrm>
              <a:off x="1116000" y="4005360"/>
              <a:ext cx="5400720" cy="1557360"/>
            </a:xfrm>
            <a:prstGeom prst="rightArrow">
              <a:avLst>
                <a:gd name="adj1" fmla="val 50000"/>
                <a:gd name="adj2" fmla="val 8669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Text Box 17"/>
            <p:cNvSpPr/>
            <p:nvPr/>
          </p:nvSpPr>
          <p:spPr>
            <a:xfrm>
              <a:off x="1116000" y="449568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Формулировка авторского замысл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Что я предлагаю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Group 18"/>
          <p:cNvGrpSpPr/>
          <p:nvPr/>
        </p:nvGrpSpPr>
        <p:grpSpPr>
          <a:xfrm>
            <a:off x="1908000" y="2637000"/>
            <a:ext cx="5400720" cy="1557000"/>
            <a:chOff x="1908000" y="2637000"/>
            <a:chExt cx="5400720" cy="1557000"/>
          </a:xfrm>
        </p:grpSpPr>
        <p:sp>
          <p:nvSpPr>
            <p:cNvPr id="757" name="AutoShape 19"/>
            <p:cNvSpPr/>
            <p:nvPr/>
          </p:nvSpPr>
          <p:spPr>
            <a:xfrm>
              <a:off x="1908000" y="2637000"/>
              <a:ext cx="5400720" cy="1557000"/>
            </a:xfrm>
            <a:prstGeom prst="rightArrow">
              <a:avLst>
                <a:gd name="adj1" fmla="val 50000"/>
                <a:gd name="adj2" fmla="val 8671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20"/>
            <p:cNvSpPr/>
            <p:nvPr/>
          </p:nvSpPr>
          <p:spPr>
            <a:xfrm>
              <a:off x="1979640" y="319896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Определение особенностей и новизны рабо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В чем оригинальность моей разработки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Group 21"/>
          <p:cNvGrpSpPr/>
          <p:nvPr/>
        </p:nvGrpSpPr>
        <p:grpSpPr>
          <a:xfrm>
            <a:off x="2627280" y="1268280"/>
            <a:ext cx="5400720" cy="1557360"/>
            <a:chOff x="2627280" y="1268280"/>
            <a:chExt cx="5400720" cy="1557360"/>
          </a:xfrm>
        </p:grpSpPr>
        <p:sp>
          <p:nvSpPr>
            <p:cNvPr id="760" name="AutoShape 22"/>
            <p:cNvSpPr/>
            <p:nvPr/>
          </p:nvSpPr>
          <p:spPr>
            <a:xfrm>
              <a:off x="2627280" y="1268280"/>
              <a:ext cx="5400720" cy="1557360"/>
            </a:xfrm>
            <a:prstGeom prst="rightArrow">
              <a:avLst>
                <a:gd name="adj1" fmla="val 50000"/>
                <a:gd name="adj2" fmla="val 8669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Text Box 23"/>
            <p:cNvSpPr/>
            <p:nvPr/>
          </p:nvSpPr>
          <p:spPr>
            <a:xfrm>
              <a:off x="2700360" y="183204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Выяснение условий реализац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Каковы условия воплощения замысла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Group 24"/>
          <p:cNvGrpSpPr/>
          <p:nvPr/>
        </p:nvGrpSpPr>
        <p:grpSpPr>
          <a:xfrm>
            <a:off x="8675640" y="476280"/>
            <a:ext cx="432000" cy="720720"/>
            <a:chOff x="8675640" y="476280"/>
            <a:chExt cx="432000" cy="720720"/>
          </a:xfrm>
        </p:grpSpPr>
        <p:sp>
          <p:nvSpPr>
            <p:cNvPr id="763" name="AutoShape 25"/>
            <p:cNvSpPr/>
            <p:nvPr/>
          </p:nvSpPr>
          <p:spPr>
            <a:xfrm>
              <a:off x="8675640" y="476280"/>
              <a:ext cx="432000" cy="36036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AutoShape 26"/>
            <p:cNvSpPr/>
            <p:nvPr/>
          </p:nvSpPr>
          <p:spPr>
            <a:xfrm>
              <a:off x="8675640" y="836640"/>
              <a:ext cx="432000" cy="360360"/>
            </a:xfrm>
            <a:custGeom>
              <a:avLst/>
              <a:gdLst>
                <a:gd name="textAreaLeft" fmla="*/ 100080 w 432000"/>
                <a:gd name="textAreaRight" fmla="*/ 330480 w 432000"/>
                <a:gd name="textAreaTop" fmla="*/ 37800 h 360360"/>
                <a:gd name="textAreaBottom" fmla="*/ 2286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5" name="AutoShape 27"/>
          <p:cNvSpPr/>
          <p:nvPr/>
        </p:nvSpPr>
        <p:spPr>
          <a:xfrm flipH="1">
            <a:off x="6948360" y="333360"/>
            <a:ext cx="1224000" cy="792000"/>
          </a:xfrm>
          <a:prstGeom prst="wedgeEllipseCallout">
            <a:avLst>
              <a:gd name="adj1" fmla="val -88263"/>
              <a:gd name="adj2" fmla="val -270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УРА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7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 по результатам экспертиз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52360" y="1197000"/>
            <a:ext cx="8640720" cy="4410360"/>
          </a:xfrm>
          <a:prstGeom prst="rect">
            <a:avLst/>
          </a:prstGeom>
          <a:solidFill>
            <a:srgbClr val="00ccff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2800" algn="just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Выполнение областного Положения об экспертных и авторских разработк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Ведущие теоретические идеи авторской разработки: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степень новизны, инновационный характер авторской разработки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роль авторской разработки в организации целостного педагогического процесса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ключевые понятия, ведущую идею авторской разрабо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Содержательную характеристику авторской разработк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проблемные вопросы теоретического характера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задачи и задания творческого характера (общие, дифференцированные, индивидуальные)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обобщенные способы действия, обобщенная характеристика умений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тестовые и контрольные задания (текущий и итоговый контроль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Реализацию принципов преемственности и перспектив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Практическую направленность авторской разрабо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Наличие критериев и диагностического сопровожд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Степень апроб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250920" y="59691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  <a:ea typeface="Arial"/>
              </a:rPr>
              <a:t>Экспертиза авторской разработки проводится по рекомендации органов управления образованием на основе отзывов муниципальных методических служб или экспертных сов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ведение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Авторская разработ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это итог долгих раздумий и размышлений результат анализа педагогического опыта и научных знаний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им из условий успеха является выполнение требований регионального стандарта к авторской методической разработ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14480" y="1557360"/>
            <a:ext cx="3809880" cy="3718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152280" y="1709640"/>
            <a:ext cx="98640" cy="334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211640" y="1627200"/>
            <a:ext cx="46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Нормативная ба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Типы педагогических разрабо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Понятие о программе и её функ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Структура и содержание авторской разрабо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0" y="6453360"/>
            <a:ext cx="9144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Picture 9" descr="1217821185_12"/>
          <p:cNvPicPr/>
          <p:nvPr/>
        </p:nvPicPr>
        <p:blipFill>
          <a:blip r:embed="rId2"/>
          <a:stretch/>
        </p:blipFill>
        <p:spPr>
          <a:xfrm>
            <a:off x="304920" y="1600200"/>
            <a:ext cx="35733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ипы и виды методической продук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циру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характеру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ному принцип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направлениям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Organization Chart 0"/>
          <p:cNvGrpSpPr/>
          <p:nvPr/>
        </p:nvGrpSpPr>
        <p:grpSpPr>
          <a:xfrm>
            <a:off x="3886200" y="1981080"/>
            <a:ext cx="5257440" cy="4494600"/>
            <a:chOff x="3886200" y="1981080"/>
            <a:chExt cx="5257440" cy="4494600"/>
          </a:xfrm>
        </p:grpSpPr>
        <p:cxnSp>
          <p:nvCxnSpPr>
            <p:cNvPr id="681" name="_s1028"/>
            <p:cNvCxnSpPr>
              <a:stCxn id="682" idx="0"/>
              <a:endCxn id="683" idx="2"/>
            </p:cNvCxnSpPr>
            <p:nvPr/>
          </p:nvCxnSpPr>
          <p:spPr>
            <a:xfrm flipV="1" rot="16200000">
              <a:off x="6407280" y="3886560"/>
              <a:ext cx="899640" cy="6829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4" name="_s1029"/>
            <p:cNvCxnSpPr>
              <a:stCxn id="685" idx="0"/>
              <a:endCxn id="683" idx="2"/>
            </p:cNvCxnSpPr>
            <p:nvPr/>
          </p:nvCxnSpPr>
          <p:spPr>
            <a:xfrm flipV="1" rot="16200000">
              <a:off x="7088040" y="3205080"/>
              <a:ext cx="899640" cy="20455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6" name="_s1030"/>
            <p:cNvCxnSpPr>
              <a:stCxn id="687" idx="0"/>
              <a:endCxn id="683" idx="2"/>
            </p:cNvCxnSpPr>
            <p:nvPr/>
          </p:nvCxnSpPr>
          <p:spPr>
            <a:xfrm flipH="1" flipV="1" rot="5400000">
              <a:off x="5725080" y="3886920"/>
              <a:ext cx="899640" cy="6825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8" name="_s1031"/>
            <p:cNvCxnSpPr>
              <a:stCxn id="689" idx="0"/>
              <a:endCxn id="683" idx="2"/>
            </p:cNvCxnSpPr>
            <p:nvPr/>
          </p:nvCxnSpPr>
          <p:spPr>
            <a:xfrm flipH="1" flipV="1" rot="5400000">
              <a:off x="5043240" y="3205080"/>
              <a:ext cx="899640" cy="204588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3" name="_s1032"/>
            <p:cNvSpPr/>
            <p:nvPr/>
          </p:nvSpPr>
          <p:spPr>
            <a:xfrm>
              <a:off x="5929920" y="198108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ипы и вид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етодической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одукци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_s1033"/>
            <p:cNvSpPr/>
            <p:nvPr/>
          </p:nvSpPr>
          <p:spPr>
            <a:xfrm>
              <a:off x="3886200" y="467784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Прикладная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_s1034"/>
            <p:cNvSpPr/>
            <p:nvPr/>
          </p:nvSpPr>
          <p:spPr>
            <a:xfrm>
              <a:off x="5249520" y="467784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Учебная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_s1035"/>
            <p:cNvSpPr/>
            <p:nvPr/>
          </p:nvSpPr>
          <p:spPr>
            <a:xfrm>
              <a:off x="7975080" y="467784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Информационно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методическа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_s1036"/>
            <p:cNvSpPr/>
            <p:nvPr/>
          </p:nvSpPr>
          <p:spPr>
            <a:xfrm>
              <a:off x="6612840" y="4677840"/>
              <a:ext cx="1167120" cy="1797840"/>
            </a:xfrm>
            <a:custGeom>
              <a:avLst/>
              <a:gdLst>
                <a:gd name="textAreaLeft" fmla="*/ 56880 w 1167120"/>
                <a:gd name="textAreaRight" fmla="*/ 1110240 w 116712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69">
                  <a:moveTo>
                    <a:pt x="3600" y="0"/>
                  </a:moveTo>
                  <a:arcTo wR="3600" hR="3600" stAng="16200000" swAng="-5400000"/>
                  <a:lnTo>
                    <a:pt x="0" y="29669"/>
                  </a:lnTo>
                  <a:arcTo wR="3600" hR="3600" stAng="10800000" swAng="-5400000"/>
                  <a:lnTo>
                    <a:pt x="18000" y="332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Организационно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методическа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ормативная б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ожение об авторских  педагогических разработках (приложение к приказу ГлавУО и ПО от 25.06.04. № 1163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нное Положение устанавливает порядок  и условия  определения авторских педагогических разработок учреждений общего и дополнительного образов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ожение включ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Общие положения, где  обосновывается позиция разработч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Структура и содержание авторской разработ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Заключение по результатам экспертизы авторских разработ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авторских разработ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395280" y="1484280"/>
            <a:ext cx="3745080" cy="1191240"/>
          </a:xfrm>
          <a:prstGeom prst="rect">
            <a:avLst/>
          </a:prstGeom>
          <a:solidFill>
            <a:srgbClr val="00ccff"/>
          </a:solidFill>
          <a:ln w="6480">
            <a:solidFill>
              <a:srgbClr val="cbcbcb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Адаптационная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связанная с приспособлением уже имеющейся программы (разработки) к новым конкретным услов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5149800" y="3500280"/>
            <a:ext cx="3743280" cy="1191240"/>
          </a:xfrm>
          <a:prstGeom prst="rect">
            <a:avLst/>
          </a:prstGeom>
          <a:solidFill>
            <a:srgbClr val="00ccff"/>
          </a:solidFill>
          <a:ln w="6480">
            <a:solidFill>
              <a:srgbClr val="cbcbcb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Комбинаторная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-   новая продукция создается благодаря новым сочетаниям известных способов, форм,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95280" y="5805360"/>
            <a:ext cx="3743280" cy="642600"/>
          </a:xfrm>
          <a:prstGeom prst="rect">
            <a:avLst/>
          </a:prstGeom>
          <a:solidFill>
            <a:srgbClr val="00ccff"/>
          </a:solidFill>
          <a:ln w="6480">
            <a:solidFill>
              <a:srgbClr val="cbcbcb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Радикальная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содержащая принципиальную новизн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Picture 7" descr="j0299125"/>
          <p:cNvPicPr/>
          <p:nvPr/>
        </p:nvPicPr>
        <p:blipFill>
          <a:blip r:embed="rId2"/>
          <a:stretch/>
        </p:blipFill>
        <p:spPr>
          <a:xfrm>
            <a:off x="6372360" y="1413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j0234687"/>
          <p:cNvPicPr/>
          <p:nvPr/>
        </p:nvPicPr>
        <p:blipFill>
          <a:blip r:embed="rId3"/>
          <a:stretch/>
        </p:blipFill>
        <p:spPr>
          <a:xfrm>
            <a:off x="1258920" y="3573360"/>
            <a:ext cx="2305080" cy="135756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j0149481"/>
          <p:cNvPicPr/>
          <p:nvPr/>
        </p:nvPicPr>
        <p:blipFill>
          <a:blip r:embed="rId4"/>
          <a:stretch/>
        </p:blipFill>
        <p:spPr>
          <a:xfrm>
            <a:off x="6300720" y="5229360"/>
            <a:ext cx="1425600" cy="144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Структура и содержание программ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02" name="Group 4"/>
          <p:cNvGrpSpPr/>
          <p:nvPr/>
        </p:nvGrpSpPr>
        <p:grpSpPr>
          <a:xfrm>
            <a:off x="339840" y="1763640"/>
            <a:ext cx="8480160" cy="4545000"/>
            <a:chOff x="339840" y="1763640"/>
            <a:chExt cx="8480160" cy="4545000"/>
          </a:xfrm>
        </p:grpSpPr>
        <p:sp>
          <p:nvSpPr>
            <p:cNvPr id="703" name="Documents"/>
            <p:cNvSpPr/>
            <p:nvPr/>
          </p:nvSpPr>
          <p:spPr>
            <a:xfrm>
              <a:off x="3867120" y="1763640"/>
              <a:ext cx="1425600" cy="18097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Программ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4" name="Group 6"/>
            <p:cNvGrpSpPr/>
            <p:nvPr/>
          </p:nvGrpSpPr>
          <p:grpSpPr>
            <a:xfrm>
              <a:off x="339840" y="4292280"/>
              <a:ext cx="1495080" cy="1944360"/>
              <a:chOff x="339840" y="4292280"/>
              <a:chExt cx="1495080" cy="1944360"/>
            </a:xfrm>
          </p:grpSpPr>
          <p:sp>
            <p:nvSpPr>
              <p:cNvPr id="705" name="Document"/>
              <p:cNvSpPr/>
              <p:nvPr/>
            </p:nvSpPr>
            <p:spPr>
              <a:xfrm>
                <a:off x="339840" y="4292280"/>
                <a:ext cx="1495080" cy="1944360"/>
              </a:xfrm>
              <a:custGeom>
                <a:avLst/>
                <a:gdLst>
                  <a:gd name="textAreaLeft" fmla="*/ 68400 w 1495080"/>
                  <a:gd name="textAreaRight" fmla="*/ 1426680 w 1495080"/>
                  <a:gd name="textAreaTop" fmla="*/ 73800 h 1944360"/>
                  <a:gd name="textAreaBottom" fmla="*/ 1478880 h 19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Text Box 8"/>
              <p:cNvSpPr/>
              <p:nvPr/>
            </p:nvSpPr>
            <p:spPr>
              <a:xfrm>
                <a:off x="499320" y="4962600"/>
                <a:ext cx="1272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Титульный лист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9"/>
            <p:cNvGrpSpPr/>
            <p:nvPr/>
          </p:nvGrpSpPr>
          <p:grpSpPr>
            <a:xfrm>
              <a:off x="2124000" y="4292280"/>
              <a:ext cx="1440000" cy="1954440"/>
              <a:chOff x="2124000" y="4292280"/>
              <a:chExt cx="1440000" cy="1954440"/>
            </a:xfrm>
          </p:grpSpPr>
          <p:sp>
            <p:nvSpPr>
              <p:cNvPr id="708" name="Document"/>
              <p:cNvSpPr/>
              <p:nvPr/>
            </p:nvSpPr>
            <p:spPr>
              <a:xfrm>
                <a:off x="2124000" y="4292280"/>
                <a:ext cx="1440000" cy="1954440"/>
              </a:xfrm>
              <a:custGeom>
                <a:avLst/>
                <a:gdLst>
                  <a:gd name="textAreaLeft" fmla="*/ 64800 w 1440000"/>
                  <a:gd name="textAreaRight" fmla="*/ 1375200 w 1440000"/>
                  <a:gd name="textAreaTop" fmla="*/ 74520 h 1954440"/>
                  <a:gd name="textAreaBottom" fmla="*/ 1486080 h 195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Text Box 11"/>
              <p:cNvSpPr/>
              <p:nvPr/>
            </p:nvSpPr>
            <p:spPr>
              <a:xfrm>
                <a:off x="2124000" y="4940280"/>
                <a:ext cx="136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Пояснительная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записка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12"/>
            <p:cNvGrpSpPr/>
            <p:nvPr/>
          </p:nvGrpSpPr>
          <p:grpSpPr>
            <a:xfrm>
              <a:off x="3852720" y="4292280"/>
              <a:ext cx="1439640" cy="1944360"/>
              <a:chOff x="3852720" y="4292280"/>
              <a:chExt cx="1439640" cy="1944360"/>
            </a:xfrm>
          </p:grpSpPr>
          <p:sp>
            <p:nvSpPr>
              <p:cNvPr id="711" name="Document"/>
              <p:cNvSpPr/>
              <p:nvPr/>
            </p:nvSpPr>
            <p:spPr>
              <a:xfrm>
                <a:off x="3852720" y="4292280"/>
                <a:ext cx="1439640" cy="1944360"/>
              </a:xfrm>
              <a:custGeom>
                <a:avLst/>
                <a:gdLst>
                  <a:gd name="textAreaLeft" fmla="*/ 65880 w 1439640"/>
                  <a:gd name="textAreaRight" fmla="*/ 1373760 w 1439640"/>
                  <a:gd name="textAreaTop" fmla="*/ 74160 h 1944360"/>
                  <a:gd name="textAreaBottom" fmla="*/ 1479960 h 19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Text Box 14"/>
              <p:cNvSpPr/>
              <p:nvPr/>
            </p:nvSpPr>
            <p:spPr>
              <a:xfrm>
                <a:off x="3928320" y="4965840"/>
                <a:ext cx="130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Описание раздело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5"/>
            <p:cNvGrpSpPr/>
            <p:nvPr/>
          </p:nvGrpSpPr>
          <p:grpSpPr>
            <a:xfrm>
              <a:off x="5595840" y="4282920"/>
              <a:ext cx="1424160" cy="1954080"/>
              <a:chOff x="5595840" y="4282920"/>
              <a:chExt cx="1424160" cy="1954080"/>
            </a:xfrm>
          </p:grpSpPr>
          <p:sp>
            <p:nvSpPr>
              <p:cNvPr id="714" name="Document"/>
              <p:cNvSpPr/>
              <p:nvPr/>
            </p:nvSpPr>
            <p:spPr>
              <a:xfrm>
                <a:off x="5595840" y="4282920"/>
                <a:ext cx="1424160" cy="1954080"/>
              </a:xfrm>
              <a:custGeom>
                <a:avLst/>
                <a:gdLst>
                  <a:gd name="textAreaLeft" fmla="*/ 64800 w 1424160"/>
                  <a:gd name="textAreaRight" fmla="*/ 1359360 w 1424160"/>
                  <a:gd name="textAreaTop" fmla="*/ 74520 h 1954080"/>
                  <a:gd name="textAreaBottom" fmla="*/ 1486080 h 195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Text Box 17"/>
              <p:cNvSpPr/>
              <p:nvPr/>
            </p:nvSpPr>
            <p:spPr>
              <a:xfrm>
                <a:off x="5595840" y="4930560"/>
                <a:ext cx="1366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Учебно-тематический план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8"/>
            <p:cNvGrpSpPr/>
            <p:nvPr/>
          </p:nvGrpSpPr>
          <p:grpSpPr>
            <a:xfrm>
              <a:off x="7308720" y="4292280"/>
              <a:ext cx="1511280" cy="2016360"/>
              <a:chOff x="7308720" y="4292280"/>
              <a:chExt cx="1511280" cy="2016360"/>
            </a:xfrm>
          </p:grpSpPr>
          <p:sp>
            <p:nvSpPr>
              <p:cNvPr id="717" name="Document"/>
              <p:cNvSpPr/>
              <p:nvPr/>
            </p:nvSpPr>
            <p:spPr>
              <a:xfrm>
                <a:off x="7308720" y="4292280"/>
                <a:ext cx="1511280" cy="2016360"/>
              </a:xfrm>
              <a:custGeom>
                <a:avLst/>
                <a:gdLst>
                  <a:gd name="textAreaLeft" fmla="*/ 68040 w 1511280"/>
                  <a:gd name="textAreaRight" fmla="*/ 1443240 w 1511280"/>
                  <a:gd name="textAreaTop" fmla="*/ 75960 h 2016360"/>
                  <a:gd name="textAreaBottom" fmla="*/ 1533960 h 201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Text Box 20"/>
              <p:cNvSpPr/>
              <p:nvPr/>
            </p:nvSpPr>
            <p:spPr>
              <a:xfrm>
                <a:off x="7381800" y="5025960"/>
                <a:ext cx="129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Приложения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9" name="Line 21"/>
            <p:cNvSpPr/>
            <p:nvPr/>
          </p:nvSpPr>
          <p:spPr>
            <a:xfrm>
              <a:off x="1042920" y="3931920"/>
              <a:ext cx="712944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>
              <a:off x="104292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23"/>
            <p:cNvSpPr/>
            <p:nvPr/>
          </p:nvSpPr>
          <p:spPr>
            <a:xfrm>
              <a:off x="277164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24"/>
            <p:cNvSpPr/>
            <p:nvPr/>
          </p:nvSpPr>
          <p:spPr>
            <a:xfrm>
              <a:off x="457200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25"/>
            <p:cNvSpPr/>
            <p:nvPr/>
          </p:nvSpPr>
          <p:spPr>
            <a:xfrm>
              <a:off x="622764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26"/>
            <p:cNvSpPr/>
            <p:nvPr/>
          </p:nvSpPr>
          <p:spPr>
            <a:xfrm>
              <a:off x="8172360" y="3917880"/>
              <a:ext cx="0" cy="3855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27"/>
            <p:cNvSpPr/>
            <p:nvPr/>
          </p:nvSpPr>
          <p:spPr>
            <a:xfrm>
              <a:off x="4572000" y="3644640"/>
              <a:ext cx="0" cy="2872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0805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итульный лис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27" name="Group 3"/>
          <p:cNvGrpSpPr/>
          <p:nvPr/>
        </p:nvGrpSpPr>
        <p:grpSpPr>
          <a:xfrm>
            <a:off x="2438280" y="990720"/>
            <a:ext cx="4968720" cy="6048360"/>
            <a:chOff x="2438280" y="990720"/>
            <a:chExt cx="4968720" cy="6048360"/>
          </a:xfrm>
        </p:grpSpPr>
        <p:sp>
          <p:nvSpPr>
            <p:cNvPr id="728" name="Document"/>
            <p:cNvSpPr/>
            <p:nvPr/>
          </p:nvSpPr>
          <p:spPr>
            <a:xfrm>
              <a:off x="2438280" y="990720"/>
              <a:ext cx="4968720" cy="6048360"/>
            </a:xfrm>
            <a:custGeom>
              <a:avLst/>
              <a:gdLst>
                <a:gd name="textAreaLeft" fmla="*/ 225360 w 4968720"/>
                <a:gd name="textAreaRight" fmla="*/ 4743360 w 4968720"/>
                <a:gd name="textAreaTop" fmla="*/ 228240 h 6048360"/>
                <a:gd name="textAreaBottom" fmla="*/ 4600800 h 604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Text Box 5"/>
            <p:cNvSpPr/>
            <p:nvPr/>
          </p:nvSpPr>
          <p:spPr>
            <a:xfrm>
              <a:off x="2509560" y="1062360"/>
              <a:ext cx="4897440" cy="40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инистерство образования и науки Российской Федераци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правление образования администрации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указывается название муниципального образования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ниципальное образовательное учреждение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указывается название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вторская педагогическая разработка</a:t>
              </a:r>
              <a:br>
                <a:rPr sz="14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указывается тип творческой работы: 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даптационная, комбинаторная, радикальная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___________________________________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название разработки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___________________________________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орма (учебная, воспитательная программа, УМП, 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онцепция, методические рекомендации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5103720" y="5062680"/>
              <a:ext cx="223200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втор разработки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</a:t>
              </a:r>
              <a:br>
                <a:rPr sz="14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О полностью, должность, место работы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Text Box 7"/>
            <p:cNvSpPr/>
            <p:nvPr/>
          </p:nvSpPr>
          <p:spPr>
            <a:xfrm>
              <a:off x="3806640" y="6463080"/>
              <a:ext cx="25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_г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город, район, нас. Пункт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57200" y="1143000"/>
            <a:ext cx="8136000" cy="46285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Актуальность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создания авторской разработки (исходя из какой объективной потребности обновления того или иного компонента образовательного процесса вытекает необходимость создания данной авторской разработки; какие проблемы может решить  данная разработка  и какие  противоречия предполагается разрешить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изну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авторской разработки  (какая идея положена в основу авторской разработ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Методологические полож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(основные теоретические идеи, положенные в ее основу;  категории и понятия, встречающиеся в разработке, если их употребление в данной области науки носят неоднозначный характер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Цель и задачи.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Цель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идеальное предвосхищение результатов деятельности.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ч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конкретное выражение предполагаемых результатов деятельности в условиях проверки авторских гипотетических иде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5T07:0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