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media/chimes.wav" ContentType="audio/x-wav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01E6-4763-4ECB-96EB-9916F4006C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D042-DD34-437C-B331-7F4AFB9787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9419-C306-4608-ABEB-6D1D219CE9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B66C-0815-4E8A-8CEC-CBCDD4823A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94A4-A931-423F-96F4-9A821017EB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E8EE-E3E8-49D9-B4BD-1F2CC45153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5B9F-1D40-405F-ABE7-235E8FBC59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B27F-B8F4-4982-AB57-1196094F7D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E0C0-64B3-4CF2-A853-86F3364D14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166F-9365-433E-B427-9730873191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F27-70E7-4AC2-9670-D28B3477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B70-5AC5-471B-B45E-91A0A2AF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EE8BA-0704-49EE-8BD9-1A1438C2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61010-5482-4162-955D-47293029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6AAEA-09AB-4E40-8EB6-530BFB04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00FAF-F2E5-4CB1-9414-24BBDB27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C9C82-E494-4FA1-9782-4A99E5E7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189A6-5544-43C5-8DE0-E6F4D9AE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63FBF-E0C6-467A-A5DD-570FC084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F6199-F612-42D7-9A7A-404F54C2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86F23-0795-42E5-A7D8-EA8DD9C7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C8E23-5D92-4C0C-BF1B-F5462D8F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0B37-1AE0-4F11-993B-67019A4B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F7EC9-053D-49E5-B067-673B630A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DCC6A-D68A-4624-AE00-7A47E831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09552-6050-410B-A341-8EAECA40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07731-AF7C-4F3D-9730-1C9F2A77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E9CFF-D6CD-4871-ACBF-4A681EF4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DE6A6-C85B-4872-877F-41D542AD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A1868-827F-4A67-9803-E9A67334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2BEC0-35CC-4FB9-BFB2-CD3FAC81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6EAEB-8667-4385-AF7F-D28DF85A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42590-8F65-4F7F-B3F3-D611C0B5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EB4-A8E9-450D-BB9F-84459182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FB24E-560B-44EB-99C1-5C7A3E98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6064F-45B0-4A4E-BC56-FAB68663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EB7AE-F0A1-4953-B7C5-D9E764E8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DC558-2168-46C5-9BCB-466F68A5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090D6-BAAA-4C2C-B856-F93346AD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CF897-798B-4407-AE80-236D7F3E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CA7C5-F5EC-493F-BEE0-26BCB042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BE5DB-2A98-4EBA-90D1-17CD6B42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71563-78FE-4799-943C-02D49D75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1BBC5-5231-458B-9AF1-20E4125B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1E9A-A0C6-4C0E-B9E2-D4656690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E77A7-AD4E-4894-8AB3-35BE393C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022AA-1A1D-4C6A-ABF9-203D648A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51723-F5E6-452A-9647-704814FF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24640-6B7E-4E56-A027-4D20BC91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E3AD0-69CC-40FF-A96D-8D647603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09E38-BE66-40F6-AB91-EFC91451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68949-138B-4079-ADE8-EBD2808D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82678-A3F7-4DED-AE36-3511EABE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2B854-61EE-4D38-8F82-FDEBA4F5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40D66-41EF-4926-854D-B85FFEA7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AAFE-D629-49C1-A53E-3D22749D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CC4F0-CBE1-44EF-8634-7603012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59243-5D4D-499D-BC3E-0A6169EC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61618-A99F-4ABF-B857-0F8FB8C7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0C46F-3F63-4BAF-AFCC-5F73EA5A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3FF53-F880-4931-B5EB-9C231487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959E0-571F-48AB-836B-0162ABC9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9AC5E-8BA9-46B0-9779-9A5A0583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0347B-7C58-420A-A09D-FF63166F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9F757-A4CF-46F8-AED4-6688FA5C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88837-B525-4271-A596-3567301F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CB68-7FA0-4E15-88D9-F226AE59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CDE03-475D-4F7D-866F-9D8835BA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88A14-ECA4-471A-A7B7-1321CEE4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458BA-ABC0-4865-B3AA-98474DF5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A9BF1-EDAD-4002-BAB2-7F5786D5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E4BB7-9A35-456E-91B7-AF46E591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340A5-83EA-4E80-AEF5-B67E9EBF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F252E-ED86-468E-B824-5EAA6CEF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03CA7-4918-47FD-A039-8733D178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38FB0-2DE1-4898-B27E-CCFBC847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97772-C48E-48E1-B19E-869EDB54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540C-05C9-44D5-BB3D-992AF4A5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1C5E7-1590-4007-91BD-F3812887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FC383-188A-46E6-A2E4-E15E2C25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C93A8-10B1-44B2-A3F4-00A4A53D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F35E62-94D7-4507-809A-A0172FE8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79253-7AD2-4430-A786-317ECAB8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601FE-A69E-4EE0-BF40-1CD1418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FEB11-A222-4B82-8817-A5FCBEA0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4721D-B5C4-457B-9DFE-167B3D03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FD049-2F7D-4AD1-9333-D7C77666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3C173-C3C6-4A2E-B0A0-9A65028A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4F10-0386-4E1B-8607-2D2A35B3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8308C-0A25-4379-9A23-9CC23673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5E992-B8BD-4770-A30D-09791C6D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B0AAE-BA20-449D-A35F-6EFA1882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6B2A6-CE1B-4827-A47F-393A9DC2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1EEDE-5BDF-44AB-9FEC-5575139D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55F4DB-DDA5-4531-ACBA-48DE9131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146B4-5BB1-413A-94A7-D5838ED3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E9DFB-8731-4450-83F8-09FE2DBC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E2709-3E73-4F1C-B865-734100F5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A9865-0D4E-4F3C-B903-22368625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80B7-71B9-4B8F-ADAA-1D24500C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6976F-5BE1-4827-AC95-9D67B280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169C-A3A1-4176-A6EE-BF5489A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831-ED6C-46CE-BBEB-B2F8C094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F7F7-53D5-4342-8CF5-EC69C9A1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B9D7-4145-4BB5-830F-EFC346EC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04BD-0B6E-4C0B-AC83-E7748BDE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0D78-024B-4A9B-A34F-3159DE4B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CD3F-0A3A-40F2-B7CB-A9EA3BC2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ACD60-FD23-4C43-BA8A-CC31250D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83EF-16C1-4DE3-9BF8-9701E6A2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DDCD-9F51-4818-857D-279C014F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A7635-6678-45E0-AD5A-C348E658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B0FA-B744-4B3F-A8EC-527A96B4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9B5-06A0-4DA1-8E9A-A5FA8C27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C316-DE06-41D1-B27E-A10B65BD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F9198-0EB5-4A1F-8ABE-6F031FB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831B-820B-476C-96D3-CFFB7604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4C71-3A3B-4D02-AEA3-1A178ABD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BA07-646A-4D6A-80B1-80F148B1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04B0-E3C2-4095-BEA0-1252AB39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7ABFD-6F8E-4A4C-AA9C-4F457759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9728F-B108-4729-BE97-AA0A489C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F61C-1424-4C70-B176-F8B100F3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9F67-D4FC-4DDC-A568-D715049E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EB5-6F37-4A83-AF0C-AF05E300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B30FD-4979-4672-8636-7E1EED21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E0DB-C1C2-4FED-B811-17E6DADD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25287-38E9-4093-9B93-BC492EC6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A107D-6A4A-4AAD-8405-28603912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5D616-C878-43E7-9C84-CFF48D48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1B971-79F8-46AE-B0E2-8056D289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402A-F512-4FDC-B7B3-7DF41E79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C612C-B774-4482-9239-3B90939A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6200-FBDA-4195-AA59-F794151D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19ED-45A9-4F3B-805C-C7459595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165-7709-4860-AF96-A0D8C2FF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632F-B672-41E4-B7FD-9EBBA091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57BCA-70B3-4862-B77A-88F42387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29A85-DE44-45F1-ADFD-8B73E0D9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FCE7-B020-4578-B16A-29BCE6CE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9FE22-DE5C-42F1-ABDB-B0E89E53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DFAB9-DA9E-4396-BBF8-A8790688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21E8B-1B80-4171-B3B0-B6CBDBA1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39F25-3A58-4651-A80A-B5FEC17A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8116B-1256-4613-8ABA-150A04CC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2E308-96AF-4DC8-BAED-60448B0F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B6A-DBB1-46FE-A57C-91FC8F56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4B1EC-107C-48BE-BDD3-B4326DE1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281E3-2FB5-4730-A1E8-F54B66EE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B6F0C-1C60-4C8B-8D2C-51A16F2A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BB86E-7DCF-4FE6-846A-6FD1C67F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7E637-9B6B-4C4E-93E5-F8D0CD09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94C40-130B-4ACA-AD06-969C51AF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B580A-2349-42B0-87BC-1B9897D4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42080-4355-46D8-8FEC-93C8EF67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74234-53EF-4BDD-822C-8AB9BC0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FBF3A-0DCF-436C-BA2E-5A7F832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EF8-BAE1-48BB-AA05-C3862BDB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49912-4620-414C-B625-366A2C44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7A895-7A1A-408C-9661-AC1C6354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F364F-ACC4-484A-AD22-C18DB7DD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6FBAA-1338-4DDA-913C-438F461E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6AF5D-94C4-48BF-90BD-899D1952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74158-68AF-4583-B4CD-2B7F7BB9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6EA21-E961-4D12-B6D7-78ED90B1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91F4A-FF33-4A8E-BF20-9D7C387D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B9D5A-8A3E-4A9E-BA28-E1563090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0A1EC-06AE-4BF0-9DEC-0C5DF0ED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FCB-0404-465C-B04A-AD484F46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B4409-3405-4BEE-B3EC-E88634F9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22DBA-A9A0-4C83-BA3D-4D031F45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52840-FB8B-46CF-9329-630D01D6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BDC4-E9CA-405E-A0E3-C1C03662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A6F7C-C09F-4773-931F-64757C04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CDACC-9115-4E90-9F2E-572FE605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C353C-C300-414E-B02B-5F81A578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C017D-1E18-4DE6-A1B1-ABF07C34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4803F-8A94-4F7C-A791-B7ED49BC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7D9DF-4EA8-48CA-8E31-7D8C91D2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989-2278-4F08-8ABE-3D923AFE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3B0D0-BCD3-427A-B7E5-8C294393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7F1C7-8560-4C51-B77B-3BF2A4F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10D05-ACFE-4406-823F-14C1F314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1437A-05EC-4B64-90C7-A0347C9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43897-41E8-4578-B2CD-B3A162A3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5FE75-D4AA-4084-BB84-F0F04DC0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AB886-F94B-4F11-8870-23CD33DD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B3EC8-E35D-4C87-923D-8A5C5826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757F4-41A2-4618-85A7-13705572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4FB25-E48C-4FD0-A2E8-40D200E8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0E51-30B8-4AA1-813B-40CDF733E4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423E-B573-4DE9-BD3F-00289E2F57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8E0A-B9E8-448A-9D23-8579CE7188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075D-64CC-4EAA-A356-A22C4C9375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9C23-7664-4879-A136-EA09943FB9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7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ED74-2661-4D75-8796-9349DB174C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61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FCE0-BD94-4DE6-9E99-CB540FD417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24FA-1B33-4CA7-91BC-C419E687E3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BEC6-F253-4AAB-A48F-AFBD090EBC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84AB-59C9-4490-A985-4CC6261C7B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A6EB-7FB2-4A90-95A9-F23B1B8F94B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04E0-2454-410C-871F-A9C52AC51B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37B5-D050-4C2F-84F4-CA5529DF49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F52D-D462-4A11-A95A-B89BBC8CF4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5E63-DCCF-4BAC-BAC0-1FFE42D1CA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овременные требования к методическим разработка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504960" y="3962160"/>
            <a:ext cx="5638680" cy="15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наева О.А., зав. отделом  МОУ ДОД «Детско-юношеский центр Киренского района «Гармония» на основе курса Иголинициной Л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80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исание раздело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539640" y="1163520"/>
            <a:ext cx="8136000" cy="7520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Описание разделов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с точки зрения содержательного компонента, форм, методов, средств его освоения учащими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755640" y="2276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чебно-тематический пл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539640" y="3108240"/>
            <a:ext cx="8136000" cy="7520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Учебно-тематических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план включает в себя перечень тем занятий с указанием времени отводимого на их выполнени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903240" y="4157640"/>
            <a:ext cx="7772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и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611280" y="4975200"/>
            <a:ext cx="813600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Приложение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содержит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методическое обеспечение диагностические программы, дидактический материал, творческие задания для самостоятельной работы, список литературы для учителя и учащихся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-3492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Алгорит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5580000" y="1143000"/>
            <a:ext cx="6629400" cy="5715000"/>
            <a:chOff x="5580000" y="1143000"/>
            <a:chExt cx="6629400" cy="5715000"/>
          </a:xfrm>
        </p:grpSpPr>
        <p:sp>
          <p:nvSpPr>
            <p:cNvPr id="742" name="Pyr1"/>
            <p:cNvSpPr/>
            <p:nvPr/>
          </p:nvSpPr>
          <p:spPr>
            <a:xfrm>
              <a:off x="8159760" y="1143000"/>
              <a:ext cx="1486080" cy="1266840"/>
            </a:xfrm>
            <a:custGeom>
              <a:avLst/>
              <a:gdLst>
                <a:gd name="textAreaLeft" fmla="*/ 371520 w 1486080"/>
                <a:gd name="textAreaRight" fmla="*/ 1114560 w 1486080"/>
                <a:gd name="textAreaTop" fmla="*/ 692280 h 1266840"/>
                <a:gd name="textAreaBottom" fmla="*/ 1208160 h 12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Pyr2"/>
            <p:cNvSpPr/>
            <p:nvPr/>
          </p:nvSpPr>
          <p:spPr>
            <a:xfrm>
              <a:off x="7299360" y="2409840"/>
              <a:ext cx="3198960" cy="1486080"/>
            </a:xfrm>
            <a:custGeom>
              <a:avLst/>
              <a:gdLst>
                <a:gd name="textAreaLeft" fmla="*/ 857160 w 3198960"/>
                <a:gd name="textAreaRight" fmla="*/ 2341800 w 3198960"/>
                <a:gd name="textAreaTop" fmla="*/ 34920 h 1486080"/>
                <a:gd name="textAreaBottom" fmla="*/ 145116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Pyr3"/>
            <p:cNvSpPr/>
            <p:nvPr/>
          </p:nvSpPr>
          <p:spPr>
            <a:xfrm>
              <a:off x="6448320" y="3895920"/>
              <a:ext cx="4900680" cy="1484280"/>
            </a:xfrm>
            <a:custGeom>
              <a:avLst/>
              <a:gdLst>
                <a:gd name="textAreaLeft" fmla="*/ 1200240 w 4900680"/>
                <a:gd name="textAreaRight" fmla="*/ 3700440 w 4900680"/>
                <a:gd name="textAreaTop" fmla="*/ 34560 h 1484280"/>
                <a:gd name="textAreaBottom" fmla="*/ 1449720 h 14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Pyr4"/>
            <p:cNvSpPr/>
            <p:nvPr/>
          </p:nvSpPr>
          <p:spPr>
            <a:xfrm>
              <a:off x="5580000" y="5372280"/>
              <a:ext cx="6629400" cy="1485720"/>
            </a:xfrm>
            <a:custGeom>
              <a:avLst/>
              <a:gdLst>
                <a:gd name="textAreaLeft" fmla="*/ 1007640 w 6629400"/>
                <a:gd name="textAreaRight" fmla="*/ 5313600 w 6629400"/>
                <a:gd name="textAreaTop" fmla="*/ 34920 h 1485720"/>
                <a:gd name="textAreaBottom" fmla="*/ 14508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6" name="Text Box 8"/>
          <p:cNvSpPr/>
          <p:nvPr/>
        </p:nvSpPr>
        <p:spPr>
          <a:xfrm>
            <a:off x="6084720" y="60930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I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6804000" y="46465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II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7667640" y="32781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III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Arial"/>
              </a:rPr>
              <a:t>эта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8244000" y="212580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IV </a:t>
            </a:r>
            <a:r>
              <a:rPr b="1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этап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0" name="Group 12"/>
          <p:cNvGrpSpPr/>
          <p:nvPr/>
        </p:nvGrpSpPr>
        <p:grpSpPr>
          <a:xfrm>
            <a:off x="324000" y="5300640"/>
            <a:ext cx="5400360" cy="1557360"/>
            <a:chOff x="324000" y="5300640"/>
            <a:chExt cx="5400360" cy="1557360"/>
          </a:xfrm>
        </p:grpSpPr>
        <p:sp>
          <p:nvSpPr>
            <p:cNvPr id="751" name="AutoShape 13"/>
            <p:cNvSpPr/>
            <p:nvPr/>
          </p:nvSpPr>
          <p:spPr>
            <a:xfrm>
              <a:off x="324000" y="5300640"/>
              <a:ext cx="5400360" cy="1557360"/>
            </a:xfrm>
            <a:prstGeom prst="rightArrow">
              <a:avLst>
                <a:gd name="adj1" fmla="val 50000"/>
                <a:gd name="adj2" fmla="val 86691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Text Box 14"/>
            <p:cNvSpPr/>
            <p:nvPr/>
          </p:nvSpPr>
          <p:spPr>
            <a:xfrm>
              <a:off x="395280" y="5734080"/>
              <a:ext cx="4608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66"/>
                  </a:solidFill>
                  <a:latin typeface="Times New Roman"/>
                  <a:ea typeface="Arial"/>
                </a:rPr>
                <a:t>Выяснение актуальности работ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Что не устраивает меня в образовательном пространстве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3" name="Group 15"/>
          <p:cNvGrpSpPr/>
          <p:nvPr/>
        </p:nvGrpSpPr>
        <p:grpSpPr>
          <a:xfrm>
            <a:off x="1116000" y="4005360"/>
            <a:ext cx="5400720" cy="1557360"/>
            <a:chOff x="1116000" y="4005360"/>
            <a:chExt cx="5400720" cy="1557360"/>
          </a:xfrm>
        </p:grpSpPr>
        <p:sp>
          <p:nvSpPr>
            <p:cNvPr id="754" name="AutoShape 16"/>
            <p:cNvSpPr/>
            <p:nvPr/>
          </p:nvSpPr>
          <p:spPr>
            <a:xfrm>
              <a:off x="1116000" y="4005360"/>
              <a:ext cx="5400720" cy="1557360"/>
            </a:xfrm>
            <a:prstGeom prst="rightArrow">
              <a:avLst>
                <a:gd name="adj1" fmla="val 50000"/>
                <a:gd name="adj2" fmla="val 8669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Text Box 17"/>
            <p:cNvSpPr/>
            <p:nvPr/>
          </p:nvSpPr>
          <p:spPr>
            <a:xfrm>
              <a:off x="1116000" y="449568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66"/>
                  </a:solidFill>
                  <a:latin typeface="Times New Roman"/>
                  <a:ea typeface="Arial"/>
                </a:rPr>
                <a:t>Формулировка авторского замысл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Что я предлагаю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6" name="Group 18"/>
          <p:cNvGrpSpPr/>
          <p:nvPr/>
        </p:nvGrpSpPr>
        <p:grpSpPr>
          <a:xfrm>
            <a:off x="1908000" y="2637000"/>
            <a:ext cx="5400720" cy="1557000"/>
            <a:chOff x="1908000" y="2637000"/>
            <a:chExt cx="5400720" cy="1557000"/>
          </a:xfrm>
        </p:grpSpPr>
        <p:sp>
          <p:nvSpPr>
            <p:cNvPr id="757" name="AutoShape 19"/>
            <p:cNvSpPr/>
            <p:nvPr/>
          </p:nvSpPr>
          <p:spPr>
            <a:xfrm>
              <a:off x="1908000" y="2637000"/>
              <a:ext cx="5400720" cy="1557000"/>
            </a:xfrm>
            <a:prstGeom prst="rightArrow">
              <a:avLst>
                <a:gd name="adj1" fmla="val 50000"/>
                <a:gd name="adj2" fmla="val 8671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Text Box 20"/>
            <p:cNvSpPr/>
            <p:nvPr/>
          </p:nvSpPr>
          <p:spPr>
            <a:xfrm>
              <a:off x="1979640" y="319896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66"/>
                  </a:solidFill>
                  <a:latin typeface="Times New Roman"/>
                  <a:ea typeface="Arial"/>
                </a:rPr>
                <a:t>Определение особенностей и новизны работ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В чем оригинальность моей разработки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" name="Group 21"/>
          <p:cNvGrpSpPr/>
          <p:nvPr/>
        </p:nvGrpSpPr>
        <p:grpSpPr>
          <a:xfrm>
            <a:off x="2627280" y="1268280"/>
            <a:ext cx="5400720" cy="1557360"/>
            <a:chOff x="2627280" y="1268280"/>
            <a:chExt cx="5400720" cy="1557360"/>
          </a:xfrm>
        </p:grpSpPr>
        <p:sp>
          <p:nvSpPr>
            <p:cNvPr id="760" name="AutoShape 22"/>
            <p:cNvSpPr/>
            <p:nvPr/>
          </p:nvSpPr>
          <p:spPr>
            <a:xfrm>
              <a:off x="2627280" y="1268280"/>
              <a:ext cx="5400720" cy="1557360"/>
            </a:xfrm>
            <a:prstGeom prst="rightArrow">
              <a:avLst>
                <a:gd name="adj1" fmla="val 50000"/>
                <a:gd name="adj2" fmla="val 8669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Text Box 23"/>
            <p:cNvSpPr/>
            <p:nvPr/>
          </p:nvSpPr>
          <p:spPr>
            <a:xfrm>
              <a:off x="2700360" y="1832040"/>
              <a:ext cx="460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6666"/>
                  </a:solidFill>
                  <a:latin typeface="Times New Roman"/>
                  <a:ea typeface="Arial"/>
                </a:rPr>
                <a:t>Выяснение условий реализаци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Каковы условия воплощения замысла?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Group 24"/>
          <p:cNvGrpSpPr/>
          <p:nvPr/>
        </p:nvGrpSpPr>
        <p:grpSpPr>
          <a:xfrm>
            <a:off x="8675640" y="476280"/>
            <a:ext cx="432000" cy="720720"/>
            <a:chOff x="8675640" y="476280"/>
            <a:chExt cx="432000" cy="720720"/>
          </a:xfrm>
        </p:grpSpPr>
        <p:sp>
          <p:nvSpPr>
            <p:cNvPr id="763" name="AutoShape 25"/>
            <p:cNvSpPr/>
            <p:nvPr/>
          </p:nvSpPr>
          <p:spPr>
            <a:xfrm>
              <a:off x="8675640" y="476280"/>
              <a:ext cx="432000" cy="36036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AutoShape 26"/>
            <p:cNvSpPr/>
            <p:nvPr/>
          </p:nvSpPr>
          <p:spPr>
            <a:xfrm>
              <a:off x="8675640" y="836640"/>
              <a:ext cx="432000" cy="360360"/>
            </a:xfrm>
            <a:custGeom>
              <a:avLst/>
              <a:gdLst>
                <a:gd name="textAreaLeft" fmla="*/ 100080 w 432000"/>
                <a:gd name="textAreaRight" fmla="*/ 330480 w 432000"/>
                <a:gd name="textAreaTop" fmla="*/ 37800 h 360360"/>
                <a:gd name="textAreaBottom" fmla="*/ 2286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5" name="AutoShape 27"/>
          <p:cNvSpPr/>
          <p:nvPr/>
        </p:nvSpPr>
        <p:spPr>
          <a:xfrm flipH="1">
            <a:off x="6948360" y="333360"/>
            <a:ext cx="1224000" cy="792000"/>
          </a:xfrm>
          <a:prstGeom prst="wedgeEllipseCallout">
            <a:avLst>
              <a:gd name="adj1" fmla="val -88263"/>
              <a:gd name="adj2" fmla="val -2708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Arial"/>
              </a:rPr>
              <a:t>УРА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7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 по результатам экспертизы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252360" y="1197000"/>
            <a:ext cx="8640720" cy="4410360"/>
          </a:xfrm>
          <a:prstGeom prst="rect">
            <a:avLst/>
          </a:prstGeom>
          <a:solidFill>
            <a:srgbClr val="00ccff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2800" algn="just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  <a:ea typeface="Arial"/>
              </a:rPr>
              <a:t>Выполнение областного Положения об экспертных и авторских разработка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Ведущие теоретические идеи авторской разработки: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степень новизны, инновационный характер авторской разработки;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роль авторской разработки в организации целостного педагогического процесса;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ключевые понятия, ведущую идею авторской разрабо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Содержательную характеристику авторской разработк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проблемные вопросы теоретического характера;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задачи и задания творческого характера (общие, дифференцированные, индивидуальные);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* обобщенные способы действия, обобщенная характеристика умений;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тестовые и контрольные задания (текущий и итоговый контроль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Реализацию принципов преемственности и перспектив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Практическую направленность авторской разрабо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Наличие критериев и диагностического сопровожд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442800">
              <a:lnSpc>
                <a:spcPct val="120000"/>
              </a:lnSpc>
              <a:spcBef>
                <a:spcPts val="300"/>
              </a:spcBef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Times New Roman"/>
                <a:ea typeface="Arial"/>
              </a:rPr>
              <a:t>Степень апроб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250920" y="59691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  <a:ea typeface="Arial"/>
              </a:rPr>
              <a:t>Экспертиза авторской разработки проводится по рекомендации органов управления образованием на основе отзывов муниципальных методических служб или экспертных сове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ведение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Авторская разработ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это итог долгих раздумий и размышлений результат анализа педагогического опыта и научных знаний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им из условий успеха является выполнение требований регионального стандарта к авторской методической разработ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14480" y="1557360"/>
            <a:ext cx="3809880" cy="3718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152280" y="1709640"/>
            <a:ext cx="98640" cy="334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4211640" y="1627200"/>
            <a:ext cx="468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  <a:ea typeface="Arial"/>
              </a:rPr>
              <a:t>Нормативная ба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  <a:ea typeface="Arial"/>
              </a:rPr>
              <a:t>Ав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  <a:ea typeface="Arial"/>
              </a:rPr>
              <a:t>Типы педагогических разработ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  <a:ea typeface="Arial"/>
              </a:rPr>
              <a:t>Понятие о программе и её функци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 Black"/>
                <a:ea typeface="Arial"/>
              </a:rPr>
              <a:t>Структура и содержание авторской разработ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0" y="6453360"/>
            <a:ext cx="914400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7" name="Picture 9" descr="1217821185_12"/>
          <p:cNvPicPr/>
          <p:nvPr/>
        </p:nvPicPr>
        <p:blipFill>
          <a:blip r:embed="rId2"/>
          <a:stretch/>
        </p:blipFill>
        <p:spPr>
          <a:xfrm>
            <a:off x="304920" y="1600200"/>
            <a:ext cx="357336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ипы и виды методической продукц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ифицируе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характеру информ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растному принцип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направлениям 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0" name="Organization Chart 0"/>
          <p:cNvGrpSpPr/>
          <p:nvPr/>
        </p:nvGrpSpPr>
        <p:grpSpPr>
          <a:xfrm>
            <a:off x="3886200" y="1981080"/>
            <a:ext cx="5257440" cy="4494600"/>
            <a:chOff x="3886200" y="1981080"/>
            <a:chExt cx="5257440" cy="4494600"/>
          </a:xfrm>
        </p:grpSpPr>
        <p:cxnSp>
          <p:nvCxnSpPr>
            <p:cNvPr id="681" name="_s1028"/>
            <p:cNvCxnSpPr>
              <a:stCxn id="682" idx="0"/>
              <a:endCxn id="683" idx="2"/>
            </p:cNvCxnSpPr>
            <p:nvPr/>
          </p:nvCxnSpPr>
          <p:spPr>
            <a:xfrm flipV="1" rot="16200000">
              <a:off x="6407280" y="3886560"/>
              <a:ext cx="899640" cy="6829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4" name="_s1029"/>
            <p:cNvCxnSpPr>
              <a:stCxn id="685" idx="0"/>
              <a:endCxn id="683" idx="2"/>
            </p:cNvCxnSpPr>
            <p:nvPr/>
          </p:nvCxnSpPr>
          <p:spPr>
            <a:xfrm flipV="1" rot="16200000">
              <a:off x="7088040" y="3205080"/>
              <a:ext cx="899640" cy="20455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6" name="_s1030"/>
            <p:cNvCxnSpPr>
              <a:stCxn id="687" idx="0"/>
              <a:endCxn id="683" idx="2"/>
            </p:cNvCxnSpPr>
            <p:nvPr/>
          </p:nvCxnSpPr>
          <p:spPr>
            <a:xfrm flipH="1" flipV="1" rot="5400000">
              <a:off x="5725080" y="3886920"/>
              <a:ext cx="899640" cy="6825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8" name="_s1031"/>
            <p:cNvCxnSpPr>
              <a:stCxn id="689" idx="0"/>
              <a:endCxn id="683" idx="2"/>
            </p:cNvCxnSpPr>
            <p:nvPr/>
          </p:nvCxnSpPr>
          <p:spPr>
            <a:xfrm flipH="1" flipV="1" rot="5400000">
              <a:off x="5043240" y="3205080"/>
              <a:ext cx="899640" cy="204588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3" name="_s1032"/>
            <p:cNvSpPr/>
            <p:nvPr/>
          </p:nvSpPr>
          <p:spPr>
            <a:xfrm>
              <a:off x="5929920" y="1981080"/>
              <a:ext cx="1168560" cy="1797840"/>
            </a:xfrm>
            <a:custGeom>
              <a:avLst/>
              <a:gdLst>
                <a:gd name="textAreaLeft" fmla="*/ 56880 w 1168560"/>
                <a:gd name="textAreaRight" fmla="*/ 1111680 w 1168560"/>
                <a:gd name="textAreaTop" fmla="*/ 56880 h 1797840"/>
                <a:gd name="textAreaBottom" fmla="*/ 1740960 h 1797840"/>
              </a:gdLst>
              <a:ahLst/>
              <a:rect l="textAreaLeft" t="textAreaTop" r="textAreaRight" b="textAreaBottom"/>
              <a:pathLst>
                <a:path w="21600" h="33228">
                  <a:moveTo>
                    <a:pt x="3600" y="0"/>
                  </a:moveTo>
                  <a:arcTo wR="3600" hR="3600" stAng="16200000" swAng="-5400000"/>
                  <a:lnTo>
                    <a:pt x="0" y="29628"/>
                  </a:lnTo>
                  <a:arcTo wR="3600" hR="3600" stAng="10800000" swAng="-5400000"/>
                  <a:lnTo>
                    <a:pt x="18000" y="33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Типы и вид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етодической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родукци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_s1033"/>
            <p:cNvSpPr/>
            <p:nvPr/>
          </p:nvSpPr>
          <p:spPr>
            <a:xfrm>
              <a:off x="3886200" y="4677840"/>
              <a:ext cx="1168560" cy="1797840"/>
            </a:xfrm>
            <a:custGeom>
              <a:avLst/>
              <a:gdLst>
                <a:gd name="textAreaLeft" fmla="*/ 56880 w 1168560"/>
                <a:gd name="textAreaRight" fmla="*/ 1111680 w 1168560"/>
                <a:gd name="textAreaTop" fmla="*/ 56880 h 1797840"/>
                <a:gd name="textAreaBottom" fmla="*/ 1740960 h 1797840"/>
              </a:gdLst>
              <a:ahLst/>
              <a:rect l="textAreaLeft" t="textAreaTop" r="textAreaRight" b="textAreaBottom"/>
              <a:pathLst>
                <a:path w="21600" h="33228">
                  <a:moveTo>
                    <a:pt x="3600" y="0"/>
                  </a:moveTo>
                  <a:arcTo wR="3600" hR="3600" stAng="16200000" swAng="-5400000"/>
                  <a:lnTo>
                    <a:pt x="0" y="29628"/>
                  </a:lnTo>
                  <a:arcTo wR="3600" hR="3600" stAng="10800000" swAng="-5400000"/>
                  <a:lnTo>
                    <a:pt x="18000" y="33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Прикладная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_s1034"/>
            <p:cNvSpPr/>
            <p:nvPr/>
          </p:nvSpPr>
          <p:spPr>
            <a:xfrm>
              <a:off x="5249520" y="4677840"/>
              <a:ext cx="1168560" cy="1797840"/>
            </a:xfrm>
            <a:custGeom>
              <a:avLst/>
              <a:gdLst>
                <a:gd name="textAreaLeft" fmla="*/ 56880 w 1168560"/>
                <a:gd name="textAreaRight" fmla="*/ 1111680 w 1168560"/>
                <a:gd name="textAreaTop" fmla="*/ 56880 h 1797840"/>
                <a:gd name="textAreaBottom" fmla="*/ 1740960 h 1797840"/>
              </a:gdLst>
              <a:ahLst/>
              <a:rect l="textAreaLeft" t="textAreaTop" r="textAreaRight" b="textAreaBottom"/>
              <a:pathLst>
                <a:path w="21600" h="33228">
                  <a:moveTo>
                    <a:pt x="3600" y="0"/>
                  </a:moveTo>
                  <a:arcTo wR="3600" hR="3600" stAng="16200000" swAng="-5400000"/>
                  <a:lnTo>
                    <a:pt x="0" y="29628"/>
                  </a:lnTo>
                  <a:arcTo wR="3600" hR="3600" stAng="10800000" swAng="-5400000"/>
                  <a:lnTo>
                    <a:pt x="18000" y="33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Times New Roman"/>
                </a:rPr>
                <a:t>Учебная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_s1035"/>
            <p:cNvSpPr/>
            <p:nvPr/>
          </p:nvSpPr>
          <p:spPr>
            <a:xfrm>
              <a:off x="7975080" y="4677840"/>
              <a:ext cx="1168560" cy="1797840"/>
            </a:xfrm>
            <a:custGeom>
              <a:avLst/>
              <a:gdLst>
                <a:gd name="textAreaLeft" fmla="*/ 56880 w 1168560"/>
                <a:gd name="textAreaRight" fmla="*/ 1111680 w 1168560"/>
                <a:gd name="textAreaTop" fmla="*/ 56880 h 1797840"/>
                <a:gd name="textAreaBottom" fmla="*/ 1740960 h 1797840"/>
              </a:gdLst>
              <a:ahLst/>
              <a:rect l="textAreaLeft" t="textAreaTop" r="textAreaRight" b="textAreaBottom"/>
              <a:pathLst>
                <a:path w="21600" h="33228">
                  <a:moveTo>
                    <a:pt x="3600" y="0"/>
                  </a:moveTo>
                  <a:arcTo wR="3600" hR="3600" stAng="16200000" swAng="-5400000"/>
                  <a:lnTo>
                    <a:pt x="0" y="29628"/>
                  </a:lnTo>
                  <a:arcTo wR="3600" hR="3600" stAng="10800000" swAng="-5400000"/>
                  <a:lnTo>
                    <a:pt x="18000" y="332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Информационно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методическа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_s1036"/>
            <p:cNvSpPr/>
            <p:nvPr/>
          </p:nvSpPr>
          <p:spPr>
            <a:xfrm>
              <a:off x="6612840" y="4677840"/>
              <a:ext cx="1167120" cy="1797840"/>
            </a:xfrm>
            <a:custGeom>
              <a:avLst/>
              <a:gdLst>
                <a:gd name="textAreaLeft" fmla="*/ 56880 w 1167120"/>
                <a:gd name="textAreaRight" fmla="*/ 1110240 w 1167120"/>
                <a:gd name="textAreaTop" fmla="*/ 56880 h 1797840"/>
                <a:gd name="textAreaBottom" fmla="*/ 1740960 h 1797840"/>
              </a:gdLst>
              <a:ahLst/>
              <a:rect l="textAreaLeft" t="textAreaTop" r="textAreaRight" b="textAreaBottom"/>
              <a:pathLst>
                <a:path w="21600" h="33269">
                  <a:moveTo>
                    <a:pt x="3600" y="0"/>
                  </a:moveTo>
                  <a:arcTo wR="3600" hR="3600" stAng="16200000" swAng="-5400000"/>
                  <a:lnTo>
                    <a:pt x="0" y="29669"/>
                  </a:lnTo>
                  <a:arcTo wR="3600" hR="3600" stAng="10800000" swAng="-5400000"/>
                  <a:lnTo>
                    <a:pt x="18000" y="332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Организационно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</a:rPr>
                <a:t>методическа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ормативная б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ожение об авторских  педагогических разработках (приложение к приказу ГлавУО и ПО от 25.06.04. № 1163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анное Положение устанавливает порядок  и условия  определения авторских педагогических разработок учреждений общего и дополнительного образован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ожение включа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Общие положения, где  обосновывается позиция разработч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Структура и содержание авторской разработ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Заключение по результатам экспертизы авторских разработ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авторских разработ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395280" y="1484280"/>
            <a:ext cx="3745080" cy="1191240"/>
          </a:xfrm>
          <a:prstGeom prst="rect">
            <a:avLst/>
          </a:prstGeom>
          <a:solidFill>
            <a:srgbClr val="00ccff"/>
          </a:solidFill>
          <a:ln w="6480">
            <a:solidFill>
              <a:srgbClr val="cbcbcb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Адаптационная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– связанная с приспособлением уже имеющейся программы (разработки) к новым конкретным услови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5149800" y="3500280"/>
            <a:ext cx="3743280" cy="1191240"/>
          </a:xfrm>
          <a:prstGeom prst="rect">
            <a:avLst/>
          </a:prstGeom>
          <a:solidFill>
            <a:srgbClr val="00ccff"/>
          </a:solidFill>
          <a:ln w="6480">
            <a:solidFill>
              <a:srgbClr val="cbcbcb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Комбинаторная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-   новая продукция создается благодаря новым сочетаниям известных способов, форм, сред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95280" y="5805360"/>
            <a:ext cx="3743280" cy="642600"/>
          </a:xfrm>
          <a:prstGeom prst="rect">
            <a:avLst/>
          </a:prstGeom>
          <a:solidFill>
            <a:srgbClr val="00ccff"/>
          </a:solidFill>
          <a:ln w="6480">
            <a:solidFill>
              <a:srgbClr val="cbcbcb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Радикальная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– содержащая принципиальную новизн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Picture 7" descr="j0299125"/>
          <p:cNvPicPr/>
          <p:nvPr/>
        </p:nvPicPr>
        <p:blipFill>
          <a:blip r:embed="rId2"/>
          <a:stretch/>
        </p:blipFill>
        <p:spPr>
          <a:xfrm>
            <a:off x="6372360" y="14130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8" descr="j0234687"/>
          <p:cNvPicPr/>
          <p:nvPr/>
        </p:nvPicPr>
        <p:blipFill>
          <a:blip r:embed="rId3"/>
          <a:stretch/>
        </p:blipFill>
        <p:spPr>
          <a:xfrm>
            <a:off x="1258920" y="3573360"/>
            <a:ext cx="2305080" cy="135756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9" descr="j0149481"/>
          <p:cNvPicPr/>
          <p:nvPr/>
        </p:nvPicPr>
        <p:blipFill>
          <a:blip r:embed="rId4"/>
          <a:stretch/>
        </p:blipFill>
        <p:spPr>
          <a:xfrm>
            <a:off x="6300720" y="5229360"/>
            <a:ext cx="1425600" cy="144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Структура и содержание программы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02" name="Group 4"/>
          <p:cNvGrpSpPr/>
          <p:nvPr/>
        </p:nvGrpSpPr>
        <p:grpSpPr>
          <a:xfrm>
            <a:off x="339840" y="1763640"/>
            <a:ext cx="8480160" cy="4545000"/>
            <a:chOff x="339840" y="1763640"/>
            <a:chExt cx="8480160" cy="4545000"/>
          </a:xfrm>
        </p:grpSpPr>
        <p:sp>
          <p:nvSpPr>
            <p:cNvPr id="703" name="Documents"/>
            <p:cNvSpPr/>
            <p:nvPr/>
          </p:nvSpPr>
          <p:spPr>
            <a:xfrm>
              <a:off x="3867120" y="1763640"/>
              <a:ext cx="1425600" cy="18097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Программа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4" name="Group 6"/>
            <p:cNvGrpSpPr/>
            <p:nvPr/>
          </p:nvGrpSpPr>
          <p:grpSpPr>
            <a:xfrm>
              <a:off x="339840" y="4292280"/>
              <a:ext cx="1495080" cy="1944360"/>
              <a:chOff x="339840" y="4292280"/>
              <a:chExt cx="1495080" cy="1944360"/>
            </a:xfrm>
          </p:grpSpPr>
          <p:sp>
            <p:nvSpPr>
              <p:cNvPr id="705" name="Document"/>
              <p:cNvSpPr/>
              <p:nvPr/>
            </p:nvSpPr>
            <p:spPr>
              <a:xfrm>
                <a:off x="339840" y="4292280"/>
                <a:ext cx="1495080" cy="1944360"/>
              </a:xfrm>
              <a:custGeom>
                <a:avLst/>
                <a:gdLst>
                  <a:gd name="textAreaLeft" fmla="*/ 68400 w 1495080"/>
                  <a:gd name="textAreaRight" fmla="*/ 1426680 w 1495080"/>
                  <a:gd name="textAreaTop" fmla="*/ 73800 h 1944360"/>
                  <a:gd name="textAreaBottom" fmla="*/ 1478880 h 19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757" y="21632"/>
                    </a:moveTo>
                    <a:lnTo>
                      <a:pt x="5187" y="21632"/>
                    </a:lnTo>
                    <a:lnTo>
                      <a:pt x="85" y="17509"/>
                    </a:lnTo>
                    <a:lnTo>
                      <a:pt x="85" y="10849"/>
                    </a:lnTo>
                    <a:lnTo>
                      <a:pt x="85" y="81"/>
                    </a:lnTo>
                    <a:lnTo>
                      <a:pt x="10757" y="81"/>
                    </a:lnTo>
                    <a:lnTo>
                      <a:pt x="21706" y="81"/>
                    </a:lnTo>
                    <a:lnTo>
                      <a:pt x="21706" y="10652"/>
                    </a:lnTo>
                    <a:lnTo>
                      <a:pt x="21706" y="21632"/>
                    </a:lnTo>
                    <a:lnTo>
                      <a:pt x="10757" y="21632"/>
                    </a:lnTo>
                    <a:close/>
                  </a:path>
                  <a:path w="21600" h="21600">
                    <a:moveTo>
                      <a:pt x="85" y="17509"/>
                    </a:moveTo>
                    <a:lnTo>
                      <a:pt x="5187" y="17509"/>
                    </a:lnTo>
                    <a:lnTo>
                      <a:pt x="5187" y="21632"/>
                    </a:lnTo>
                    <a:lnTo>
                      <a:pt x="85" y="17509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Text Box 8"/>
              <p:cNvSpPr/>
              <p:nvPr/>
            </p:nvSpPr>
            <p:spPr>
              <a:xfrm>
                <a:off x="499320" y="4962600"/>
                <a:ext cx="1272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Титульный лист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9"/>
            <p:cNvGrpSpPr/>
            <p:nvPr/>
          </p:nvGrpSpPr>
          <p:grpSpPr>
            <a:xfrm>
              <a:off x="2124000" y="4292280"/>
              <a:ext cx="1440000" cy="1954440"/>
              <a:chOff x="2124000" y="4292280"/>
              <a:chExt cx="1440000" cy="1954440"/>
            </a:xfrm>
          </p:grpSpPr>
          <p:sp>
            <p:nvSpPr>
              <p:cNvPr id="708" name="Document"/>
              <p:cNvSpPr/>
              <p:nvPr/>
            </p:nvSpPr>
            <p:spPr>
              <a:xfrm>
                <a:off x="2124000" y="4292280"/>
                <a:ext cx="1440000" cy="1954440"/>
              </a:xfrm>
              <a:custGeom>
                <a:avLst/>
                <a:gdLst>
                  <a:gd name="textAreaLeft" fmla="*/ 64800 w 1440000"/>
                  <a:gd name="textAreaRight" fmla="*/ 1375200 w 1440000"/>
                  <a:gd name="textAreaTop" fmla="*/ 74520 h 1954440"/>
                  <a:gd name="textAreaBottom" fmla="*/ 1486080 h 1954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757" y="21632"/>
                    </a:moveTo>
                    <a:lnTo>
                      <a:pt x="5187" y="21632"/>
                    </a:lnTo>
                    <a:lnTo>
                      <a:pt x="85" y="17509"/>
                    </a:lnTo>
                    <a:lnTo>
                      <a:pt x="85" y="10849"/>
                    </a:lnTo>
                    <a:lnTo>
                      <a:pt x="85" y="81"/>
                    </a:lnTo>
                    <a:lnTo>
                      <a:pt x="10757" y="81"/>
                    </a:lnTo>
                    <a:lnTo>
                      <a:pt x="21706" y="81"/>
                    </a:lnTo>
                    <a:lnTo>
                      <a:pt x="21706" y="10652"/>
                    </a:lnTo>
                    <a:lnTo>
                      <a:pt x="21706" y="21632"/>
                    </a:lnTo>
                    <a:lnTo>
                      <a:pt x="10757" y="21632"/>
                    </a:lnTo>
                    <a:close/>
                  </a:path>
                  <a:path w="21600" h="21600">
                    <a:moveTo>
                      <a:pt x="85" y="17509"/>
                    </a:moveTo>
                    <a:lnTo>
                      <a:pt x="5187" y="17509"/>
                    </a:lnTo>
                    <a:lnTo>
                      <a:pt x="5187" y="21632"/>
                    </a:lnTo>
                    <a:lnTo>
                      <a:pt x="85" y="17509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Text Box 11"/>
              <p:cNvSpPr/>
              <p:nvPr/>
            </p:nvSpPr>
            <p:spPr>
              <a:xfrm>
                <a:off x="2124000" y="4940280"/>
                <a:ext cx="1368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Пояснительная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записка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12"/>
            <p:cNvGrpSpPr/>
            <p:nvPr/>
          </p:nvGrpSpPr>
          <p:grpSpPr>
            <a:xfrm>
              <a:off x="3852720" y="4292280"/>
              <a:ext cx="1439640" cy="1944360"/>
              <a:chOff x="3852720" y="4292280"/>
              <a:chExt cx="1439640" cy="1944360"/>
            </a:xfrm>
          </p:grpSpPr>
          <p:sp>
            <p:nvSpPr>
              <p:cNvPr id="711" name="Document"/>
              <p:cNvSpPr/>
              <p:nvPr/>
            </p:nvSpPr>
            <p:spPr>
              <a:xfrm>
                <a:off x="3852720" y="4292280"/>
                <a:ext cx="1439640" cy="1944360"/>
              </a:xfrm>
              <a:custGeom>
                <a:avLst/>
                <a:gdLst>
                  <a:gd name="textAreaLeft" fmla="*/ 65880 w 1439640"/>
                  <a:gd name="textAreaRight" fmla="*/ 1373760 w 1439640"/>
                  <a:gd name="textAreaTop" fmla="*/ 74160 h 1944360"/>
                  <a:gd name="textAreaBottom" fmla="*/ 1479960 h 1944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757" y="21632"/>
                    </a:moveTo>
                    <a:lnTo>
                      <a:pt x="5187" y="21632"/>
                    </a:lnTo>
                    <a:lnTo>
                      <a:pt x="85" y="17509"/>
                    </a:lnTo>
                    <a:lnTo>
                      <a:pt x="85" y="10849"/>
                    </a:lnTo>
                    <a:lnTo>
                      <a:pt x="85" y="81"/>
                    </a:lnTo>
                    <a:lnTo>
                      <a:pt x="10757" y="81"/>
                    </a:lnTo>
                    <a:lnTo>
                      <a:pt x="21706" y="81"/>
                    </a:lnTo>
                    <a:lnTo>
                      <a:pt x="21706" y="10652"/>
                    </a:lnTo>
                    <a:lnTo>
                      <a:pt x="21706" y="21632"/>
                    </a:lnTo>
                    <a:lnTo>
                      <a:pt x="10757" y="21632"/>
                    </a:lnTo>
                    <a:close/>
                  </a:path>
                  <a:path w="21600" h="21600">
                    <a:moveTo>
                      <a:pt x="85" y="17509"/>
                    </a:moveTo>
                    <a:lnTo>
                      <a:pt x="5187" y="17509"/>
                    </a:lnTo>
                    <a:lnTo>
                      <a:pt x="5187" y="21632"/>
                    </a:lnTo>
                    <a:lnTo>
                      <a:pt x="85" y="17509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Text Box 14"/>
              <p:cNvSpPr/>
              <p:nvPr/>
            </p:nvSpPr>
            <p:spPr>
              <a:xfrm>
                <a:off x="3928320" y="4965840"/>
                <a:ext cx="130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Описание разделов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5"/>
            <p:cNvGrpSpPr/>
            <p:nvPr/>
          </p:nvGrpSpPr>
          <p:grpSpPr>
            <a:xfrm>
              <a:off x="5595840" y="4282920"/>
              <a:ext cx="1424160" cy="1954080"/>
              <a:chOff x="5595840" y="4282920"/>
              <a:chExt cx="1424160" cy="1954080"/>
            </a:xfrm>
          </p:grpSpPr>
          <p:sp>
            <p:nvSpPr>
              <p:cNvPr id="714" name="Document"/>
              <p:cNvSpPr/>
              <p:nvPr/>
            </p:nvSpPr>
            <p:spPr>
              <a:xfrm>
                <a:off x="5595840" y="4282920"/>
                <a:ext cx="1424160" cy="1954080"/>
              </a:xfrm>
              <a:custGeom>
                <a:avLst/>
                <a:gdLst>
                  <a:gd name="textAreaLeft" fmla="*/ 64800 w 1424160"/>
                  <a:gd name="textAreaRight" fmla="*/ 1359360 w 1424160"/>
                  <a:gd name="textAreaTop" fmla="*/ 74520 h 1954080"/>
                  <a:gd name="textAreaBottom" fmla="*/ 1486080 h 195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757" y="21632"/>
                    </a:moveTo>
                    <a:lnTo>
                      <a:pt x="5187" y="21632"/>
                    </a:lnTo>
                    <a:lnTo>
                      <a:pt x="85" y="17509"/>
                    </a:lnTo>
                    <a:lnTo>
                      <a:pt x="85" y="10849"/>
                    </a:lnTo>
                    <a:lnTo>
                      <a:pt x="85" y="81"/>
                    </a:lnTo>
                    <a:lnTo>
                      <a:pt x="10757" y="81"/>
                    </a:lnTo>
                    <a:lnTo>
                      <a:pt x="21706" y="81"/>
                    </a:lnTo>
                    <a:lnTo>
                      <a:pt x="21706" y="10652"/>
                    </a:lnTo>
                    <a:lnTo>
                      <a:pt x="21706" y="21632"/>
                    </a:lnTo>
                    <a:lnTo>
                      <a:pt x="10757" y="21632"/>
                    </a:lnTo>
                    <a:close/>
                  </a:path>
                  <a:path w="21600" h="21600">
                    <a:moveTo>
                      <a:pt x="85" y="17509"/>
                    </a:moveTo>
                    <a:lnTo>
                      <a:pt x="5187" y="17509"/>
                    </a:lnTo>
                    <a:lnTo>
                      <a:pt x="5187" y="21632"/>
                    </a:lnTo>
                    <a:lnTo>
                      <a:pt x="85" y="17509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Text Box 17"/>
              <p:cNvSpPr/>
              <p:nvPr/>
            </p:nvSpPr>
            <p:spPr>
              <a:xfrm>
                <a:off x="5595840" y="4930560"/>
                <a:ext cx="1366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Учебно-тематический план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8"/>
            <p:cNvGrpSpPr/>
            <p:nvPr/>
          </p:nvGrpSpPr>
          <p:grpSpPr>
            <a:xfrm>
              <a:off x="7308720" y="4292280"/>
              <a:ext cx="1511280" cy="2016360"/>
              <a:chOff x="7308720" y="4292280"/>
              <a:chExt cx="1511280" cy="2016360"/>
            </a:xfrm>
          </p:grpSpPr>
          <p:sp>
            <p:nvSpPr>
              <p:cNvPr id="717" name="Document"/>
              <p:cNvSpPr/>
              <p:nvPr/>
            </p:nvSpPr>
            <p:spPr>
              <a:xfrm>
                <a:off x="7308720" y="4292280"/>
                <a:ext cx="1511280" cy="2016360"/>
              </a:xfrm>
              <a:custGeom>
                <a:avLst/>
                <a:gdLst>
                  <a:gd name="textAreaLeft" fmla="*/ 68040 w 1511280"/>
                  <a:gd name="textAreaRight" fmla="*/ 1443240 w 1511280"/>
                  <a:gd name="textAreaTop" fmla="*/ 75960 h 2016360"/>
                  <a:gd name="textAreaBottom" fmla="*/ 1533960 h 201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757" y="21632"/>
                    </a:moveTo>
                    <a:lnTo>
                      <a:pt x="5187" y="21632"/>
                    </a:lnTo>
                    <a:lnTo>
                      <a:pt x="85" y="17509"/>
                    </a:lnTo>
                    <a:lnTo>
                      <a:pt x="85" y="10849"/>
                    </a:lnTo>
                    <a:lnTo>
                      <a:pt x="85" y="81"/>
                    </a:lnTo>
                    <a:lnTo>
                      <a:pt x="10757" y="81"/>
                    </a:lnTo>
                    <a:lnTo>
                      <a:pt x="21706" y="81"/>
                    </a:lnTo>
                    <a:lnTo>
                      <a:pt x="21706" y="10652"/>
                    </a:lnTo>
                    <a:lnTo>
                      <a:pt x="21706" y="21632"/>
                    </a:lnTo>
                    <a:lnTo>
                      <a:pt x="10757" y="21632"/>
                    </a:lnTo>
                    <a:close/>
                  </a:path>
                  <a:path w="21600" h="21600">
                    <a:moveTo>
                      <a:pt x="85" y="17509"/>
                    </a:moveTo>
                    <a:lnTo>
                      <a:pt x="5187" y="17509"/>
                    </a:lnTo>
                    <a:lnTo>
                      <a:pt x="5187" y="21632"/>
                    </a:lnTo>
                    <a:lnTo>
                      <a:pt x="85" y="17509"/>
                    </a:lnTo>
                    <a:close/>
                  </a:path>
                </a:pathLst>
              </a:cu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Text Box 20"/>
              <p:cNvSpPr/>
              <p:nvPr/>
            </p:nvSpPr>
            <p:spPr>
              <a:xfrm>
                <a:off x="7381800" y="5025960"/>
                <a:ext cx="129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ff"/>
                    </a:solidFill>
                    <a:latin typeface="Times New Roman"/>
                    <a:ea typeface="Arial"/>
                  </a:rPr>
                  <a:t>Приложения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9" name="Line 21"/>
            <p:cNvSpPr/>
            <p:nvPr/>
          </p:nvSpPr>
          <p:spPr>
            <a:xfrm>
              <a:off x="1042920" y="3931920"/>
              <a:ext cx="712944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22"/>
            <p:cNvSpPr/>
            <p:nvPr/>
          </p:nvSpPr>
          <p:spPr>
            <a:xfrm>
              <a:off x="1042920" y="3931920"/>
              <a:ext cx="0" cy="36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23"/>
            <p:cNvSpPr/>
            <p:nvPr/>
          </p:nvSpPr>
          <p:spPr>
            <a:xfrm>
              <a:off x="2771640" y="3931920"/>
              <a:ext cx="0" cy="36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24"/>
            <p:cNvSpPr/>
            <p:nvPr/>
          </p:nvSpPr>
          <p:spPr>
            <a:xfrm>
              <a:off x="4572000" y="3931920"/>
              <a:ext cx="0" cy="36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25"/>
            <p:cNvSpPr/>
            <p:nvPr/>
          </p:nvSpPr>
          <p:spPr>
            <a:xfrm>
              <a:off x="6227640" y="3931920"/>
              <a:ext cx="0" cy="3603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26"/>
            <p:cNvSpPr/>
            <p:nvPr/>
          </p:nvSpPr>
          <p:spPr>
            <a:xfrm>
              <a:off x="8172360" y="3917880"/>
              <a:ext cx="0" cy="3855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27"/>
            <p:cNvSpPr/>
            <p:nvPr/>
          </p:nvSpPr>
          <p:spPr>
            <a:xfrm>
              <a:off x="4572000" y="3644640"/>
              <a:ext cx="0" cy="28728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0805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итульный лис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27" name="Group 3"/>
          <p:cNvGrpSpPr/>
          <p:nvPr/>
        </p:nvGrpSpPr>
        <p:grpSpPr>
          <a:xfrm>
            <a:off x="2438280" y="990720"/>
            <a:ext cx="4968720" cy="6048360"/>
            <a:chOff x="2438280" y="990720"/>
            <a:chExt cx="4968720" cy="6048360"/>
          </a:xfrm>
        </p:grpSpPr>
        <p:sp>
          <p:nvSpPr>
            <p:cNvPr id="728" name="Document"/>
            <p:cNvSpPr/>
            <p:nvPr/>
          </p:nvSpPr>
          <p:spPr>
            <a:xfrm>
              <a:off x="2438280" y="990720"/>
              <a:ext cx="4968720" cy="6048360"/>
            </a:xfrm>
            <a:custGeom>
              <a:avLst/>
              <a:gdLst>
                <a:gd name="textAreaLeft" fmla="*/ 225360 w 4968720"/>
                <a:gd name="textAreaRight" fmla="*/ 4743360 w 4968720"/>
                <a:gd name="textAreaTop" fmla="*/ 228240 h 6048360"/>
                <a:gd name="textAreaBottom" fmla="*/ 4600800 h 604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57" y="21632"/>
                  </a:moveTo>
                  <a:lnTo>
                    <a:pt x="5187" y="21632"/>
                  </a:lnTo>
                  <a:lnTo>
                    <a:pt x="85" y="17509"/>
                  </a:lnTo>
                  <a:lnTo>
                    <a:pt x="85" y="10849"/>
                  </a:lnTo>
                  <a:lnTo>
                    <a:pt x="85" y="81"/>
                  </a:lnTo>
                  <a:lnTo>
                    <a:pt x="10757" y="81"/>
                  </a:lnTo>
                  <a:lnTo>
                    <a:pt x="21706" y="81"/>
                  </a:lnTo>
                  <a:lnTo>
                    <a:pt x="21706" y="10652"/>
                  </a:lnTo>
                  <a:lnTo>
                    <a:pt x="21706" y="21632"/>
                  </a:lnTo>
                  <a:lnTo>
                    <a:pt x="10757" y="21632"/>
                  </a:lnTo>
                  <a:close/>
                </a:path>
                <a:path w="21600" h="21600">
                  <a:moveTo>
                    <a:pt x="85" y="17509"/>
                  </a:moveTo>
                  <a:lnTo>
                    <a:pt x="5187" y="17509"/>
                  </a:lnTo>
                  <a:lnTo>
                    <a:pt x="5187" y="21632"/>
                  </a:lnTo>
                  <a:lnTo>
                    <a:pt x="85" y="17509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Text Box 5"/>
            <p:cNvSpPr/>
            <p:nvPr/>
          </p:nvSpPr>
          <p:spPr>
            <a:xfrm>
              <a:off x="2509560" y="1062360"/>
              <a:ext cx="4897440" cy="40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Министерство образования и науки Российской Федерации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Управление образования администрации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указывается название муниципального образования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Муниципальное образовательное учреждение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указывается название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Авторская педагогическая разработка</a:t>
              </a:r>
              <a:br>
                <a:rPr sz="14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указывается тип творческой работы: 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адаптационная, комбинаторная, радикальная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________________________________________________________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название разработки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________________________________________________________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орма (учебная, воспитательная программа, УМП, 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концепция, методические рекомендации</a:t>
              </a:r>
              <a:r>
                <a:rPr b="0" i="1" lang="ru-RU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5103720" y="5062680"/>
              <a:ext cx="2232000" cy="12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Автор разработки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_____________________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_____________________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_____________________</a:t>
              </a:r>
              <a:br>
                <a:rPr sz="14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ФИО полностью, должность, место работы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Text Box 7"/>
            <p:cNvSpPr/>
            <p:nvPr/>
          </p:nvSpPr>
          <p:spPr>
            <a:xfrm>
              <a:off x="3806640" y="6463080"/>
              <a:ext cx="252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00_г</a:t>
              </a:r>
              <a:br>
                <a:rPr sz="1200"/>
              </a:b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город, район, нас. Пункт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57200" y="1143000"/>
            <a:ext cx="8136000" cy="46285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Актуальность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создания авторской разработки (исходя из какой объективной потребности обновления того или иного компонента образовательного процесса вытекает необходимость создания данной авторской разработки; какие проблемы может решить  данная разработка  и какие  противоречия предполагается разрешить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изну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авторской разработки  (какая идея положена в основу авторской разработ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Методологические положения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(основные теоретические идеи, положенные в ее основу;  категории и понятия, встречающиеся в разработке, если их употребление в данной области науки носят неоднозначный характер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Цель и задачи.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Цель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– идеальное предвосхищение результатов деятельности.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Задачи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 – конкретное выражение предполагаемых результатов деятельности в условиях проверки авторских гипотетических иде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5T07:0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