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063D-C6B5-4E62-BA55-9F2E3DD0E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8BDF-4174-4CCD-823E-D2AFB00E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4CCB-6658-41F2-B0EA-633C00E1F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6578-A180-43E7-BE8D-F7B8339A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C6A0-0DD7-4433-97B7-FDDDC8BCC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5C43-E011-4565-A818-9DD74501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6204-A77D-4ED5-B183-4479FC00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5348-43FE-4992-9F2D-22F53250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F829-D99A-492B-A1B8-4E82AE4D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6D8B-1B9E-4A62-9FFC-B7169A10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D508-96C0-460D-954D-06C41F62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3B0F-A53F-47E8-8FD8-B54FBA9B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E1B8-5E81-4DAF-88A0-5DF9C33C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6266-8A34-4339-B52A-25F93D03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9D5B-5077-4F8B-BF01-B50CB386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BEB0-07EF-472F-934C-9DDE5BB62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4818-4E9B-4BEE-B617-07D714A75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7517-08E8-4699-8750-65A0155F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3216-DF6C-4E65-90C7-2BF7A5B7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ABEA-CB6F-4146-9020-BE6A1785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E814-E80A-48E8-8002-D82A3D7B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2DE1-ECA8-41D9-B443-3AA03FF8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178C-E628-4150-9DB7-70E394FF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B9DA-C743-458E-AEC5-864DE0AC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A522-D32B-48E9-B364-BCB1B88D8F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46FC-CA12-46A7-9BFB-C4D1BEEAB3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4901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Тест « Экосистема озера и болота»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50920" y="2060640"/>
            <a:ext cx="8642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астения озера и болота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) тимофеевка, нивяник, лопу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 )брусника, мох, черни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)кувшинка, ряска, тростни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1076400" cy="14288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7956720" y="1052640"/>
            <a:ext cx="1076040" cy="14284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6948360" y="1125360"/>
            <a:ext cx="1009800" cy="14288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250920" y="2421000"/>
            <a:ext cx="1190520" cy="14288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7380360" y="2781360"/>
            <a:ext cx="1639800" cy="14288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179280" y="3933720"/>
            <a:ext cx="1297080" cy="14288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7"/>
          <a:stretch/>
        </p:blipFill>
        <p:spPr>
          <a:xfrm>
            <a:off x="1547640" y="5229360"/>
            <a:ext cx="1067040" cy="14284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8"/>
          <a:stretch/>
        </p:blipFill>
        <p:spPr>
          <a:xfrm>
            <a:off x="2987640" y="5229360"/>
            <a:ext cx="1943280" cy="14284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9"/>
          <a:stretch/>
        </p:blipFill>
        <p:spPr>
          <a:xfrm>
            <a:off x="6156360" y="5157720"/>
            <a:ext cx="15112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Санитарами озера считают…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)рака, беззубк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 ) прудовика, катушк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)клопа- водомер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716360" y="1052640"/>
            <a:ext cx="1932120" cy="1168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7020000" y="1052640"/>
            <a:ext cx="1728720" cy="1224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5292720" y="2276640"/>
            <a:ext cx="1584360" cy="1152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7020000" y="2421000"/>
            <a:ext cx="1666800" cy="14288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4859280" y="4221000"/>
            <a:ext cx="23050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С озерами связана жизнь…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)зябликов, соек, трясогусок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 )цапель, уток, лебеде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)тетеревов, сов, дятл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7451640" y="260280"/>
            <a:ext cx="1513080" cy="14288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1439640" cy="15732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6804000" y="1773360"/>
            <a:ext cx="2032200" cy="1079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 rot="21297000">
            <a:off x="7019640" y="2781000"/>
            <a:ext cx="1974600" cy="1224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6804000" y="3933720"/>
            <a:ext cx="1949400" cy="14288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6"/>
          <a:stretch/>
        </p:blipFill>
        <p:spPr>
          <a:xfrm>
            <a:off x="6939000" y="5398920"/>
            <a:ext cx="2023920" cy="12337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7"/>
          <a:stretch/>
        </p:blipFill>
        <p:spPr>
          <a:xfrm>
            <a:off x="179280" y="4653000"/>
            <a:ext cx="1714680" cy="14288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8"/>
          <a:stretch/>
        </p:blipFill>
        <p:spPr>
          <a:xfrm>
            <a:off x="2484360" y="4724280"/>
            <a:ext cx="1143000" cy="14288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9"/>
          <a:stretch/>
        </p:blipFill>
        <p:spPr>
          <a:xfrm>
            <a:off x="4500720" y="4581360"/>
            <a:ext cx="16556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Озеро называют экосистемой, потому что…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)в нем богатое разнообразие растений, которые служат пищей животны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 )в нем от поверхности до дна обитают живые организм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)есть живые обитатели всех «профессий», благодаря которым поддерживается круговорот веще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Болото-это…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)ненужная и вредная часть природ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 )природное хранилище чистейшей вод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)место жизни многих растений и живот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492360" y="4076640"/>
            <a:ext cx="3959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Найди в строчке лишнее.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)кувшинка, рогоз, тростник, элоде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 )карась, щука, пло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) рак, беззубка, мотыль, дафн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 )клюква, морошка, голубика, земляни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 )тетерев, журавль, кулик, цап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2:56:17Z</dcterms:created>
  <dc:creator>user</dc:creator>
  <dc:description/>
  <dc:language>en-US</dc:language>
  <cp:lastModifiedBy>inf</cp:lastModifiedBy>
  <dcterms:modified xsi:type="dcterms:W3CDTF">2012-09-25T17:17:26Z</dcterms:modified>
  <cp:revision>4</cp:revision>
  <dc:subject/>
  <dc:title>Тест « Экосистема озера и болота»</dc:title>
</cp:coreProperties>
</file>