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DB5-6898-4726-8E78-BD33DE42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2D1-287C-4177-9901-3F81185D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14B-7CC2-4BB5-B203-D4D4304B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288-7455-433E-9754-C1F5DAB8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FC5B-50A7-4FCD-87DE-973DC2CC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0C91-8F94-4B94-853C-D7394108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D1D4-045B-4822-A5A4-D3DBEBFD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F953-3C6B-4E8D-AE9B-F30D7F6B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D4E7-DF88-4950-9229-7FACB5C1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B822-2ECA-4F6D-9D3E-C2D24C52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D346-0EF9-416E-B8BC-2BF45A15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104-F0AB-4CA9-A0E1-B3DD3EB0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1533-9749-422B-B44B-BA4E00CA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0CBB-E7DE-429C-84FF-C5551E43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BBC-6862-443C-9D23-9A6F4C84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52C9-2323-41CE-88DD-806D1C5D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D295-16EA-4AD6-9F9E-E29B946D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018-5E0C-42DD-AFAA-CB330BE5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93F-272F-4551-8A14-0FC33DF4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002-49DE-40AA-8DE9-98C8B62C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CA9-0EB1-4F2F-AF85-AE026C66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3B5-CFBA-4CE1-B626-7ECF835E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D11-2D16-4F6F-9889-E498E34E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26E-6D6D-4BE7-B168-6C017C1A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BEF6-5FA5-4CB6-B92D-D7151C5CD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9901-1905-4732-BD61-191090DEA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490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Тест « Экосистема озера и болота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стения озера и болот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тимофеевка, нивяник, лопу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 )брусника, мох, чер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)кувшинка, ряска, трост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956720" y="1052640"/>
            <a:ext cx="1076040" cy="1428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948360" y="1125360"/>
            <a:ext cx="100980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7380360" y="2781360"/>
            <a:ext cx="1639800" cy="1428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179280" y="3933720"/>
            <a:ext cx="1297080" cy="1428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547640" y="5229360"/>
            <a:ext cx="1067040" cy="1428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2987640" y="5229360"/>
            <a:ext cx="1943280" cy="1428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511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анитарами озера считают…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)рака, беззуб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 ) прудовика, катуш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)клопа- водомер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1932120" cy="1168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292720" y="227664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7020000" y="2421000"/>
            <a:ext cx="166680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859280" y="4221000"/>
            <a:ext cx="2305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 озерами связана жизнь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)зябликов, соек, трясогус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 )цапель, уток, лебед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)тетеревов, сов, дят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51308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439640" cy="1573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804000" y="1773360"/>
            <a:ext cx="2032200" cy="1079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 rot="21297000">
            <a:off x="7019640" y="2781000"/>
            <a:ext cx="1974600" cy="1224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6804000" y="3933720"/>
            <a:ext cx="1949400" cy="1428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6939000" y="5398920"/>
            <a:ext cx="2023920" cy="1233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179280" y="465300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2484360" y="4724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4500720" y="4581360"/>
            <a:ext cx="1655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зеро называют экосистемой, потому что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)в нем богатое разнообразие растений, которые служат пищей животн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 )в нем от поверхности до дна обитают живые организ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)есть живые обитатели всех «профессий», благодаря которым поддерживается круговорот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Болото-это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)ненужная и вредная часть природ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 )природное хранилище чистейшей вод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)место жизни многих растений и живот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3959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Найди в строчке лишнее.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)кувшинка, рогоз, тростник, элоде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 )карась, щука, пло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) рак, беззубка, мотыль, даф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 )клюква, морошка, голубика, земля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 )тетерев, журавль, кулик, цап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2:56:17Z</dcterms:created>
  <dc:creator>user</dc:creator>
  <dc:description/>
  <dc:language>en-US</dc:language>
  <cp:lastModifiedBy>inf</cp:lastModifiedBy>
  <dcterms:modified xsi:type="dcterms:W3CDTF">2012-09-25T17:17:26Z</dcterms:modified>
  <cp:revision>4</cp:revision>
  <dc:subject/>
  <dc:title>Тест « Экосистема озера и болота»</dc:title>
</cp:coreProperties>
</file>