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546-B4F8-4274-BF15-BF4CD4A9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A67-D8F4-4B57-9398-2AA33161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4DC-2A2B-4B92-BA72-C75C6537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E80-249A-4280-B7F1-39AFD65C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48A05-1603-4702-8B87-0713D140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AA243-FDAF-44E0-B116-51D88C6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55445-A719-47F1-83FC-0910387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D18DD-6501-4C48-8D06-4F524FBE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6B55-3FA4-437F-BECE-E38C46D7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1B378-8247-4154-853A-7CF5525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8B272-EEB6-4582-AA57-95C175D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B4A-F484-4318-BCE0-4FA08AFB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7B007-67CA-41D9-B55B-3EB84DE4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940C-7308-4068-A303-3208894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EAAE2-BC29-413B-8ED8-A111FFA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F168-BF63-4255-8D2F-0E42E23C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6FA83-8D55-46FC-A186-0912BE04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63E-FBBF-4A7E-9D00-E27E0E2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9E6-9693-4B77-B53A-71FCF5C4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AC3-B623-48D5-B9FF-EDF80541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9D9-2570-47FB-8C5C-8210EC6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7A5-10C2-47ED-BB66-02D327E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D00-B69C-48E5-83AE-E67834B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B22-64B3-4D35-ACD7-4CABD8B6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C75-3F2F-4EEF-A829-46D5310874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3507-92B3-4794-9CAC-4AAB7EEE54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The city of my dream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Made by Packomova Alexandr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315280" cy="45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rench Script MT"/>
              </a:rPr>
              <a:t>I’d like to live in a city near the sea because I like dolphins, cafes, cinemas, shops and parks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000" y="1916280"/>
            <a:ext cx="4032360" cy="198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9760" y="1912680"/>
            <a:ext cx="4029120" cy="198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6840" y="4035600"/>
            <a:ext cx="4032360" cy="19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4360" y="1989000"/>
            <a:ext cx="381636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643280" y="1989000"/>
            <a:ext cx="38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84360" y="4149720"/>
            <a:ext cx="381636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4643280" y="4230720"/>
            <a:ext cx="381636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nch Script MT"/>
              </a:rPr>
              <a:t>I can go shopping and swimming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448000"/>
            <a:ext cx="4032360" cy="302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3280" y="2468520"/>
            <a:ext cx="4032360" cy="30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ench Script MT"/>
              </a:rPr>
              <a:t>I can watch birds, animals, go to the cinema and the theatr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2920" y="191628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8360" y="2556000"/>
            <a:ext cx="4038480" cy="283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3280" y="2565360"/>
            <a:ext cx="4056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I'd like to have a swimming pool in my hous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4360" y="1890720"/>
            <a:ext cx="7632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2000" y="291960"/>
            <a:ext cx="375444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Come </a:t>
            </a:r>
            <a:r>
              <a:rPr b="0" lang="en-US" sz="6600" spc="-1" strike="noStrike">
                <a:solidFill>
                  <a:srgbClr val="ffffff"/>
                </a:solidFill>
                <a:latin typeface="French Script MT"/>
              </a:rPr>
              <a:t>to</a:t>
            </a:r>
            <a:r>
              <a:rPr b="0" lang="en-US" sz="6000" spc="-1" strike="noStrike">
                <a:solidFill>
                  <a:srgbClr val="ffffff"/>
                </a:solidFill>
                <a:latin typeface="French Script MT"/>
              </a:rPr>
              <a:t> the city of my dream! Enjoy chocolate fountain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3160" y="189000"/>
            <a:ext cx="4556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French Script MT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1:21:46Z</dcterms:created>
  <dc:creator>Салютик</dc:creator>
  <dc:description/>
  <dc:language>en-US</dc:language>
  <cp:lastModifiedBy>Салютик</cp:lastModifiedBy>
  <dcterms:modified xsi:type="dcterms:W3CDTF">2012-04-19T11:50:20Z</dcterms:modified>
  <cp:revision>4</cp:revision>
  <dc:subject/>
  <dc:title>The city of my dream.</dc:title>
</cp:coreProperties>
</file>