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36E-F2B6-48A5-BCF4-09479A6C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591-1184-418E-A5AF-9D244095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99ED-1DFE-4CA5-9E04-BD996828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6AB-56FF-4433-B556-52C26E5D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142BB-2CFC-4D1D-8DFF-1A1615A6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CE343-0ACD-4CC8-9EBE-E7AE48EE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BDFF1-B2F7-4CAD-A22C-53063E00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DB95B-043B-4492-BA2A-510A8F41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2BA91-9484-48B4-BD14-E7605FB5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70B5C-7B6A-4EE2-857C-89755752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2B2EA-4469-459B-8C20-657A8300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391-2CE6-4911-85E0-BE72B6EB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2EFE5-C1FF-49A6-940E-A96D025F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D17A7-A9F9-4567-9742-807CF7E5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80CC6-79BA-4905-895F-6F04C67D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57A7B-FF13-4A67-A505-C642B18D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C61ED-885D-41CB-A76D-803F896E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B73-AF9B-4556-9221-3CD6A3C4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11F-8839-4B03-97F3-C0C766B1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87E-08C9-4237-A345-AB93E146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BB2-1554-46F5-A19E-E535F1FE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FA4-CFCB-4E91-891C-F078E87C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959-D82B-47D7-A01B-9E2C5C52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A12-1AB6-4870-B12D-4255472C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B04C-C35A-4783-89AD-94FE51AC64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5DE8-BD79-4DC2-BD72-1A232E8B81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ench Script MT"/>
              </a:rPr>
              <a:t>The city of my dream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French Script MT"/>
              </a:rPr>
              <a:t>Made by Packomova Alexandr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315280" cy="45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ench Script MT"/>
              </a:rPr>
              <a:t>I’d like to live in a city near the sea because I like dolphins, cafes, cinemas, shops and parks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000" y="1916280"/>
            <a:ext cx="4032360" cy="1984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49760" y="1912680"/>
            <a:ext cx="4029120" cy="1982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56840" y="4035600"/>
            <a:ext cx="4032360" cy="1984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84360" y="1989000"/>
            <a:ext cx="3816360" cy="194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643280" y="1989000"/>
            <a:ext cx="3816360" cy="2016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84360" y="4149720"/>
            <a:ext cx="3816360" cy="237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4643280" y="4230720"/>
            <a:ext cx="381636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ench Script MT"/>
              </a:rPr>
              <a:t>I can go shopping and swimming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448000"/>
            <a:ext cx="4032360" cy="3029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643280" y="2468520"/>
            <a:ext cx="4032360" cy="30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ench Script MT"/>
              </a:rPr>
              <a:t>I can watch birds, animals, go to the cinema and the theatr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2920" y="1916280"/>
            <a:ext cx="403884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8360" y="2556000"/>
            <a:ext cx="4038480" cy="283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43280" y="2565360"/>
            <a:ext cx="4056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ench Script MT"/>
              </a:rPr>
              <a:t>I'd like to have a swimming pool in my house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4360" y="1890720"/>
            <a:ext cx="76327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2000" y="291960"/>
            <a:ext cx="375444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ench Script MT"/>
              </a:rPr>
              <a:t>Come </a:t>
            </a:r>
            <a:r>
              <a:rPr b="0" lang="en-US" sz="6600" spc="-1" strike="noStrike">
                <a:solidFill>
                  <a:srgbClr val="ffffff"/>
                </a:solidFill>
                <a:latin typeface="French Script MT"/>
              </a:rPr>
              <a:t>to</a:t>
            </a:r>
            <a:r>
              <a:rPr b="0" lang="en-US" sz="6000" spc="-1" strike="noStrike">
                <a:solidFill>
                  <a:srgbClr val="ffffff"/>
                </a:solidFill>
                <a:latin typeface="French Script MT"/>
              </a:rPr>
              <a:t> the city of my dream! Enjoy chocolate fountain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3160" y="189000"/>
            <a:ext cx="4556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French Script MT"/>
              </a:rPr>
              <a:t>THE END</a:t>
            </a:r>
            <a:endParaRPr b="0" lang="en-US" sz="1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1:21:46Z</dcterms:created>
  <dc:creator>Салютик</dc:creator>
  <dc:description/>
  <dc:language>en-US</dc:language>
  <cp:lastModifiedBy>Салютик</cp:lastModifiedBy>
  <dcterms:modified xsi:type="dcterms:W3CDTF">2012-04-19T11:50:20Z</dcterms:modified>
  <cp:revision>4</cp:revision>
  <dc:subject/>
  <dc:title>The city of my dream.</dc:title>
</cp:coreProperties>
</file>