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025-7C73-4C84-BA00-58F4BCFF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A28-0268-493F-81D1-3CCB92A9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3FE-0871-4D40-9C47-A9AD8736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2AC-D492-443D-B95F-3228551C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2FF1-4A8B-438C-A200-5E86C052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0ED7-6346-4AF4-A7EF-F4D8CAEB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CF55-5A15-49D7-BE4F-7389C4AD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4DF5-6904-4C2E-AD77-FAE097C8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9AB2-4556-459F-95FB-1437374F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712D-D296-474D-A63A-06738563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E375-3061-4155-B265-2468AE6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D1D-C51A-4CA4-BCEB-764DBC7D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A2B6-EE2F-4C14-90D1-CA11A6DD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878F-4922-4AAB-A43E-4E4D5BF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5B1F-6D36-451E-A14A-935DC918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6280-27DF-4253-86FE-72717154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6F47-5D3B-416B-A123-CA0E9900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0B7A-A5E7-43A9-BAFA-C9133F07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C625-EE26-482B-9145-26E5D0E4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481D-D93C-4AB8-B9CD-FB7E1BB3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E171-34B6-41D9-BFB5-6F939972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019D-F7F7-4A56-B316-25B9F2C4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C27-BCE7-4A16-ADE7-0D350687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DB18-D551-43DA-9AA2-2AD47253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9D942-EA5E-4EAE-AC2D-D0575586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75A3-4A4C-476A-9B88-37855E2A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2147-AC4D-4F21-8D19-CAC90FE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73735-3D19-43E1-8F08-9E2B143A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B43D-BE87-4455-9EDA-3324FB72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DAE7-0213-4F93-AB1D-BD266B8C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CFD81-82FF-4C3B-9FA2-8E79516A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B80F-4D2A-4CC0-9273-55DC409F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6266-3A52-403F-B583-8AD403F4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83C-0BD5-43C1-A034-9A2935DB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5BB7-B0F5-44A0-A6C5-AAD41DA2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6938A-2A63-4712-818C-98301C45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84ED-2588-45E9-84BA-35F0581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275DF-1106-4B2F-B198-4A5635B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64E8-7AE1-4283-9CA8-6B6F55E0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F9179-B592-4521-A416-5C57C71C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41D4-2ABA-475A-BD40-277F20AA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9409-7B61-4E6D-88DF-C5EC5036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7C8F-A9DD-4DD0-B770-2C25F250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E48-267F-4CEE-80F4-9B2AC70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8B5-44CA-429A-BFB9-B87C44CE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A9B-338B-4494-B44B-27BF67C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EFE-D483-43D9-AFB9-E0BADA1D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467-F61B-48B7-A778-89C39B9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70F7-DF21-49A2-B93E-FFE0BC32FB1B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6DE9-3A9D-4058-97F0-F6097CC3A5C9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9812-B75F-4AB1-A0A3-C207EC7715AD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2F41-A074-4BD5-84EB-4785F4DC9365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7117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t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z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 br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K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s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  p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sk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g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 g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p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b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b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n  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s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br>
              <a:rPr sz="4400"/>
            </a:b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1627200" y="165240"/>
            <a:ext cx="60418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00040" y="2214720"/>
            <a:ext cx="8229600" cy="438912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M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n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r     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n       w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0070c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k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0070c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>
                <a:solidFill>
                  <a:srgbClr val="0070c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n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w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m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f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z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p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h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   f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t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Прямоугольник 3" descr=""/>
          <p:cNvPicPr/>
          <p:nvPr/>
        </p:nvPicPr>
        <p:blipFill>
          <a:blip r:embed="rId1"/>
          <a:stretch/>
        </p:blipFill>
        <p:spPr>
          <a:xfrm>
            <a:off x="1695600" y="165240"/>
            <a:ext cx="52052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00040" y="2571480"/>
            <a:ext cx="8229600" cy="213660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m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w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P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ave         d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ide     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Прямоугольник 4" descr=""/>
          <p:cNvPicPr/>
          <p:nvPr/>
        </p:nvPicPr>
        <p:blipFill>
          <a:blip r:embed="rId1"/>
          <a:stretch/>
        </p:blipFill>
        <p:spPr>
          <a:xfrm>
            <a:off x="1835280" y="92160"/>
            <a:ext cx="51084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n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st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a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sc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hel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en        g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n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   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19080"/>
            <a:ext cx="63280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28760" y="2071800"/>
            <a:ext cx="8229600" cy="357192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o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y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t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b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p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i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m/p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er     st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u/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ent      c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19080"/>
            <a:ext cx="8656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Содержимое 6" descr=""/>
          <p:cNvPicPr/>
          <p:nvPr/>
        </p:nvPicPr>
        <p:blipFill>
          <a:blip r:embed="rId1"/>
          <a:stretch/>
        </p:blipFill>
        <p:spPr>
          <a:xfrm>
            <a:off x="384120" y="1859040"/>
            <a:ext cx="8375760" cy="36036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5" descr=""/>
          <p:cNvPicPr/>
          <p:nvPr/>
        </p:nvPicPr>
        <p:blipFill>
          <a:blip r:embed="rId2"/>
          <a:stretch/>
        </p:blipFill>
        <p:spPr>
          <a:xfrm>
            <a:off x="981000" y="579600"/>
            <a:ext cx="7297920" cy="1188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900360" y="54291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 ei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1829160" y="6072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ai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5050080" y="5429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ou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6624720" y="5357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ju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3554280" y="542916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i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6327720" y="614376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 o 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7546680" y="5715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æ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2195280" y="53578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</a:rPr>
              <a:t>Λ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4902840" y="60721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 e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407040" y="607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ei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одержимое 3" descr=""/>
          <p:cNvPicPr/>
          <p:nvPr/>
        </p:nvPicPr>
        <p:blipFill>
          <a:blip r:embed="rId1"/>
          <a:stretch/>
        </p:blipFill>
        <p:spPr>
          <a:xfrm>
            <a:off x="353880" y="1066680"/>
            <a:ext cx="8375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dad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e   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ip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Fi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 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 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ine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ak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Pu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y  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o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ock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ave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ap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Прямоугольник 3" descr=""/>
          <p:cNvPicPr/>
          <p:nvPr/>
        </p:nvPicPr>
        <p:blipFill>
          <a:blip r:embed="rId1"/>
          <a:stretch/>
        </p:blipFill>
        <p:spPr>
          <a:xfrm>
            <a:off x="1274760" y="-115920"/>
            <a:ext cx="63514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The          this         tha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Those      these      them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Thane      thick      think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Three       thrill      thump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Прямоугольник 3" descr=""/>
          <p:cNvPicPr/>
          <p:nvPr/>
        </p:nvPicPr>
        <p:blipFill>
          <a:blip r:embed="rId1"/>
          <a:stretch/>
        </p:blipFill>
        <p:spPr>
          <a:xfrm>
            <a:off x="-109440" y="-42840"/>
            <a:ext cx="89852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1f497d"/>
                </a:solidFill>
                <a:latin typeface="Calibri"/>
              </a:rPr>
              <a:t>ЗАКРЫТЫЙ СЛОГ</a:t>
            </a:r>
            <a:endParaRPr b="0" lang="en-US" sz="6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1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. 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Оканчивается на согласную букв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2. Гласные под ударением читаются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 не так 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как называются в алфавит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a – [æ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i – [ I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Ee – [ e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Oo – [ o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Uu – [ </a:t>
            </a:r>
            <a:r>
              <a:rPr b="1" lang="el-GR" sz="3200" spc="-1" strike="noStrike">
                <a:solidFill>
                  <a:srgbClr val="ff0000"/>
                </a:solidFill>
                <a:latin typeface="Constantia"/>
              </a:rPr>
              <a:t>Λ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60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6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6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60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-152280"/>
            <a:ext cx="6370920" cy="204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56760" y="1999800"/>
            <a:ext cx="7929720" cy="464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                     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                  S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                        R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I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                      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NOT               M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GOT              S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1835280" y="517680"/>
            <a:ext cx="4651200" cy="1877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2428560"/>
            <a:ext cx="8229600" cy="3895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        B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          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        H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          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X         T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         SW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     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K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       SL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      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      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    J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K       ST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K    T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K    L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    R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G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00040" y="2071800"/>
            <a:ext cx="8229600" cy="4246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P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 H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P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C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     S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E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    GR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Y    B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L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B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   B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  B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S      T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S   M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M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K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Прямоугольник 4" descr=""/>
          <p:cNvPicPr/>
          <p:nvPr/>
        </p:nvPicPr>
        <p:blipFill>
          <a:blip r:embed="rId1"/>
          <a:stretch/>
        </p:blipFill>
        <p:spPr>
          <a:xfrm>
            <a:off x="987480" y="60480"/>
            <a:ext cx="60656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2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2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2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2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2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2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        L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 G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 H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N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       T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    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 ST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    FR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       S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T    CL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     L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133200"/>
            <a:ext cx="68644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3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2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2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2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2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2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2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2041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2142720"/>
            <a:ext cx="8229600" cy="378612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 N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H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     R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    D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    R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 F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NY     J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      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    S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G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F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Прямоугольник 3" descr=""/>
          <p:cNvPicPr/>
          <p:nvPr/>
        </p:nvPicPr>
        <p:blipFill>
          <a:blip r:embed="rId2"/>
          <a:stretch/>
        </p:blipFill>
        <p:spPr>
          <a:xfrm>
            <a:off x="993600" y="420840"/>
            <a:ext cx="74012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3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1f497d"/>
                </a:solidFill>
                <a:latin typeface="Calibri"/>
              </a:rPr>
              <a:t>Прочитайте слова</a:t>
            </a:r>
            <a:endParaRPr b="0" lang="en-US" sz="6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400960" cy="4637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nn, yes, black, big, has, tennis, cat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en, jump, dog, merry, slim, fat, sad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ngry, fun, pigs, duck, can, isn’t, sun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wim, must, got, has got, funny, sing, ugly, Tom, run, not, cannot, can’t, red, pencil, long, black, grey, clock, Nick, stick, cat, a hen, a hat, Bill, Jim, frog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Улыбающееся лицо 3"/>
          <p:cNvSpPr/>
          <p:nvPr/>
        </p:nvSpPr>
        <p:spPr>
          <a:xfrm>
            <a:off x="7858080" y="54291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1f497d"/>
                </a:solidFill>
                <a:latin typeface="Calibri"/>
              </a:rPr>
              <a:t>ОТКРЫТЫЙ СЛОГ</a:t>
            </a:r>
            <a:endParaRPr b="0" lang="en-US" sz="7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1.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Оканчивается на гласную букв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nstantia"/>
              </a:rPr>
              <a:t>2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. Гласная под ударением читается как называется в алфавит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a – [ ei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i  - [ ai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Ee – [ I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Oo – [ ou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Uu – [ ju ]  [ u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5:02:47Z</dcterms:created>
  <dc:creator>ADMIN</dc:creator>
  <dc:description/>
  <dc:language>en-US</dc:language>
  <cp:lastModifiedBy>ADMIN</cp:lastModifiedBy>
  <dcterms:modified xsi:type="dcterms:W3CDTF">2009-09-14T14:43:07Z</dcterms:modified>
  <cp:revision>32</cp:revision>
  <dc:subject/>
  <dc:title>Слайд 1</dc:title>
</cp:coreProperties>
</file>