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96E-CCBB-4F5A-ACE5-09C7CCB0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817-2912-44CF-A640-CB6703E9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932-4023-43DD-B642-F1955D0D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7C1-395E-431A-B183-8E5069B3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E346-A85D-480F-B5DF-C15DED32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7695-8EC2-422F-B56B-E6DC7740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DF07-2C16-45F7-AE9B-DD431DE5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6674-51B0-4CD5-AE1F-9C9739C2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D1DE-7B89-4142-89F4-C8CDAD94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352A-AA9D-4A91-8AC3-24212EA5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4273-90A2-47A3-BED6-9010A8E0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AA3-BB31-4274-ADFE-A8496F12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5F73-02A6-4E87-AEB5-78FA0657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1DFC-3F32-41A7-8F8E-52F5B4A7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5FDE-D707-4698-A1D5-205E3D06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93F1-61BD-40A7-ADB6-86EBA99B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E65A-3C94-41C3-97AA-0BED9395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5BA2-FB61-42D1-9E71-DBEB2D09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BFCD-37E3-42B6-9A98-D05CD617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F4888-7307-42D4-9A0C-229D9FC9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1B97-98EB-4659-BE77-1BA8143C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0F837-B80B-4CF2-BB1C-40D68C32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225-3E57-43F2-AFF8-84708229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B1B1-6348-4003-A261-B450DF61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F3C1-2F21-40F5-943E-2C646C29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08EF-B71A-4666-88D5-0EE21ABD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FDD5-91F4-4064-847F-8DFAE1FD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052B-5813-4779-8102-7AFD4FFB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8E09-DF6F-4C3D-817A-C2A7E3C4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D633-B03B-420E-B192-1A66E48E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E727B-64CC-417D-B325-AACA3B02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080AE-5C85-4944-AAAD-9AE6EECF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E82BE-F25A-411E-8315-3F1B77AB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697-0AA7-443B-B82F-9FF0682E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F900A-96DE-4BA8-9913-B1F56C48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F2DF3-3A07-4B11-9DE3-5140164C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5D1C-57CE-4C86-992F-B5AF82DB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8FA80-BF08-48FA-9ACF-107D8F2F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5797-7859-4CA7-8E60-429E031A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6D97-E8E1-4D22-8E6C-6081D2C3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8BA40-D7B6-4AF7-BCF7-3CA4254E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4EAF2-5ED1-45E2-B0DA-B0141CE2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A9F3-F4AB-4E06-985D-8635DDE6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228-F89F-4A06-B6B3-19E3BC58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8F4-C8AD-4E72-8FE6-C97F7725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220-CCBB-4C0B-9BA7-04A406F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697-3374-4223-980E-85BE40E5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2DC-0604-4823-8361-8FA3BEC5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88B9-3A0C-46A3-9BAE-7E0666013BD1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20DC-D898-493F-9920-C193B6393A47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44DC-1E1F-45F6-ACE6-0929183ED4AD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F7A9-E042-4DE5-9DC6-7C00DB600A97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2676600" y="1743120"/>
            <a:ext cx="57117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 t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 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l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l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z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  br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K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s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   pl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sk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g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 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  g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pl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b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 b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n  l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    s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e</a:t>
            </a:r>
            <a:br>
              <a:rPr sz="4400"/>
            </a:br>
            <a:r>
              <a:rPr b="0" lang="en-US" sz="44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1627200" y="165240"/>
            <a:ext cx="60418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00040" y="2214720"/>
            <a:ext cx="8229600" cy="438912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600" spc="-1" strike="noStrike" u="sng">
                <a:solidFill>
                  <a:srgbClr val="0070c0"/>
                </a:solidFill>
                <a:uFillTx/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600" spc="-1" strike="noStrike" u="sng">
                <a:solidFill>
                  <a:srgbClr val="0070c0"/>
                </a:solidFill>
                <a:uFillTx/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r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600" spc="-1" strike="noStrike" u="sng">
                <a:solidFill>
                  <a:srgbClr val="0070c0"/>
                </a:solidFill>
                <a:uFillTx/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M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600" spc="-1" strike="noStrike" u="sng">
                <a:solidFill>
                  <a:srgbClr val="0070c0"/>
                </a:solidFill>
                <a:uFillTx/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n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3600" spc="-1" strike="noStrike" u="sng">
                <a:solidFill>
                  <a:srgbClr val="0070c0"/>
                </a:solidFill>
                <a:uFillTx/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er     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on       wh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>
                <a:solidFill>
                  <a:srgbClr val="0070c0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k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>
                <a:solidFill>
                  <a:srgbClr val="0070c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h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600" spc="-1" strike="noStrike">
                <a:solidFill>
                  <a:srgbClr val="0070c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n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w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r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m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f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s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z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p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h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   f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s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t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ff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Прямоугольник 3" descr=""/>
          <p:cNvPicPr/>
          <p:nvPr/>
        </p:nvPicPr>
        <p:blipFill>
          <a:blip r:embed="rId1"/>
          <a:stretch/>
        </p:blipFill>
        <p:spPr>
          <a:xfrm>
            <a:off x="1695600" y="165240"/>
            <a:ext cx="52052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500040" y="2571480"/>
            <a:ext cx="8229600" cy="213660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m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w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P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b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ave         d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ide     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Прямоугольник 4" descr=""/>
          <p:cNvPicPr/>
          <p:nvPr/>
        </p:nvPicPr>
        <p:blipFill>
          <a:blip r:embed="rId1"/>
          <a:stretch/>
        </p:blipFill>
        <p:spPr>
          <a:xfrm>
            <a:off x="1835280" y="92160"/>
            <a:ext cx="51084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n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st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b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J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h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R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r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j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h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a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sc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hel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en        g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n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   s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19080"/>
            <a:ext cx="63280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28760" y="2071800"/>
            <a:ext cx="8229600" cy="357192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j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o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J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y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t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bl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p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i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m/p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er     st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nstantia"/>
              </a:rPr>
              <a:t>u/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ent      c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19080"/>
            <a:ext cx="8656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Содержимое 6" descr=""/>
          <p:cNvPicPr/>
          <p:nvPr/>
        </p:nvPicPr>
        <p:blipFill>
          <a:blip r:embed="rId1"/>
          <a:stretch/>
        </p:blipFill>
        <p:spPr>
          <a:xfrm>
            <a:off x="384120" y="1859040"/>
            <a:ext cx="8375760" cy="36036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5" descr=""/>
          <p:cNvPicPr/>
          <p:nvPr/>
        </p:nvPicPr>
        <p:blipFill>
          <a:blip r:embed="rId2"/>
          <a:stretch/>
        </p:blipFill>
        <p:spPr>
          <a:xfrm>
            <a:off x="981000" y="579600"/>
            <a:ext cx="7297920" cy="1188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7"/>
          <p:cNvSpPr/>
          <p:nvPr/>
        </p:nvSpPr>
        <p:spPr>
          <a:xfrm>
            <a:off x="900360" y="54291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 ei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1829160" y="60721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ai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5050080" y="5429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ou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6624720" y="53578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ju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3554280" y="542916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i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6327720" y="614376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 o 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7546680" y="571500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æ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2195280" y="53578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</a:rPr>
              <a:t>Λ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4902840" y="60721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 e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3407040" y="607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[ei]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Содержимое 3" descr=""/>
          <p:cNvPicPr/>
          <p:nvPr/>
        </p:nvPicPr>
        <p:blipFill>
          <a:blip r:embed="rId1"/>
          <a:stretch/>
        </p:blipFill>
        <p:spPr>
          <a:xfrm>
            <a:off x="353880" y="1066680"/>
            <a:ext cx="8375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ff"/>
            </a:gs>
            <a:gs pos="100000">
              <a:srgbClr val="dad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57240">
            <a:solidFill>
              <a:srgbClr val="00206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e     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ip  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Fi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 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   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ine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ak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Pu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  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y    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o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ock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ave       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onstantia"/>
              </a:rPr>
              <a:t>sh</a:t>
            </a: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ap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Прямоугольник 3" descr=""/>
          <p:cNvPicPr/>
          <p:nvPr/>
        </p:nvPicPr>
        <p:blipFill>
          <a:blip r:embed="rId1"/>
          <a:stretch/>
        </p:blipFill>
        <p:spPr>
          <a:xfrm>
            <a:off x="1274760" y="-115920"/>
            <a:ext cx="63514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The          this         that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Those      these      them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Thane      thick      think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nstantia"/>
              </a:rPr>
              <a:t>Three       thrill      thump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Прямоугольник 3" descr=""/>
          <p:cNvPicPr/>
          <p:nvPr/>
        </p:nvPicPr>
        <p:blipFill>
          <a:blip r:embed="rId1"/>
          <a:stretch/>
        </p:blipFill>
        <p:spPr>
          <a:xfrm>
            <a:off x="-109440" y="-42840"/>
            <a:ext cx="89852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1f497d"/>
                </a:solidFill>
                <a:latin typeface="Calibri"/>
              </a:rPr>
              <a:t>ЗАКРЫТЫЙ СЛОГ</a:t>
            </a:r>
            <a:endParaRPr b="0" lang="en-US" sz="6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1</a:t>
            </a: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. 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Оканчивается на согласную букв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2. Гласные под ударением читаются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 не так 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как называются в алфавит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Aa – [æ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i – [ I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Ee – [ e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Oo – [ o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Uu – [ </a:t>
            </a:r>
            <a:r>
              <a:rPr b="1" lang="el-GR" sz="3200" spc="-1" strike="noStrike">
                <a:solidFill>
                  <a:srgbClr val="ff0000"/>
                </a:solidFill>
                <a:latin typeface="Constantia"/>
              </a:rPr>
              <a:t>Λ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600"/>
                            </p:stCondLst>
                            <p:childTnLst>
                              <p:par>
                                <p:cTn id="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6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6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600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-152280"/>
            <a:ext cx="6370920" cy="2041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356760" y="1999800"/>
            <a:ext cx="7929720" cy="464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                      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                    S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                        R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I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                      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NOT               M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GOT              S</a:t>
            </a: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1835280" y="517680"/>
            <a:ext cx="4651200" cy="1877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7200" y="2428560"/>
            <a:ext cx="8229600" cy="3895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G        B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G          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        H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          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X         T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         SW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     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K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       SL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      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      S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    J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K       ST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K    T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K    L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    R</a:t>
            </a:r>
            <a:r>
              <a:rPr b="1" lang="en-US" sz="36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G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00040" y="2071800"/>
            <a:ext cx="8229600" cy="4246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P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 H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P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C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     S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VE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    GR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Y    B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L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B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   B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  B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S      T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S   M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M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K</a:t>
            </a:r>
            <a:r>
              <a:rPr b="1" lang="en-US" sz="3200" spc="-1" strike="noStrike">
                <a:solidFill>
                  <a:srgbClr val="00b0f0"/>
                </a:solidFill>
                <a:latin typeface="Constantia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Прямоугольник 4" descr=""/>
          <p:cNvPicPr/>
          <p:nvPr/>
        </p:nvPicPr>
        <p:blipFill>
          <a:blip r:embed="rId1"/>
          <a:stretch/>
        </p:blipFill>
        <p:spPr>
          <a:xfrm>
            <a:off x="987480" y="60480"/>
            <a:ext cx="60656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2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2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2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2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2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2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        L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 G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 H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N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K       T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    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 ST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    FR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K       S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FT    CL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K     L</a:t>
            </a: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133200"/>
            <a:ext cx="68644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3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2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2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2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2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3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2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2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2041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7200" y="2142720"/>
            <a:ext cx="8229600" cy="378612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 N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T    H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     R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    D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K    R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 F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NY     J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P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      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    S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G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     F</a:t>
            </a:r>
            <a:r>
              <a:rPr b="1" lang="en-US" sz="3200" spc="-1" strike="noStrike">
                <a:solidFill>
                  <a:srgbClr val="f79646"/>
                </a:solidFill>
                <a:latin typeface="Constantia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Прямоугольник 3" descr=""/>
          <p:cNvPicPr/>
          <p:nvPr/>
        </p:nvPicPr>
        <p:blipFill>
          <a:blip r:embed="rId2"/>
          <a:stretch/>
        </p:blipFill>
        <p:spPr>
          <a:xfrm>
            <a:off x="993600" y="420840"/>
            <a:ext cx="74012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3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1f497d"/>
                </a:solidFill>
                <a:latin typeface="Calibri"/>
              </a:rPr>
              <a:t>Прочитайте слова</a:t>
            </a:r>
            <a:endParaRPr b="0" lang="en-US" sz="6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400960" cy="4637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nn, yes, black, big, has, tennis, cat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en, jump, dog, merry, slim, fat, sad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ngry, fun, pigs, duck, can, isn’t, sun,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wim, must, got, has got, funny, sing, ugly, Tom, run, not, cannot, can’t, red, pencil, long, black, grey, clock, Nick, stick, cat, a hen, a hat, Bill, Jim, frog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Улыбающееся лицо 3"/>
          <p:cNvSpPr/>
          <p:nvPr/>
        </p:nvSpPr>
        <p:spPr>
          <a:xfrm>
            <a:off x="7858080" y="54291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3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1f497d"/>
                </a:solidFill>
                <a:latin typeface="Calibri"/>
              </a:rPr>
              <a:t>ОТКРЫТЫЙ СЛОГ</a:t>
            </a:r>
            <a:endParaRPr b="0" lang="en-US" sz="7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nstantia"/>
              </a:rPr>
              <a:t>1.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Оканчивается на гласную букв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nstantia"/>
              </a:rPr>
              <a:t>2</a:t>
            </a: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. Гласная под ударением читается как называется в алфавит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Aa – [ ei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i  - [ ai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Ee – [ I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Oo – [ ou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Uu – [ ju ]  [ u ]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5:02:47Z</dcterms:created>
  <dc:creator>ADMIN</dc:creator>
  <dc:description/>
  <dc:language>en-US</dc:language>
  <cp:lastModifiedBy>ADMIN</cp:lastModifiedBy>
  <dcterms:modified xsi:type="dcterms:W3CDTF">2009-09-14T14:43:07Z</dcterms:modified>
  <cp:revision>32</cp:revision>
  <dc:subject/>
  <dc:title>Слайд 1</dc:title>
</cp:coreProperties>
</file>