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E68-8067-4449-8561-CA9F02B5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C69-C4F0-40EF-BEB7-E92199E3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F80-9B24-4B5B-9C04-301B04B4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6FD-5AD6-4C60-B45D-57AECCF2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155-0B9A-49D7-827B-B249788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5810-0AB9-4698-A7BE-CC92B032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C597-7572-416C-8C83-15463466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A7E-BB14-4DD3-A766-E4DA28B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57CB-8ADB-4CA3-A0F9-8AB1F191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0965-9304-4473-B771-A80A793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C61D-4428-4778-AF0B-B0815A6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0D8-80CA-42E2-94EE-FF97A2A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8DC1-3876-4A77-ABA9-89D6B30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D8F-0614-4D9F-B901-D0E8A7A6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9CDD-0ED6-4977-8E50-6F7A5B0D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D852-C82B-4F6C-88D5-45A1F10E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0B63-5AF7-4242-8C2D-A7FCE10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16005-A2D1-44EF-A19D-93FC534E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68C85-F79A-4638-B78A-D520AF7E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9D974-C71C-4214-9989-E809C64A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F4B1D-75AA-4FD3-9CC2-7828C21F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C7EE1-F9BA-4FF3-92B6-8775467E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FE2-0B74-4869-8D83-666FA3F1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5AB22-D839-4807-BE4B-945C1E0A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844E5-B476-445B-9F0B-30A8EDB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E1370-1C5D-4F1F-B37E-1DDCE87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7248C-C39F-414D-B27B-5CF3B8C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8BEAA-D960-4EC6-9327-298593C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C317D-AF91-46BC-9A82-EF6DAB9A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D0551-E8A2-4CA7-AD48-7231B5D7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34F1-5F0D-41B5-9806-C85A871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4C2E-C544-4DA2-BD89-96F6A631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CC01-7F6E-41A7-847B-B0052A12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242-EEC2-484C-BC04-6572F2F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71A2-99A4-4C7B-9C83-9E62B2E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1263-5A5D-4448-8D7F-45CD1F3C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0096-5B1E-4BE9-81FB-6E0C409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FA22-5B86-49B6-BFF8-D16BE49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8F98-A00C-404A-94FA-1A4120B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4746-E309-4C4D-A956-5BFB3C3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73E3-471D-42CC-8B2D-03591E20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1A1A-E6A6-49B6-A0E8-9E9ACCF6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0455-883C-4AE8-BE6E-007147A7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900F7-4A78-413F-99EE-C2FFD023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5F0-CDF9-46B5-A0A3-7FF671F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70961-FE8C-4EDC-918D-2DE10D83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09F23-5034-4B6B-908D-7D8ACE3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20B4A-7D38-4D1E-A451-FC8276E2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C3E8C-D1BB-4F5A-BBAC-22CE587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93461-F58F-44F5-9649-3F5DF79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5E527F-2D2A-44C2-BB91-78E27213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3BFEA-F9C7-40E9-9FA0-EFC35BF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66AD3-3AD7-4E8F-852B-D074EA4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707DE-B663-4A10-A3DF-ACD4549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15990-D21A-4E43-BC53-DA20688C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83D-ACAA-494E-9265-97BA0A3E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788EE-803C-4E1B-AD09-91D900BE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61788-6559-411B-8312-D4884967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7D416-8B16-42F5-A9DE-59241AC4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E27A5-8F09-43B4-8EE2-D49FFA5E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4D8F8-5443-4D77-8D0B-8E8CF52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B4EEA-BFD7-4667-A1FF-FBFA4647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755A7-18FE-4BB7-A449-0A5BFFBE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2BA8F-B1DA-4B42-B822-BA840A7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E140D-A691-4B9E-BB57-2F1E563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C4D9E-FD40-49BC-AF27-7298B03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FB0-5CA4-4EB5-8621-7B43DF0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ED7E8-949B-4445-BDE1-C25F4BF5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4F98D-536B-4757-9693-813CFF4C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B281F-1EE8-47BD-8D12-EEBDD9BB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709A7-05DD-4AD9-808F-290148C0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8E2A9-B3CF-4EA8-B220-50924CFA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1ABCD-ABC9-40BC-A94D-55AFC8D4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8C882-AF66-4672-A0BC-639ABDD3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F3D02-ABC6-4853-9D8C-E750D2E9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C00C0-6D45-473D-A8DC-DB5867B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F87AD5-28E0-4CD9-A8EF-C56D222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B77-7D7B-4E10-8067-BFD780F0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A4963-28D3-4EC2-BC1B-336A5BB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EDB0D-84C2-4181-A8AF-B895EE72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AAF46-3436-4D4D-A989-C86A1C9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61D11-444F-4788-858D-5CC34EB4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0DF5A-1D54-497E-AF14-173F71D8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D8C-8210-45C7-B73A-99E6709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A9E8-053A-4EB5-B062-8145DD889E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B5A-5D39-45D9-B106-5B87A0ACD3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C108-8B52-4362-B53C-9C8A9A3ABD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F387-9417-4CD1-BCB8-F5189E991A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EF1-0B4A-4C83-8E38-229024D1EAF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79D2-AC93-4876-83E9-9A5A906435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331-ABF6-46E7-8E91-D5443ACE80E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3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66"/>
                </a:solidFill>
                <a:latin typeface="Comic Sans MS"/>
              </a:rPr>
              <a:t>ПРОВЕРКА ПРОЙДЕННОГО ЗАДАНИЯ.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2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6227640" y="2924280"/>
            <a:ext cx="2727360" cy="27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cs5881.userapi.com/u153148335/-14/x_89dc5f5e.jpg"/>
          <p:cNvPicPr/>
          <p:nvPr/>
        </p:nvPicPr>
        <p:blipFill>
          <a:blip r:embed="rId2"/>
          <a:stretch/>
        </p:blipFill>
        <p:spPr>
          <a:xfrm>
            <a:off x="2916360" y="4149720"/>
            <a:ext cx="2792160" cy="209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В КАКОЕ ВРЕМЯ ГОДА ОТМЕЧАЮТ ПРАЗДНИК МАСЛЕНИЦЫ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5280" y="515772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e90062"/>
                </a:solidFill>
                <a:latin typeface="Century Schoolbook"/>
              </a:rPr>
              <a:t>                              </a:t>
            </a:r>
            <a:r>
              <a:rPr b="0" lang="en-US" sz="600" spc="-1" strike="noStrike">
                <a:solidFill>
                  <a:srgbClr val="e90062"/>
                </a:solidFill>
                <a:latin typeface="Century Schoolbook"/>
              </a:rPr>
              <a:t>4. </a:t>
            </a:r>
            <a:r>
              <a:rPr b="0" lang="en-US" sz="600" spc="-1" strike="noStrike">
                <a:solidFill>
                  <a:srgbClr val="000000"/>
                </a:solidFill>
                <a:latin typeface="Century Schoolbook"/>
              </a:rPr>
              <a:t>Когда люди собирают картошку.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68360" y="1700280"/>
          <a:ext cx="7129440" cy="72072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Конец лета – начало осен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971640" y="2708280"/>
          <a:ext cx="6769080" cy="79200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Конец весны – начало лет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24000" y="3933720"/>
          <a:ext cx="7632720" cy="792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Конец зимы – начало весн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39640" y="5157720"/>
          <a:ext cx="7129440" cy="94464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Когда люди собирают картош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7" descr="http://im5-tub-ru.yandex.net/i?id=364234808-53-72&amp;n=21"/>
          <p:cNvPicPr/>
          <p:nvPr/>
        </p:nvPicPr>
        <p:blipFill>
          <a:blip r:embed="rId2"/>
          <a:stretch/>
        </p:blipFill>
        <p:spPr>
          <a:xfrm>
            <a:off x="8028000" y="5589720"/>
            <a:ext cx="884160" cy="84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 ЭТА НЕДЕЛЯ НАЗЫВАЕТСЯ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24000" y="1628640"/>
          <a:ext cx="7467480" cy="74952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Неделя полного голод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971640" y="2781360"/>
          <a:ext cx="6383160" cy="792000"/>
        </p:xfrm>
        <a:graphic>
          <a:graphicData uri="http://schemas.openxmlformats.org/drawingml/2006/table">
            <a:tbl>
              <a:tblPr/>
              <a:tblGrid>
                <a:gridCol w="63831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Неделя  объед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95280" y="4076640"/>
          <a:ext cx="7129440" cy="7923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Неделя полная трудов и забо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24000" y="5157720"/>
          <a:ext cx="7632720" cy="8222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Неделя -  « праздника непослушания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ОЕ ГЛАВНОЕ КОНДИТЕРСКОЕ ИЗДЕЛИЕ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1600200"/>
          <a:ext cx="7467480" cy="676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Заварные пирожены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47640" y="2708280"/>
          <a:ext cx="5519880" cy="720720"/>
        </p:xfrm>
        <a:graphic>
          <a:graphicData uri="http://schemas.openxmlformats.org/drawingml/2006/table">
            <a:tbl>
              <a:tblPr/>
              <a:tblGrid>
                <a:gridCol w="5519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Торт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908000" y="3789360"/>
          <a:ext cx="5688360" cy="7207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Ватрушк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484360" y="4941720"/>
          <a:ext cx="5329440" cy="72072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Блины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812000" y="11592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journal.hutor.ru/pictures_new/1204446401_1201320.gif"/>
          <p:cNvPicPr/>
          <p:nvPr/>
        </p:nvPicPr>
        <p:blipFill>
          <a:blip r:embed="rId2"/>
          <a:stretch/>
        </p:blipFill>
        <p:spPr>
          <a:xfrm>
            <a:off x="900000" y="5229360"/>
            <a:ext cx="1263600" cy="115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075.radikal.ru/0907/94/f3c0cd6f15a0.jpg"/>
          <p:cNvPicPr/>
          <p:nvPr/>
        </p:nvPicPr>
        <p:blipFill>
          <a:blip r:embed="rId3"/>
          <a:stretch/>
        </p:blipFill>
        <p:spPr>
          <a:xfrm>
            <a:off x="324000" y="3860640"/>
            <a:ext cx="1299960" cy="1103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veseliytort.ru/images/vesel-tort-personazh.jpg"/>
          <p:cNvPicPr/>
          <p:nvPr/>
        </p:nvPicPr>
        <p:blipFill>
          <a:blip r:embed="rId4"/>
          <a:stretch/>
        </p:blipFill>
        <p:spPr>
          <a:xfrm>
            <a:off x="7308720" y="2565360"/>
            <a:ext cx="1203480" cy="107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ИЗ ЧЕГО ДЕЛАЛИ ЧУЧЕЛО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95280" y="1844640"/>
          <a:ext cx="6264360" cy="70164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Из дерев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042920" y="2924280"/>
          <a:ext cx="5808600" cy="863640"/>
        </p:xfrm>
        <a:graphic>
          <a:graphicData uri="http://schemas.openxmlformats.org/drawingml/2006/table">
            <a:tbl>
              <a:tblPr/>
              <a:tblGrid>
                <a:gridCol w="58086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Из тряпочек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042920" y="4149720"/>
          <a:ext cx="5472360" cy="720720"/>
        </p:xfrm>
        <a:graphic>
          <a:graphicData uri="http://schemas.openxmlformats.org/drawingml/2006/table">
            <a:tbl>
              <a:tblPr/>
              <a:tblGrid>
                <a:gridCol w="547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Из соломы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835280" y="5300640"/>
          <a:ext cx="4895640" cy="70164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Из хворо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372440" y="11592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clker.com/cliparts/6/7/f/c/1329756112786418634a-tree-vector-material2.jpg"/>
          <p:cNvPicPr/>
          <p:nvPr/>
        </p:nvPicPr>
        <p:blipFill>
          <a:blip r:embed="rId2"/>
          <a:stretch/>
        </p:blipFill>
        <p:spPr>
          <a:xfrm>
            <a:off x="7093080" y="1844640"/>
            <a:ext cx="1503360" cy="1503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www.stihi.ru/pics/2012/04/26/771.jpg"/>
          <p:cNvPicPr/>
          <p:nvPr/>
        </p:nvPicPr>
        <p:blipFill>
          <a:blip r:embed="rId3"/>
          <a:stretch/>
        </p:blipFill>
        <p:spPr>
          <a:xfrm>
            <a:off x="6948360" y="3645000"/>
            <a:ext cx="1629000" cy="170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Comic Sans MS"/>
              </a:rPr>
              <a:t>КАКОЙ КОМПОЗИТОР НАПИСАЛ ОПЕРУ « СНЕГУРОЧКА» ?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600200"/>
          <a:ext cx="6562800" cy="749160"/>
        </p:xfrm>
        <a:graphic>
          <a:graphicData uri="http://schemas.openxmlformats.org/drawingml/2006/table">
            <a:tbl>
              <a:tblPr/>
              <a:tblGrid>
                <a:gridCol w="6562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П.И.Чайковский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826920" y="2781360"/>
          <a:ext cx="5688360" cy="7207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С.С.Прокофьев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11280" y="3789360"/>
          <a:ext cx="7777080" cy="10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Н. А. Римский – Корсако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1042920" y="5013360"/>
          <a:ext cx="5400720" cy="72072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В.Я.Шаинский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o-name.ru/images/biography/rimskij-korsakov-nikolaj-adreevich.jpg"/>
          <p:cNvPicPr/>
          <p:nvPr/>
        </p:nvPicPr>
        <p:blipFill>
          <a:blip r:embed="rId2"/>
          <a:stretch/>
        </p:blipFill>
        <p:spPr>
          <a:xfrm>
            <a:off x="7093080" y="1916280"/>
            <a:ext cx="1495440" cy="168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ИЕ ПОСЛОВИЦЫ И ПОГОВОРКИ ПОДХОДЯТ К МАСЛЕНИЦЕ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600200"/>
          <a:ext cx="7467480" cy="7491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Делу время – потехе час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68360" y="2781360"/>
          <a:ext cx="7704000" cy="7920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Семь раз отмерь – один раз отреж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179280" y="3933720"/>
          <a:ext cx="8496360" cy="792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Блинцы, блинчики, блины, как колеса у Вес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pic>
        <p:nvPicPr>
          <p:cNvPr id="396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308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os1.i.ua/3/1/7613331_1f0dd54e.jpg"/>
          <p:cNvPicPr/>
          <p:nvPr/>
        </p:nvPicPr>
        <p:blipFill>
          <a:blip r:embed="rId2"/>
          <a:stretch/>
        </p:blipFill>
        <p:spPr>
          <a:xfrm>
            <a:off x="7164360" y="5229360"/>
            <a:ext cx="157644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324000" y="4869000"/>
          <a:ext cx="7416720" cy="792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Готовь сани летом, а телегу зимо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6" descr="http://stat19.privet.ru/lr/0b1adac7e6d1ffece5392b1907fd4319"/>
          <p:cNvPicPr/>
          <p:nvPr/>
        </p:nvPicPr>
        <p:blipFill>
          <a:blip r:embed="rId3"/>
          <a:stretch/>
        </p:blipFill>
        <p:spPr>
          <a:xfrm>
            <a:off x="539640" y="5656320"/>
            <a:ext cx="2737080" cy="120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omic Sans MS"/>
              </a:rPr>
              <a:t>ИЗ КАКОЙ ОПЕРЫ СЛОВА - « </a:t>
            </a:r>
            <a:r>
              <a:rPr b="0" lang="en-US" sz="3000" spc="-1" strike="noStrike" u="sng">
                <a:solidFill>
                  <a:srgbClr val="666666"/>
                </a:solidFill>
                <a:uFillTx/>
                <a:latin typeface="Comic Sans MS"/>
              </a:rPr>
              <a:t>СБИРАЛИСЬ ПТИЦЫ, СБИРАЛИСЬ ПЕВЧИЕ»</a:t>
            </a:r>
            <a:r>
              <a:rPr b="0" lang="en-US" sz="3000" spc="-1" strike="noStrike">
                <a:solidFill>
                  <a:srgbClr val="666666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57200" y="1600200"/>
          <a:ext cx="7467480" cy="8920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 Опера «Руслан и Людмила»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684360" y="2997360"/>
          <a:ext cx="7129440" cy="80784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. Опера «Волк и 7 козлят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332000" y="4221000"/>
          <a:ext cx="6095880" cy="73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. Опера «Снегурочка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826920" y="5300640"/>
          <a:ext cx="6480360" cy="106524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. Опера «Орфей и Эвридика»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03-14T14:21:25Z</dcterms:modified>
  <cp:revision>30</cp:revision>
  <dc:subject/>
  <dc:title>Проверка пройденного задания.</dc:title>
</cp:coreProperties>
</file>