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73D-7C8F-4D10-AA10-E35B6B5D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43E-59A8-4C9E-9903-C729985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3E1-0380-41D0-BDF6-CEFB5B1C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BE7-14D2-49C7-9327-D633EE3E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1B4A-538E-4496-A94E-0F948806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2319-2EB6-4AE7-BB59-398AAA2D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B2D1-8813-4203-9ECE-F155C9D2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A388-2D37-4A38-AEA8-62A8DDBB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E4CB-58CF-4843-A568-61686953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AB23-654A-471A-825E-454A735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B357-D6F1-41F1-AC2D-DE02AC6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8BE-306B-4F7E-B338-6922DE1E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2CB-FF92-41C3-8F81-F9807DC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8543-EC0B-4160-BA12-D3E2A25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4A45-4899-49C4-94DD-04EC18BF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509-FD91-477B-BB82-AB5D38CF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8484-2492-44C2-B872-BC2D800B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7480B-6139-48C5-95B0-000C22C3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44C4D-01B2-4451-8EFF-060C6AE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65C50-08C5-426D-B94D-200D7B85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7B3BF-6277-497C-846B-005C5199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0175C-A98C-453D-9D77-183F864D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E63-8B50-40D9-859B-BFCFFAB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F6E90-354B-4DF3-84BD-87FB3733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DDA52-9B15-46DD-B4CB-C4DE589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AAE56-8F28-47AC-9F3A-81D2AB32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BE65F-5E44-42F2-99E8-1D5B7F69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5D3E4-2006-4A6B-A23B-B6744467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F5A71-F4A1-41F4-8582-95A51EE8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874EB-C52A-472C-88A1-73C332D3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EE57-5BFD-40DB-B0C3-D7C1B2E7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9891E-D3B0-476B-802D-50D73DBA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1224A-8D1F-41AD-AB32-DF1E35E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E64-84C2-4969-A555-7C313E5E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B5936-9B8B-4BBC-AB42-89F9C7BF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15A6-0BD1-4862-9241-2693DDF3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259B8-489C-400A-B139-063CFE4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1640-E55A-4E5C-9360-807303D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45B3-D4A7-41A4-9422-3799004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4AFE-4934-401D-BAC9-3D45BB59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E43C-7134-4889-B980-FFD3CB8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752E0-86C9-4C3E-986D-5F58AAD6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B651-D6F6-4080-B1A1-897D694D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02DD2-B8C3-4A4F-854D-E3A519E3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7DF-18EF-446A-8540-25C1231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0C3A2-ECB7-461B-8EEE-95112BBC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2C245-F86F-45B0-936B-CDA808BE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942EC-4A70-4833-8C82-2EC3F68C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C5037-AD1C-4323-B590-38C65D5B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D0C8E-14B9-4445-BECD-41260F48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8B278-E1DB-4814-847B-0D92A78D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07033-1E83-4F95-8E44-166C131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FD787-2BE4-40DE-B6AF-BB8E5286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AE6ECC-7A21-4634-8F40-F94D0247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109F0-37DF-4BC9-9E89-81CAC739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6ED-F4AB-43CF-988C-3BA444E6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82A3C-E0C0-46AD-92D2-3AA2B30A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120D9-E9AD-4C91-A129-D335483D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FD247-0F9A-4696-9D49-5C872DFB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D536E-BF0E-4CFB-8055-D19AB62B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43AEF-7B6A-484B-A245-D9A6DCC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439A2-20AF-4A23-9A4E-DD2ABCBE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E7FF7-8E2F-4904-B3F5-CEEFD350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5FD16-2B1E-4F96-970E-5BF009A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6A0C7-CA0B-4C1F-807E-B06C5145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A4CCF-61D6-4B25-8AB5-D826F2EB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089-E7D8-465A-899A-EE779D9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DB5FD-0AFA-4C57-9A29-DFF9054C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A36A6-9805-4CEF-A4A4-654F7C1C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009EE-B633-46C6-8001-1ED6C12B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A222D5-8C01-434C-BF28-0D9BA474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C0442-D4AB-4E5D-B4B0-0879737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9596C-974C-4A31-89BE-21C47DE0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E5A0C-7A49-4F1F-9A69-3D48875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AB363-D57B-456F-A26D-A60DC487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4C2545-0A9B-4EC6-9970-3B1D9FBF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EA39F-172D-4525-8298-BFDBB60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D7B-E2EE-436D-8022-E9C2F16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60A75-56F5-4F5C-BAF7-E10BD44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CD369-2729-498C-BE2C-7431E15B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CB810-1E50-4A1E-9788-9C700761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C7D0D-3FCD-4682-A329-247B5C4B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FB966-7CF7-4E3E-BB64-21DF1871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AEF-0999-4186-9334-D76CD42C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37E2-D990-42C9-86E9-DAE2D169E9B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E84D-288A-41D1-A064-630C23AFCC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CCC8-82F9-4001-962D-E595BC1738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392-F859-4A94-A58E-1EC330B9F5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6305-0801-4A37-BD0E-D79B3F243F8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6A06-399B-4616-B0B7-CA39560035D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580B-F8C9-4940-93A9-6CE2A0569E9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3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66"/>
                </a:solidFill>
                <a:latin typeface="Comic Sans MS"/>
              </a:rPr>
              <a:t>ПРОВЕРКА ПРОЙДЕННОГО ЗАДАНИЯ.</a:t>
            </a:r>
            <a:endParaRPr b="0" lang="en-US" sz="48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2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6227640" y="2924280"/>
            <a:ext cx="2727360" cy="27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http://cs5881.userapi.com/u153148335/-14/x_89dc5f5e.jpg"/>
          <p:cNvPicPr/>
          <p:nvPr/>
        </p:nvPicPr>
        <p:blipFill>
          <a:blip r:embed="rId2"/>
          <a:stretch/>
        </p:blipFill>
        <p:spPr>
          <a:xfrm>
            <a:off x="2916360" y="4149720"/>
            <a:ext cx="2792160" cy="209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В КАКОЕ ВРЕМЯ ГОДА ОТМЕЧАЮТ ПРАЗДНИК МАСЛЕНИЦЫ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5280" y="515772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e90062"/>
                </a:solidFill>
                <a:latin typeface="Century Schoolbook"/>
              </a:rPr>
              <a:t>                              </a:t>
            </a:r>
            <a:r>
              <a:rPr b="0" lang="en-US" sz="600" spc="-1" strike="noStrike">
                <a:solidFill>
                  <a:srgbClr val="e90062"/>
                </a:solidFill>
                <a:latin typeface="Century Schoolbook"/>
              </a:rPr>
              <a:t>4. </a:t>
            </a:r>
            <a:r>
              <a:rPr b="0" lang="en-US" sz="600" spc="-1" strike="noStrike">
                <a:solidFill>
                  <a:srgbClr val="000000"/>
                </a:solidFill>
                <a:latin typeface="Century Schoolbook"/>
              </a:rPr>
              <a:t>Когда люди собирают картошку.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just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68360" y="1700280"/>
          <a:ext cx="7129440" cy="72072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Конец лета – начало осен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971640" y="2708280"/>
          <a:ext cx="6769080" cy="792000"/>
        </p:xfrm>
        <a:graphic>
          <a:graphicData uri="http://schemas.openxmlformats.org/drawingml/2006/table">
            <a:tbl>
              <a:tblPr/>
              <a:tblGrid>
                <a:gridCol w="6769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Конец весны – начало лет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324000" y="3933720"/>
          <a:ext cx="7632720" cy="792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Конец зимы – начало весн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539640" y="5157720"/>
          <a:ext cx="7129440" cy="94464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Когда люди собирают картош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pic>
        <p:nvPicPr>
          <p:cNvPr id="360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227720" y="11592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7" descr="http://im5-tub-ru.yandex.net/i?id=364234808-53-72&amp;n=21"/>
          <p:cNvPicPr/>
          <p:nvPr/>
        </p:nvPicPr>
        <p:blipFill>
          <a:blip r:embed="rId2"/>
          <a:stretch/>
        </p:blipFill>
        <p:spPr>
          <a:xfrm>
            <a:off x="8028000" y="5589720"/>
            <a:ext cx="884160" cy="84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4674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КАК ЭТА НЕДЕЛЯ НАЗЫВАЕТСЯ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24000" y="1628640"/>
          <a:ext cx="7467480" cy="74952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Неделя полного голод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971640" y="2781360"/>
          <a:ext cx="6383160" cy="792000"/>
        </p:xfrm>
        <a:graphic>
          <a:graphicData uri="http://schemas.openxmlformats.org/drawingml/2006/table">
            <a:tbl>
              <a:tblPr/>
              <a:tblGrid>
                <a:gridCol w="63831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Неделя  объедани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95280" y="4076640"/>
          <a:ext cx="7129440" cy="79236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Неделя полная трудов и забо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324000" y="5157720"/>
          <a:ext cx="7632720" cy="8222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Неделя -  « праздника непослушания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pic>
        <p:nvPicPr>
          <p:cNvPr id="367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227720" y="11592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КАКОЕ ГЛАВНОЕ КОНДИТЕРСКОЕ ИЗДЕЛИЕ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57200" y="1600200"/>
          <a:ext cx="7467480" cy="67644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Заварные пирожены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547640" y="2708280"/>
          <a:ext cx="5519880" cy="720720"/>
        </p:xfrm>
        <a:graphic>
          <a:graphicData uri="http://schemas.openxmlformats.org/drawingml/2006/table">
            <a:tbl>
              <a:tblPr/>
              <a:tblGrid>
                <a:gridCol w="5519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Торт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908000" y="3789360"/>
          <a:ext cx="5688360" cy="7207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Ватрушки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484360" y="4941720"/>
          <a:ext cx="5329440" cy="720720"/>
        </p:xfrm>
        <a:graphic>
          <a:graphicData uri="http://schemas.openxmlformats.org/drawingml/2006/table">
            <a:tbl>
              <a:tblPr/>
              <a:tblGrid>
                <a:gridCol w="5329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Блины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73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812000" y="115920"/>
            <a:ext cx="863640" cy="865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journal.hutor.ru/pictures_new/1204446401_1201320.gif"/>
          <p:cNvPicPr/>
          <p:nvPr/>
        </p:nvPicPr>
        <p:blipFill>
          <a:blip r:embed="rId2"/>
          <a:stretch/>
        </p:blipFill>
        <p:spPr>
          <a:xfrm>
            <a:off x="900000" y="5229360"/>
            <a:ext cx="1263600" cy="115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i075.radikal.ru/0907/94/f3c0cd6f15a0.jpg"/>
          <p:cNvPicPr/>
          <p:nvPr/>
        </p:nvPicPr>
        <p:blipFill>
          <a:blip r:embed="rId3"/>
          <a:stretch/>
        </p:blipFill>
        <p:spPr>
          <a:xfrm>
            <a:off x="324000" y="3860640"/>
            <a:ext cx="1299960" cy="1103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veseliytort.ru/images/vesel-tort-personazh.jpg"/>
          <p:cNvPicPr/>
          <p:nvPr/>
        </p:nvPicPr>
        <p:blipFill>
          <a:blip r:embed="rId4"/>
          <a:stretch/>
        </p:blipFill>
        <p:spPr>
          <a:xfrm>
            <a:off x="7308720" y="2565360"/>
            <a:ext cx="1203480" cy="107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ИЗ ЧЕГО ДЕЛАЛИ ЧУЧЕЛО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95280" y="1844640"/>
          <a:ext cx="6264360" cy="701640"/>
        </p:xfrm>
        <a:graphic>
          <a:graphicData uri="http://schemas.openxmlformats.org/drawingml/2006/table">
            <a:tbl>
              <a:tblPr/>
              <a:tblGrid>
                <a:gridCol w="62643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Из дерев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042920" y="2924280"/>
          <a:ext cx="5808600" cy="863640"/>
        </p:xfrm>
        <a:graphic>
          <a:graphicData uri="http://schemas.openxmlformats.org/drawingml/2006/table">
            <a:tbl>
              <a:tblPr/>
              <a:tblGrid>
                <a:gridCol w="58086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Из тряпочек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1042920" y="4149720"/>
          <a:ext cx="5472360" cy="720720"/>
        </p:xfrm>
        <a:graphic>
          <a:graphicData uri="http://schemas.openxmlformats.org/drawingml/2006/table">
            <a:tbl>
              <a:tblPr/>
              <a:tblGrid>
                <a:gridCol w="547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Из соломы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1835280" y="5300640"/>
          <a:ext cx="4895640" cy="70164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Из хворост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372440" y="115920"/>
            <a:ext cx="1295280" cy="1297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clker.com/cliparts/6/7/f/c/1329756112786418634a-tree-vector-material2.jpg"/>
          <p:cNvPicPr/>
          <p:nvPr/>
        </p:nvPicPr>
        <p:blipFill>
          <a:blip r:embed="rId2"/>
          <a:stretch/>
        </p:blipFill>
        <p:spPr>
          <a:xfrm>
            <a:off x="7093080" y="1844640"/>
            <a:ext cx="1503360" cy="1503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www.stihi.ru/pics/2012/04/26/771.jpg"/>
          <p:cNvPicPr/>
          <p:nvPr/>
        </p:nvPicPr>
        <p:blipFill>
          <a:blip r:embed="rId3"/>
          <a:stretch/>
        </p:blipFill>
        <p:spPr>
          <a:xfrm>
            <a:off x="6948360" y="3645000"/>
            <a:ext cx="1629000" cy="170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Comic Sans MS"/>
              </a:rPr>
              <a:t>КАКОЙ КОМПОЗИТОР НАПИСАЛ ОПЕРУ « СНЕГУРОЧКА» ?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1600200"/>
          <a:ext cx="6562800" cy="749160"/>
        </p:xfrm>
        <a:graphic>
          <a:graphicData uri="http://schemas.openxmlformats.org/drawingml/2006/table">
            <a:tbl>
              <a:tblPr/>
              <a:tblGrid>
                <a:gridCol w="6562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П.И.Чайковский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826920" y="2781360"/>
          <a:ext cx="5688360" cy="7207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С.С.Прокофьев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11280" y="3789360"/>
          <a:ext cx="7777080" cy="10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Н. А. Римский – Корсако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1042920" y="5013360"/>
          <a:ext cx="5400720" cy="72072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В.Я.Шаинский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90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227720" y="11592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to-name.ru/images/biography/rimskij-korsakov-nikolaj-adreevich.jpg"/>
          <p:cNvPicPr/>
          <p:nvPr/>
        </p:nvPicPr>
        <p:blipFill>
          <a:blip r:embed="rId2"/>
          <a:stretch/>
        </p:blipFill>
        <p:spPr>
          <a:xfrm>
            <a:off x="7093080" y="1916280"/>
            <a:ext cx="1495440" cy="168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6666"/>
                </a:solidFill>
                <a:latin typeface="Comic Sans MS"/>
              </a:rPr>
              <a:t>КАКИЕ ПОСЛОВИЦЫ И ПОГОВОРКИ ПОДХОДЯТ К МАСЛЕНИЦЕ?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57200" y="1600200"/>
          <a:ext cx="7467480" cy="74916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. Делу время – потехе час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68360" y="2781360"/>
          <a:ext cx="7704000" cy="79200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 Семь раз отмерь – один раз отреж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179280" y="3933720"/>
          <a:ext cx="8496360" cy="792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. Блинцы, блинчики, блины, как колеса у Весн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pic>
        <p:nvPicPr>
          <p:cNvPr id="396" name="Picture 4" descr="http://cs10767.userapi.com/u12619424/-14/x_7a75c8c5.jpg"/>
          <p:cNvPicPr/>
          <p:nvPr/>
        </p:nvPicPr>
        <p:blipFill>
          <a:blip r:embed="rId1"/>
          <a:stretch/>
        </p:blipFill>
        <p:spPr>
          <a:xfrm>
            <a:off x="7308720" y="115920"/>
            <a:ext cx="1440000" cy="1441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os1.i.ua/3/1/7613331_1f0dd54e.jpg"/>
          <p:cNvPicPr/>
          <p:nvPr/>
        </p:nvPicPr>
        <p:blipFill>
          <a:blip r:embed="rId2"/>
          <a:stretch/>
        </p:blipFill>
        <p:spPr>
          <a:xfrm>
            <a:off x="7164360" y="5229360"/>
            <a:ext cx="157644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324000" y="4869000"/>
          <a:ext cx="7416720" cy="7920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 Готовь сани летом, а телегу зимо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  <p:pic>
        <p:nvPicPr>
          <p:cNvPr id="399" name="Picture 6" descr="http://stat19.privet.ru/lr/0b1adac7e6d1ffece5392b1907fd4319"/>
          <p:cNvPicPr/>
          <p:nvPr/>
        </p:nvPicPr>
        <p:blipFill>
          <a:blip r:embed="rId3"/>
          <a:stretch/>
        </p:blipFill>
        <p:spPr>
          <a:xfrm>
            <a:off x="539640" y="5656320"/>
            <a:ext cx="2737080" cy="120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omic Sans MS"/>
              </a:rPr>
              <a:t>ИЗ КАКОЙ ОПЕРЫ СЛОВА - « </a:t>
            </a:r>
            <a:r>
              <a:rPr b="0" lang="en-US" sz="3000" spc="-1" strike="noStrike" u="sng">
                <a:solidFill>
                  <a:srgbClr val="666666"/>
                </a:solidFill>
                <a:uFillTx/>
                <a:latin typeface="Comic Sans MS"/>
              </a:rPr>
              <a:t>СБИРАЛИСЬ ПТИЦЫ, СБИРАЛИСЬ ПЕВЧИЕ»</a:t>
            </a:r>
            <a:r>
              <a:rPr b="0" lang="en-US" sz="3000" spc="-1" strike="noStrike">
                <a:solidFill>
                  <a:srgbClr val="666666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57200" y="1600200"/>
          <a:ext cx="7467480" cy="892080"/>
        </p:xfrm>
        <a:graphic>
          <a:graphicData uri="http://schemas.openxmlformats.org/drawingml/2006/table">
            <a:tbl>
              <a:tblPr/>
              <a:tblGrid>
                <a:gridCol w="746748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. Опера «Руслан и Людмила»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684360" y="2997360"/>
          <a:ext cx="7129440" cy="80784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. Опера «Волк и 7 козлят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332000" y="4221000"/>
          <a:ext cx="6095880" cy="7304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. Опера «Снегурочка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00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826920" y="5300640"/>
          <a:ext cx="6480360" cy="106524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. Опера «Орфей и Эвридика»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00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13-03-14T14:21:25Z</dcterms:modified>
  <cp:revision>30</cp:revision>
  <dc:subject/>
  <dc:title>Проверка пройденного задания.</dc:title>
</cp:coreProperties>
</file>