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B286F-C32A-4E21-92F5-ADB865DC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973AC-2AA4-493A-96E5-39F18C60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EF734-B477-42A6-97EE-C6B3736B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4015F-09E9-4F66-92E6-4EA52384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A8D9-5FA7-4D23-8539-9EC1210A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5853-905E-4C61-A005-6D664CA7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3197-5C88-48BD-B903-93A90B3D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23BF-B89C-4BE4-9FE9-137B0EA4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8835-BEAF-4BF9-9132-63799DC7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B0C2-B967-4D72-8F68-F9B37684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EF39-F7D0-4DF8-9187-B7F2738B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4F204-6EF9-4CB1-90FD-04C14019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8E16-0D10-4ACE-BAA2-D224C9D0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6395-87A4-42BC-9529-2ACD6DA2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588E-EE9E-4472-A329-78382CC9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42D9-D5CC-46DC-B553-B9CED8AB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B2D5-D0B5-49AF-BFEE-F3678C94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EC049-1BA9-4332-B543-6EFD3D50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A3334-519E-47C9-B79E-4131B03B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36601-F241-4183-B423-D63B0188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AFC1E-94C9-42C4-961F-3E7FB6B2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25E55-6F86-40DB-8097-38418983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D0A75-7141-4A23-A076-F1EF40E9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0242B-DE3A-4858-9275-A7945A9C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CB59-EE72-479D-904F-56F7FFA0B91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A659-AC49-4AC3-B6BD-FAA5C37A090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89000"/>
            <a:ext cx="87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907920"/>
            <a:ext cx="914400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Умники и умницы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11280" y="836640"/>
            <a:ext cx="7993080" cy="299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ОЛО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4365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конкурс пролога- конкурс русского язы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4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каких словах пишутся удвоенные согласны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 коло(с,сс)альной  те(р,рр)а(с,сс)е конопля(н,нн)ика вдова подьячего Агри(п,пп)ина потчевала ко(л,лл)ежского а(с,сс)е(с,сс)ора А(п,пп)о(л,лл)она Са(в,вв)ича винегретом с мо(л,лл)юсками и мо(ж,жж)евеловым вареньем под а(к,кк)омпанемент виолончели и а(к,кк)ордео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4000" y="1890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конкурс пролога – конкурс краснореч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484280"/>
            <a:ext cx="8066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ссуждение на тем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Нигилизм. Какой круг явлений связан в вашем понимании с нигилизмом? Нужны ли нигилисты современной Росс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Сопоставьте авторские характеристики и высказывания в романе двух его персонаж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0360" y="1052640"/>
          <a:ext cx="8964720" cy="5616360"/>
        </p:xfrm>
        <a:graphic>
          <a:graphicData uri="http://schemas.openxmlformats.org/drawingml/2006/table">
            <a:tbl>
              <a:tblPr/>
              <a:tblGrid>
                <a:gridCol w="4248360"/>
                <a:gridCol w="4716360"/>
              </a:tblGrid>
              <a:tr h="56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..Вы не признаете никаких авторитетов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Да зачем же я стану их признавать?.. Мне скажут дело, я соглашаюсь, вот и вс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Искусство наживать деньги!..-воскликнул .. с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зрительною усмешкой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Порядочный химик в двадцать раз полезнее всякого поэта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лой авторитеты!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лой Маколея! Долой!.. Да я их не отрицаю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зможность презирать и выражать свое презрение было самым приятным ощущением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.. двумя-тремя химиками, не умеющими отличить кислорода от азота, но исполненными  отрицания и самоуважения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лчется в Петербург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89647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Раскрасьте» пейзажную зарисовку, выбрав из определений, данных под чертой, тургеневск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Утро было славное, свежее; маленькие … тучки стояли барашками на … лазури; мелкая роса высыпала на листьях и травах, блистала серебром на паутинках; влажная … земля, казалось, ещё хранила след … зари; со всего неба сыпались песни жаворон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9337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мяный, красный, пёстрый, тёмно-серый, ярко-синий, бледно-ясный, цветной, грязно-белый, угрюмо-черный, тём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789360"/>
            <a:ext cx="817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4T16:51:37Z</dcterms:created>
  <dc:creator>Света</dc:creator>
  <dc:description/>
  <dc:language>en-US</dc:language>
  <cp:lastModifiedBy>Света</cp:lastModifiedBy>
  <dcterms:modified xsi:type="dcterms:W3CDTF">2012-12-24T17:44:54Z</dcterms:modified>
  <cp:revision>2</cp:revision>
  <dc:subject/>
  <dc:title>Слайд 1</dc:title>
</cp:coreProperties>
</file>