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469B2-EB65-469E-B335-99BE7E60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1F625-4B2E-416D-A52E-780DC688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3AD11-185E-4254-B06D-D947F7BF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EBBC1-8292-4CC0-B03B-DCA91812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752A-AE75-446E-B0BE-B92E33DF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BE2E-DE33-40A7-87ED-39832A10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A003-E6B6-4016-978D-719CBFA1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7DE8-6BA0-411D-B874-F6AFD594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6666-A874-4020-9FA1-FCA10E0E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C1A5-44F5-491F-8FAF-A7C3004B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F774-0836-4526-92C3-4DD8C4CA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5BF62-05B4-49E1-862A-08123943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C260-4EBE-4679-A1B4-DDC7A67C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9486-94D1-47E1-9633-6D4198DC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4419-624E-43C1-9C48-9005C3A7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4EAC-DE0B-412A-90D2-1B0D3C8A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16D5-CBF9-45A0-96A5-E8AAE008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2FA1B-445B-40F9-8667-835332C8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C9061-7938-4D3A-86AE-4BD8658C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1C654-7B45-4E6E-8F6C-73DF1FED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737D4-D86D-4404-8BDC-07734117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E99C1-8E8D-436A-858C-F0226706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22AF6-702D-4726-B2C2-8DE072E8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20F5D-9E8C-4E7D-8547-8973EEA8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2C7D-F8A5-4A39-A001-48204353C7F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BEAA-219E-4138-9E45-C5619A8C018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9000"/>
            <a:ext cx="87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907920"/>
            <a:ext cx="914400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Умники и умницы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11280" y="836640"/>
            <a:ext cx="7993080" cy="299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ОЛО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4365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конкурс пролога- конкурс русского язы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каких словах пишутся удвоенные согласны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 коло(с,сс)альной  те(р,рр)а(с,сс)е конопля(н,нн)ика вдова подьячего Агри(п,пп)ина потчевала ко(л,лл)ежского а(с,сс)е(с,сс)ора А(п,пп)о(л,лл)она Са(в,вв)ича винегретом с мо(л,лл)юсками и мо(ж,жж)евеловым вареньем под а(к,кк)омпанемент виолончели и а(к,кк)ордео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4000" y="189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конкурс пролога – конкурс краснореч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484280"/>
            <a:ext cx="8066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ссуждение на тем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Нигилизм. Какой круг явлений связан в вашем понимании с нигилизмом? Нужны ли нигилисты современной Росс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Сопоставьте авторские характеристики и высказывания в романе двух его персонаж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0360" y="1052640"/>
          <a:ext cx="8964720" cy="5616360"/>
        </p:xfrm>
        <a:graphic>
          <a:graphicData uri="http://schemas.openxmlformats.org/drawingml/2006/table">
            <a:tbl>
              <a:tblPr/>
              <a:tblGrid>
                <a:gridCol w="4248360"/>
                <a:gridCol w="4716360"/>
              </a:tblGrid>
              <a:tr h="56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..Вы не признаете никаких авторитетов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Да зачем же я стану их признавать?.. Мне скажут дело, я соглашаюсь, вот и вс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Искусство наживать деньги!..-воскликнул .. с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зрительною усмешкой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Порядочный химик в двадцать раз полезнее всякого поэта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лой авторитеты!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лой Маколея! Долой!.. Да я их не отрицаю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зможность презирать и выражать свое презрение было самым приятным ощущением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.. двумя-тремя химиками, не умеющими отличить кислорода от азота, но исполненными  отрицания и самоуважения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лчется в Петербург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89647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Раскрасьте» пейзажную зарисовку, выбрав из определений, данных под чертой, тургеневск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Утро было славное, свежее; маленькие … тучки стояли барашками на … лазури; мелкая роса высыпала на листьях и травах, блистала серебром на паутинках; влажная … земля, казалось, ещё хранила след … зари; со всего неба сыпались песни жаворон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9337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мяный, красный, пёстрый, тёмно-серый, ярко-синий, бледно-ясный, цветной, грязно-белый, угрюмо-черный, тём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789360"/>
            <a:ext cx="817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4T16:51:37Z</dcterms:created>
  <dc:creator>Света</dc:creator>
  <dc:description/>
  <dc:language>en-US</dc:language>
  <cp:lastModifiedBy>Света</cp:lastModifiedBy>
  <dcterms:modified xsi:type="dcterms:W3CDTF">2012-12-24T17:44:54Z</dcterms:modified>
  <cp:revision>2</cp:revision>
  <dc:subject/>
  <dc:title>Слайд 1</dc:title>
</cp:coreProperties>
</file>