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B28-9651-42EE-BDA4-06CF1CEB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932-7CBE-4587-B74E-0FCAA4B1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3D9-1C0C-4364-86BB-5BD4374A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02B-D697-4F6A-B069-19FF78C9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4E14-D38E-4D35-8AFB-76DD7E80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3024-FBC2-4F81-B8A5-627CC9D8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D480-8CA3-40EC-80FF-C00A9B8C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8095-72C5-461D-9366-4EFD51B9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5594-3396-4F63-BF35-6B231ABE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71A0-FA55-4A8B-B5AC-0155EA55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074E-9EEC-4C9B-B170-EFBAB3EC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0C1-C988-4A47-ACC8-C9FF9292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978B-C972-410B-8A9D-2E156A11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6CD5-F648-4F77-B53E-CFF1EF56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B89C-EAE9-4376-ACE4-714E3429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6338-DA3C-415A-B6E6-990096D4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0882-4FAE-4054-A325-57FD6D25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D7AD14-DD02-49DA-A2C8-013F6AF2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787CE2-A9B4-409A-B9C4-1D7E29A1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596B33-A6E8-4386-98A8-126C1AC3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03E0E2-E052-41CF-9BBF-D4FB008A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6B98E0-9AC2-4591-89A1-995E20F2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080-172A-44A4-A3D4-DCE1DBE5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0EF084-D160-4D81-8237-A09972A9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BD3F8C-4B0C-4C8E-841B-B2EA075A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D64309-1FC0-4070-B2F9-B34803E6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70D0DD-D780-4615-B19D-A5D95F65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E1B7B9-5CB1-47AC-B85E-96F28872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97960E-0807-42EC-B705-EFCD25DE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344D98-E87B-4F5F-A0DB-C1545EAB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B77-E0D6-4F60-8B18-E059B742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A96-2060-4CD9-B190-671455B7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C0B-F334-4332-99B3-13C82B16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35F-56B3-4D23-AB49-E0666B9C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7E9C-0516-47E1-AACA-9E3585A9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DE5-C205-4A8E-9347-0E4EB268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b26b0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b26b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b26b0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b26b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6b02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6b0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b26b0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b26b0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b26b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A043-3D2A-43A3-B7A6-2C6AF32BDC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87F5-E7EE-4E42-8EBE-960AE4B70B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e3ded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b26b0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b26b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b26b0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b26b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6b02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6b0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b26b0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b26b0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b26b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7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39FB-F43A-42FC-85BD-9E32889B87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9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4"/>
            </a:gs>
            <a:gs pos="100000">
              <a:srgbClr val="ffe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57280" y="999720"/>
            <a:ext cx="591048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Monotype Corsiva"/>
              </a:rPr>
              <a:t>Урок  -исследование по русскому языку</a:t>
            </a:r>
            <a:endParaRPr b="0" lang="en-US" sz="5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979280" y="1700280"/>
            <a:ext cx="6249960" cy="252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Занимательная  орфограф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2  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Rectangle 4" descr=""/>
          <p:cNvPicPr/>
          <p:nvPr/>
        </p:nvPicPr>
        <p:blipFill>
          <a:blip r:embed="rId1"/>
          <a:stretch/>
        </p:blipFill>
        <p:spPr>
          <a:xfrm>
            <a:off x="1706400" y="4327560"/>
            <a:ext cx="7102800" cy="123192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19191"/>
                </a:solidFill>
                <a:latin typeface="Arial"/>
              </a:rPr>
              <a:t>Ищу  рифм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604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есной о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ыгает целый  ____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ашечка, Пашеч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лый мой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арбарис, барба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вкусный, как ____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AMERI007"/>
          <p:cNvPicPr/>
          <p:nvPr/>
        </p:nvPicPr>
        <p:blipFill>
          <a:blip r:embed="rId1"/>
          <a:stretch/>
        </p:blipFill>
        <p:spPr>
          <a:xfrm>
            <a:off x="6516720" y="4076640"/>
            <a:ext cx="2154240" cy="261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AMERI006"/>
          <p:cNvPicPr/>
          <p:nvPr/>
        </p:nvPicPr>
        <p:blipFill>
          <a:blip r:embed="rId2"/>
          <a:stretch/>
        </p:blipFill>
        <p:spPr>
          <a:xfrm>
            <a:off x="5940360" y="260280"/>
            <a:ext cx="2078280" cy="24480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3"/>
          <p:cNvSpPr/>
          <p:nvPr/>
        </p:nvSpPr>
        <p:spPr>
          <a:xfrm>
            <a:off x="6372360" y="3141720"/>
            <a:ext cx="2160360" cy="609480"/>
          </a:xfrm>
          <a:prstGeom prst="wedgeEllipseCallout">
            <a:avLst>
              <a:gd name="adj1" fmla="val -31189"/>
              <a:gd name="adj2" fmla="val -20989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ишит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0">
    <p:circl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AMERI007"/>
          <p:cNvPicPr/>
          <p:nvPr/>
        </p:nvPicPr>
        <p:blipFill>
          <a:blip r:embed="rId1"/>
          <a:stretch/>
        </p:blipFill>
        <p:spPr>
          <a:xfrm flipH="1">
            <a:off x="1187280" y="2708280"/>
            <a:ext cx="3595680" cy="3657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AMERI006"/>
          <p:cNvPicPr/>
          <p:nvPr/>
        </p:nvPicPr>
        <p:blipFill>
          <a:blip r:embed="rId2"/>
          <a:stretch/>
        </p:blipFill>
        <p:spPr>
          <a:xfrm>
            <a:off x="5076720" y="2852640"/>
            <a:ext cx="3435480" cy="36576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10"/>
          <p:cNvSpPr/>
          <p:nvPr/>
        </p:nvSpPr>
        <p:spPr>
          <a:xfrm>
            <a:off x="179280" y="765000"/>
            <a:ext cx="3816360" cy="1800360"/>
          </a:xfrm>
          <a:prstGeom prst="wedgeEllipseCallout">
            <a:avLst>
              <a:gd name="adj1" fmla="val 16513"/>
              <a:gd name="adj2" fmla="val 8386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т  и  подошёл  к  концу  наш  сладкий  уро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4140360" y="1052640"/>
            <a:ext cx="4248000" cy="1728720"/>
          </a:xfrm>
          <a:prstGeom prst="wedgeEllipseCallout">
            <a:avLst>
              <a:gd name="adj1" fmla="val 11060"/>
              <a:gd name="adj2" fmla="val 8223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асибо,  ребята!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  новых  встреч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0">
    <p:newsflash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сылки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нтики от конф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320840" y="220500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00igr.net›kartinki/pedagogika/UMK…UMK…SHKOLNIKA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042920" y="270828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proshkolu.ru›gofile/94936-a38240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AMERI006"/>
          <p:cNvPicPr/>
          <p:nvPr/>
        </p:nvPicPr>
        <p:blipFill>
          <a:blip r:embed="rId1"/>
          <a:stretch/>
        </p:blipFill>
        <p:spPr>
          <a:xfrm>
            <a:off x="6334200" y="836640"/>
            <a:ext cx="2809800" cy="2752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AMERI007"/>
          <p:cNvPicPr/>
          <p:nvPr/>
        </p:nvPicPr>
        <p:blipFill>
          <a:blip r:embed="rId2"/>
          <a:stretch/>
        </p:blipFill>
        <p:spPr>
          <a:xfrm>
            <a:off x="6335640" y="3500280"/>
            <a:ext cx="2808360" cy="272124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10"/>
          <p:cNvSpPr/>
          <p:nvPr/>
        </p:nvSpPr>
        <p:spPr>
          <a:xfrm>
            <a:off x="1692360" y="476280"/>
            <a:ext cx="4392360" cy="2016000"/>
          </a:xfrm>
          <a:prstGeom prst="wedgeEllipseCallout">
            <a:avLst>
              <a:gd name="adj1" fmla="val 63518"/>
              <a:gd name="adj2" fmla="val 53305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вет,  друзья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Я -  Миш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 очень люблю  русский  язык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1"/>
          <p:cNvSpPr/>
          <p:nvPr/>
        </p:nvSpPr>
        <p:spPr>
          <a:xfrm>
            <a:off x="1258920" y="2781360"/>
            <a:ext cx="4824360" cy="2592360"/>
          </a:xfrm>
          <a:prstGeom prst="wedgeEllipseCallout">
            <a:avLst>
              <a:gd name="adj1" fmla="val 62800"/>
              <a:gd name="adj2" fmla="val 46203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дравствуйте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Я -  Маша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 хотим,  чтобы  вы  тоже  любили  и  знали  русский  язык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760" y="35244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cc"/>
                </a:solidFill>
                <a:latin typeface="Monotype Corsiva"/>
              </a:rPr>
              <a:t>Минутка  чистопис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734364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AMERI007"/>
          <p:cNvPicPr/>
          <p:nvPr/>
        </p:nvPicPr>
        <p:blipFill>
          <a:blip r:embed="rId1"/>
          <a:stretch/>
        </p:blipFill>
        <p:spPr>
          <a:xfrm>
            <a:off x="5862600" y="2217600"/>
            <a:ext cx="2710080" cy="225432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10"/>
          <p:cNvSpPr/>
          <p:nvPr/>
        </p:nvSpPr>
        <p:spPr>
          <a:xfrm>
            <a:off x="826920" y="1341360"/>
            <a:ext cx="4873680" cy="2232000"/>
          </a:xfrm>
          <a:prstGeom prst="wedgeEllipseCallout">
            <a:avLst>
              <a:gd name="adj1" fmla="val 59087"/>
              <a:gd name="adj2" fmla="val 3577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Ребята, я предлагаю включить в чистописание элементы буквы «Кк»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1" descr="AMERI006"/>
          <p:cNvPicPr/>
          <p:nvPr/>
        </p:nvPicPr>
        <p:blipFill>
          <a:blip r:embed="rId2"/>
          <a:stretch/>
        </p:blipFill>
        <p:spPr>
          <a:xfrm>
            <a:off x="7020000" y="4724280"/>
            <a:ext cx="1655640" cy="17622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2"/>
          <p:cNvSpPr/>
          <p:nvPr/>
        </p:nvSpPr>
        <p:spPr>
          <a:xfrm>
            <a:off x="1835280" y="3716280"/>
            <a:ext cx="4248000" cy="2521080"/>
          </a:xfrm>
          <a:prstGeom prst="wedgeEllipseCallout">
            <a:avLst>
              <a:gd name="adj1" fmla="val 72907"/>
              <a:gd name="adj2" fmla="val 3381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Я, кажется, понял. Урок сегодня будет не простой, а конфетный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9" descr="&amp;Fcy;&amp;acy;&amp;ncy;&amp;tcy;&amp;icy;&amp;kcy;&amp;icy; &amp;ocy;&amp;tcy; &amp;kcy;&amp;ocy;&amp;ncy;&amp;fcy;&amp;iecy;&amp;tcy;"/>
          <p:cNvPicPr/>
          <p:nvPr/>
        </p:nvPicPr>
        <p:blipFill>
          <a:blip r:embed="rId1"/>
          <a:stretch/>
        </p:blipFill>
        <p:spPr>
          <a:xfrm>
            <a:off x="149400" y="857160"/>
            <a:ext cx="419076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&amp;Fcy;&amp;acy;&amp;ncy;&amp;tcy;&amp;icy;&amp;kcy;&amp;icy; &amp;ocy;&amp;tcy; &amp;kcy;&amp;ocy;&amp;ncy;&amp;fcy;&amp;iecy;&amp;tcy;"/>
          <p:cNvPicPr/>
          <p:nvPr/>
        </p:nvPicPr>
        <p:blipFill>
          <a:blip r:embed="rId2"/>
          <a:stretch/>
        </p:blipFill>
        <p:spPr>
          <a:xfrm>
            <a:off x="4429080" y="357120"/>
            <a:ext cx="4191120" cy="4762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im4-tub-ru.yandex.net/i?id=268823949-64-72&amp;n=21"/>
          <p:cNvPicPr/>
          <p:nvPr/>
        </p:nvPicPr>
        <p:blipFill>
          <a:blip r:embed="rId1"/>
          <a:stretch/>
        </p:blipFill>
        <p:spPr>
          <a:xfrm>
            <a:off x="214200" y="428760"/>
            <a:ext cx="2357640" cy="1357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im8-tub-ru.yandex.net/i?id=355719573-43-72&amp;n=21"/>
          <p:cNvPicPr/>
          <p:nvPr/>
        </p:nvPicPr>
        <p:blipFill>
          <a:blip r:embed="rId2"/>
          <a:stretch/>
        </p:blipFill>
        <p:spPr>
          <a:xfrm>
            <a:off x="357120" y="3929040"/>
            <a:ext cx="2086200" cy="2428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http://im8-tub-ru.yandex.net/i?id=372336264-57-72&amp;n=21"/>
          <p:cNvPicPr/>
          <p:nvPr/>
        </p:nvPicPr>
        <p:blipFill>
          <a:blip r:embed="rId3"/>
          <a:stretch/>
        </p:blipFill>
        <p:spPr>
          <a:xfrm>
            <a:off x="6858000" y="142920"/>
            <a:ext cx="2048040" cy="1857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http://im5-tub-ru.yandex.net/i?id=376221153-55-72&amp;n=21"/>
          <p:cNvPicPr/>
          <p:nvPr/>
        </p:nvPicPr>
        <p:blipFill>
          <a:blip r:embed="rId4"/>
          <a:stretch/>
        </p:blipFill>
        <p:spPr>
          <a:xfrm>
            <a:off x="3000240" y="1428840"/>
            <a:ext cx="3143520" cy="228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http://im0-tub-ru.yandex.net/i?id=317598240-39-72&amp;n=21"/>
          <p:cNvPicPr/>
          <p:nvPr/>
        </p:nvPicPr>
        <p:blipFill>
          <a:blip r:embed="rId5"/>
          <a:stretch/>
        </p:blipFill>
        <p:spPr>
          <a:xfrm>
            <a:off x="6143760" y="4357800"/>
            <a:ext cx="1752480" cy="1428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324000" y="1052640"/>
            <a:ext cx="7561080" cy="2663640"/>
          </a:xfrm>
          <a:prstGeom prst="wedgeEllipseCallout">
            <a:avLst>
              <a:gd name="adj1" fmla="val 34800"/>
              <a:gd name="adj2" fmla="val 10655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ята, мы хорошо поработали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теперь настало время немного отдохнуть. Я вам приготовил новую физминутку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8" descr="AMERI006"/>
          <p:cNvPicPr/>
          <p:nvPr/>
        </p:nvPicPr>
        <p:blipFill>
          <a:blip r:embed="rId1"/>
          <a:stretch/>
        </p:blipFill>
        <p:spPr>
          <a:xfrm>
            <a:off x="6300720" y="4365720"/>
            <a:ext cx="2484360" cy="2276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1049040" y="14716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4429080" y="260280"/>
            <a:ext cx="216000" cy="3052800"/>
            <a:chOff x="4429080" y="260280"/>
            <a:chExt cx="216000" cy="3052800"/>
          </a:xfrm>
        </p:grpSpPr>
        <p:sp>
          <p:nvSpPr>
            <p:cNvPr id="161" name="AutoShape 3"/>
            <p:cNvSpPr/>
            <p:nvPr/>
          </p:nvSpPr>
          <p:spPr>
            <a:xfrm>
              <a:off x="4429080" y="1787400"/>
              <a:ext cx="216000" cy="1525680"/>
            </a:xfrm>
            <a:prstGeom prst="upArrow">
              <a:avLst>
                <a:gd name="adj1" fmla="val 50000"/>
                <a:gd name="adj2" fmla="val 17658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AutoShape 4"/>
            <p:cNvSpPr/>
            <p:nvPr/>
          </p:nvSpPr>
          <p:spPr>
            <a:xfrm>
              <a:off x="4429080" y="260280"/>
              <a:ext cx="216000" cy="1527120"/>
            </a:xfrm>
            <a:prstGeom prst="upArrow">
              <a:avLst>
                <a:gd name="adj1" fmla="val 50000"/>
                <a:gd name="adj2" fmla="val 17675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5"/>
          <p:cNvGrpSpPr/>
          <p:nvPr/>
        </p:nvGrpSpPr>
        <p:grpSpPr>
          <a:xfrm>
            <a:off x="4429080" y="3400200"/>
            <a:ext cx="216000" cy="3052800"/>
            <a:chOff x="4429080" y="3400200"/>
            <a:chExt cx="216000" cy="3052800"/>
          </a:xfrm>
        </p:grpSpPr>
        <p:sp>
          <p:nvSpPr>
            <p:cNvPr id="164" name="AutoShape 6"/>
            <p:cNvSpPr/>
            <p:nvPr/>
          </p:nvSpPr>
          <p:spPr>
            <a:xfrm flipV="1">
              <a:off x="4429080" y="3399840"/>
              <a:ext cx="216000" cy="1525320"/>
            </a:xfrm>
            <a:prstGeom prst="upArrow">
              <a:avLst>
                <a:gd name="adj1" fmla="val 50000"/>
                <a:gd name="adj2" fmla="val 176542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7"/>
            <p:cNvSpPr/>
            <p:nvPr/>
          </p:nvSpPr>
          <p:spPr>
            <a:xfrm flipV="1">
              <a:off x="4429080" y="4925160"/>
              <a:ext cx="216000" cy="1527480"/>
            </a:xfrm>
            <a:prstGeom prst="upArrow">
              <a:avLst>
                <a:gd name="adj1" fmla="val 50000"/>
                <a:gd name="adj2" fmla="val 176792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8"/>
          <p:cNvGrpSpPr/>
          <p:nvPr/>
        </p:nvGrpSpPr>
        <p:grpSpPr>
          <a:xfrm>
            <a:off x="4572000" y="3227400"/>
            <a:ext cx="3887640" cy="254160"/>
            <a:chOff x="4572000" y="3227400"/>
            <a:chExt cx="3887640" cy="254160"/>
          </a:xfrm>
        </p:grpSpPr>
        <p:sp>
          <p:nvSpPr>
            <p:cNvPr id="167" name="AutoShape 9"/>
            <p:cNvSpPr/>
            <p:nvPr/>
          </p:nvSpPr>
          <p:spPr>
            <a:xfrm rot="5400000">
              <a:off x="5092560" y="2706840"/>
              <a:ext cx="254160" cy="1295280"/>
            </a:xfrm>
            <a:prstGeom prst="upArrow">
              <a:avLst>
                <a:gd name="adj1" fmla="val 50000"/>
                <a:gd name="adj2" fmla="val 12740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10"/>
            <p:cNvSpPr/>
            <p:nvPr/>
          </p:nvSpPr>
          <p:spPr>
            <a:xfrm rot="5400000">
              <a:off x="6389640" y="2706840"/>
              <a:ext cx="254160" cy="1295280"/>
            </a:xfrm>
            <a:prstGeom prst="upArrow">
              <a:avLst>
                <a:gd name="adj1" fmla="val 50000"/>
                <a:gd name="adj2" fmla="val 12740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AutoShape 11"/>
            <p:cNvSpPr/>
            <p:nvPr/>
          </p:nvSpPr>
          <p:spPr>
            <a:xfrm rot="5400000">
              <a:off x="7684920" y="2706840"/>
              <a:ext cx="254160" cy="1295280"/>
            </a:xfrm>
            <a:prstGeom prst="upArrow">
              <a:avLst>
                <a:gd name="adj1" fmla="val 50000"/>
                <a:gd name="adj2" fmla="val 12740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12"/>
          <p:cNvGrpSpPr/>
          <p:nvPr/>
        </p:nvGrpSpPr>
        <p:grpSpPr>
          <a:xfrm>
            <a:off x="612720" y="3227400"/>
            <a:ext cx="3887280" cy="254160"/>
            <a:chOff x="612720" y="3227400"/>
            <a:chExt cx="3887280" cy="254160"/>
          </a:xfrm>
        </p:grpSpPr>
        <p:sp>
          <p:nvSpPr>
            <p:cNvPr id="171" name="AutoShape 13"/>
            <p:cNvSpPr/>
            <p:nvPr/>
          </p:nvSpPr>
          <p:spPr>
            <a:xfrm flipH="1" rot="16200000">
              <a:off x="3724560" y="2706480"/>
              <a:ext cx="254160" cy="1295640"/>
            </a:xfrm>
            <a:prstGeom prst="upArrow">
              <a:avLst>
                <a:gd name="adj1" fmla="val 50000"/>
                <a:gd name="adj2" fmla="val 12744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AutoShape 14"/>
            <p:cNvSpPr/>
            <p:nvPr/>
          </p:nvSpPr>
          <p:spPr>
            <a:xfrm flipH="1" rot="16200000">
              <a:off x="2427480" y="2706480"/>
              <a:ext cx="254160" cy="1295640"/>
            </a:xfrm>
            <a:prstGeom prst="upArrow">
              <a:avLst>
                <a:gd name="adj1" fmla="val 50000"/>
                <a:gd name="adj2" fmla="val 12744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AutoShape 15"/>
            <p:cNvSpPr/>
            <p:nvPr/>
          </p:nvSpPr>
          <p:spPr>
            <a:xfrm flipH="1" rot="16200000">
              <a:off x="1133280" y="2706840"/>
              <a:ext cx="254160" cy="1295280"/>
            </a:xfrm>
            <a:prstGeom prst="upArrow">
              <a:avLst>
                <a:gd name="adj1" fmla="val 50000"/>
                <a:gd name="adj2" fmla="val 12740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AutoShape 16"/>
          <p:cNvSpPr/>
          <p:nvPr/>
        </p:nvSpPr>
        <p:spPr>
          <a:xfrm>
            <a:off x="4429080" y="2492280"/>
            <a:ext cx="2160720" cy="863640"/>
          </a:xfrm>
          <a:custGeom>
            <a:avLst/>
            <a:gdLst>
              <a:gd name="textAreaLeft" fmla="*/ 433080 w 2160720"/>
              <a:gd name="textAreaRight" fmla="*/ 1511640 w 2160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9" hR="21600" stAng="10800000" swAng="5400000"/>
                <a:lnTo>
                  <a:pt x="10782" y="0"/>
                </a:lnTo>
                <a:arcTo wR="8659" hR="21600" stAng="-5400000" swAng="2915272"/>
                <a:lnTo>
                  <a:pt x="21105" y="14400"/>
                </a:lnTo>
                <a:lnTo>
                  <a:pt x="18379" y="21600"/>
                </a:lnTo>
                <a:lnTo>
                  <a:pt x="14662" y="14400"/>
                </a:lnTo>
                <a:lnTo>
                  <a:pt x="16822" y="14400"/>
                </a:lnTo>
                <a:arcTo wR="8659" hR="21600" stAng="-2484728" swAng="-2745184"/>
                <a:lnTo>
                  <a:pt x="9720" y="163"/>
                </a:lnTo>
                <a:arcTo wR="8659" hR="21600" stAng="-5570088" swAng="-5229912"/>
                <a:close/>
              </a:path>
              <a:path fill="darkenLess" w="21600" h="21600">
                <a:moveTo>
                  <a:pt x="0" y="21600"/>
                </a:moveTo>
                <a:arcTo wR="8659" hR="21600" stAng="10800000" swAng="5400000"/>
                <a:lnTo>
                  <a:pt x="8659" y="0"/>
                </a:lnTo>
                <a:arcTo wR="8659" hR="21600" stAng="-5400000" swAng="170088"/>
                <a:lnTo>
                  <a:pt x="9720" y="163"/>
                </a:lnTo>
                <a:arcTo wR="8659" hR="21600" stAng="-5570088" swAng="-5229912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7"/>
          <p:cNvSpPr/>
          <p:nvPr/>
        </p:nvSpPr>
        <p:spPr>
          <a:xfrm flipH="1" flipV="1">
            <a:off x="4211640" y="3428280"/>
            <a:ext cx="2160720" cy="863640"/>
          </a:xfrm>
          <a:custGeom>
            <a:avLst/>
            <a:gdLst>
              <a:gd name="textAreaLeft" fmla="*/ 433080 w 2160720"/>
              <a:gd name="textAreaRight" fmla="*/ 1511640 w 2160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9" hR="21600" stAng="10800000" swAng="5400000"/>
                <a:lnTo>
                  <a:pt x="10782" y="0"/>
                </a:lnTo>
                <a:arcTo wR="8659" hR="21600" stAng="-5400000" swAng="2915272"/>
                <a:lnTo>
                  <a:pt x="21105" y="14400"/>
                </a:lnTo>
                <a:lnTo>
                  <a:pt x="18379" y="21600"/>
                </a:lnTo>
                <a:lnTo>
                  <a:pt x="14662" y="14400"/>
                </a:lnTo>
                <a:lnTo>
                  <a:pt x="16822" y="14400"/>
                </a:lnTo>
                <a:arcTo wR="8659" hR="21600" stAng="-2484728" swAng="-2745184"/>
                <a:lnTo>
                  <a:pt x="9720" y="163"/>
                </a:lnTo>
                <a:arcTo wR="8659" hR="21600" stAng="-5570088" swAng="-5229912"/>
                <a:close/>
              </a:path>
              <a:path fill="darkenLess" w="21600" h="21600">
                <a:moveTo>
                  <a:pt x="0" y="21600"/>
                </a:moveTo>
                <a:arcTo wR="8659" hR="21600" stAng="10800000" swAng="5400000"/>
                <a:lnTo>
                  <a:pt x="8659" y="0"/>
                </a:lnTo>
                <a:arcTo wR="8659" hR="21600" stAng="-5400000" swAng="170088"/>
                <a:lnTo>
                  <a:pt x="9720" y="163"/>
                </a:lnTo>
                <a:arcTo wR="8659" hR="21600" stAng="-5570088" swAng="-5229912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8"/>
          <p:cNvSpPr/>
          <p:nvPr/>
        </p:nvSpPr>
        <p:spPr>
          <a:xfrm flipH="1">
            <a:off x="2484360" y="2492280"/>
            <a:ext cx="2160720" cy="863640"/>
          </a:xfrm>
          <a:custGeom>
            <a:avLst/>
            <a:gdLst>
              <a:gd name="textAreaLeft" fmla="*/ 433080 w 2160720"/>
              <a:gd name="textAreaRight" fmla="*/ 1511640 w 2160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9" hR="21600" stAng="10800000" swAng="5400000"/>
                <a:lnTo>
                  <a:pt x="10782" y="0"/>
                </a:lnTo>
                <a:arcTo wR="8659" hR="21600" stAng="-5400000" swAng="2915272"/>
                <a:lnTo>
                  <a:pt x="21105" y="14400"/>
                </a:lnTo>
                <a:lnTo>
                  <a:pt x="18379" y="21600"/>
                </a:lnTo>
                <a:lnTo>
                  <a:pt x="14662" y="14400"/>
                </a:lnTo>
                <a:lnTo>
                  <a:pt x="16822" y="14400"/>
                </a:lnTo>
                <a:arcTo wR="8659" hR="21600" stAng="-2484728" swAng="-2745184"/>
                <a:lnTo>
                  <a:pt x="9720" y="163"/>
                </a:lnTo>
                <a:arcTo wR="8659" hR="21600" stAng="-5570088" swAng="-5229912"/>
                <a:close/>
              </a:path>
              <a:path fill="darkenLess" w="21600" h="21600">
                <a:moveTo>
                  <a:pt x="0" y="21600"/>
                </a:moveTo>
                <a:arcTo wR="8659" hR="21600" stAng="10800000" swAng="5400000"/>
                <a:lnTo>
                  <a:pt x="8659" y="0"/>
                </a:lnTo>
                <a:arcTo wR="8659" hR="21600" stAng="-5400000" swAng="170088"/>
                <a:lnTo>
                  <a:pt x="9720" y="163"/>
                </a:lnTo>
                <a:arcTo wR="8659" hR="21600" stAng="-5570088" swAng="-5229912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19"/>
          <p:cNvSpPr/>
          <p:nvPr/>
        </p:nvSpPr>
        <p:spPr>
          <a:xfrm flipV="1">
            <a:off x="2771640" y="3428280"/>
            <a:ext cx="2160720" cy="863640"/>
          </a:xfrm>
          <a:custGeom>
            <a:avLst/>
            <a:gdLst>
              <a:gd name="textAreaLeft" fmla="*/ 433080 w 2160720"/>
              <a:gd name="textAreaRight" fmla="*/ 1511640 w 2160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9" hR="21600" stAng="10800000" swAng="5400000"/>
                <a:lnTo>
                  <a:pt x="10782" y="0"/>
                </a:lnTo>
                <a:arcTo wR="8659" hR="21600" stAng="-5400000" swAng="2915272"/>
                <a:lnTo>
                  <a:pt x="21105" y="14400"/>
                </a:lnTo>
                <a:lnTo>
                  <a:pt x="18379" y="21600"/>
                </a:lnTo>
                <a:lnTo>
                  <a:pt x="14662" y="14400"/>
                </a:lnTo>
                <a:lnTo>
                  <a:pt x="16822" y="14400"/>
                </a:lnTo>
                <a:arcTo wR="8659" hR="21600" stAng="-2484728" swAng="-2745184"/>
                <a:lnTo>
                  <a:pt x="9720" y="163"/>
                </a:lnTo>
                <a:arcTo wR="8659" hR="21600" stAng="-5570088" swAng="-5229912"/>
                <a:close/>
              </a:path>
              <a:path fill="darkenLess" w="21600" h="21600">
                <a:moveTo>
                  <a:pt x="0" y="21600"/>
                </a:moveTo>
                <a:arcTo wR="8659" hR="21600" stAng="10800000" swAng="5400000"/>
                <a:lnTo>
                  <a:pt x="8659" y="0"/>
                </a:lnTo>
                <a:arcTo wR="8659" hR="21600" stAng="-5400000" swAng="170088"/>
                <a:lnTo>
                  <a:pt x="9720" y="163"/>
                </a:lnTo>
                <a:arcTo wR="8659" hR="21600" stAng="-5570088" swAng="-5229912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rc 20"/>
          <p:cNvSpPr/>
          <p:nvPr/>
        </p:nvSpPr>
        <p:spPr>
          <a:xfrm rot="10800000">
            <a:off x="1620360" y="3431880"/>
            <a:ext cx="2808360" cy="194292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1942920"/>
              <a:gd name="textAreaBottom" fmla="*/ 1943280 h 1942920"/>
            </a:gdLst>
            <a:ahLst/>
            <a:rect l="textAreaLeft" t="textAreaTop" r="textAreaRight" b="textAreaBottom"/>
            <a:pathLst>
              <a:path fill="none" w="21600" h="21582">
                <a:moveTo>
                  <a:pt x="885" y="0"/>
                </a:moveTo>
                <a:cubicBezTo>
                  <a:pt x="12460" y="475"/>
                  <a:pt x="21600" y="9997"/>
                  <a:pt x="21600" y="21582"/>
                </a:cubicBezTo>
              </a:path>
              <a:path stroke="0" w="21600" h="21582">
                <a:moveTo>
                  <a:pt x="885" y="0"/>
                </a:moveTo>
                <a:cubicBezTo>
                  <a:pt x="12460" y="475"/>
                  <a:pt x="21600" y="9997"/>
                  <a:pt x="21600" y="21582"/>
                </a:cubicBezTo>
                <a:lnTo>
                  <a:pt x="0" y="21582"/>
                </a:lnTo>
                <a:close/>
              </a:path>
            </a:pathLst>
          </a:custGeom>
          <a:noFill/>
          <a:ln w="1270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rc 21"/>
          <p:cNvSpPr/>
          <p:nvPr/>
        </p:nvSpPr>
        <p:spPr>
          <a:xfrm rot="10800000">
            <a:off x="4356000" y="3429000"/>
            <a:ext cx="3100320" cy="1944720"/>
          </a:xfrm>
          <a:custGeom>
            <a:avLst/>
            <a:gdLst>
              <a:gd name="textAreaLeft" fmla="*/ 0 w 3100320"/>
              <a:gd name="textAreaRight" fmla="*/ 3100680 w 310032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fill="none" w="23847" h="21600">
                <a:moveTo>
                  <a:pt x="0" y="21530"/>
                </a:moveTo>
                <a:cubicBezTo>
                  <a:pt x="38" y="9628"/>
                  <a:pt x="9697" y="-1"/>
                  <a:pt x="21600" y="0"/>
                </a:cubicBezTo>
                <a:cubicBezTo>
                  <a:pt x="22350" y="0"/>
                  <a:pt x="23100" y="39"/>
                  <a:pt x="23846" y="117"/>
                </a:cubicBezTo>
              </a:path>
              <a:path stroke="0" w="23847" h="21600">
                <a:moveTo>
                  <a:pt x="0" y="21530"/>
                </a:moveTo>
                <a:cubicBezTo>
                  <a:pt x="38" y="9628"/>
                  <a:pt x="9697" y="-1"/>
                  <a:pt x="21600" y="0"/>
                </a:cubicBezTo>
                <a:cubicBezTo>
                  <a:pt x="22350" y="0"/>
                  <a:pt x="23100" y="39"/>
                  <a:pt x="23846" y="117"/>
                </a:cubicBezTo>
                <a:lnTo>
                  <a:pt x="21600" y="21600"/>
                </a:lnTo>
                <a:close/>
              </a:path>
            </a:pathLst>
          </a:custGeom>
          <a:noFill/>
          <a:ln w="1270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rc 22"/>
          <p:cNvSpPr/>
          <p:nvPr/>
        </p:nvSpPr>
        <p:spPr>
          <a:xfrm rot="10800000">
            <a:off x="4394160" y="1412640"/>
            <a:ext cx="3062160" cy="1944720"/>
          </a:xfrm>
          <a:custGeom>
            <a:avLst/>
            <a:gdLst>
              <a:gd name="textAreaLeft" fmla="*/ 0 w 3062160"/>
              <a:gd name="textAreaRight" fmla="*/ 3062520 w 306216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fill="none" w="23557" h="21600">
                <a:moveTo>
                  <a:pt x="23557" y="21510"/>
                </a:moveTo>
                <a:cubicBezTo>
                  <a:pt x="22903" y="21570"/>
                  <a:pt x="22248" y="21599"/>
                  <a:pt x="21592" y="21600"/>
                </a:cubicBezTo>
                <a:cubicBezTo>
                  <a:pt x="9893" y="21600"/>
                  <a:pt x="321" y="12287"/>
                  <a:pt x="0" y="593"/>
                </a:cubicBezTo>
              </a:path>
              <a:path stroke="0" w="23557" h="21600">
                <a:moveTo>
                  <a:pt x="23557" y="21510"/>
                </a:moveTo>
                <a:cubicBezTo>
                  <a:pt x="22903" y="21570"/>
                  <a:pt x="22248" y="21599"/>
                  <a:pt x="21592" y="21600"/>
                </a:cubicBezTo>
                <a:cubicBezTo>
                  <a:pt x="9893" y="21600"/>
                  <a:pt x="321" y="12287"/>
                  <a:pt x="0" y="593"/>
                </a:cubicBezTo>
                <a:lnTo>
                  <a:pt x="21592" y="0"/>
                </a:lnTo>
                <a:close/>
              </a:path>
            </a:pathLst>
          </a:custGeom>
          <a:noFill/>
          <a:ln w="1270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rc 23"/>
          <p:cNvSpPr/>
          <p:nvPr/>
        </p:nvSpPr>
        <p:spPr>
          <a:xfrm rot="10800000">
            <a:off x="1618920" y="1412640"/>
            <a:ext cx="2808360" cy="194472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fill="none" w="21600" h="21600">
                <a:moveTo>
                  <a:pt x="21599" y="60"/>
                </a:moveTo>
                <a:cubicBezTo>
                  <a:pt x="21566" y="11913"/>
                  <a:pt x="11988" y="21524"/>
                  <a:pt x="135" y="21599"/>
                </a:cubicBezTo>
              </a:path>
              <a:path stroke="0" w="21600" h="21600">
                <a:moveTo>
                  <a:pt x="21599" y="60"/>
                </a:moveTo>
                <a:cubicBezTo>
                  <a:pt x="21566" y="11913"/>
                  <a:pt x="11988" y="21524"/>
                  <a:pt x="135" y="21599"/>
                </a:cubicBezTo>
                <a:lnTo>
                  <a:pt x="0" y="0"/>
                </a:lnTo>
                <a:close/>
              </a:path>
            </a:pathLst>
          </a:custGeom>
          <a:noFill/>
          <a:ln w="1270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rc 24"/>
          <p:cNvSpPr/>
          <p:nvPr/>
        </p:nvSpPr>
        <p:spPr>
          <a:xfrm flipH="1" rot="10800000">
            <a:off x="396720" y="3430440"/>
            <a:ext cx="4391280" cy="3129120"/>
          </a:xfrm>
          <a:custGeom>
            <a:avLst/>
            <a:gdLst>
              <a:gd name="textAreaLeft" fmla="*/ 360 w 4391280"/>
              <a:gd name="textAreaRight" fmla="*/ 4392000 w 4391280"/>
              <a:gd name="textAreaTop" fmla="*/ 0 h 3129120"/>
              <a:gd name="textAreaBottom" fmla="*/ 3129480 h 3129120"/>
            </a:gdLst>
            <a:ahLst/>
            <a:rect l="textAreaLeft" t="textAreaTop" r="textAreaRight" b="textAreaBottom"/>
            <a:pathLst>
              <a:path fill="none" w="21600" h="21393">
                <a:moveTo>
                  <a:pt x="0" y="21323"/>
                </a:moveTo>
                <a:cubicBezTo>
                  <a:pt x="34" y="10572"/>
                  <a:pt x="7969" y="1484"/>
                  <a:pt x="18616" y="-1"/>
                </a:cubicBezTo>
              </a:path>
              <a:path stroke="0" w="21600" h="21393">
                <a:moveTo>
                  <a:pt x="0" y="21323"/>
                </a:moveTo>
                <a:cubicBezTo>
                  <a:pt x="34" y="10572"/>
                  <a:pt x="7969" y="1484"/>
                  <a:pt x="18616" y="-1"/>
                </a:cubicBezTo>
                <a:lnTo>
                  <a:pt x="21600" y="21393"/>
                </a:lnTo>
                <a:close/>
              </a:path>
            </a:pathLst>
          </a:custGeom>
          <a:noFill/>
          <a:ln w="127080">
            <a:solidFill>
              <a:srgbClr val="cc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rc 25"/>
          <p:cNvSpPr/>
          <p:nvPr/>
        </p:nvSpPr>
        <p:spPr>
          <a:xfrm flipH="1" rot="10800000">
            <a:off x="394200" y="222120"/>
            <a:ext cx="4390920" cy="3135600"/>
          </a:xfrm>
          <a:custGeom>
            <a:avLst/>
            <a:gdLst>
              <a:gd name="textAreaLeft" fmla="*/ -360 w 4390920"/>
              <a:gd name="textAreaRight" fmla="*/ 4390920 w 4390920"/>
              <a:gd name="textAreaTop" fmla="*/ 0 h 3135600"/>
              <a:gd name="textAreaBottom" fmla="*/ 3135960 h 3135600"/>
            </a:gdLst>
            <a:ahLst/>
            <a:rect l="textAreaLeft" t="textAreaTop" r="textAreaRight" b="textAreaBottom"/>
            <a:pathLst>
              <a:path fill="none" w="21599" h="21432">
                <a:moveTo>
                  <a:pt x="18909" y="21431"/>
                </a:moveTo>
                <a:cubicBezTo>
                  <a:pt x="8184" y="20085"/>
                  <a:pt x="106" y="11020"/>
                  <a:pt x="0" y="211"/>
                </a:cubicBezTo>
              </a:path>
              <a:path stroke="0" w="21599" h="21432">
                <a:moveTo>
                  <a:pt x="18909" y="21431"/>
                </a:moveTo>
                <a:cubicBezTo>
                  <a:pt x="8184" y="20085"/>
                  <a:pt x="106" y="11020"/>
                  <a:pt x="0" y="211"/>
                </a:cubicBezTo>
                <a:lnTo>
                  <a:pt x="21599" y="0"/>
                </a:lnTo>
                <a:close/>
              </a:path>
            </a:pathLst>
          </a:custGeom>
          <a:noFill/>
          <a:ln w="127080">
            <a:solidFill>
              <a:srgbClr val="cc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rc 26"/>
          <p:cNvSpPr/>
          <p:nvPr/>
        </p:nvSpPr>
        <p:spPr>
          <a:xfrm flipH="1" rot="10800000">
            <a:off x="4282920" y="189000"/>
            <a:ext cx="4391280" cy="3192480"/>
          </a:xfrm>
          <a:custGeom>
            <a:avLst/>
            <a:gdLst>
              <a:gd name="textAreaLeft" fmla="*/ 360 w 4391280"/>
              <a:gd name="textAreaRight" fmla="*/ 4392000 w 439128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fill="none" w="21600" h="21824">
                <a:moveTo>
                  <a:pt x="21598" y="0"/>
                </a:moveTo>
                <a:cubicBezTo>
                  <a:pt x="21599" y="74"/>
                  <a:pt x="21600" y="149"/>
                  <a:pt x="21600" y="225"/>
                </a:cubicBezTo>
                <a:cubicBezTo>
                  <a:pt x="21600" y="12072"/>
                  <a:pt x="12057" y="21708"/>
                  <a:pt x="210" y="21823"/>
                </a:cubicBezTo>
              </a:path>
              <a:path stroke="0" w="21600" h="21824">
                <a:moveTo>
                  <a:pt x="21598" y="0"/>
                </a:moveTo>
                <a:cubicBezTo>
                  <a:pt x="21599" y="74"/>
                  <a:pt x="21600" y="149"/>
                  <a:pt x="21600" y="225"/>
                </a:cubicBezTo>
                <a:cubicBezTo>
                  <a:pt x="21600" y="12072"/>
                  <a:pt x="12057" y="21708"/>
                  <a:pt x="210" y="21823"/>
                </a:cubicBezTo>
                <a:lnTo>
                  <a:pt x="0" y="225"/>
                </a:lnTo>
                <a:close/>
              </a:path>
            </a:pathLst>
          </a:custGeom>
          <a:noFill/>
          <a:ln w="127080">
            <a:solidFill>
              <a:srgbClr val="cc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rc 27"/>
          <p:cNvSpPr/>
          <p:nvPr/>
        </p:nvSpPr>
        <p:spPr>
          <a:xfrm flipH="1" rot="10800000">
            <a:off x="4278960" y="3357360"/>
            <a:ext cx="4390920" cy="3160440"/>
          </a:xfrm>
          <a:custGeom>
            <a:avLst/>
            <a:gdLst>
              <a:gd name="textAreaLeft" fmla="*/ -360 w 4390920"/>
              <a:gd name="textAreaRight" fmla="*/ 4390920 w 4390920"/>
              <a:gd name="textAreaTop" fmla="*/ 0 h 3160440"/>
              <a:gd name="textAreaBottom" fmla="*/ 3160800 h 3160440"/>
            </a:gdLst>
            <a:ahLst/>
            <a:rect l="textAreaLeft" t="textAreaTop" r="textAreaRight" b="textAreaBottom"/>
            <a:pathLst>
              <a:path fill="none" w="21601" h="21600">
                <a:moveTo>
                  <a:pt x="0" y="0"/>
                </a:moveTo>
                <a:cubicBezTo>
                  <a:pt x="7" y="0"/>
                  <a:pt x="15" y="-1"/>
                  <a:pt x="23" y="0"/>
                </a:cubicBezTo>
                <a:cubicBezTo>
                  <a:pt x="11572" y="0"/>
                  <a:pt x="21079" y="9085"/>
                  <a:pt x="21600" y="20624"/>
                </a:cubicBezTo>
              </a:path>
              <a:path stroke="0" w="21601" h="21600">
                <a:moveTo>
                  <a:pt x="0" y="0"/>
                </a:moveTo>
                <a:cubicBezTo>
                  <a:pt x="7" y="0"/>
                  <a:pt x="15" y="-1"/>
                  <a:pt x="23" y="0"/>
                </a:cubicBezTo>
                <a:cubicBezTo>
                  <a:pt x="11572" y="0"/>
                  <a:pt x="21079" y="9085"/>
                  <a:pt x="21600" y="20624"/>
                </a:cubicBezTo>
                <a:lnTo>
                  <a:pt x="23" y="21600"/>
                </a:lnTo>
                <a:close/>
              </a:path>
            </a:pathLst>
          </a:custGeom>
          <a:noFill/>
          <a:ln w="127080">
            <a:solidFill>
              <a:srgbClr val="cc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4429080" y="260280"/>
            <a:ext cx="216000" cy="3052800"/>
            <a:chOff x="4429080" y="260280"/>
            <a:chExt cx="216000" cy="3052800"/>
          </a:xfrm>
        </p:grpSpPr>
        <p:sp>
          <p:nvSpPr>
            <p:cNvPr id="187" name="AutoShape 3"/>
            <p:cNvSpPr/>
            <p:nvPr/>
          </p:nvSpPr>
          <p:spPr>
            <a:xfrm>
              <a:off x="4429080" y="1787400"/>
              <a:ext cx="216000" cy="1525680"/>
            </a:xfrm>
            <a:prstGeom prst="upArrow">
              <a:avLst>
                <a:gd name="adj1" fmla="val 50000"/>
                <a:gd name="adj2" fmla="val 17658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AutoShape 4"/>
            <p:cNvSpPr/>
            <p:nvPr/>
          </p:nvSpPr>
          <p:spPr>
            <a:xfrm>
              <a:off x="4429080" y="260280"/>
              <a:ext cx="216000" cy="1527120"/>
            </a:xfrm>
            <a:prstGeom prst="upArrow">
              <a:avLst>
                <a:gd name="adj1" fmla="val 50000"/>
                <a:gd name="adj2" fmla="val 17675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5"/>
          <p:cNvGrpSpPr/>
          <p:nvPr/>
        </p:nvGrpSpPr>
        <p:grpSpPr>
          <a:xfrm>
            <a:off x="4429080" y="3400200"/>
            <a:ext cx="216000" cy="3052800"/>
            <a:chOff x="4429080" y="3400200"/>
            <a:chExt cx="216000" cy="3052800"/>
          </a:xfrm>
        </p:grpSpPr>
        <p:sp>
          <p:nvSpPr>
            <p:cNvPr id="190" name="AutoShape 6"/>
            <p:cNvSpPr/>
            <p:nvPr/>
          </p:nvSpPr>
          <p:spPr>
            <a:xfrm flipV="1">
              <a:off x="4429080" y="3399840"/>
              <a:ext cx="216000" cy="1525320"/>
            </a:xfrm>
            <a:prstGeom prst="upArrow">
              <a:avLst>
                <a:gd name="adj1" fmla="val 50000"/>
                <a:gd name="adj2" fmla="val 176542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 flipV="1">
              <a:off x="4429080" y="4925160"/>
              <a:ext cx="216000" cy="1527480"/>
            </a:xfrm>
            <a:prstGeom prst="upArrow">
              <a:avLst>
                <a:gd name="adj1" fmla="val 50000"/>
                <a:gd name="adj2" fmla="val 176792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8"/>
          <p:cNvGrpSpPr/>
          <p:nvPr/>
        </p:nvGrpSpPr>
        <p:grpSpPr>
          <a:xfrm>
            <a:off x="4572000" y="3227400"/>
            <a:ext cx="3887640" cy="254160"/>
            <a:chOff x="4572000" y="3227400"/>
            <a:chExt cx="3887640" cy="254160"/>
          </a:xfrm>
        </p:grpSpPr>
        <p:sp>
          <p:nvSpPr>
            <p:cNvPr id="193" name="AutoShape 9"/>
            <p:cNvSpPr/>
            <p:nvPr/>
          </p:nvSpPr>
          <p:spPr>
            <a:xfrm rot="5400000">
              <a:off x="5092560" y="2706840"/>
              <a:ext cx="254160" cy="1295280"/>
            </a:xfrm>
            <a:prstGeom prst="upArrow">
              <a:avLst>
                <a:gd name="adj1" fmla="val 50000"/>
                <a:gd name="adj2" fmla="val 12740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AutoShape 10"/>
            <p:cNvSpPr/>
            <p:nvPr/>
          </p:nvSpPr>
          <p:spPr>
            <a:xfrm rot="5400000">
              <a:off x="6389640" y="2706840"/>
              <a:ext cx="254160" cy="1295280"/>
            </a:xfrm>
            <a:prstGeom prst="upArrow">
              <a:avLst>
                <a:gd name="adj1" fmla="val 50000"/>
                <a:gd name="adj2" fmla="val 12740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AutoShape 11"/>
            <p:cNvSpPr/>
            <p:nvPr/>
          </p:nvSpPr>
          <p:spPr>
            <a:xfrm rot="5400000">
              <a:off x="7684920" y="2706840"/>
              <a:ext cx="254160" cy="1295280"/>
            </a:xfrm>
            <a:prstGeom prst="upArrow">
              <a:avLst>
                <a:gd name="adj1" fmla="val 50000"/>
                <a:gd name="adj2" fmla="val 12740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Group 12"/>
          <p:cNvGrpSpPr/>
          <p:nvPr/>
        </p:nvGrpSpPr>
        <p:grpSpPr>
          <a:xfrm>
            <a:off x="612720" y="3227400"/>
            <a:ext cx="3887280" cy="254160"/>
            <a:chOff x="612720" y="3227400"/>
            <a:chExt cx="3887280" cy="254160"/>
          </a:xfrm>
        </p:grpSpPr>
        <p:sp>
          <p:nvSpPr>
            <p:cNvPr id="197" name="AutoShape 13"/>
            <p:cNvSpPr/>
            <p:nvPr/>
          </p:nvSpPr>
          <p:spPr>
            <a:xfrm flipH="1" rot="16200000">
              <a:off x="3724560" y="2706480"/>
              <a:ext cx="254160" cy="1295640"/>
            </a:xfrm>
            <a:prstGeom prst="upArrow">
              <a:avLst>
                <a:gd name="adj1" fmla="val 50000"/>
                <a:gd name="adj2" fmla="val 12744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14"/>
            <p:cNvSpPr/>
            <p:nvPr/>
          </p:nvSpPr>
          <p:spPr>
            <a:xfrm flipH="1" rot="16200000">
              <a:off x="2427480" y="2706480"/>
              <a:ext cx="254160" cy="1295640"/>
            </a:xfrm>
            <a:prstGeom prst="upArrow">
              <a:avLst>
                <a:gd name="adj1" fmla="val 50000"/>
                <a:gd name="adj2" fmla="val 12744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AutoShape 15"/>
            <p:cNvSpPr/>
            <p:nvPr/>
          </p:nvSpPr>
          <p:spPr>
            <a:xfrm flipH="1" rot="16200000">
              <a:off x="1133280" y="2706840"/>
              <a:ext cx="254160" cy="1295280"/>
            </a:xfrm>
            <a:prstGeom prst="upArrow">
              <a:avLst>
                <a:gd name="adj1" fmla="val 50000"/>
                <a:gd name="adj2" fmla="val 12740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AutoShape 16"/>
          <p:cNvSpPr/>
          <p:nvPr/>
        </p:nvSpPr>
        <p:spPr>
          <a:xfrm>
            <a:off x="4429080" y="2492280"/>
            <a:ext cx="2160720" cy="863640"/>
          </a:xfrm>
          <a:custGeom>
            <a:avLst/>
            <a:gdLst>
              <a:gd name="textAreaLeft" fmla="*/ 433080 w 2160720"/>
              <a:gd name="textAreaRight" fmla="*/ 1511640 w 2160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9" hR="21600" stAng="10800000" swAng="5400000"/>
                <a:lnTo>
                  <a:pt x="10782" y="0"/>
                </a:lnTo>
                <a:arcTo wR="8659" hR="21600" stAng="-5400000" swAng="2915272"/>
                <a:lnTo>
                  <a:pt x="21105" y="14400"/>
                </a:lnTo>
                <a:lnTo>
                  <a:pt x="18379" y="21600"/>
                </a:lnTo>
                <a:lnTo>
                  <a:pt x="14662" y="14400"/>
                </a:lnTo>
                <a:lnTo>
                  <a:pt x="16822" y="14400"/>
                </a:lnTo>
                <a:arcTo wR="8659" hR="21600" stAng="-2484728" swAng="-2745184"/>
                <a:lnTo>
                  <a:pt x="9720" y="163"/>
                </a:lnTo>
                <a:arcTo wR="8659" hR="21600" stAng="-5570088" swAng="-5229912"/>
                <a:close/>
              </a:path>
              <a:path fill="darkenLess" w="21600" h="21600">
                <a:moveTo>
                  <a:pt x="0" y="21600"/>
                </a:moveTo>
                <a:arcTo wR="8659" hR="21600" stAng="10800000" swAng="5400000"/>
                <a:lnTo>
                  <a:pt x="8659" y="0"/>
                </a:lnTo>
                <a:arcTo wR="8659" hR="21600" stAng="-5400000" swAng="170088"/>
                <a:lnTo>
                  <a:pt x="9720" y="163"/>
                </a:lnTo>
                <a:arcTo wR="8659" hR="21600" stAng="-5570088" swAng="-5229912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7"/>
          <p:cNvSpPr/>
          <p:nvPr/>
        </p:nvSpPr>
        <p:spPr>
          <a:xfrm flipH="1" flipV="1">
            <a:off x="4211640" y="3428280"/>
            <a:ext cx="2160720" cy="863640"/>
          </a:xfrm>
          <a:custGeom>
            <a:avLst/>
            <a:gdLst>
              <a:gd name="textAreaLeft" fmla="*/ 433080 w 2160720"/>
              <a:gd name="textAreaRight" fmla="*/ 1511640 w 2160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9" hR="21600" stAng="10800000" swAng="5400000"/>
                <a:lnTo>
                  <a:pt x="10782" y="0"/>
                </a:lnTo>
                <a:arcTo wR="8659" hR="21600" stAng="-5400000" swAng="2915272"/>
                <a:lnTo>
                  <a:pt x="21105" y="14400"/>
                </a:lnTo>
                <a:lnTo>
                  <a:pt x="18379" y="21600"/>
                </a:lnTo>
                <a:lnTo>
                  <a:pt x="14662" y="14400"/>
                </a:lnTo>
                <a:lnTo>
                  <a:pt x="16822" y="14400"/>
                </a:lnTo>
                <a:arcTo wR="8659" hR="21600" stAng="-2484728" swAng="-2745184"/>
                <a:lnTo>
                  <a:pt x="9720" y="163"/>
                </a:lnTo>
                <a:arcTo wR="8659" hR="21600" stAng="-5570088" swAng="-5229912"/>
                <a:close/>
              </a:path>
              <a:path fill="darkenLess" w="21600" h="21600">
                <a:moveTo>
                  <a:pt x="0" y="21600"/>
                </a:moveTo>
                <a:arcTo wR="8659" hR="21600" stAng="10800000" swAng="5400000"/>
                <a:lnTo>
                  <a:pt x="8659" y="0"/>
                </a:lnTo>
                <a:arcTo wR="8659" hR="21600" stAng="-5400000" swAng="170088"/>
                <a:lnTo>
                  <a:pt x="9720" y="163"/>
                </a:lnTo>
                <a:arcTo wR="8659" hR="21600" stAng="-5570088" swAng="-5229912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8"/>
          <p:cNvSpPr/>
          <p:nvPr/>
        </p:nvSpPr>
        <p:spPr>
          <a:xfrm flipH="1">
            <a:off x="2484360" y="2492280"/>
            <a:ext cx="2160720" cy="863640"/>
          </a:xfrm>
          <a:custGeom>
            <a:avLst/>
            <a:gdLst>
              <a:gd name="textAreaLeft" fmla="*/ 433080 w 2160720"/>
              <a:gd name="textAreaRight" fmla="*/ 1511640 w 2160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9" hR="21600" stAng="10800000" swAng="5400000"/>
                <a:lnTo>
                  <a:pt x="10782" y="0"/>
                </a:lnTo>
                <a:arcTo wR="8659" hR="21600" stAng="-5400000" swAng="2915272"/>
                <a:lnTo>
                  <a:pt x="21105" y="14400"/>
                </a:lnTo>
                <a:lnTo>
                  <a:pt x="18379" y="21600"/>
                </a:lnTo>
                <a:lnTo>
                  <a:pt x="14662" y="14400"/>
                </a:lnTo>
                <a:lnTo>
                  <a:pt x="16822" y="14400"/>
                </a:lnTo>
                <a:arcTo wR="8659" hR="21600" stAng="-2484728" swAng="-2745184"/>
                <a:lnTo>
                  <a:pt x="9720" y="163"/>
                </a:lnTo>
                <a:arcTo wR="8659" hR="21600" stAng="-5570088" swAng="-5229912"/>
                <a:close/>
              </a:path>
              <a:path fill="darkenLess" w="21600" h="21600">
                <a:moveTo>
                  <a:pt x="0" y="21600"/>
                </a:moveTo>
                <a:arcTo wR="8659" hR="21600" stAng="10800000" swAng="5400000"/>
                <a:lnTo>
                  <a:pt x="8659" y="0"/>
                </a:lnTo>
                <a:arcTo wR="8659" hR="21600" stAng="-5400000" swAng="170088"/>
                <a:lnTo>
                  <a:pt x="9720" y="163"/>
                </a:lnTo>
                <a:arcTo wR="8659" hR="21600" stAng="-5570088" swAng="-5229912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9"/>
          <p:cNvSpPr/>
          <p:nvPr/>
        </p:nvSpPr>
        <p:spPr>
          <a:xfrm flipV="1">
            <a:off x="2771640" y="3428280"/>
            <a:ext cx="2160720" cy="863640"/>
          </a:xfrm>
          <a:custGeom>
            <a:avLst/>
            <a:gdLst>
              <a:gd name="textAreaLeft" fmla="*/ 433080 w 2160720"/>
              <a:gd name="textAreaRight" fmla="*/ 1511640 w 2160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9" hR="21600" stAng="10800000" swAng="5400000"/>
                <a:lnTo>
                  <a:pt x="10782" y="0"/>
                </a:lnTo>
                <a:arcTo wR="8659" hR="21600" stAng="-5400000" swAng="2915272"/>
                <a:lnTo>
                  <a:pt x="21105" y="14400"/>
                </a:lnTo>
                <a:lnTo>
                  <a:pt x="18379" y="21600"/>
                </a:lnTo>
                <a:lnTo>
                  <a:pt x="14662" y="14400"/>
                </a:lnTo>
                <a:lnTo>
                  <a:pt x="16822" y="14400"/>
                </a:lnTo>
                <a:arcTo wR="8659" hR="21600" stAng="-2484728" swAng="-2745184"/>
                <a:lnTo>
                  <a:pt x="9720" y="163"/>
                </a:lnTo>
                <a:arcTo wR="8659" hR="21600" stAng="-5570088" swAng="-5229912"/>
                <a:close/>
              </a:path>
              <a:path fill="darkenLess" w="21600" h="21600">
                <a:moveTo>
                  <a:pt x="0" y="21600"/>
                </a:moveTo>
                <a:arcTo wR="8659" hR="21600" stAng="10800000" swAng="5400000"/>
                <a:lnTo>
                  <a:pt x="8659" y="0"/>
                </a:lnTo>
                <a:arcTo wR="8659" hR="21600" stAng="-5400000" swAng="170088"/>
                <a:lnTo>
                  <a:pt x="9720" y="163"/>
                </a:lnTo>
                <a:arcTo wR="8659" hR="21600" stAng="-5570088" swAng="-5229912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rc 20"/>
          <p:cNvSpPr/>
          <p:nvPr/>
        </p:nvSpPr>
        <p:spPr>
          <a:xfrm rot="10800000">
            <a:off x="1620360" y="3431880"/>
            <a:ext cx="2808360" cy="194292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1942920"/>
              <a:gd name="textAreaBottom" fmla="*/ 1943280 h 1942920"/>
            </a:gdLst>
            <a:ahLst/>
            <a:rect l="textAreaLeft" t="textAreaTop" r="textAreaRight" b="textAreaBottom"/>
            <a:pathLst>
              <a:path fill="none" w="21600" h="21582">
                <a:moveTo>
                  <a:pt x="885" y="0"/>
                </a:moveTo>
                <a:cubicBezTo>
                  <a:pt x="12460" y="475"/>
                  <a:pt x="21600" y="9997"/>
                  <a:pt x="21600" y="21582"/>
                </a:cubicBezTo>
              </a:path>
              <a:path stroke="0" w="21600" h="21582">
                <a:moveTo>
                  <a:pt x="885" y="0"/>
                </a:moveTo>
                <a:cubicBezTo>
                  <a:pt x="12460" y="475"/>
                  <a:pt x="21600" y="9997"/>
                  <a:pt x="21600" y="21582"/>
                </a:cubicBezTo>
                <a:lnTo>
                  <a:pt x="0" y="21582"/>
                </a:lnTo>
                <a:close/>
              </a:path>
            </a:pathLst>
          </a:custGeom>
          <a:noFill/>
          <a:ln w="1270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rc 21"/>
          <p:cNvSpPr/>
          <p:nvPr/>
        </p:nvSpPr>
        <p:spPr>
          <a:xfrm rot="10800000">
            <a:off x="4356000" y="3429000"/>
            <a:ext cx="3100320" cy="1944720"/>
          </a:xfrm>
          <a:custGeom>
            <a:avLst/>
            <a:gdLst>
              <a:gd name="textAreaLeft" fmla="*/ 0 w 3100320"/>
              <a:gd name="textAreaRight" fmla="*/ 3100680 w 310032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fill="none" w="23847" h="21600">
                <a:moveTo>
                  <a:pt x="0" y="21530"/>
                </a:moveTo>
                <a:cubicBezTo>
                  <a:pt x="38" y="9628"/>
                  <a:pt x="9697" y="-1"/>
                  <a:pt x="21600" y="0"/>
                </a:cubicBezTo>
                <a:cubicBezTo>
                  <a:pt x="22350" y="0"/>
                  <a:pt x="23100" y="39"/>
                  <a:pt x="23846" y="117"/>
                </a:cubicBezTo>
              </a:path>
              <a:path stroke="0" w="23847" h="21600">
                <a:moveTo>
                  <a:pt x="0" y="21530"/>
                </a:moveTo>
                <a:cubicBezTo>
                  <a:pt x="38" y="9628"/>
                  <a:pt x="9697" y="-1"/>
                  <a:pt x="21600" y="0"/>
                </a:cubicBezTo>
                <a:cubicBezTo>
                  <a:pt x="22350" y="0"/>
                  <a:pt x="23100" y="39"/>
                  <a:pt x="23846" y="117"/>
                </a:cubicBezTo>
                <a:lnTo>
                  <a:pt x="21600" y="21600"/>
                </a:lnTo>
                <a:close/>
              </a:path>
            </a:pathLst>
          </a:custGeom>
          <a:noFill/>
          <a:ln w="1270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rc 22"/>
          <p:cNvSpPr/>
          <p:nvPr/>
        </p:nvSpPr>
        <p:spPr>
          <a:xfrm rot="10800000">
            <a:off x="4394160" y="1412640"/>
            <a:ext cx="3062160" cy="1944720"/>
          </a:xfrm>
          <a:custGeom>
            <a:avLst/>
            <a:gdLst>
              <a:gd name="textAreaLeft" fmla="*/ 0 w 3062160"/>
              <a:gd name="textAreaRight" fmla="*/ 3062520 w 306216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fill="none" w="23557" h="21600">
                <a:moveTo>
                  <a:pt x="23557" y="21510"/>
                </a:moveTo>
                <a:cubicBezTo>
                  <a:pt x="22903" y="21570"/>
                  <a:pt x="22248" y="21599"/>
                  <a:pt x="21592" y="21600"/>
                </a:cubicBezTo>
                <a:cubicBezTo>
                  <a:pt x="9893" y="21600"/>
                  <a:pt x="321" y="12287"/>
                  <a:pt x="0" y="593"/>
                </a:cubicBezTo>
              </a:path>
              <a:path stroke="0" w="23557" h="21600">
                <a:moveTo>
                  <a:pt x="23557" y="21510"/>
                </a:moveTo>
                <a:cubicBezTo>
                  <a:pt x="22903" y="21570"/>
                  <a:pt x="22248" y="21599"/>
                  <a:pt x="21592" y="21600"/>
                </a:cubicBezTo>
                <a:cubicBezTo>
                  <a:pt x="9893" y="21600"/>
                  <a:pt x="321" y="12287"/>
                  <a:pt x="0" y="593"/>
                </a:cubicBezTo>
                <a:lnTo>
                  <a:pt x="21592" y="0"/>
                </a:lnTo>
                <a:close/>
              </a:path>
            </a:pathLst>
          </a:custGeom>
          <a:noFill/>
          <a:ln w="1270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rc 23"/>
          <p:cNvSpPr/>
          <p:nvPr/>
        </p:nvSpPr>
        <p:spPr>
          <a:xfrm rot="10800000">
            <a:off x="1618920" y="1412640"/>
            <a:ext cx="2808360" cy="194472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fill="none" w="21600" h="21600">
                <a:moveTo>
                  <a:pt x="21599" y="60"/>
                </a:moveTo>
                <a:cubicBezTo>
                  <a:pt x="21566" y="11913"/>
                  <a:pt x="11988" y="21524"/>
                  <a:pt x="135" y="21599"/>
                </a:cubicBezTo>
              </a:path>
              <a:path stroke="0" w="21600" h="21600">
                <a:moveTo>
                  <a:pt x="21599" y="60"/>
                </a:moveTo>
                <a:cubicBezTo>
                  <a:pt x="21566" y="11913"/>
                  <a:pt x="11988" y="21524"/>
                  <a:pt x="135" y="21599"/>
                </a:cubicBezTo>
                <a:lnTo>
                  <a:pt x="0" y="0"/>
                </a:lnTo>
                <a:close/>
              </a:path>
            </a:pathLst>
          </a:custGeom>
          <a:noFill/>
          <a:ln w="1270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rc 24"/>
          <p:cNvSpPr/>
          <p:nvPr/>
        </p:nvSpPr>
        <p:spPr>
          <a:xfrm flipH="1" rot="10800000">
            <a:off x="396720" y="3430440"/>
            <a:ext cx="4391280" cy="3129120"/>
          </a:xfrm>
          <a:custGeom>
            <a:avLst/>
            <a:gdLst>
              <a:gd name="textAreaLeft" fmla="*/ 360 w 4391280"/>
              <a:gd name="textAreaRight" fmla="*/ 4392000 w 4391280"/>
              <a:gd name="textAreaTop" fmla="*/ 0 h 3129120"/>
              <a:gd name="textAreaBottom" fmla="*/ 3129480 h 3129120"/>
            </a:gdLst>
            <a:ahLst/>
            <a:rect l="textAreaLeft" t="textAreaTop" r="textAreaRight" b="textAreaBottom"/>
            <a:pathLst>
              <a:path fill="none" w="21600" h="21393">
                <a:moveTo>
                  <a:pt x="0" y="21323"/>
                </a:moveTo>
                <a:cubicBezTo>
                  <a:pt x="34" y="10572"/>
                  <a:pt x="7969" y="1484"/>
                  <a:pt x="18616" y="-1"/>
                </a:cubicBezTo>
              </a:path>
              <a:path stroke="0" w="21600" h="21393">
                <a:moveTo>
                  <a:pt x="0" y="21323"/>
                </a:moveTo>
                <a:cubicBezTo>
                  <a:pt x="34" y="10572"/>
                  <a:pt x="7969" y="1484"/>
                  <a:pt x="18616" y="-1"/>
                </a:cubicBezTo>
                <a:lnTo>
                  <a:pt x="21600" y="21393"/>
                </a:lnTo>
                <a:close/>
              </a:path>
            </a:pathLst>
          </a:custGeom>
          <a:noFill/>
          <a:ln w="127080">
            <a:solidFill>
              <a:srgbClr val="cc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rc 25"/>
          <p:cNvSpPr/>
          <p:nvPr/>
        </p:nvSpPr>
        <p:spPr>
          <a:xfrm flipH="1" rot="10800000">
            <a:off x="394200" y="222120"/>
            <a:ext cx="4390920" cy="3135600"/>
          </a:xfrm>
          <a:custGeom>
            <a:avLst/>
            <a:gdLst>
              <a:gd name="textAreaLeft" fmla="*/ -360 w 4390920"/>
              <a:gd name="textAreaRight" fmla="*/ 4390920 w 4390920"/>
              <a:gd name="textAreaTop" fmla="*/ 0 h 3135600"/>
              <a:gd name="textAreaBottom" fmla="*/ 3135960 h 3135600"/>
            </a:gdLst>
            <a:ahLst/>
            <a:rect l="textAreaLeft" t="textAreaTop" r="textAreaRight" b="textAreaBottom"/>
            <a:pathLst>
              <a:path fill="none" w="21599" h="21432">
                <a:moveTo>
                  <a:pt x="18909" y="21431"/>
                </a:moveTo>
                <a:cubicBezTo>
                  <a:pt x="8184" y="20085"/>
                  <a:pt x="106" y="11020"/>
                  <a:pt x="0" y="211"/>
                </a:cubicBezTo>
              </a:path>
              <a:path stroke="0" w="21599" h="21432">
                <a:moveTo>
                  <a:pt x="18909" y="21431"/>
                </a:moveTo>
                <a:cubicBezTo>
                  <a:pt x="8184" y="20085"/>
                  <a:pt x="106" y="11020"/>
                  <a:pt x="0" y="211"/>
                </a:cubicBezTo>
                <a:lnTo>
                  <a:pt x="21599" y="0"/>
                </a:lnTo>
                <a:close/>
              </a:path>
            </a:pathLst>
          </a:custGeom>
          <a:noFill/>
          <a:ln w="127080">
            <a:solidFill>
              <a:srgbClr val="cc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rc 26"/>
          <p:cNvSpPr/>
          <p:nvPr/>
        </p:nvSpPr>
        <p:spPr>
          <a:xfrm flipH="1" rot="10800000">
            <a:off x="4282920" y="189000"/>
            <a:ext cx="4391280" cy="3192480"/>
          </a:xfrm>
          <a:custGeom>
            <a:avLst/>
            <a:gdLst>
              <a:gd name="textAreaLeft" fmla="*/ 360 w 4391280"/>
              <a:gd name="textAreaRight" fmla="*/ 4392000 w 439128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fill="none" w="21600" h="21824">
                <a:moveTo>
                  <a:pt x="21598" y="0"/>
                </a:moveTo>
                <a:cubicBezTo>
                  <a:pt x="21599" y="74"/>
                  <a:pt x="21600" y="149"/>
                  <a:pt x="21600" y="225"/>
                </a:cubicBezTo>
                <a:cubicBezTo>
                  <a:pt x="21600" y="12072"/>
                  <a:pt x="12057" y="21708"/>
                  <a:pt x="210" y="21823"/>
                </a:cubicBezTo>
              </a:path>
              <a:path stroke="0" w="21600" h="21824">
                <a:moveTo>
                  <a:pt x="21598" y="0"/>
                </a:moveTo>
                <a:cubicBezTo>
                  <a:pt x="21599" y="74"/>
                  <a:pt x="21600" y="149"/>
                  <a:pt x="21600" y="225"/>
                </a:cubicBezTo>
                <a:cubicBezTo>
                  <a:pt x="21600" y="12072"/>
                  <a:pt x="12057" y="21708"/>
                  <a:pt x="210" y="21823"/>
                </a:cubicBezTo>
                <a:lnTo>
                  <a:pt x="0" y="225"/>
                </a:lnTo>
                <a:close/>
              </a:path>
            </a:pathLst>
          </a:custGeom>
          <a:noFill/>
          <a:ln w="127080">
            <a:solidFill>
              <a:srgbClr val="cc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rc 27"/>
          <p:cNvSpPr/>
          <p:nvPr/>
        </p:nvSpPr>
        <p:spPr>
          <a:xfrm flipH="1" rot="10800000">
            <a:off x="4278960" y="3357360"/>
            <a:ext cx="4390920" cy="3160440"/>
          </a:xfrm>
          <a:custGeom>
            <a:avLst/>
            <a:gdLst>
              <a:gd name="textAreaLeft" fmla="*/ -360 w 4390920"/>
              <a:gd name="textAreaRight" fmla="*/ 4390920 w 4390920"/>
              <a:gd name="textAreaTop" fmla="*/ 0 h 3160440"/>
              <a:gd name="textAreaBottom" fmla="*/ 3160800 h 3160440"/>
            </a:gdLst>
            <a:ahLst/>
            <a:rect l="textAreaLeft" t="textAreaTop" r="textAreaRight" b="textAreaBottom"/>
            <a:pathLst>
              <a:path fill="none" w="21601" h="21600">
                <a:moveTo>
                  <a:pt x="0" y="0"/>
                </a:moveTo>
                <a:cubicBezTo>
                  <a:pt x="7" y="0"/>
                  <a:pt x="15" y="-1"/>
                  <a:pt x="23" y="0"/>
                </a:cubicBezTo>
                <a:cubicBezTo>
                  <a:pt x="11572" y="0"/>
                  <a:pt x="21079" y="9085"/>
                  <a:pt x="21600" y="20624"/>
                </a:cubicBezTo>
              </a:path>
              <a:path stroke="0" w="21601" h="21600">
                <a:moveTo>
                  <a:pt x="0" y="0"/>
                </a:moveTo>
                <a:cubicBezTo>
                  <a:pt x="7" y="0"/>
                  <a:pt x="15" y="-1"/>
                  <a:pt x="23" y="0"/>
                </a:cubicBezTo>
                <a:cubicBezTo>
                  <a:pt x="11572" y="0"/>
                  <a:pt x="21079" y="9085"/>
                  <a:pt x="21600" y="20624"/>
                </a:cubicBezTo>
                <a:lnTo>
                  <a:pt x="23" y="21600"/>
                </a:lnTo>
                <a:close/>
              </a:path>
            </a:pathLst>
          </a:custGeom>
          <a:noFill/>
          <a:ln w="127080">
            <a:solidFill>
              <a:srgbClr val="cc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84836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Отгадай  загад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>
            <a:hlinkClick r:id="" action="ppaction://hlinkshowjump?jump=nextslide"/>
          </p:cNvPr>
          <p:cNvSpPr/>
          <p:nvPr/>
        </p:nvSpPr>
        <p:spPr>
          <a:xfrm>
            <a:off x="1763640" y="1773360"/>
            <a:ext cx="4392720" cy="3889080"/>
          </a:xfrm>
          <a:custGeom>
            <a:avLst/>
            <a:gdLst>
              <a:gd name="textAreaLeft" fmla="*/ 252000 w 4392720"/>
              <a:gd name="textAreaRight" fmla="*/ 4140720 w 4392720"/>
              <a:gd name="textAreaTop" fmla="*/ 252000 h 3889080"/>
              <a:gd name="textAreaBottom" fmla="*/ 3637080 h 3889080"/>
            </a:gdLst>
            <a:ahLst/>
            <a:rect l="textAreaLeft" t="textAreaTop" r="textAreaRight" b="textAreaBottom"/>
            <a:pathLst>
              <a:path w="24397" h="21600">
                <a:moveTo>
                  <a:pt x="0" y="0"/>
                </a:moveTo>
                <a:lnTo>
                  <a:pt x="24397" y="0"/>
                </a:lnTo>
                <a:lnTo>
                  <a:pt x="24397" y="21600"/>
                </a:lnTo>
                <a:lnTo>
                  <a:pt x="0" y="21600"/>
                </a:lnTo>
                <a:close/>
              </a:path>
              <a:path fill="lightenLess" w="24397" h="21600">
                <a:moveTo>
                  <a:pt x="0" y="0"/>
                </a:moveTo>
                <a:lnTo>
                  <a:pt x="24397" y="0"/>
                </a:lnTo>
                <a:lnTo>
                  <a:pt x="22997" y="1400"/>
                </a:lnTo>
                <a:lnTo>
                  <a:pt x="1400" y="1400"/>
                </a:lnTo>
                <a:close/>
              </a:path>
              <a:path fill="darken" w="24397" h="21600">
                <a:moveTo>
                  <a:pt x="24397" y="0"/>
                </a:moveTo>
                <a:lnTo>
                  <a:pt x="24397" y="21600"/>
                </a:lnTo>
                <a:lnTo>
                  <a:pt x="22997" y="20200"/>
                </a:lnTo>
                <a:lnTo>
                  <a:pt x="22997" y="1400"/>
                </a:lnTo>
                <a:close/>
              </a:path>
              <a:path fill="darkenLess" w="24397" h="21600">
                <a:moveTo>
                  <a:pt x="243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7" y="20200"/>
                </a:lnTo>
                <a:close/>
              </a:path>
              <a:path fill="lighten" w="243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7" h="21600">
                <a:moveTo>
                  <a:pt x="1219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397" h="21600">
                <a:moveTo>
                  <a:pt x="13304" y="14281"/>
                </a:moveTo>
                <a:lnTo>
                  <a:pt x="13304" y="12323"/>
                </a:lnTo>
                <a:cubicBezTo>
                  <a:pt x="13304" y="11496"/>
                  <a:pt x="13635" y="10800"/>
                  <a:pt x="14235" y="10800"/>
                </a:cubicBezTo>
                <a:cubicBezTo>
                  <a:pt x="15367" y="10800"/>
                  <a:pt x="16263" y="9434"/>
                  <a:pt x="16263" y="7849"/>
                </a:cubicBezTo>
                <a:cubicBezTo>
                  <a:pt x="16263" y="5534"/>
                  <a:pt x="14409" y="3794"/>
                  <a:pt x="12198" y="3794"/>
                </a:cubicBezTo>
                <a:cubicBezTo>
                  <a:pt x="9988" y="3794"/>
                  <a:pt x="8317" y="5534"/>
                  <a:pt x="8317" y="7849"/>
                </a:cubicBezTo>
                <a:lnTo>
                  <a:pt x="10171" y="7849"/>
                </a:lnTo>
                <a:cubicBezTo>
                  <a:pt x="10171" y="6709"/>
                  <a:pt x="11093" y="5821"/>
                  <a:pt x="12198" y="5821"/>
                </a:cubicBezTo>
                <a:cubicBezTo>
                  <a:pt x="13304" y="5821"/>
                  <a:pt x="14235" y="6709"/>
                  <a:pt x="14235" y="7849"/>
                </a:cubicBezTo>
                <a:cubicBezTo>
                  <a:pt x="14235" y="8589"/>
                  <a:pt x="13765" y="9320"/>
                  <a:pt x="13304" y="9320"/>
                </a:cubicBezTo>
                <a:cubicBezTo>
                  <a:pt x="12198" y="9320"/>
                  <a:pt x="11093" y="10800"/>
                  <a:pt x="11093" y="12323"/>
                </a:cubicBezTo>
                <a:lnTo>
                  <a:pt x="11093" y="14281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l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олчанова  М.А.</dc:creator>
  <dc:description/>
  <dc:language>en-US</dc:language>
  <cp:lastModifiedBy>Зульфия</cp:lastModifiedBy>
  <dcterms:modified xsi:type="dcterms:W3CDTF">2013-03-25T05:26:53Z</dcterms:modified>
  <cp:revision>25</cp:revision>
  <dc:subject>русский  язык</dc:subject>
  <dc:title>PowerPoint Presentation</dc:title>
</cp:coreProperties>
</file>