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F97-2E0B-4608-AA81-CC163FD3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F81-6735-448E-B9A4-890A2513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D79-C42D-425E-B364-0B414773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9C5-CC3C-431E-83D3-0AC50893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5768-B2D5-406E-AB68-976CE1E3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4881-BC52-420C-983D-4CFDAD6A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FA88-EEA1-412E-ABA2-12E97D8E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DAB6-3A20-445C-AD81-B2DF126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B4D-951A-46A9-B45D-997DADE2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67FE-2E78-4002-8276-84141DB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50C7-5F71-45FC-9FD1-8B8A6035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E0A-95E4-42B5-AF32-F7C3DA19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1169-3FBC-42F4-965F-69AC052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BE9C-32CF-4A38-86B4-525F3590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97B-3085-4C3C-9E22-8ACA0855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995D-50F8-454C-BC7E-A0635D7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44B3-FE4E-40E5-A7DE-0367DA7D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65E462-CA8A-42DB-8A7B-60228537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F9C8F-A1C6-4505-AE9A-A46EA546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73B36A-1896-49F3-947B-496AE005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9BDDF-DA73-49C6-9CD8-7E245310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5ECFD-5D67-45A3-B2C4-5B5CCD9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802-BC07-4ABF-B7BF-051384A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BF382-4DC8-45FC-B5DB-8F96F04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27133-D89A-42FE-BB2F-6704CCDB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2E9A7-B784-4B1F-91C6-1D6DF43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EC652-4453-4AC4-B1BA-8A7A580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58F96-6E7E-434A-A68D-38855E7B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17E41-E5CE-47BA-BA2C-F2D491EF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82BC4-49FB-48C5-AAAC-9D7AE76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D8C-C317-41EA-AF9D-09DC751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B6C-2968-41E4-A38C-4846177B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0CE-1CB0-49A8-939D-2B2F6B9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515-C768-44A4-8CFD-62D2DFC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C2A-4474-4498-9839-0184E8E0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B3-E4B4-471F-9CCF-23E6BFD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b26b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4235-3A8F-461E-A5B2-EAB9B08B1E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9E7C-DD90-45BC-BD43-C12CAFB69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e3ded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b26b0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b26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26b0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b26b0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b26b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B0E2-F8F5-4A0E-9CDC-0AF582A08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57280" y="999720"/>
            <a:ext cx="59104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Урок  -исследование по русскому языку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79280" y="1700280"/>
            <a:ext cx="6249960" cy="25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Занимательная  орфограф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2 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1"/>
          <a:stretch/>
        </p:blipFill>
        <p:spPr>
          <a:xfrm>
            <a:off x="1706400" y="4327560"/>
            <a:ext cx="7102800" cy="1231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19191"/>
                </a:solidFill>
                <a:latin typeface="Arial"/>
              </a:rPr>
              <a:t>Ищу  рифм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60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сной 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ет целый  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ашечка, Паше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ый мой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рбарис, барб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вкусный, как 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AMERI007"/>
          <p:cNvPicPr/>
          <p:nvPr/>
        </p:nvPicPr>
        <p:blipFill>
          <a:blip r:embed="rId1"/>
          <a:stretch/>
        </p:blipFill>
        <p:spPr>
          <a:xfrm>
            <a:off x="6516720" y="4076640"/>
            <a:ext cx="2154240" cy="261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AMERI006"/>
          <p:cNvPicPr/>
          <p:nvPr/>
        </p:nvPicPr>
        <p:blipFill>
          <a:blip r:embed="rId2"/>
          <a:stretch/>
        </p:blipFill>
        <p:spPr>
          <a:xfrm>
            <a:off x="5940360" y="260280"/>
            <a:ext cx="2078280" cy="2448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3"/>
          <p:cNvSpPr/>
          <p:nvPr/>
        </p:nvSpPr>
        <p:spPr>
          <a:xfrm>
            <a:off x="6372360" y="3141720"/>
            <a:ext cx="2160360" cy="609480"/>
          </a:xfrm>
          <a:prstGeom prst="wedgeEllipseCallout">
            <a:avLst>
              <a:gd name="adj1" fmla="val -31189"/>
              <a:gd name="adj2" fmla="val -20989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шит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AMERI007"/>
          <p:cNvPicPr/>
          <p:nvPr/>
        </p:nvPicPr>
        <p:blipFill>
          <a:blip r:embed="rId1"/>
          <a:stretch/>
        </p:blipFill>
        <p:spPr>
          <a:xfrm flipH="1">
            <a:off x="1187280" y="2708280"/>
            <a:ext cx="359568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AMERI006"/>
          <p:cNvPicPr/>
          <p:nvPr/>
        </p:nvPicPr>
        <p:blipFill>
          <a:blip r:embed="rId2"/>
          <a:stretch/>
        </p:blipFill>
        <p:spPr>
          <a:xfrm>
            <a:off x="5076720" y="2852640"/>
            <a:ext cx="3435480" cy="36576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0"/>
          <p:cNvSpPr/>
          <p:nvPr/>
        </p:nvSpPr>
        <p:spPr>
          <a:xfrm>
            <a:off x="179280" y="765000"/>
            <a:ext cx="3816360" cy="1800360"/>
          </a:xfrm>
          <a:prstGeom prst="wedgeEllipseCallout">
            <a:avLst>
              <a:gd name="adj1" fmla="val 16513"/>
              <a:gd name="adj2" fmla="val 8386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т  и  подошёл  к  концу  наш  сладкий  уро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4140360" y="1052640"/>
            <a:ext cx="4248000" cy="1728720"/>
          </a:xfrm>
          <a:prstGeom prst="wedgeEllipseCallout">
            <a:avLst>
              <a:gd name="adj1" fmla="val 11060"/>
              <a:gd name="adj2" fmla="val 8223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,  ребята!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 новых  встреч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0">
    <p:newsflash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сылки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нтики от конф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320840" y="220500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00igr.net›kartinki/pedagogika/UMK…UMK…SHKOLNIKA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042920" y="2708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proshkolu.ru›gofile/94936-a38240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AMERI006"/>
          <p:cNvPicPr/>
          <p:nvPr/>
        </p:nvPicPr>
        <p:blipFill>
          <a:blip r:embed="rId1"/>
          <a:stretch/>
        </p:blipFill>
        <p:spPr>
          <a:xfrm>
            <a:off x="6334200" y="836640"/>
            <a:ext cx="2809800" cy="27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AMERI007"/>
          <p:cNvPicPr/>
          <p:nvPr/>
        </p:nvPicPr>
        <p:blipFill>
          <a:blip r:embed="rId2"/>
          <a:stretch/>
        </p:blipFill>
        <p:spPr>
          <a:xfrm>
            <a:off x="6335640" y="3500280"/>
            <a:ext cx="2808360" cy="27212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0"/>
          <p:cNvSpPr/>
          <p:nvPr/>
        </p:nvSpPr>
        <p:spPr>
          <a:xfrm>
            <a:off x="1692360" y="476280"/>
            <a:ext cx="4392360" cy="2016000"/>
          </a:xfrm>
          <a:prstGeom prst="wedgeEllipseCallout">
            <a:avLst>
              <a:gd name="adj1" fmla="val 63518"/>
              <a:gd name="adj2" fmla="val 5330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вет,  друзья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-  Ми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 очень люблю  русский  язы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1258920" y="2781360"/>
            <a:ext cx="4824360" cy="2592360"/>
          </a:xfrm>
          <a:prstGeom prst="wedgeEllipseCallout">
            <a:avLst>
              <a:gd name="adj1" fmla="val 62800"/>
              <a:gd name="adj2" fmla="val 4620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дравствуйте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 -  Маша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 хотим,  чтобы  вы  тоже  любили  и  знали  русский  язык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cc"/>
                </a:solidFill>
                <a:latin typeface="Monotype Corsiva"/>
              </a:rPr>
              <a:t>Минутка 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734364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MERI007"/>
          <p:cNvPicPr/>
          <p:nvPr/>
        </p:nvPicPr>
        <p:blipFill>
          <a:blip r:embed="rId1"/>
          <a:stretch/>
        </p:blipFill>
        <p:spPr>
          <a:xfrm>
            <a:off x="5862600" y="2217600"/>
            <a:ext cx="2710080" cy="22543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0"/>
          <p:cNvSpPr/>
          <p:nvPr/>
        </p:nvSpPr>
        <p:spPr>
          <a:xfrm>
            <a:off x="826920" y="1341360"/>
            <a:ext cx="4873680" cy="2232000"/>
          </a:xfrm>
          <a:prstGeom prst="wedgeEllipseCallout">
            <a:avLst>
              <a:gd name="adj1" fmla="val 59087"/>
              <a:gd name="adj2" fmla="val 3577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Ребята, я предлагаю включить в чистописание элементы буквы «К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AMERI006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762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2"/>
          <p:cNvSpPr/>
          <p:nvPr/>
        </p:nvSpPr>
        <p:spPr>
          <a:xfrm>
            <a:off x="1835280" y="3716280"/>
            <a:ext cx="4248000" cy="2521080"/>
          </a:xfrm>
          <a:prstGeom prst="wedgeEllipseCallout">
            <a:avLst>
              <a:gd name="adj1" fmla="val 72907"/>
              <a:gd name="adj2" fmla="val 3381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Я, кажется, понял. Урок сегодня будет не простой, а конфетный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&amp;Fcy;&amp;acy;&amp;ncy;&amp;tcy;&amp;icy;&amp;kcy;&amp;icy; &amp;ocy;&amp;tcy; &amp;kcy;&amp;ocy;&amp;ncy;&amp;fcy;&amp;iecy;&amp;tcy;"/>
          <p:cNvPicPr/>
          <p:nvPr/>
        </p:nvPicPr>
        <p:blipFill>
          <a:blip r:embed="rId1"/>
          <a:stretch/>
        </p:blipFill>
        <p:spPr>
          <a:xfrm>
            <a:off x="149400" y="857160"/>
            <a:ext cx="419076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&amp;Fcy;&amp;acy;&amp;ncy;&amp;tcy;&amp;icy;&amp;kcy;&amp;icy; &amp;ocy;&amp;tcy; &amp;kcy;&amp;ocy;&amp;ncy;&amp;fcy;&amp;iecy;&amp;tcy;"/>
          <p:cNvPicPr/>
          <p:nvPr/>
        </p:nvPicPr>
        <p:blipFill>
          <a:blip r:embed="rId2"/>
          <a:stretch/>
        </p:blipFill>
        <p:spPr>
          <a:xfrm>
            <a:off x="4429080" y="357120"/>
            <a:ext cx="4191120" cy="4762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im4-tub-ru.yandex.net/i?id=268823949-64-72&amp;n=21"/>
          <p:cNvPicPr/>
          <p:nvPr/>
        </p:nvPicPr>
        <p:blipFill>
          <a:blip r:embed="rId1"/>
          <a:stretch/>
        </p:blipFill>
        <p:spPr>
          <a:xfrm>
            <a:off x="214200" y="428760"/>
            <a:ext cx="2357640" cy="13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://im8-tub-ru.yandex.net/i?id=355719573-43-72&amp;n=21"/>
          <p:cNvPicPr/>
          <p:nvPr/>
        </p:nvPicPr>
        <p:blipFill>
          <a:blip r:embed="rId2"/>
          <a:stretch/>
        </p:blipFill>
        <p:spPr>
          <a:xfrm>
            <a:off x="357120" y="3929040"/>
            <a:ext cx="2086200" cy="2428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im8-tub-ru.yandex.net/i?id=372336264-57-72&amp;n=21"/>
          <p:cNvPicPr/>
          <p:nvPr/>
        </p:nvPicPr>
        <p:blipFill>
          <a:blip r:embed="rId3"/>
          <a:stretch/>
        </p:blipFill>
        <p:spPr>
          <a:xfrm>
            <a:off x="6858000" y="142920"/>
            <a:ext cx="2048040" cy="1857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im5-tub-ru.yandex.net/i?id=376221153-55-72&amp;n=21"/>
          <p:cNvPicPr/>
          <p:nvPr/>
        </p:nvPicPr>
        <p:blipFill>
          <a:blip r:embed="rId4"/>
          <a:stretch/>
        </p:blipFill>
        <p:spPr>
          <a:xfrm>
            <a:off x="3000240" y="1428840"/>
            <a:ext cx="31435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im0-tub-ru.yandex.net/i?id=317598240-39-72&amp;n=21"/>
          <p:cNvPicPr/>
          <p:nvPr/>
        </p:nvPicPr>
        <p:blipFill>
          <a:blip r:embed="rId5"/>
          <a:stretch/>
        </p:blipFill>
        <p:spPr>
          <a:xfrm>
            <a:off x="6143760" y="4357800"/>
            <a:ext cx="1752480" cy="1428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324000" y="1052640"/>
            <a:ext cx="7561080" cy="2663640"/>
          </a:xfrm>
          <a:prstGeom prst="wedgeEllipseCallout">
            <a:avLst>
              <a:gd name="adj1" fmla="val 34800"/>
              <a:gd name="adj2" fmla="val 10655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ята, мы хорошо поработал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теперь настало время немного отдохнуть. Я вам приготовил новую физминутк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AMERI006"/>
          <p:cNvPicPr/>
          <p:nvPr/>
        </p:nvPicPr>
        <p:blipFill>
          <a:blip r:embed="rId1"/>
          <a:stretch/>
        </p:blipFill>
        <p:spPr>
          <a:xfrm>
            <a:off x="6300720" y="4365720"/>
            <a:ext cx="2484360" cy="227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049040" y="14716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4429080" y="260280"/>
            <a:ext cx="216000" cy="3052800"/>
            <a:chOff x="4429080" y="260280"/>
            <a:chExt cx="216000" cy="3052800"/>
          </a:xfrm>
        </p:grpSpPr>
        <p:sp>
          <p:nvSpPr>
            <p:cNvPr id="161" name="AutoShape 3"/>
            <p:cNvSpPr/>
            <p:nvPr/>
          </p:nvSpPr>
          <p:spPr>
            <a:xfrm>
              <a:off x="4429080" y="1787400"/>
              <a:ext cx="216000" cy="1525680"/>
            </a:xfrm>
            <a:prstGeom prst="upArrow">
              <a:avLst>
                <a:gd name="adj1" fmla="val 50000"/>
                <a:gd name="adj2" fmla="val 17658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4"/>
            <p:cNvSpPr/>
            <p:nvPr/>
          </p:nvSpPr>
          <p:spPr>
            <a:xfrm>
              <a:off x="4429080" y="260280"/>
              <a:ext cx="216000" cy="1527120"/>
            </a:xfrm>
            <a:prstGeom prst="upArrow">
              <a:avLst>
                <a:gd name="adj1" fmla="val 50000"/>
                <a:gd name="adj2" fmla="val 17675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4429080" y="3400200"/>
            <a:ext cx="216000" cy="3052800"/>
            <a:chOff x="4429080" y="3400200"/>
            <a:chExt cx="216000" cy="3052800"/>
          </a:xfrm>
        </p:grpSpPr>
        <p:sp>
          <p:nvSpPr>
            <p:cNvPr id="164" name="AutoShape 6"/>
            <p:cNvSpPr/>
            <p:nvPr/>
          </p:nvSpPr>
          <p:spPr>
            <a:xfrm flipV="1">
              <a:off x="4429080" y="3399840"/>
              <a:ext cx="216000" cy="1525320"/>
            </a:xfrm>
            <a:prstGeom prst="upArrow">
              <a:avLst>
                <a:gd name="adj1" fmla="val 50000"/>
                <a:gd name="adj2" fmla="val 17654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7"/>
            <p:cNvSpPr/>
            <p:nvPr/>
          </p:nvSpPr>
          <p:spPr>
            <a:xfrm flipV="1">
              <a:off x="4429080" y="4925160"/>
              <a:ext cx="216000" cy="1527480"/>
            </a:xfrm>
            <a:prstGeom prst="upArrow">
              <a:avLst>
                <a:gd name="adj1" fmla="val 50000"/>
                <a:gd name="adj2" fmla="val 17679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8"/>
          <p:cNvGrpSpPr/>
          <p:nvPr/>
        </p:nvGrpSpPr>
        <p:grpSpPr>
          <a:xfrm>
            <a:off x="4572000" y="3227400"/>
            <a:ext cx="3887640" cy="254160"/>
            <a:chOff x="4572000" y="3227400"/>
            <a:chExt cx="3887640" cy="254160"/>
          </a:xfrm>
        </p:grpSpPr>
        <p:sp>
          <p:nvSpPr>
            <p:cNvPr id="167" name="AutoShape 9"/>
            <p:cNvSpPr/>
            <p:nvPr/>
          </p:nvSpPr>
          <p:spPr>
            <a:xfrm rot="5400000">
              <a:off x="509256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 rot="5400000">
              <a:off x="638964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 rot="5400000">
              <a:off x="768492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612720" y="3227400"/>
            <a:ext cx="3887280" cy="254160"/>
            <a:chOff x="612720" y="3227400"/>
            <a:chExt cx="3887280" cy="254160"/>
          </a:xfrm>
        </p:grpSpPr>
        <p:sp>
          <p:nvSpPr>
            <p:cNvPr id="171" name="AutoShape 13"/>
            <p:cNvSpPr/>
            <p:nvPr/>
          </p:nvSpPr>
          <p:spPr>
            <a:xfrm flipH="1" rot="16200000">
              <a:off x="372456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14"/>
            <p:cNvSpPr/>
            <p:nvPr/>
          </p:nvSpPr>
          <p:spPr>
            <a:xfrm flipH="1" rot="16200000">
              <a:off x="242748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 flipH="1" rot="16200000">
              <a:off x="113328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16"/>
          <p:cNvSpPr/>
          <p:nvPr/>
        </p:nvSpPr>
        <p:spPr>
          <a:xfrm>
            <a:off x="442908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 flipH="1" flipV="1">
            <a:off x="421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 flipH="1">
            <a:off x="248436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 flipV="1">
            <a:off x="277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20"/>
          <p:cNvSpPr/>
          <p:nvPr/>
        </p:nvSpPr>
        <p:spPr>
          <a:xfrm rot="10800000">
            <a:off x="1620360" y="3431880"/>
            <a:ext cx="2808360" cy="19429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fill="none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</a:path>
              <a:path stroke="0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  <a:lnTo>
                  <a:pt x="0" y="21582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21"/>
          <p:cNvSpPr/>
          <p:nvPr/>
        </p:nvSpPr>
        <p:spPr>
          <a:xfrm rot="10800000">
            <a:off x="4356000" y="3429000"/>
            <a:ext cx="3100320" cy="19447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</a:path>
              <a:path stroke="0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  <a:lnTo>
                  <a:pt x="21600" y="2160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22"/>
          <p:cNvSpPr/>
          <p:nvPr/>
        </p:nvSpPr>
        <p:spPr>
          <a:xfrm rot="10800000">
            <a:off x="4394160" y="1412640"/>
            <a:ext cx="3062160" cy="1944720"/>
          </a:xfrm>
          <a:custGeom>
            <a:avLst/>
            <a:gdLst>
              <a:gd name="textAreaLeft" fmla="*/ 0 w 3062160"/>
              <a:gd name="textAreaRight" fmla="*/ 3062520 w 30621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</a:path>
              <a:path stroke="0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  <a:lnTo>
                  <a:pt x="21592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23"/>
          <p:cNvSpPr/>
          <p:nvPr/>
        </p:nvSpPr>
        <p:spPr>
          <a:xfrm rot="10800000">
            <a:off x="1618920" y="141264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</a:path>
              <a:path stroke="0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  <a:lnTo>
                  <a:pt x="0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24"/>
          <p:cNvSpPr/>
          <p:nvPr/>
        </p:nvSpPr>
        <p:spPr>
          <a:xfrm flipH="1" rot="10800000">
            <a:off x="396720" y="3430440"/>
            <a:ext cx="4391280" cy="312912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29120"/>
              <a:gd name="textAreaBottom" fmla="*/ 3129480 h 3129120"/>
            </a:gdLst>
            <a:ahLst/>
            <a:rect l="textAreaLeft" t="textAreaTop" r="textAreaRight" b="textAreaBottom"/>
            <a:pathLst>
              <a:path fill="none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</a:path>
              <a:path stroke="0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  <a:lnTo>
                  <a:pt x="21600" y="21393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rc 25"/>
          <p:cNvSpPr/>
          <p:nvPr/>
        </p:nvSpPr>
        <p:spPr>
          <a:xfrm flipH="1" rot="10800000">
            <a:off x="394200" y="222120"/>
            <a:ext cx="4390920" cy="313560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35600"/>
              <a:gd name="textAreaBottom" fmla="*/ 3135960 h 3135600"/>
            </a:gdLst>
            <a:ahLst/>
            <a:rect l="textAreaLeft" t="textAreaTop" r="textAreaRight" b="textAreaBottom"/>
            <a:pathLst>
              <a:path fill="none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</a:path>
              <a:path stroke="0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  <a:lnTo>
                  <a:pt x="21599" y="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26"/>
          <p:cNvSpPr/>
          <p:nvPr/>
        </p:nvSpPr>
        <p:spPr>
          <a:xfrm flipH="1" rot="10800000">
            <a:off x="4282920" y="189000"/>
            <a:ext cx="4391280" cy="319248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fill="none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</a:path>
              <a:path stroke="0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  <a:lnTo>
                  <a:pt x="0" y="225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rc 27"/>
          <p:cNvSpPr/>
          <p:nvPr/>
        </p:nvSpPr>
        <p:spPr>
          <a:xfrm flipH="1" rot="10800000">
            <a:off x="4278960" y="3357360"/>
            <a:ext cx="4390920" cy="316044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60440"/>
              <a:gd name="textAreaBottom" fmla="*/ 3160800 h 3160440"/>
            </a:gdLst>
            <a:ahLst/>
            <a:rect l="textAreaLeft" t="textAreaTop" r="textAreaRight" b="textAreaBottom"/>
            <a:pathLst>
              <a:path fill="none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</a:path>
              <a:path stroke="0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  <a:lnTo>
                  <a:pt x="23" y="2160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4429080" y="260280"/>
            <a:ext cx="216000" cy="3052800"/>
            <a:chOff x="4429080" y="260280"/>
            <a:chExt cx="216000" cy="3052800"/>
          </a:xfrm>
        </p:grpSpPr>
        <p:sp>
          <p:nvSpPr>
            <p:cNvPr id="187" name="AutoShape 3"/>
            <p:cNvSpPr/>
            <p:nvPr/>
          </p:nvSpPr>
          <p:spPr>
            <a:xfrm>
              <a:off x="4429080" y="1787400"/>
              <a:ext cx="216000" cy="1525680"/>
            </a:xfrm>
            <a:prstGeom prst="upArrow">
              <a:avLst>
                <a:gd name="adj1" fmla="val 50000"/>
                <a:gd name="adj2" fmla="val 17658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4429080" y="260280"/>
              <a:ext cx="216000" cy="1527120"/>
            </a:xfrm>
            <a:prstGeom prst="upArrow">
              <a:avLst>
                <a:gd name="adj1" fmla="val 50000"/>
                <a:gd name="adj2" fmla="val 17675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4429080" y="3400200"/>
            <a:ext cx="216000" cy="3052800"/>
            <a:chOff x="4429080" y="3400200"/>
            <a:chExt cx="216000" cy="3052800"/>
          </a:xfrm>
        </p:grpSpPr>
        <p:sp>
          <p:nvSpPr>
            <p:cNvPr id="190" name="AutoShape 6"/>
            <p:cNvSpPr/>
            <p:nvPr/>
          </p:nvSpPr>
          <p:spPr>
            <a:xfrm flipV="1">
              <a:off x="4429080" y="3399840"/>
              <a:ext cx="216000" cy="1525320"/>
            </a:xfrm>
            <a:prstGeom prst="upArrow">
              <a:avLst>
                <a:gd name="adj1" fmla="val 50000"/>
                <a:gd name="adj2" fmla="val 17654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 flipV="1">
              <a:off x="4429080" y="4925160"/>
              <a:ext cx="216000" cy="1527480"/>
            </a:xfrm>
            <a:prstGeom prst="upArrow">
              <a:avLst>
                <a:gd name="adj1" fmla="val 50000"/>
                <a:gd name="adj2" fmla="val 17679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8"/>
          <p:cNvGrpSpPr/>
          <p:nvPr/>
        </p:nvGrpSpPr>
        <p:grpSpPr>
          <a:xfrm>
            <a:off x="4572000" y="3227400"/>
            <a:ext cx="3887640" cy="254160"/>
            <a:chOff x="4572000" y="3227400"/>
            <a:chExt cx="3887640" cy="254160"/>
          </a:xfrm>
        </p:grpSpPr>
        <p:sp>
          <p:nvSpPr>
            <p:cNvPr id="193" name="AutoShape 9"/>
            <p:cNvSpPr/>
            <p:nvPr/>
          </p:nvSpPr>
          <p:spPr>
            <a:xfrm rot="5400000">
              <a:off x="509256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 rot="5400000">
              <a:off x="638964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1"/>
            <p:cNvSpPr/>
            <p:nvPr/>
          </p:nvSpPr>
          <p:spPr>
            <a:xfrm rot="5400000">
              <a:off x="768492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2"/>
          <p:cNvGrpSpPr/>
          <p:nvPr/>
        </p:nvGrpSpPr>
        <p:grpSpPr>
          <a:xfrm>
            <a:off x="612720" y="3227400"/>
            <a:ext cx="3887280" cy="254160"/>
            <a:chOff x="612720" y="3227400"/>
            <a:chExt cx="3887280" cy="254160"/>
          </a:xfrm>
        </p:grpSpPr>
        <p:sp>
          <p:nvSpPr>
            <p:cNvPr id="197" name="AutoShape 13"/>
            <p:cNvSpPr/>
            <p:nvPr/>
          </p:nvSpPr>
          <p:spPr>
            <a:xfrm flipH="1" rot="16200000">
              <a:off x="372456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14"/>
            <p:cNvSpPr/>
            <p:nvPr/>
          </p:nvSpPr>
          <p:spPr>
            <a:xfrm flipH="1" rot="16200000">
              <a:off x="2427480" y="2706480"/>
              <a:ext cx="254160" cy="1295640"/>
            </a:xfrm>
            <a:prstGeom prst="upArrow">
              <a:avLst>
                <a:gd name="adj1" fmla="val 50000"/>
                <a:gd name="adj2" fmla="val 12744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15"/>
            <p:cNvSpPr/>
            <p:nvPr/>
          </p:nvSpPr>
          <p:spPr>
            <a:xfrm flipH="1" rot="16200000">
              <a:off x="1133280" y="2706840"/>
              <a:ext cx="254160" cy="1295280"/>
            </a:xfrm>
            <a:prstGeom prst="upArrow">
              <a:avLst>
                <a:gd name="adj1" fmla="val 50000"/>
                <a:gd name="adj2" fmla="val 12740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AutoShape 16"/>
          <p:cNvSpPr/>
          <p:nvPr/>
        </p:nvSpPr>
        <p:spPr>
          <a:xfrm>
            <a:off x="442908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 flipH="1" flipV="1">
            <a:off x="421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flipH="1">
            <a:off x="2484360" y="2492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 flipV="1">
            <a:off x="2771640" y="3428280"/>
            <a:ext cx="2160720" cy="863640"/>
          </a:xfrm>
          <a:custGeom>
            <a:avLst/>
            <a:gdLst>
              <a:gd name="textAreaLeft" fmla="*/ 433080 w 2160720"/>
              <a:gd name="textAreaRight" fmla="*/ 1511640 w 2160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2" y="0"/>
                </a:lnTo>
                <a:arcTo wR="8659" hR="21600" stAng="-5400000" swAng="2915272"/>
                <a:lnTo>
                  <a:pt x="21105" y="14400"/>
                </a:lnTo>
                <a:lnTo>
                  <a:pt x="18379" y="21600"/>
                </a:lnTo>
                <a:lnTo>
                  <a:pt x="14662" y="14400"/>
                </a:lnTo>
                <a:lnTo>
                  <a:pt x="16822" y="14400"/>
                </a:lnTo>
                <a:arcTo wR="8659" hR="21600" stAng="-2484728" swAng="-2745184"/>
                <a:lnTo>
                  <a:pt x="9720" y="163"/>
                </a:lnTo>
                <a:arcTo wR="8659" hR="21600" stAng="-5570088" swAng="-5229912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88"/>
                <a:lnTo>
                  <a:pt x="9720" y="163"/>
                </a:lnTo>
                <a:arcTo wR="8659" hR="21600" stAng="-5570088" swAng="-5229912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rc 20"/>
          <p:cNvSpPr/>
          <p:nvPr/>
        </p:nvSpPr>
        <p:spPr>
          <a:xfrm rot="10800000">
            <a:off x="1620360" y="3431880"/>
            <a:ext cx="2808360" cy="19429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fill="none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</a:path>
              <a:path stroke="0" w="21600" h="21582">
                <a:moveTo>
                  <a:pt x="885" y="0"/>
                </a:moveTo>
                <a:cubicBezTo>
                  <a:pt x="12460" y="475"/>
                  <a:pt x="21600" y="9997"/>
                  <a:pt x="21600" y="21582"/>
                </a:cubicBezTo>
                <a:lnTo>
                  <a:pt x="0" y="21582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rc 21"/>
          <p:cNvSpPr/>
          <p:nvPr/>
        </p:nvSpPr>
        <p:spPr>
          <a:xfrm rot="10800000">
            <a:off x="4356000" y="3429000"/>
            <a:ext cx="3100320" cy="19447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</a:path>
              <a:path stroke="0" w="23847" h="21600">
                <a:moveTo>
                  <a:pt x="0" y="21530"/>
                </a:moveTo>
                <a:cubicBezTo>
                  <a:pt x="38" y="9628"/>
                  <a:pt x="9697" y="-1"/>
                  <a:pt x="21600" y="0"/>
                </a:cubicBezTo>
                <a:cubicBezTo>
                  <a:pt x="22350" y="0"/>
                  <a:pt x="23100" y="39"/>
                  <a:pt x="23846" y="117"/>
                </a:cubicBezTo>
                <a:lnTo>
                  <a:pt x="21600" y="2160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rc 22"/>
          <p:cNvSpPr/>
          <p:nvPr/>
        </p:nvSpPr>
        <p:spPr>
          <a:xfrm rot="10800000">
            <a:off x="4394160" y="1412640"/>
            <a:ext cx="3062160" cy="1944720"/>
          </a:xfrm>
          <a:custGeom>
            <a:avLst/>
            <a:gdLst>
              <a:gd name="textAreaLeft" fmla="*/ 0 w 3062160"/>
              <a:gd name="textAreaRight" fmla="*/ 3062520 w 30621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</a:path>
              <a:path stroke="0" w="23557" h="21600">
                <a:moveTo>
                  <a:pt x="23557" y="21510"/>
                </a:moveTo>
                <a:cubicBezTo>
                  <a:pt x="22903" y="21570"/>
                  <a:pt x="22248" y="21599"/>
                  <a:pt x="21592" y="21600"/>
                </a:cubicBezTo>
                <a:cubicBezTo>
                  <a:pt x="9893" y="21600"/>
                  <a:pt x="321" y="12287"/>
                  <a:pt x="0" y="593"/>
                </a:cubicBezTo>
                <a:lnTo>
                  <a:pt x="21592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rc 23"/>
          <p:cNvSpPr/>
          <p:nvPr/>
        </p:nvSpPr>
        <p:spPr>
          <a:xfrm rot="10800000">
            <a:off x="1618920" y="141264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</a:path>
              <a:path stroke="0" w="21600" h="21600">
                <a:moveTo>
                  <a:pt x="21599" y="60"/>
                </a:moveTo>
                <a:cubicBezTo>
                  <a:pt x="21566" y="11913"/>
                  <a:pt x="11988" y="21524"/>
                  <a:pt x="135" y="21599"/>
                </a:cubicBezTo>
                <a:lnTo>
                  <a:pt x="0" y="0"/>
                </a:lnTo>
                <a:close/>
              </a:path>
            </a:pathLst>
          </a:custGeom>
          <a:noFill/>
          <a:ln w="12708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rc 24"/>
          <p:cNvSpPr/>
          <p:nvPr/>
        </p:nvSpPr>
        <p:spPr>
          <a:xfrm flipH="1" rot="10800000">
            <a:off x="396720" y="3430440"/>
            <a:ext cx="4391280" cy="312912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29120"/>
              <a:gd name="textAreaBottom" fmla="*/ 3129480 h 3129120"/>
            </a:gdLst>
            <a:ahLst/>
            <a:rect l="textAreaLeft" t="textAreaTop" r="textAreaRight" b="textAreaBottom"/>
            <a:pathLst>
              <a:path fill="none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</a:path>
              <a:path stroke="0" w="21600" h="21393">
                <a:moveTo>
                  <a:pt x="0" y="21323"/>
                </a:moveTo>
                <a:cubicBezTo>
                  <a:pt x="34" y="10572"/>
                  <a:pt x="7969" y="1484"/>
                  <a:pt x="18616" y="-1"/>
                </a:cubicBezTo>
                <a:lnTo>
                  <a:pt x="21600" y="21393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rc 25"/>
          <p:cNvSpPr/>
          <p:nvPr/>
        </p:nvSpPr>
        <p:spPr>
          <a:xfrm flipH="1" rot="10800000">
            <a:off x="394200" y="222120"/>
            <a:ext cx="4390920" cy="313560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35600"/>
              <a:gd name="textAreaBottom" fmla="*/ 3135960 h 3135600"/>
            </a:gdLst>
            <a:ahLst/>
            <a:rect l="textAreaLeft" t="textAreaTop" r="textAreaRight" b="textAreaBottom"/>
            <a:pathLst>
              <a:path fill="none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</a:path>
              <a:path stroke="0" w="21599" h="21432">
                <a:moveTo>
                  <a:pt x="18909" y="21431"/>
                </a:moveTo>
                <a:cubicBezTo>
                  <a:pt x="8184" y="20085"/>
                  <a:pt x="106" y="11020"/>
                  <a:pt x="0" y="211"/>
                </a:cubicBezTo>
                <a:lnTo>
                  <a:pt x="21599" y="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rc 26"/>
          <p:cNvSpPr/>
          <p:nvPr/>
        </p:nvSpPr>
        <p:spPr>
          <a:xfrm flipH="1" rot="10800000">
            <a:off x="4282920" y="189000"/>
            <a:ext cx="4391280" cy="3192480"/>
          </a:xfrm>
          <a:custGeom>
            <a:avLst/>
            <a:gdLst>
              <a:gd name="textAreaLeft" fmla="*/ 360 w 4391280"/>
              <a:gd name="textAreaRight" fmla="*/ 4392000 w 43912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fill="none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</a:path>
              <a:path stroke="0" w="21600" h="21824">
                <a:moveTo>
                  <a:pt x="21598" y="0"/>
                </a:moveTo>
                <a:cubicBezTo>
                  <a:pt x="21599" y="74"/>
                  <a:pt x="21600" y="149"/>
                  <a:pt x="21600" y="225"/>
                </a:cubicBezTo>
                <a:cubicBezTo>
                  <a:pt x="21600" y="12072"/>
                  <a:pt x="12057" y="21708"/>
                  <a:pt x="210" y="21823"/>
                </a:cubicBezTo>
                <a:lnTo>
                  <a:pt x="0" y="225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rc 27"/>
          <p:cNvSpPr/>
          <p:nvPr/>
        </p:nvSpPr>
        <p:spPr>
          <a:xfrm flipH="1" rot="10800000">
            <a:off x="4278960" y="3357360"/>
            <a:ext cx="4390920" cy="3160440"/>
          </a:xfrm>
          <a:custGeom>
            <a:avLst/>
            <a:gdLst>
              <a:gd name="textAreaLeft" fmla="*/ -360 w 4390920"/>
              <a:gd name="textAreaRight" fmla="*/ 4390920 w 4390920"/>
              <a:gd name="textAreaTop" fmla="*/ 0 h 3160440"/>
              <a:gd name="textAreaBottom" fmla="*/ 3160800 h 3160440"/>
            </a:gdLst>
            <a:ahLst/>
            <a:rect l="textAreaLeft" t="textAreaTop" r="textAreaRight" b="textAreaBottom"/>
            <a:pathLst>
              <a:path fill="none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</a:path>
              <a:path stroke="0" w="21601" h="21600">
                <a:moveTo>
                  <a:pt x="0" y="0"/>
                </a:moveTo>
                <a:cubicBezTo>
                  <a:pt x="7" y="0"/>
                  <a:pt x="15" y="-1"/>
                  <a:pt x="23" y="0"/>
                </a:cubicBezTo>
                <a:cubicBezTo>
                  <a:pt x="11572" y="0"/>
                  <a:pt x="21079" y="9085"/>
                  <a:pt x="21600" y="20624"/>
                </a:cubicBezTo>
                <a:lnTo>
                  <a:pt x="23" y="21600"/>
                </a:lnTo>
                <a:close/>
              </a:path>
            </a:pathLst>
          </a:custGeom>
          <a:noFill/>
          <a:ln w="127080">
            <a:solidFill>
              <a:srgbClr val="cc00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848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Отгадай  загад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>
            <a:hlinkClick r:id="" action="ppaction://hlinkshowjump?jump=nextslide"/>
          </p:cNvPr>
          <p:cNvSpPr/>
          <p:nvPr/>
        </p:nvSpPr>
        <p:spPr>
          <a:xfrm>
            <a:off x="1763640" y="1773360"/>
            <a:ext cx="4392720" cy="3889080"/>
          </a:xfrm>
          <a:custGeom>
            <a:avLst/>
            <a:gdLst>
              <a:gd name="textAreaLeft" fmla="*/ 252000 w 4392720"/>
              <a:gd name="textAreaRight" fmla="*/ 4140720 w 4392720"/>
              <a:gd name="textAreaTop" fmla="*/ 252000 h 3889080"/>
              <a:gd name="textAreaBottom" fmla="*/ 3637080 h 3889080"/>
            </a:gdLst>
            <a:ahLst/>
            <a:rect l="textAreaLeft" t="textAreaTop" r="textAreaRight" b="textAreaBottom"/>
            <a:pathLst>
              <a:path w="24397" h="21600">
                <a:moveTo>
                  <a:pt x="0" y="0"/>
                </a:moveTo>
                <a:lnTo>
                  <a:pt x="24397" y="0"/>
                </a:lnTo>
                <a:lnTo>
                  <a:pt x="24397" y="21600"/>
                </a:lnTo>
                <a:lnTo>
                  <a:pt x="0" y="21600"/>
                </a:lnTo>
                <a:close/>
              </a:path>
              <a:path fill="lightenLess" w="24397" h="21600">
                <a:moveTo>
                  <a:pt x="0" y="0"/>
                </a:moveTo>
                <a:lnTo>
                  <a:pt x="24397" y="0"/>
                </a:lnTo>
                <a:lnTo>
                  <a:pt x="22997" y="1400"/>
                </a:lnTo>
                <a:lnTo>
                  <a:pt x="1400" y="1400"/>
                </a:lnTo>
                <a:close/>
              </a:path>
              <a:path fill="darken" w="24397" h="21600">
                <a:moveTo>
                  <a:pt x="24397" y="0"/>
                </a:moveTo>
                <a:lnTo>
                  <a:pt x="24397" y="21600"/>
                </a:lnTo>
                <a:lnTo>
                  <a:pt x="22997" y="20200"/>
                </a:lnTo>
                <a:lnTo>
                  <a:pt x="22997" y="1400"/>
                </a:lnTo>
                <a:close/>
              </a:path>
              <a:path fill="darkenLess" w="24397" h="21600">
                <a:moveTo>
                  <a:pt x="24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97" y="20200"/>
                </a:lnTo>
                <a:close/>
              </a:path>
              <a:path fill="lighten" w="24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97" h="21600">
                <a:moveTo>
                  <a:pt x="12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397" h="21600">
                <a:moveTo>
                  <a:pt x="13304" y="14281"/>
                </a:moveTo>
                <a:lnTo>
                  <a:pt x="13304" y="12323"/>
                </a:lnTo>
                <a:cubicBezTo>
                  <a:pt x="13304" y="11496"/>
                  <a:pt x="13635" y="10800"/>
                  <a:pt x="14235" y="10800"/>
                </a:cubicBezTo>
                <a:cubicBezTo>
                  <a:pt x="15367" y="10800"/>
                  <a:pt x="16263" y="9434"/>
                  <a:pt x="16263" y="7849"/>
                </a:cubicBezTo>
                <a:cubicBezTo>
                  <a:pt x="16263" y="5534"/>
                  <a:pt x="14409" y="3794"/>
                  <a:pt x="12198" y="3794"/>
                </a:cubicBezTo>
                <a:cubicBezTo>
                  <a:pt x="9988" y="3794"/>
                  <a:pt x="8317" y="5534"/>
                  <a:pt x="8317" y="7849"/>
                </a:cubicBezTo>
                <a:lnTo>
                  <a:pt x="10171" y="7849"/>
                </a:lnTo>
                <a:cubicBezTo>
                  <a:pt x="10171" y="6709"/>
                  <a:pt x="11093" y="5821"/>
                  <a:pt x="12198" y="5821"/>
                </a:cubicBezTo>
                <a:cubicBezTo>
                  <a:pt x="13304" y="5821"/>
                  <a:pt x="14235" y="6709"/>
                  <a:pt x="14235" y="7849"/>
                </a:cubicBezTo>
                <a:cubicBezTo>
                  <a:pt x="14235" y="8589"/>
                  <a:pt x="13765" y="9320"/>
                  <a:pt x="13304" y="9320"/>
                </a:cubicBezTo>
                <a:cubicBezTo>
                  <a:pt x="12198" y="9320"/>
                  <a:pt x="11093" y="10800"/>
                  <a:pt x="11093" y="12323"/>
                </a:cubicBezTo>
                <a:lnTo>
                  <a:pt x="11093" y="14281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cover dir="l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Зульфия</cp:lastModifiedBy>
  <dcterms:modified xsi:type="dcterms:W3CDTF">2013-03-25T05:26:53Z</dcterms:modified>
  <cp:revision>25</cp:revision>
  <dc:subject>русский  язык</dc:subject>
  <dc:title>PowerPoint Presentation</dc:title>
</cp:coreProperties>
</file>