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C3C-2778-4446-9890-C4A7A828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3FD-9EC3-4E15-9248-58523E94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769-EC82-4DB6-AA9C-9F2FBF6C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373-3474-41C8-86BB-D8BCBDF1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8F83-3293-4E15-B20A-663A0406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031-D612-4900-B750-9E360709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0E43-1256-4B09-95E8-D2F9A1AA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EAC-105E-43A1-9BAB-5724975E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13F6-D54E-4341-B832-7207EF0B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9901-7A70-42F6-9A6F-93295CAA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6ADE-74DA-499C-9F38-864F4D65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C49-DA25-48A0-990B-B219A912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48F8-0D26-4665-A657-BC796B46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DCFB-36D1-4C0B-A414-C1CB1646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2C75-6E98-4418-A3E5-51F594CB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55B2-958D-417C-865F-BA04AAFE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E759-0DF8-41DF-A869-D0FA11A5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5FA-7DAC-4030-84D7-B047132C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A23-354C-42C7-BA89-1D97D3DD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93E-0747-4B94-A3BB-39641103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DD6-77D2-470A-8088-46839F54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E97-5CB3-47D8-A11C-A7F34820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BB0-4D31-4548-8FE2-1CC0C80C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B53-1A4E-44EC-9F59-73A30AF0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000-CB32-434C-A98B-094EB6A7AF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2E42-7BBF-47F2-B08B-3474B57841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75;&#1086;&#1094;&#1080;&#1090;&#1086;&#1079;" TargetMode="External"/><Relationship Id="rId2" Type="http://schemas.openxmlformats.org/officeDocument/2006/relationships/hyperlink" Target="http://ru.wikipedia.org/wiki/&#1041;&#1072;&#1082;&#1090;&#1077;&#1088;&#1080;&#1080;" TargetMode="External"/><Relationship Id="rId3" Type="http://schemas.openxmlformats.org/officeDocument/2006/relationships/hyperlink" Target="http://ru.wikipedia.org/wiki/&#1042;&#1086;&#1076;&#1086;&#1088;&#1086;&#1089;&#1083;&#1080;" TargetMode="External"/><Relationship Id="rId4" Type="http://schemas.openxmlformats.org/officeDocument/2006/relationships/hyperlink" Target="http://ru.wikipedia.org/wiki/&#1055;&#1088;&#1086;&#1090;&#1080;&#1089;&#1090;&#1099;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О.Т.Поглазо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класс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«Удивительные открыт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Яш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какого прибора люди смогли увидеть мельчайшие частицы веще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изобрел микроско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открытия были совершены с помощью микроско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 основные виды бакте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напитки мы получаем с помощью бактер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и и задачи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из чего состоят живые орган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вают невидимые микроорганизмы и бак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оводить простейшие наблюдения при помощи лупы и микроск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торение изученног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веще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а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е задачу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утром взвесил сосуд с только что вскипевшим маслом на особо точных весах. К концу дня, когда масло остыло, он взвесил сосуд еще раз. Результат взвешивания оказался иным, сосуд стал тяжелее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скурс в истори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ом, открывшим невидимый мир, стал Антони ван Левенгук (1632 – 17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сумел сделать стекла, которые давали увеличение не в 20 раз, а в 150 и даже в 300 раз. Эти замечательные линзы оказались окном в новый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икроско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ть острым взглядом нас природа одарила, Но близок оного конец имеет сила. Коль много микроскоп нам тайностей открыл, невидимых частиц и тонких в теле жил! (Михаил Ломонос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j0305257"/>
          <p:cNvPicPr/>
          <p:nvPr/>
        </p:nvPicPr>
        <p:blipFill>
          <a:blip r:embed="rId1"/>
          <a:stretch/>
        </p:blipFill>
        <p:spPr>
          <a:xfrm>
            <a:off x="395280" y="1268280"/>
            <a:ext cx="345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меб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ёба протей питается путем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фагоцито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оглощая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бактер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дноклеточных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водоро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мелких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простейш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бразование псевдоподий лежит в основе захвата пищи. На поверхности тела амёбы возникает контакт между плазмалеммой и пищевой частицей, в этом участке образуется «пищевая чашечка». Её стенки смыкаются, в эту область (с помощью лизосом) начинают поступать пищеварительные ферменты. Таким образом формируется пищеварительная вакуоль. Далее она переходит в центральную часть клетки, где подхватывается токами цитопла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275px-Chaos_diffluens"/>
          <p:cNvPicPr/>
          <p:nvPr/>
        </p:nvPicPr>
        <p:blipFill>
          <a:blip r:embed="rId5"/>
          <a:stretch/>
        </p:blipFill>
        <p:spPr>
          <a:xfrm>
            <a:off x="4921200" y="1628640"/>
            <a:ext cx="349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Бактер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терии являются одной из самых устойчивых форм жизни на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обитают везде, даже в охладительных системах ядерных реакторов, а там уровень радиации в 10 тыс.раз превосходит смертельный для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ы других выдерживают 25 минутное кипячение в концентрированной соляной кисл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некоторые не погибают и после суточного пребывания в открытом космо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300px-Clostridium_botulinum"/>
          <p:cNvPicPr/>
          <p:nvPr/>
        </p:nvPicPr>
        <p:blipFill>
          <a:blip r:embed="rId1"/>
          <a:stretch/>
        </p:blipFill>
        <p:spPr>
          <a:xfrm>
            <a:off x="5076720" y="1557360"/>
            <a:ext cx="324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истематика бактер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ые распространенные: кокки (шарики) и бациллы (палоч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ептококки (бактериальные нити)- множество круглых клеток соединяются с другими, образуя длинную очеред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еляясь в дыхательных путях, могут вызвать такие болезни, как ангина и скарлат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normal_medclipart_0382"/>
          <p:cNvPicPr/>
          <p:nvPr/>
        </p:nvPicPr>
        <p:blipFill>
          <a:blip r:embed="rId1"/>
          <a:stretch/>
        </p:blipFill>
        <p:spPr>
          <a:xfrm>
            <a:off x="4756320" y="1628640"/>
            <a:ext cx="3668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лезные бактер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х традиционных напитков из скисшего молока, например, простокваши, сметаны, кефира, не было бы без деятельности молочнокислых бактерии. Попадая в молоко, эти организмы начинают бродить и превращают молочный сахар в молочную кислоту. Она и предает вкус напиткам, а также предохраняет их от заражения другими бактер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8:00:50Z</dcterms:created>
  <dc:creator>User</dc:creator>
  <dc:description/>
  <dc:language>en-US</dc:language>
  <cp:lastModifiedBy>И В. Яшкова</cp:lastModifiedBy>
  <dcterms:modified xsi:type="dcterms:W3CDTF">2012-08-09T10:25:56Z</dcterms:modified>
  <cp:revision>6</cp:revision>
  <dc:subject/>
  <dc:title>Окружающий мир автор О.Т.Поглазова 2 класс</dc:title>
</cp:coreProperties>
</file>