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983-6583-4A72-942F-B2A76930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A5A-6C1E-4DCB-AEB4-A4EA615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713-EFF5-455B-921C-4D45B3D9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A71-F315-4379-829F-48EC62D7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2FC3-997E-4A5A-8D62-9714596E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B87-8DCC-4AF0-A164-BD776AF6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88C4-5B54-4C29-8157-08B7918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AA18-D9BF-452A-A7FF-F5405EDF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3A4F-E045-41D3-A494-B673BFAD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5DB-9F51-4554-98C6-7608774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90D2-C620-4EAE-9700-F464C69B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55C-CB83-4EED-AF45-B765AF7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201-BD6A-4268-A70F-32D4503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DFE-1E53-42BB-B8E6-67F79711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0321-5227-412D-9A4A-1C6D5322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4795-C07E-4D0F-A1F1-F3BC7ADE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B21-B421-4A97-AB36-21780B5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1EC-5078-4D20-ADA4-47FC874C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B1-629A-4709-B3D5-0008758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D64-32C6-4B55-83FF-84CE372C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2BC-15CF-464C-9FE4-BA116BD2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97E-C219-4C64-AA4B-9906E03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B8E-8501-4ABC-A92C-9EC0D01D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5D6-CE57-41A0-A378-2E4D5F6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0F2-DBD8-4E26-9E9B-9638CD83F9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C93-4903-4F92-8A2C-20ADE69B1D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75;&#1086;&#1094;&#1080;&#1090;&#1086;&#1079;" TargetMode="External"/><Relationship Id="rId2" Type="http://schemas.openxmlformats.org/officeDocument/2006/relationships/hyperlink" Target="http://ru.wikipedia.org/wiki/&#1041;&#1072;&#1082;&#1090;&#1077;&#1088;&#1080;&#1080;" TargetMode="External"/><Relationship Id="rId3" Type="http://schemas.openxmlformats.org/officeDocument/2006/relationships/hyperlink" Target="http://ru.wikipedia.org/wiki/&#1042;&#1086;&#1076;&#1086;&#1088;&#1086;&#1089;&#1083;&#1080;" TargetMode="External"/><Relationship Id="rId4" Type="http://schemas.openxmlformats.org/officeDocument/2006/relationships/hyperlink" Target="http://ru.wikipedia.org/wiki/&#1055;&#1088;&#1086;&#1090;&#1080;&#1089;&#1090;&#1099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ий ми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О.Т.Поглазо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класс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«Удивительные открыт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Яш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какого прибора люди смогли увидеть мельчайшие частицы ве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изобрел микроско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ткрытия были совершены с помощью микроскоп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 основные виды бакте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напитки мы получаем с помощью бактер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и и задачи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из чего состоят живые орган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вают невидимые микроорганизмы и 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проводить простейшие наблюдения при помощи лупы и мик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торение изученног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вещ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 задачу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утром взвесил сосуд с только что вскипевшим маслом на особо точных весах. К концу дня, когда масло остыло, он взвесил сосуд еще раз. Результат взвешивания оказался иным, сосуд стал тяжелее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скурс в истори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ом, открывшим невидимый мир, стал Антони ван Левенгук (1632 – 17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сумел сделать стекла, которые давали увеличение не в 20 раз, а в 150 и даже в 300 раз. Эти замечательные линзы оказались окном в нов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икроскоп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острым взглядом нас природа одарила, Но близок оного конец имеет сила. Коль много микроскоп нам тайностей открыл, невидимых частиц и тонких в теле жил! (Михаил Ломонос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j0305257"/>
          <p:cNvPicPr/>
          <p:nvPr/>
        </p:nvPicPr>
        <p:blipFill>
          <a:blip r:embed="rId1"/>
          <a:stretch/>
        </p:blipFill>
        <p:spPr>
          <a:xfrm>
            <a:off x="395280" y="1268280"/>
            <a:ext cx="345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меб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ёба протей питается путем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фагоцит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оглощая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бактер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одноклеточны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водоро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мелких 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простейш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бразование псевдоподий лежит в основе захвата пищи. На поверхности тела амёбы возникает контакт между плазмалеммой и пищевой частицей, в этом участке образуется «пищевая чашечка». Её стенки смыкаются, в эту область (с помощью лизосом) начинают поступать пищеварительные ферменты. Таким образом формируется пищеварительная вакуоль. Далее она переходит в центральную часть клетки, где подхватывается токами цитопла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75px-Chaos_diffluens"/>
          <p:cNvPicPr/>
          <p:nvPr/>
        </p:nvPicPr>
        <p:blipFill>
          <a:blip r:embed="rId5"/>
          <a:stretch/>
        </p:blipFill>
        <p:spPr>
          <a:xfrm>
            <a:off x="4921200" y="1628640"/>
            <a:ext cx="34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и являются одной из самых устойчивых форм жизни на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обитают везде, даже в охладительных системах ядерных реакторов, а там уровень радиации в 10 тыс.раз превосходит смертельный дл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ы других выдерживают 25 минутное кипячение в концентрированной соляной кисл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некоторые не погибают и после суточного пребывания в открытом космо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300px-Clostridium_botulinum"/>
          <p:cNvPicPr/>
          <p:nvPr/>
        </p:nvPicPr>
        <p:blipFill>
          <a:blip r:embed="rId1"/>
          <a:stretch/>
        </p:blipFill>
        <p:spPr>
          <a:xfrm>
            <a:off x="5076720" y="1557360"/>
            <a:ext cx="324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истематика бактер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ые распространенные: кокки (шарики) и бациллы (палоч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ептококки (бактериальные нити)- множество круглых клеток соединяются с другими, образуя длинную очеред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еляясь в дыхательных путях, могут вызвать такие болезни, как ангина и скарлат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normal_medclipart_0382"/>
          <p:cNvPicPr/>
          <p:nvPr/>
        </p:nvPicPr>
        <p:blipFill>
          <a:blip r:embed="rId1"/>
          <a:stretch/>
        </p:blipFill>
        <p:spPr>
          <a:xfrm>
            <a:off x="4756320" y="1628640"/>
            <a:ext cx="3668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лезные бактер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х традиционных напитков из скисшего молока, например, простокваши, сметаны, кефира, не было бы без деятельности молочнокислых бактерии. Попадая в молоко, эти организмы начинают бродить и превращают молочный сахар в молочную кислоту. Она и предает вкус напиткам, а также предохраняет их от заражения другими бакте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00:50Z</dcterms:created>
  <dc:creator>User</dc:creator>
  <dc:description/>
  <dc:language>en-US</dc:language>
  <cp:lastModifiedBy>И В. Яшкова</cp:lastModifiedBy>
  <dcterms:modified xsi:type="dcterms:W3CDTF">2012-08-09T10:25:56Z</dcterms:modified>
  <cp:revision>6</cp:revision>
  <dc:subject/>
  <dc:title>Окружающий мир автор О.Т.Поглазова 2 класс</dc:title>
</cp:coreProperties>
</file>