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2AA3-220E-4086-AD01-0A915DAE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ECA7-6FCB-42B3-BEF9-D4FEEE7B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3756-3061-4B1D-AF34-3C2F7303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DB0B-2B0D-48DD-954C-2F99D28A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5FAA-9F1E-428A-B6F8-087253D5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FD57-3EDC-4E5E-B816-03110EBD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840E-5E07-439F-8BAF-E6EEBB55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8BBB-C336-4172-B47D-0D84EC94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A581-2947-4696-ACA0-E08314EB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6B79-CBAB-4D0A-8104-4E2F50C0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97D1-A057-48C7-A0A6-6B679C73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24AF-B52D-48AF-95B3-D106B49A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0B91-DD2E-4492-9D14-0448F18391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539640" y="836640"/>
            <a:ext cx="78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alibri"/>
              </a:rPr>
              <a:t>Окружающий мир</a:t>
            </a:r>
            <a:br>
              <a:rPr sz="6600"/>
            </a:br>
            <a:r>
              <a:rPr b="1" lang="ru-RU" sz="6600" spc="-1" strike="noStrike">
                <a:solidFill>
                  <a:srgbClr val="008000"/>
                </a:solidFill>
                <a:latin typeface="Calibri"/>
              </a:rPr>
              <a:t>3 клас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5"/>
          <p:cNvSpPr/>
          <p:nvPr/>
        </p:nvSpPr>
        <p:spPr>
          <a:xfrm>
            <a:off x="2286000" y="47242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Работа выполнена учителем ГБОУ СОШ №68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города Москв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Яшковой И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Заголовок 1"/>
          <p:cNvSpPr/>
          <p:nvPr/>
        </p:nvSpPr>
        <p:spPr>
          <a:xfrm>
            <a:off x="53964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324000" y="47628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 Как вы понимаете выражение: «Воздух должен быть чистым»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179280" y="1413000"/>
            <a:ext cx="8856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Человеку и другим живым существам для дыхания нужен чистый воздух. Загрязнение воздуха угрожает здоровью людей, всей жизни на Земле. С заводов и фабрик, от работающих автомобилей в воздух попадают вредные вещества. Они опасны для всего живого, поэтому необходимо заботиться о чистоте воздуха. Сейчас немало делается для охраны чистоты воздух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На многих предприятиях работают установки, которые улавливают пыль, сажу, ядовитые газы. Ученые разрабатывают новые автомобили, которые не будут  загрязнять возду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                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В разных местах созданы специальные стан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                       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они постоянно следят за чистот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                      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воздуха в больших города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804000" y="5084640"/>
            <a:ext cx="2065320" cy="14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Заголовок 1"/>
          <p:cNvSpPr/>
          <p:nvPr/>
        </p:nvSpPr>
        <p:spPr>
          <a:xfrm>
            <a:off x="539640" y="404640"/>
            <a:ext cx="82296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179280" y="404640"/>
            <a:ext cx="878544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Человек без воздуха может прожить самое большее 6 минут. Чтобы воз- дух был чистым в воздухе должно быть больше кислорода и меньше углекислого газа 600 литров кислорода необходимо для дыхания на один день. А вот растениям наоборот, поглощают углекислый газ, а выделяют кислород в атмосферу. Не зря растения называют «Зелеными легкими планеты».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Чтобы очистить воздух, надо -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сажать деревь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кустарники: липы, тополя, сирень.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Смолистый запах ели и сосны, аромат березы, дуба, лиственницы очень полезен для чело- века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На предприятиях устанавливать очистные сооружения, которые улавливают пыль и сажу, ядовитые газы. Разрабатывать новые автомобили, которые не будут загрязнять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                     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возду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_41250204_smoke203[1]"/>
          <p:cNvPicPr/>
          <p:nvPr/>
        </p:nvPicPr>
        <p:blipFill>
          <a:blip r:embed="rId1"/>
          <a:stretch/>
        </p:blipFill>
        <p:spPr>
          <a:xfrm>
            <a:off x="3635280" y="5157720"/>
            <a:ext cx="1728720" cy="12938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ая соединительная линия 12"/>
          <p:cNvSpPr/>
          <p:nvPr/>
        </p:nvSpPr>
        <p:spPr>
          <a:xfrm>
            <a:off x="3635280" y="5157720"/>
            <a:ext cx="1728720" cy="129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ая соединительная линия 14"/>
          <p:cNvSpPr/>
          <p:nvPr/>
        </p:nvSpPr>
        <p:spPr>
          <a:xfrm flipV="1">
            <a:off x="3635280" y="5229360"/>
            <a:ext cx="172872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7451640" y="522936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3"/>
          <a:stretch/>
        </p:blipFill>
        <p:spPr>
          <a:xfrm>
            <a:off x="1692360" y="5157720"/>
            <a:ext cx="1716120" cy="128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4"/>
          <a:stretch/>
        </p:blipFill>
        <p:spPr>
          <a:xfrm>
            <a:off x="5508720" y="5229360"/>
            <a:ext cx="180324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Заголовок 1"/>
          <p:cNvSpPr/>
          <p:nvPr/>
        </p:nvSpPr>
        <p:spPr>
          <a:xfrm>
            <a:off x="53964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то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395280" y="155736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- Что нового вы узнали на урок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- Что такое воздух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- Какие его свойств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- Воздух надо охранять, заботиться о его чистот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1"/>
          <p:cNvSpPr/>
          <p:nvPr/>
        </p:nvSpPr>
        <p:spPr>
          <a:xfrm>
            <a:off x="53964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Calibri"/>
              </a:rPr>
              <a:t>Тема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Calibri"/>
              </a:rPr>
              <a:t>Воздух и его охрана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763640" y="2421000"/>
            <a:ext cx="64008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alibri"/>
              </a:rPr>
              <a:t>Через  нос  проходит  в  груд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alibri"/>
              </a:rPr>
              <a:t>И  обратный  держит  пу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alibri"/>
              </a:rPr>
              <a:t>Он  невидмый,  и  всё  ж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alibri"/>
              </a:rPr>
              <a:t>Без  него  мы  жить  не  мож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6663960" y="4724280"/>
            <a:ext cx="14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ВОЗДУ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Заголовок 1"/>
          <p:cNvSpPr/>
          <p:nvPr/>
        </p:nvSpPr>
        <p:spPr>
          <a:xfrm flipV="1">
            <a:off x="539640" y="259200"/>
            <a:ext cx="82296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179280" y="476280"/>
            <a:ext cx="8856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Кроме Атлантического, Тихого, Индийского и Северного Ледовитого океанов есть на свете ещё один – самый большой из всех океанов, и вы, каждый день, каждый час, каждую минуту, сами того не замечая, «купаетесь» в нём. И прохожие на улице, и кошки, и собаки, и голуби, даже трамваи с троллейбусами день и ночь « купаются» в этом океан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Догадались что это за океан? Нет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Тогда я вам подскажу: океан это не солёный, не пресный и к тому же без берегов и без воды. Словно огромные серебристые рыбы, проплывают по его просторам самолёты. Теперь-то вы наверняка поняли. Ну, конечно, речь идёт о самом большом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о голубом воздушном океане. Четыре водяных океана широко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                  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широко разлились по земле, а пятый воздушный – на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                   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землёй. Получается, что поверхность планеты – е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                     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д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755640" y="-747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539640" y="620640"/>
            <a:ext cx="8425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 реальности существования воздуха легко убедимся, проделав  опыт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1. Наполните полиэтиленовый пакет воздухом, завяжите и попробуйте его осторожно сжа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2. Наполните небольшой шприц без иглы воздухом. Зажмите пальцем входное отверстие. Попробуйте передвинуть поршен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- Можно ли сжать возду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- Что произойдет, если отпустить палец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3. Наполните рот воздухом и, сомкнув губы, нажмите на щеки пальца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–           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Что заметили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Заголовок 1"/>
          <p:cNvSpPr/>
          <p:nvPr/>
        </p:nvSpPr>
        <p:spPr>
          <a:xfrm>
            <a:off x="53964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324000" y="62064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Человек без воздуха может прожить 5мину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Вся планета Земля окутана невидимым прозрачным покрывалом-воздух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Воздух есть везде – на улице, в комнате, в земле, и в воде. Любое свободное пространство на Земле заполнено воздух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Воздух невидим, но его можно обнаружить с помощью наших органов чувст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Ветер – эт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движение воздух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3132000" y="371628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Заголовок 1"/>
          <p:cNvSpPr/>
          <p:nvPr/>
        </p:nvSpPr>
        <p:spPr>
          <a:xfrm>
            <a:off x="53964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250920" y="2565360"/>
            <a:ext cx="878508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alibri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Атмосфера - это гигантская воздушная оболочка, которая простирается вверх на сотни километров. Толщина атмосферы в разных частях планеты неодинако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Атмосфера защищает землю от избытка тепла и холода, от излишней солнечной радиации. Если бы вдруг она исчезла, т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               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вода и другие жидкости на Земле мгновенно закипе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                 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бы, а лучи солнца сожгли бы все живо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6084720" y="549360"/>
            <a:ext cx="2857680" cy="2232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5"/>
          <p:cNvSpPr/>
          <p:nvPr/>
        </p:nvSpPr>
        <p:spPr>
          <a:xfrm>
            <a:off x="324000" y="620640"/>
            <a:ext cx="52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лой воздуха, окружающий нашу планету, называется атмосферо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Заголовок 1"/>
          <p:cNvSpPr/>
          <p:nvPr/>
        </p:nvSpPr>
        <p:spPr>
          <a:xfrm>
            <a:off x="539640" y="404640"/>
            <a:ext cx="82296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468360" y="620640"/>
            <a:ext cx="85676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Возду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Times New Roman"/>
              </a:rPr>
              <a:t>Он прозрачный невидимка,</a:t>
            </a:r>
            <a:br>
              <a:rPr sz="2400"/>
            </a:b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Times New Roman"/>
              </a:rPr>
              <a:t>Легкий и прозрачный газ. </a:t>
            </a:r>
            <a:br>
              <a:rPr sz="2400"/>
            </a:b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Times New Roman"/>
              </a:rPr>
              <a:t>Невесомою косынкой</a:t>
            </a:r>
            <a:br>
              <a:rPr sz="2400"/>
            </a:b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Times New Roman"/>
              </a:rPr>
              <a:t>Он окутывает на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50920" y="2601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- Что можно узнать из стихотворения о воздухе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8"/>
          <p:cNvSpPr/>
          <p:nvPr/>
        </p:nvSpPr>
        <p:spPr>
          <a:xfrm>
            <a:off x="250920" y="299736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Первыми стали изучать состав воздуха и его свойст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английский священник Джозеф Пристли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французский химик Антуан Лавуазь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2843280" y="4437000"/>
            <a:ext cx="1422360" cy="1673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6084720" y="4437000"/>
            <a:ext cx="122400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Заголовок 1"/>
          <p:cNvSpPr/>
          <p:nvPr/>
        </p:nvSpPr>
        <p:spPr>
          <a:xfrm flipV="1">
            <a:off x="539640" y="0"/>
            <a:ext cx="82296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987640" y="2421000"/>
            <a:ext cx="5761080" cy="3973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324000" y="533880"/>
            <a:ext cx="86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Так что же такое воздух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Times New Roman"/>
              </a:rPr>
              <a:t>Это газ, а вернее смеси газ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Times New Roman"/>
              </a:rPr>
              <a:t>Всего лишь два века назад ученые узнали, что воздух - это смеси многих газов, в основном азота - 78%, кислорода -21%, углекислого газа - 1%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Заголовок 1"/>
          <p:cNvSpPr/>
          <p:nvPr/>
        </p:nvSpPr>
        <p:spPr>
          <a:xfrm>
            <a:off x="539640" y="404640"/>
            <a:ext cx="82296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"/>
          <p:cNvSpPr/>
          <p:nvPr/>
        </p:nvSpPr>
        <p:spPr>
          <a:xfrm>
            <a:off x="324000" y="107316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Какими же свойствами обладает воздух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411120" y="2276640"/>
            <a:ext cx="257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1. Прозрачны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410760" y="2781360"/>
            <a:ext cx="24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2. Бесцветны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416880" y="3357720"/>
            <a:ext cx="31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3. Не имеет запах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425520" y="3933720"/>
            <a:ext cx="52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4. При нагревании расширяе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1426680" y="4581360"/>
            <a:ext cx="50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5. При охлаждении сжимае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1847880" y="5157720"/>
            <a:ext cx="411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6. Плохо проводит тепл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5580000" y="3573360"/>
            <a:ext cx="647640" cy="7923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ая соединительная линия 13"/>
          <p:cNvSpPr/>
          <p:nvPr/>
        </p:nvSpPr>
        <p:spPr>
          <a:xfrm>
            <a:off x="6227640" y="3573360"/>
            <a:ext cx="0" cy="7923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ая соединительная линия 14"/>
          <p:cNvSpPr/>
          <p:nvPr/>
        </p:nvSpPr>
        <p:spPr>
          <a:xfrm flipH="1">
            <a:off x="5579640" y="4365720"/>
            <a:ext cx="64764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ая соединительная линия 25"/>
          <p:cNvSpPr/>
          <p:nvPr/>
        </p:nvSpPr>
        <p:spPr>
          <a:xfrm flipH="1">
            <a:off x="5579640" y="3573360"/>
            <a:ext cx="64764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ая соединительная линия 27"/>
          <p:cNvSpPr/>
          <p:nvPr/>
        </p:nvSpPr>
        <p:spPr>
          <a:xfrm>
            <a:off x="5580000" y="3573360"/>
            <a:ext cx="0" cy="7923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6443640" y="4365720"/>
            <a:ext cx="576360" cy="7412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ая соединительная линия 29"/>
          <p:cNvSpPr/>
          <p:nvPr/>
        </p:nvSpPr>
        <p:spPr>
          <a:xfrm flipH="1">
            <a:off x="6443280" y="4365720"/>
            <a:ext cx="5763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ая соединительная линия 31"/>
          <p:cNvSpPr/>
          <p:nvPr/>
        </p:nvSpPr>
        <p:spPr>
          <a:xfrm flipH="1">
            <a:off x="6443280" y="5084640"/>
            <a:ext cx="5763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ая соединительная линия 32"/>
          <p:cNvSpPr/>
          <p:nvPr/>
        </p:nvSpPr>
        <p:spPr>
          <a:xfrm>
            <a:off x="6443640" y="4365720"/>
            <a:ext cx="0" cy="7189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ая соединительная линия 34"/>
          <p:cNvSpPr/>
          <p:nvPr/>
        </p:nvSpPr>
        <p:spPr>
          <a:xfrm>
            <a:off x="7020000" y="4365720"/>
            <a:ext cx="0" cy="7189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2:29:18Z</dcterms:created>
  <dc:creator>DNA7 X86</dc:creator>
  <dc:description/>
  <dc:language>en-US</dc:language>
  <cp:lastModifiedBy>И В. Яшкова</cp:lastModifiedBy>
  <dcterms:modified xsi:type="dcterms:W3CDTF">2012-08-09T10:58:12Z</dcterms:modified>
  <cp:revision>68</cp:revision>
  <dc:subject/>
  <dc:title>Слайд 1</dc:title>
</cp:coreProperties>
</file>