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831-9386-4B2B-B7A4-F2D1C80A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513-03D8-400F-9BED-C1704BD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02A-BBC3-41F3-BD60-AD9E87F8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401-8B0D-4DF6-9AAF-050663F7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6A2-F8EB-43D6-AA1A-342D339E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38D-9442-4D9F-9C4B-E08276E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BE3-3E5C-44FF-9972-9E5B94B2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7BE-171D-464F-9F62-2515AC1F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D99-8571-47E1-BBD4-94F22B93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560-D4CB-49E3-B300-E07B4708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2DC-B47B-4AB0-8839-8D635D35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DE7-D0AA-4177-9921-F3141F7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69F5-BB3C-428C-B66A-14B24C969D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539640" y="836640"/>
            <a:ext cx="78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alibri"/>
              </a:rPr>
              <a:t>Окружающий мир</a:t>
            </a:r>
            <a:br>
              <a:rPr sz="6600"/>
            </a:br>
            <a:r>
              <a:rPr b="1" lang="ru-RU" sz="6600" spc="-1" strike="noStrike">
                <a:solidFill>
                  <a:srgbClr val="008000"/>
                </a:solidFill>
                <a:latin typeface="Calibri"/>
              </a:rPr>
              <a:t>3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2286000" y="4724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Работа выполнена учителем ГБОУ СОШ №6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города Москв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Яшковой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24000" y="476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Как вы понимаете выражение: «Воздух должен быть чистым»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79280" y="1413000"/>
            <a:ext cx="885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Человеку и другим живым существам для дыхания нужен чистый воздух. Загрязнение воздуха угрожает здоровью людей, всей жизни на Земле. С заводов и фабрик, от работающих автомобилей в воздух попадают вредные вещества. Они опасны для всего живого, поэтому необходимо заботиться о чистоте воздуха. Сейчас немало делается для охраны чистоты воздух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На многих предприятиях работают установки, которые улавливают пыль, сажу, ядовитые газы. Ученые разрабатывают новые автомобили, которые не будут  загрязнять возду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 разных местах созданы специальные стан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они постоянно следят за чистот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здуха в больших город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804000" y="5084640"/>
            <a:ext cx="206532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539640" y="404640"/>
            <a:ext cx="8229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79280" y="404640"/>
            <a:ext cx="878544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Человек без воздуха может прожить самое большее 6 минут. Чтобы воз- дух был чистым в воздухе должно быть больше кислорода и меньше углекислого газа 600 литров кислорода необходимо для дыхания на один день. А вот растениям наоборот, поглощают углекислый газ, а выделяют кислород в атмосферу. Не зря растения называют «Зелеными легкими планеты».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бы очистить воздух, надо -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сажать деревь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кустарники: липы, тополя, сирень.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Смолистый запах ели и сосны, аромат березы, дуба, лиственницы очень полезен для чело- век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На предприятиях устанавливать очистные сооружения, которые улавливают пыль и сажу, ядовитые газы. Разрабатывать новые автомобили, которые не будут загрязнять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зду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_41250204_smoke203[1]"/>
          <p:cNvPicPr/>
          <p:nvPr/>
        </p:nvPicPr>
        <p:blipFill>
          <a:blip r:embed="rId1"/>
          <a:stretch/>
        </p:blipFill>
        <p:spPr>
          <a:xfrm>
            <a:off x="3635280" y="515772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12"/>
          <p:cNvSpPr/>
          <p:nvPr/>
        </p:nvSpPr>
        <p:spPr>
          <a:xfrm>
            <a:off x="3635280" y="5157720"/>
            <a:ext cx="172872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 flipV="1">
            <a:off x="3635280" y="5229360"/>
            <a:ext cx="1728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7451640" y="52293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1692360" y="5157720"/>
            <a:ext cx="171612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5508720" y="5229360"/>
            <a:ext cx="180324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95280" y="15573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- 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- Что такое возду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- Какие его свой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- Воздух надо охранять, заботиться о его чисто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Воздух и его охрана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763640" y="2421000"/>
            <a:ext cx="6400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Через  нос  проходит  в  гру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И  обратный  держит  пу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Он  невидмый,  и  всё  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Без  него  мы  жить  не  мож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663960" y="472428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 flipV="1">
            <a:off x="539640" y="259200"/>
            <a:ext cx="8229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79280" y="47628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Кроме Атлантического, Тихого, Индийского и Северного Ледовитого океанов есть на свете ещё один – самый большой из всех океанов, и вы, каждый день, каждый час, каждую минуту, сами того не замечая, «купаетесь» в нём. И прохожие на улице, и кошки, и собаки, и голуби, даже трамваи с троллейбусами день и ночь « купаются» в этом океа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Догадались что это за океан? Н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Тогда я вам подскажу: океан это не солёный, не пресный и к тому же без берегов и без воды. Словно огромные серебристые рыбы, проплывают по его просторам самолёты. Теперь-то вы наверняка поняли. Ну, конечно, речь идёт о самом большом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о голубом воздушном океане. Четыре водяных океана широк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широко разлились по земле, а пятый воздушный – н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землёй. Получается, что поверхность планеты – 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д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75564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39640" y="620640"/>
            <a:ext cx="842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реальности существования воздуха легко убедимся, проделав  опы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1. Наполните полиэтиленовый пакет воздухом, завяжите и попробуйте его осторожно сж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2. Наполните небольшой шприц без иглы воздухом. Зажмите пальцем входное отверстие. Попробуйте передвинуть поршен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- Можно ли сжать возду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- Что произойдет, если отпустить палец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3. Наполните рот воздухом и, сомкнув губы, нажмите на щеки пальц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–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Что заметил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324000" y="62064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Человек без воздуха может прожить 5мину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ся планета Земля окутана невидимым прозрачным покрывалом-воздух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здух есть везде – на улице, в комнате, в земле, и в воде. Любое свободное пространство на Земле заполнено воздух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здух невидим, но его можно обнаружить с помощью наших органов чув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етер – э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движение воздух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50920" y="2565360"/>
            <a:ext cx="87850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Атмосфера - это гигантская воздушная оболочка, которая простирается вверх на сотни километров. Толщина атмосферы в разных частях планеты неодинако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Атмосфера защищает землю от избытка тепла и холода, от излишней солнечной радиации. Если бы вдруг она исчезла, т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да и другие жидкости на Земле мгновенно закип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                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бы, а лучи солнца сожгли бы все живо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857680" cy="2232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324000" y="62064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лой воздуха, окружающий нашу планету, называется атмосфер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539640" y="404640"/>
            <a:ext cx="8229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468360" y="620640"/>
            <a:ext cx="8567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зду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Он прозрачный невидимка,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Легкий и прозрачный газ. 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Невесомою косынкой</a:t>
            </a:r>
            <a:br>
              <a:rPr sz="2400"/>
            </a:b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Он окутывает на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0920" y="2601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- Что можно узнать из стихотворения о воздух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250920" y="2997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Первыми стали изучать состав воздуха и его свой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английский священник Джозеф Пристли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французский химик Антуан Лавуазь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843280" y="4437000"/>
            <a:ext cx="1422360" cy="167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122400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 flipV="1">
            <a:off x="539640" y="0"/>
            <a:ext cx="8229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5761080" cy="3973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24000" y="53388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Так что же такое воздух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Это газ, а вернее смеси газ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Всего лишь два века назад ученые узнали, что воздух - это смеси многих газов, в основном азота - 78%, кислорода -21%, углекислого газа - 1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1"/>
          <p:cNvSpPr/>
          <p:nvPr/>
        </p:nvSpPr>
        <p:spPr>
          <a:xfrm>
            <a:off x="539640" y="404640"/>
            <a:ext cx="8229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324000" y="10731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Какими же свойствами обладает возду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11120" y="2276640"/>
            <a:ext cx="25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1. Прозрач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10760" y="2781360"/>
            <a:ext cx="24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2. Бесцвет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16880" y="335772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3. Не имеет запах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25520" y="39337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4. При нагревании расширя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1426680" y="458136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5. При охлаждении сжимае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1847880" y="5157720"/>
            <a:ext cx="41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6. Плохо проводит теп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580000" y="3573360"/>
            <a:ext cx="647640" cy="792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13"/>
          <p:cNvSpPr/>
          <p:nvPr/>
        </p:nvSpPr>
        <p:spPr>
          <a:xfrm>
            <a:off x="6227640" y="357336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4"/>
          <p:cNvSpPr/>
          <p:nvPr/>
        </p:nvSpPr>
        <p:spPr>
          <a:xfrm flipH="1">
            <a:off x="5579640" y="4365720"/>
            <a:ext cx="6476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25"/>
          <p:cNvSpPr/>
          <p:nvPr/>
        </p:nvSpPr>
        <p:spPr>
          <a:xfrm flipH="1">
            <a:off x="5579640" y="3573360"/>
            <a:ext cx="64764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27"/>
          <p:cNvSpPr/>
          <p:nvPr/>
        </p:nvSpPr>
        <p:spPr>
          <a:xfrm>
            <a:off x="5580000" y="357336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6443640" y="4365720"/>
            <a:ext cx="576360" cy="7412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29"/>
          <p:cNvSpPr/>
          <p:nvPr/>
        </p:nvSpPr>
        <p:spPr>
          <a:xfrm flipH="1">
            <a:off x="6443280" y="4365720"/>
            <a:ext cx="576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31"/>
          <p:cNvSpPr/>
          <p:nvPr/>
        </p:nvSpPr>
        <p:spPr>
          <a:xfrm flipH="1">
            <a:off x="6443280" y="5084640"/>
            <a:ext cx="576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32"/>
          <p:cNvSpPr/>
          <p:nvPr/>
        </p:nvSpPr>
        <p:spPr>
          <a:xfrm>
            <a:off x="6443640" y="4365720"/>
            <a:ext cx="0" cy="718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34"/>
          <p:cNvSpPr/>
          <p:nvPr/>
        </p:nvSpPr>
        <p:spPr>
          <a:xfrm>
            <a:off x="7020000" y="4365720"/>
            <a:ext cx="0" cy="718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2:29:18Z</dcterms:created>
  <dc:creator>DNA7 X86</dc:creator>
  <dc:description/>
  <dc:language>en-US</dc:language>
  <cp:lastModifiedBy>И В. Яшкова</cp:lastModifiedBy>
  <dcterms:modified xsi:type="dcterms:W3CDTF">2012-08-09T10:58:12Z</dcterms:modified>
  <cp:revision>68</cp:revision>
  <dc:subject/>
  <dc:title>Слайд 1</dc:title>
</cp:coreProperties>
</file>