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BA7-839F-4BAD-9BFB-C995EBC6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BF7-319D-46FF-89C5-508866C4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E77-ECEE-43D6-9484-B43BAB08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7DE-CBBE-499C-B7FD-FC4216E7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16EF-4F70-4F89-8B8B-8DAD4CAD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1DE0-AB41-40F4-9AA9-112083B4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2C4E-F239-4354-84CA-871F3DF7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5309-59D3-444B-9295-C3AD5C7C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74A5-4FB0-4748-8F96-77CF0E02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EDA3-1F67-42A1-ACFB-4BAB0BAF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40D0-21F0-41F0-B8BF-A9491442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141-2BCC-468B-98A7-6906B0DD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A6F4-A7FD-4DD9-B9E0-F370E32A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BE70-80C1-4825-896D-133E4C5E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4ADD-A150-45EE-A845-D471AF00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F879-BD58-4220-97AB-9FC65B38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FFB1-0C07-469F-8AFD-3A8D9324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EA6-0B79-4CCE-9975-49B8C07C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799-E8D0-44B2-8304-D526A8FC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5B9-B7C4-4B59-8CA8-35C315C1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92C-91D8-4999-89CA-30DAED7D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AA5-3233-43AE-B55E-2931B582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84C-8122-4738-973B-E5F19EA3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739-B347-4A89-80BD-AE71C067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09CB-4AA3-4BEC-B67D-2B85FB658D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3B8C-9EC1-4C91-B5FD-A56BDD4BB4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519120" y="1197000"/>
            <a:ext cx="81057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Земля  -  наш общий дом.</a:t>
            </a:r>
            <a:endParaRPr b="0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к учебнику О.Т.Поглазовой, В.Д.Шилина) </a:t>
            </a:r>
            <a:endParaRPr b="0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38512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Животный ми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ы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лекопитающ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емновод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смыкающие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95280" y="213372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395280" y="270828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395280" y="342900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468360" y="4149720"/>
            <a:ext cx="28872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539640" y="472428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539640" y="537372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26560" y="189000"/>
            <a:ext cx="800748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ивот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икие             домаш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 flipH="1">
            <a:off x="2626920" y="1341360"/>
            <a:ext cx="360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5364000" y="1268280"/>
            <a:ext cx="360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11_03"/>
          <p:cNvPicPr/>
          <p:nvPr/>
        </p:nvPicPr>
        <p:blipFill>
          <a:blip r:embed="rId1"/>
          <a:stretch/>
        </p:blipFill>
        <p:spPr>
          <a:xfrm>
            <a:off x="468360" y="2349360"/>
            <a:ext cx="7848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 всех нас </a:t>
            </a: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общий дом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планета Земля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ол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зё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кеа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7e7fd1be4a31"/>
          <p:cNvPicPr/>
          <p:nvPr/>
        </p:nvPicPr>
        <p:blipFill>
          <a:blip r:embed="rId1"/>
          <a:stretch/>
        </p:blipFill>
        <p:spPr>
          <a:xfrm>
            <a:off x="971640" y="1863720"/>
            <a:ext cx="7020000" cy="4994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вещает и обогревает               нашу планету Солнц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32000" y="1989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347840" y="1916280"/>
            <a:ext cx="68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оно создаёт условия для жизни растений, животных, людей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70ed66fa9dae"/>
          <p:cNvPicPr/>
          <p:nvPr/>
        </p:nvPicPr>
        <p:blipFill>
          <a:blip r:embed="rId1"/>
          <a:stretch/>
        </p:blipFill>
        <p:spPr>
          <a:xfrm>
            <a:off x="179280" y="384120"/>
            <a:ext cx="8964720" cy="6473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абота выполнена учителем ГБОУ СОШ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№ 687города Москвы Яшковой И.В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8e6b9fe7b520"/>
          <p:cNvPicPr/>
          <p:nvPr/>
        </p:nvPicPr>
        <p:blipFill>
          <a:blip r:embed="rId1"/>
          <a:stretch/>
        </p:blipFill>
        <p:spPr>
          <a:xfrm>
            <a:off x="0" y="30240"/>
            <a:ext cx="896472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PicsDeskt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т и прошло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замечательное лето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учше лета приятеля не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жалк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автра чуть с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альний путь собирается лет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упаем на поезд билет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лу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ажем лету, как доброму друг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ложи свой отъезд поут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уляй ещё с нами по л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побегай с мячом по двор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быть, уезжаешь не в пор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ы оставь на вокзале бага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броди ещё с нами по б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сходи хоть разочек на пляж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. Приходьк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755640" y="0"/>
            <a:ext cx="7920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угомонный школьный звонок 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овь зовёт за парты,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бы разгадывать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йны природы.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6" descr="zvonok"/>
          <p:cNvPicPr/>
          <p:nvPr/>
        </p:nvPicPr>
        <p:blipFill>
          <a:blip r:embed="rId10"/>
          <a:stretch/>
        </p:blipFill>
        <p:spPr>
          <a:xfrm>
            <a:off x="900000" y="0"/>
            <a:ext cx="2232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Советы ученику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блюд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мышля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следу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нализиру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6080"/>
          <p:cNvPicPr/>
          <p:nvPr/>
        </p:nvPicPr>
        <p:blipFill>
          <a:blip r:embed="rId1"/>
          <a:stretch/>
        </p:blipFill>
        <p:spPr>
          <a:xfrm>
            <a:off x="6156360" y="1557360"/>
            <a:ext cx="2813040" cy="226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d46324f1ee5"/>
          <p:cNvPicPr/>
          <p:nvPr/>
        </p:nvPicPr>
        <p:blipFill>
          <a:blip r:embed="rId2"/>
          <a:stretch/>
        </p:blipFill>
        <p:spPr>
          <a:xfrm>
            <a:off x="826920" y="4869000"/>
            <a:ext cx="31449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кты окружающего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 flipH="1">
            <a:off x="2627280" y="2565360"/>
            <a:ext cx="50472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500364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6948360" y="2492280"/>
            <a:ext cx="3603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932360" y="249228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476360" y="3213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живая природа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659640" y="32846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Живая природа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4292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ворения (изделия) человека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 flipH="1">
            <a:off x="2916360" y="2637000"/>
            <a:ext cx="576000" cy="57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5148360" y="2565360"/>
            <a:ext cx="71892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258920" y="35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икорастущие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651640" y="357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ультурные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8" descr="0005-009-Oduvanchiki"/>
          <p:cNvPicPr/>
          <p:nvPr/>
        </p:nvPicPr>
        <p:blipFill>
          <a:blip r:embed="rId1"/>
          <a:stretch/>
        </p:blipFill>
        <p:spPr>
          <a:xfrm>
            <a:off x="971640" y="4221000"/>
            <a:ext cx="2663640" cy="199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800px-Wheat_close-up"/>
          <p:cNvPicPr/>
          <p:nvPr/>
        </p:nvPicPr>
        <p:blipFill>
          <a:blip r:embed="rId2"/>
          <a:stretch/>
        </p:blipFill>
        <p:spPr>
          <a:xfrm>
            <a:off x="5003640" y="4184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15560"/>
            <a:ext cx="8007480" cy="59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1187280" y="465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116000" y="4581360"/>
            <a:ext cx="35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1116000" y="3141720"/>
            <a:ext cx="345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971640" y="184464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395280" y="5445000"/>
            <a:ext cx="84978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547640" y="400536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692360" y="2492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124000" y="1197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500720" y="98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4356000" y="134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1979640" y="45813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3348000" y="3357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4140360" y="19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9" descr="081fafd8608a190a94b27b278ee9a4c5"/>
          <p:cNvPicPr/>
          <p:nvPr/>
        </p:nvPicPr>
        <p:blipFill>
          <a:blip r:embed="rId1"/>
          <a:stretch/>
        </p:blipFill>
        <p:spPr>
          <a:xfrm>
            <a:off x="3851280" y="4581360"/>
            <a:ext cx="23032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28:17Z</dcterms:created>
  <dc:creator>Вова</dc:creator>
  <dc:description/>
  <dc:language>en-US</dc:language>
  <cp:lastModifiedBy>И В. Яшкова</cp:lastModifiedBy>
  <dcterms:modified xsi:type="dcterms:W3CDTF">2012-08-03T12:14:16Z</dcterms:modified>
  <cp:revision>3</cp:revision>
  <dc:subject/>
  <dc:title>Слайд 1</dc:title>
</cp:coreProperties>
</file>