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BF2-D1B7-4005-82A5-2C131713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9A4-0A33-46C7-ADF9-69E95624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61E-B253-4C97-B324-88AAAA9B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87B-5868-40A1-8C1E-2290DF0D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68D-2784-4068-9349-BE2E081C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113-FED0-4EAB-871F-6B53DA6A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EA8-3D53-4D7C-88E1-9E864F26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5B7-7C81-45E4-A3EE-A86A9BDE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53C-C15A-49EE-9840-96A736E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2EF-9EFB-45D0-B0DC-2021626E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B0A-0ACC-46AA-AB1D-D7D0879C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6E5-8B5E-4CAF-994B-9EF10BC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F12-C5DF-4032-B2B1-19B919D598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1557360"/>
            <a:ext cx="7031160" cy="27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Разнообраз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менений в окружающем мир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Яблоки зреют за 3-4 меся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5" descr="48211996_90a87fbc01e1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уман от реки поднимается около час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s321"/>
          <p:cNvPicPr/>
          <p:nvPr/>
        </p:nvPicPr>
        <p:blipFill>
          <a:blip r:embed="rId1"/>
          <a:stretch/>
        </p:blipFill>
        <p:spPr>
          <a:xfrm>
            <a:off x="1116000" y="1268280"/>
            <a:ext cx="626580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Стрелки часов, двигаясь почти незаметно для глаза, обегают круг за 1час одна и за 12 часов друга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448"/>
          <p:cNvPicPr/>
          <p:nvPr/>
        </p:nvPicPr>
        <p:blipFill>
          <a:blip r:embed="rId1"/>
          <a:stretch/>
        </p:blipFill>
        <p:spPr>
          <a:xfrm>
            <a:off x="1979640" y="1844640"/>
            <a:ext cx="4743360" cy="476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1190235735_clock55"/>
          <p:cNvPicPr/>
          <p:nvPr/>
        </p:nvPicPr>
        <p:blipFill>
          <a:blip r:embed="rId2"/>
          <a:stretch/>
        </p:blipFill>
        <p:spPr>
          <a:xfrm>
            <a:off x="1403280" y="1844640"/>
            <a:ext cx="59864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х поднимается на верх скалы в течение столет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788000" y="1700280"/>
            <a:ext cx="216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684360" y="1125360"/>
            <a:ext cx="1008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SaginaSubulata040730"/>
          <p:cNvPicPr/>
          <p:nvPr/>
        </p:nvPicPr>
        <p:blipFill>
          <a:blip r:embed="rId1"/>
          <a:stretch/>
        </p:blipFill>
        <p:spPr>
          <a:xfrm>
            <a:off x="1476360" y="1916280"/>
            <a:ext cx="5832360" cy="464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0_3f40_8323c8d4_XL"/>
          <p:cNvPicPr/>
          <p:nvPr/>
        </p:nvPicPr>
        <p:blipFill>
          <a:blip r:embed="rId2"/>
          <a:stretch/>
        </p:blipFill>
        <p:spPr>
          <a:xfrm>
            <a:off x="1979640" y="0"/>
            <a:ext cx="50958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идумайте цепочку изменен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раст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грибами        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еко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2556000" y="1197000"/>
            <a:ext cx="720720" cy="71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788000" y="1341360"/>
            <a:ext cx="71280" cy="129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6659640" y="1341360"/>
            <a:ext cx="649080" cy="1366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менения происходящие в жизни людей изучает наука- исто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ревних русских колым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ездили тог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ераках да овраг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дорога, а бе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ворах на постоя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вались ноче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шадей менять устал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с рассветом – в путь оп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 Кончалов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32360" y="2565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99"/>
                </a:solidFill>
                <a:latin typeface="Tahoma"/>
              </a:rPr>
              <a:t>Что изменилось в жизни люд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0_114a_51e5f1f4_XL"/>
          <p:cNvPicPr/>
          <p:nvPr/>
        </p:nvPicPr>
        <p:blipFill>
          <a:blip r:embed="rId1"/>
          <a:stretch/>
        </p:blipFill>
        <p:spPr>
          <a:xfrm>
            <a:off x="395280" y="333360"/>
            <a:ext cx="7986600" cy="630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выполнена учителем ГБОУ СОШ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№ 687города Москвы Яшковой И.В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Назовите изменения, произошедшие в природ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закатом набежа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лесом облако -  и вдру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згорье радуга упа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засверкало всё вокр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клянный, редкий и ядрён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весёлым шорохом спеш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мчался дождь, и лес зелё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их, прохладою дыш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.Бун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7" descr="photo-8696"/>
          <p:cNvPicPr/>
          <p:nvPr/>
        </p:nvPicPr>
        <p:blipFill>
          <a:blip r:embed="rId1"/>
          <a:stretch/>
        </p:blipFill>
        <p:spPr>
          <a:xfrm>
            <a:off x="684360" y="1197000"/>
            <a:ext cx="7488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ъекты природы изменяютс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времен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и по с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воздействием разнообразной деятельности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порой деятельность человека наносит непоправимый ущерб природ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ак может измениться рек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грязн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л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аситься посаженым по берегам ле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186655"/>
          <p:cNvPicPr/>
          <p:nvPr/>
        </p:nvPicPr>
        <p:blipFill>
          <a:blip r:embed="rId1"/>
          <a:stretch/>
        </p:blipFill>
        <p:spPr>
          <a:xfrm>
            <a:off x="5940360" y="1413000"/>
            <a:ext cx="25210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ногообразие изменени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иное яйц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ё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ивый селез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utka_ico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279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0a18b874ab0859f5b4e2472774e1d38f"/>
          <p:cNvPicPr/>
          <p:nvPr/>
        </p:nvPicPr>
        <p:blipFill>
          <a:blip r:embed="rId2"/>
          <a:stretch/>
        </p:blipFill>
        <p:spPr>
          <a:xfrm>
            <a:off x="4822920" y="1484280"/>
            <a:ext cx="4321080" cy="279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42656"/>
          <p:cNvPicPr/>
          <p:nvPr/>
        </p:nvPicPr>
        <p:blipFill>
          <a:blip r:embed="rId3"/>
          <a:stretch/>
        </p:blipFill>
        <p:spPr>
          <a:xfrm>
            <a:off x="1116000" y="2276640"/>
            <a:ext cx="446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стущее дерево обгоняет д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publication_86962_img1"/>
          <p:cNvPicPr/>
          <p:nvPr/>
        </p:nvPicPr>
        <p:blipFill>
          <a:blip r:embed="rId1"/>
          <a:stretch/>
        </p:blipFill>
        <p:spPr>
          <a:xfrm>
            <a:off x="1547640" y="1989000"/>
            <a:ext cx="568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Летний зной сменяется проливным дождём и пришедшей после него прохладой и свежестью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dsd"/>
          <p:cNvPicPr/>
          <p:nvPr/>
        </p:nvPicPr>
        <p:blipFill>
          <a:blip r:embed="rId1"/>
          <a:stretch/>
        </p:blipFill>
        <p:spPr>
          <a:xfrm>
            <a:off x="0" y="1989000"/>
            <a:ext cx="5486400" cy="356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ojdik"/>
          <p:cNvPicPr/>
          <p:nvPr/>
        </p:nvPicPr>
        <p:blipFill>
          <a:blip r:embed="rId2"/>
          <a:stretch/>
        </p:blipFill>
        <p:spPr>
          <a:xfrm>
            <a:off x="5292720" y="1989000"/>
            <a:ext cx="3705120" cy="360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дождь анимация"/>
          <p:cNvPicPr/>
          <p:nvPr/>
        </p:nvPicPr>
        <p:blipFill>
          <a:blip r:embed="rId3"/>
          <a:stretch/>
        </p:blipFill>
        <p:spPr>
          <a:xfrm>
            <a:off x="1908000" y="1989000"/>
            <a:ext cx="5616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дни изменения протекают быстро, а другие медленн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1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яблоки зреют в сад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месяцы зреют в год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всходит туман у ре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в гору бредут старик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движутся стрелки час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ржавчина точит зас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дленно – медленней всех на земл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х поднимается вверх по скал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Рив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1c9c26164dde"/>
          <p:cNvPicPr/>
          <p:nvPr/>
        </p:nvPicPr>
        <p:blipFill>
          <a:blip r:embed="rId1"/>
          <a:stretch/>
        </p:blipFill>
        <p:spPr>
          <a:xfrm>
            <a:off x="7380360" y="404640"/>
            <a:ext cx="15112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0_10b86_7fe189f2_XL"/>
          <p:cNvPicPr/>
          <p:nvPr/>
        </p:nvPicPr>
        <p:blipFill>
          <a:blip r:embed="rId2"/>
          <a:stretch/>
        </p:blipFill>
        <p:spPr>
          <a:xfrm>
            <a:off x="7385040" y="2060640"/>
            <a:ext cx="1758960" cy="97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317525_0"/>
          <p:cNvPicPr/>
          <p:nvPr/>
        </p:nvPicPr>
        <p:blipFill>
          <a:blip r:embed="rId3"/>
          <a:stretch/>
        </p:blipFill>
        <p:spPr>
          <a:xfrm>
            <a:off x="7451640" y="3141720"/>
            <a:ext cx="14702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oss-tree-hoh_299_600x450"/>
          <p:cNvPicPr/>
          <p:nvPr/>
        </p:nvPicPr>
        <p:blipFill>
          <a:blip r:embed="rId4"/>
          <a:stretch/>
        </p:blipFill>
        <p:spPr>
          <a:xfrm>
            <a:off x="7473960" y="4797360"/>
            <a:ext cx="16700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44:49Z</dcterms:created>
  <dc:creator>Вова</dc:creator>
  <dc:description/>
  <dc:language>en-US</dc:language>
  <cp:lastModifiedBy>И В. Яшкова</cp:lastModifiedBy>
  <dcterms:modified xsi:type="dcterms:W3CDTF">2012-08-03T12:22:11Z</dcterms:modified>
  <cp:revision>3</cp:revision>
  <dc:subject/>
  <dc:title>Слайд 1</dc:title>
</cp:coreProperties>
</file>