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F90-F25F-4BE3-9086-8FAA0C86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115-9FA2-400E-BCFA-61321A45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381-8090-4BC9-A12F-1113771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D2B-FB5E-4C81-93EC-509AFF57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37A-A82F-4AAA-9EC0-2EC30A9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689-492E-4D89-9EA7-4A4430E2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031-BB7D-4D50-9D5B-DFACA95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900-3CD6-44AD-80F3-93F7340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E6C-236A-43D5-9ED9-D894CBE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1CA-0B2A-4EE7-9E37-42E5B26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158-6F8C-4084-8C70-812DA15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43C-2A84-41A5-9112-6B75185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B575-F485-43A1-B886-E6C1A136F7E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024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кружающий мир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         3 класс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ма: Органы пищевар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51280" y="6021360"/>
            <a:ext cx="1368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пофантазировать и нарисовать человека с прямым кишечником, то получится…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092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Грудь, шея, голова – полметр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Тело – 8 метров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Ноги – 1 метр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и печ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050920" y="1125360"/>
          <a:ext cx="4465800" cy="34722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Запас углеводов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ыделение желч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Запас кров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83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Удаление ядов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51" descr="chaf"/>
          <p:cNvPicPr/>
          <p:nvPr/>
        </p:nvPicPr>
        <p:blipFill>
          <a:blip r:embed="rId1"/>
          <a:stretch/>
        </p:blipFill>
        <p:spPr>
          <a:xfrm>
            <a:off x="7093080" y="0"/>
            <a:ext cx="18288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назначении разных зуб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троение зубов разное и они по-разному измельчают пищу: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резцы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разрезают (раскусывают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ренные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еретирают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лыки – 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разрывают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нимание!</a:t>
            </a: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 Эмаль зубов может разрушаться при чрезмерном употреблении сладкого, при резкой смене горячей и холодной пищи…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70" name="Picture 4" descr="af3_XL"/>
          <p:cNvPicPr/>
          <p:nvPr/>
        </p:nvPicPr>
        <p:blipFill>
          <a:blip r:embed="rId1"/>
          <a:stretch/>
        </p:blipFill>
        <p:spPr>
          <a:xfrm>
            <a:off x="7020000" y="2637000"/>
            <a:ext cx="2124000" cy="15969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бота о своей пищеварительной систем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1.Тщательно пережёвывай пищу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2.Полоскай рот после каждого приёма пищ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3.Во время еды не отвлекайся на чтение, телевизор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4.Не раскусывай твёрдые предметы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5. Для укрепления зубов ешь сырые овощ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лочные продукты в крестослов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84360" y="2924280"/>
          <a:ext cx="4319640" cy="457200"/>
        </p:xfrm>
        <a:graphic>
          <a:graphicData uri="http://schemas.openxmlformats.org/drawingml/2006/table">
            <a:tbl>
              <a:tblPr/>
              <a:tblGrid>
                <a:gridCol w="392040"/>
                <a:gridCol w="393840"/>
                <a:gridCol w="392040"/>
                <a:gridCol w="392040"/>
                <a:gridCol w="392400"/>
                <a:gridCol w="395280"/>
                <a:gridCol w="392040"/>
                <a:gridCol w="392040"/>
                <a:gridCol w="392040"/>
                <a:gridCol w="393840"/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т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к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ш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36"/>
          <p:cNvSpPr/>
          <p:nvPr/>
        </p:nvSpPr>
        <p:spPr>
          <a:xfrm>
            <a:off x="291636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3276720" y="3357720"/>
            <a:ext cx="43164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38"/>
          <p:cNvSpPr/>
          <p:nvPr/>
        </p:nvSpPr>
        <p:spPr>
          <a:xfrm>
            <a:off x="2916360" y="1197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Rectangle 39"/>
          <p:cNvSpPr/>
          <p:nvPr/>
        </p:nvSpPr>
        <p:spPr>
          <a:xfrm>
            <a:off x="291636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Rectangle 40"/>
          <p:cNvSpPr/>
          <p:nvPr/>
        </p:nvSpPr>
        <p:spPr>
          <a:xfrm>
            <a:off x="291636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6" name="Rectangle 41"/>
          <p:cNvSpPr/>
          <p:nvPr/>
        </p:nvSpPr>
        <p:spPr>
          <a:xfrm>
            <a:off x="291636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7" name="Rectangle 42"/>
          <p:cNvSpPr/>
          <p:nvPr/>
        </p:nvSpPr>
        <p:spPr>
          <a:xfrm>
            <a:off x="3276720" y="3789360"/>
            <a:ext cx="43164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Rectangle 43"/>
          <p:cNvSpPr/>
          <p:nvPr/>
        </p:nvSpPr>
        <p:spPr>
          <a:xfrm>
            <a:off x="370836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44"/>
          <p:cNvSpPr/>
          <p:nvPr/>
        </p:nvSpPr>
        <p:spPr>
          <a:xfrm>
            <a:off x="406728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45"/>
          <p:cNvSpPr/>
          <p:nvPr/>
        </p:nvSpPr>
        <p:spPr>
          <a:xfrm>
            <a:off x="406728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46"/>
          <p:cNvSpPr/>
          <p:nvPr/>
        </p:nvSpPr>
        <p:spPr>
          <a:xfrm>
            <a:off x="406728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3276720" y="1628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Rectangle 48"/>
          <p:cNvSpPr/>
          <p:nvPr/>
        </p:nvSpPr>
        <p:spPr>
          <a:xfrm>
            <a:off x="3276720" y="206064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Rectangle 49"/>
          <p:cNvSpPr/>
          <p:nvPr/>
        </p:nvSpPr>
        <p:spPr>
          <a:xfrm>
            <a:off x="3276720" y="2492280"/>
            <a:ext cx="3585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Rectangle 50"/>
          <p:cNvSpPr/>
          <p:nvPr/>
        </p:nvSpPr>
        <p:spPr>
          <a:xfrm>
            <a:off x="485928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Rectangle 51"/>
          <p:cNvSpPr/>
          <p:nvPr/>
        </p:nvSpPr>
        <p:spPr>
          <a:xfrm>
            <a:off x="370836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406728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406728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406728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5219640" y="249228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3276720" y="3789360"/>
            <a:ext cx="43164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4859280" y="4653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485928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85928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5219640" y="4653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Rectangle 62"/>
          <p:cNvSpPr/>
          <p:nvPr/>
        </p:nvSpPr>
        <p:spPr>
          <a:xfrm>
            <a:off x="5219640" y="422100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Rectangle 63"/>
          <p:cNvSpPr/>
          <p:nvPr/>
        </p:nvSpPr>
        <p:spPr>
          <a:xfrm>
            <a:off x="5219640" y="3789360"/>
            <a:ext cx="360360" cy="4334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Rectangle 64"/>
          <p:cNvSpPr/>
          <p:nvPr/>
        </p:nvSpPr>
        <p:spPr>
          <a:xfrm>
            <a:off x="5219640" y="3357720"/>
            <a:ext cx="360360" cy="43308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9" name="Picture 65" descr="2"/>
          <p:cNvPicPr/>
          <p:nvPr/>
        </p:nvPicPr>
        <p:blipFill>
          <a:blip r:embed="rId1"/>
          <a:stretch/>
        </p:blipFill>
        <p:spPr>
          <a:xfrm>
            <a:off x="6156360" y="836640"/>
            <a:ext cx="2592360" cy="19494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Rectangle 6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гадай ключевое сло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7854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 желудка по измельчению и перемешиванию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и зубов по перетиранию, разрезанию, раскалыванию твёрдой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зубов по пережёвыванию мяс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71640" y="2060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миксер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042920" y="393372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ёрка, нож, щипц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979640" y="5229360"/>
            <a:ext cx="39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116000" y="544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мясорубк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68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к для кипячения вод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зубов по пережёвыванию вареной картошк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мощница по приготовлению и согреванию пищи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876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187280" y="1700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чайни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332000" y="31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олкушк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03280" y="450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лит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35" name="Picture 4" descr="kon"/>
          <p:cNvPicPr/>
          <p:nvPr/>
        </p:nvPicPr>
        <p:blipFill>
          <a:blip r:embed="rId1"/>
          <a:stretch/>
        </p:blipFill>
        <p:spPr>
          <a:xfrm>
            <a:off x="2268360" y="2060640"/>
            <a:ext cx="4753080" cy="3645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Работа выполнена учителем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ГБОУ СОШ №687города Москвы Яшковой И.В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чего необходимо питатьс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итание необходимо, чтобы: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хранить постоянную температуру тел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ддержать работу всех органов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двигаться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итание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– один из важнейших процессов в жизни любого организм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95280" y="3716280"/>
            <a:ext cx="647640" cy="432000"/>
          </a:xfrm>
          <a:custGeom>
            <a:avLst/>
            <a:gdLst>
              <a:gd name="textAreaLeft" fmla="*/ 266760 w 647640"/>
              <a:gd name="textAreaRight" fmla="*/ 380880 w 64764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539640" y="2637000"/>
            <a:ext cx="432000" cy="287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11280" y="1700280"/>
            <a:ext cx="360360" cy="216000"/>
          </a:xfrm>
          <a:custGeom>
            <a:avLst/>
            <a:gdLst>
              <a:gd name="textAreaLeft" fmla="*/ 148320 w 360360"/>
              <a:gd name="textAreaRight" fmla="*/ 212040 w 360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11280" y="3141720"/>
            <a:ext cx="504720" cy="358560"/>
          </a:xfrm>
          <a:custGeom>
            <a:avLst/>
            <a:gdLst>
              <a:gd name="textAreaLeft" fmla="*/ 208080 w 504720"/>
              <a:gd name="textAreaRight" fmla="*/ 296640 w 50472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еобходимо организму для роста и разви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Белки (для работы мозга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Минеральные соли (для роста и укрепления костей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Жиры           «топливо организма»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Углевод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итамины (для увеличения числа клеток, для восполнения разрушающихся клеток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124000" y="2781360"/>
            <a:ext cx="1152720" cy="712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2700000" y="2852640"/>
            <a:ext cx="576360" cy="505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де содержатс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332000" y="1341360"/>
          <a:ext cx="6912000" cy="4213440"/>
        </p:xfrm>
        <a:graphic>
          <a:graphicData uri="http://schemas.openxmlformats.org/drawingml/2006/table">
            <a:tbl>
              <a:tblPr/>
              <a:tblGrid>
                <a:gridCol w="2741400"/>
                <a:gridCol w="41706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Белки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ясо, творог, яйца, рыба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инеральные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ол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ыр, бананы, какао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Жиры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Масло, орехи, шоколад, сметана, сливки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Углеводы 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Хлеб, сахар, крупы, ягоды, фрукты, картофель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36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Rectangle 37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дукты, которые необходимы челове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оль, сахар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молочные и мясные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родукт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 в о щ и     и    ф р у к т ы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хлебные   продукты       и       крупы     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843280" y="1628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835280" y="2565360"/>
            <a:ext cx="51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042920" y="3068640"/>
            <a:ext cx="7058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611280" y="3789360"/>
            <a:ext cx="813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5219640" y="765000"/>
            <a:ext cx="36734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95280" y="836640"/>
            <a:ext cx="273672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836640"/>
            <a:ext cx="216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84360" y="407664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обходимо наличие в пищи разнообразных продукто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таки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гетарианц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07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Вегетарианцами называют людей, которые для укрепления своего здоровья питаются только растительной пищей (и растительными жирами)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28" name="Picture 4" descr="рe4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535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па"/>
          <p:cNvPicPr/>
          <p:nvPr/>
        </p:nvPicPr>
        <p:blipFill>
          <a:blip r:embed="rId2"/>
          <a:stretch/>
        </p:blipFill>
        <p:spPr>
          <a:xfrm>
            <a:off x="2771640" y="2997360"/>
            <a:ext cx="3986280" cy="2665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5724360" y="2997360"/>
            <a:ext cx="10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продукты считаю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кологичес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Считаются экологически чистыми продукты из растений и мяса животных, выращенных в незагрязнённой промышленными отходами местности, на почве, не отравленной удобрения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24720" y="6524640"/>
            <a:ext cx="1619280" cy="333360"/>
          </a:xfrm>
          <a:prstGeom prst="rect">
            <a:avLst/>
          </a:prstGeom>
          <a:solidFill>
            <a:srgbClr val="c0c0c0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-96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ищева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686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ищевод                                 желудок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ечень                                   кишечник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поджелудочная                                             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железа                     двенадцатиперстная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                                   </a:t>
            </a: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ишка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42" name="Picture 7" descr="830471"/>
          <p:cNvPicPr/>
          <p:nvPr/>
        </p:nvPicPr>
        <p:blipFill>
          <a:blip r:embed="rId1"/>
          <a:stretch/>
        </p:blipFill>
        <p:spPr>
          <a:xfrm>
            <a:off x="2916360" y="1268280"/>
            <a:ext cx="2981160" cy="3019680"/>
          </a:xfrm>
          <a:prstGeom prst="rect">
            <a:avLst/>
          </a:prstGeom>
          <a:ln w="0">
            <a:noFill/>
          </a:ln>
        </p:spPr>
      </p:pic>
      <p:sp>
        <p:nvSpPr>
          <p:cNvPr id="143" name="Line 8"/>
          <p:cNvSpPr/>
          <p:nvPr/>
        </p:nvSpPr>
        <p:spPr>
          <a:xfrm flipH="1">
            <a:off x="5292360" y="1844640"/>
            <a:ext cx="1150920" cy="504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 flipV="1">
            <a:off x="2340000" y="1484280"/>
            <a:ext cx="251928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124000" y="2349360"/>
            <a:ext cx="1295640" cy="432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4140000" y="2997360"/>
            <a:ext cx="2160360" cy="2156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Зубы и язык (слюна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ищевод 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Желудок (желудочный сок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Печень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Verdana"/>
              </a:rPr>
              <a:t>Тонкая кишка (чтобы успеть передать в кровь все выделенные из пищи питательные вещества, тонкие кишки плотно уложены в животе, их длина семь с половиной метров)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250920" y="105264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50920" y="1628640"/>
            <a:ext cx="217440" cy="50508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50920" y="220500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0920" y="2781360"/>
            <a:ext cx="217440" cy="504720"/>
          </a:xfrm>
          <a:custGeom>
            <a:avLst/>
            <a:gdLst>
              <a:gd name="textAreaLeft" fmla="*/ 29160 w 217440"/>
              <a:gd name="textAreaRight" fmla="*/ 188280 w 2174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b9ad9">
              <a:alpha val="68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7164360" y="0"/>
            <a:ext cx="1979640" cy="260280"/>
          </a:xfrm>
          <a:prstGeom prst="rect">
            <a:avLst/>
          </a:prstGeom>
          <a:solidFill>
            <a:srgbClr val="1b9ad9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9:53:59Z</dcterms:created>
  <dc:creator>NickOn</dc:creator>
  <dc:description/>
  <dc:language>en-US</dc:language>
  <cp:lastModifiedBy>И В. Яшкова</cp:lastModifiedBy>
  <dcterms:modified xsi:type="dcterms:W3CDTF">2012-08-03T12:48:00Z</dcterms:modified>
  <cp:revision>4</cp:revision>
  <dc:subject/>
  <dc:title>Окружающий мир              3 класс Тема: Органы пищеварения</dc:title>
</cp:coreProperties>
</file>