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614-021A-43D0-881E-8BCA5A14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EE1-E677-4FAC-8695-779F1DB4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8AF-74F6-4C32-B944-893B08CC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C698-9B98-4EEE-9FD5-6A69C597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07DC-4FD2-4340-B1F3-C2967FDD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928C-96BD-48F6-9261-065CDDF6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F7CC-91B5-47E7-A637-32F58BB6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BEE8-DB9A-463B-8A5D-20A512A2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9BB2-A3C7-4E07-91E9-2C87BB8F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B479-019A-47DC-BE8D-33C432D7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EB7-162A-4BBA-8694-AF94B206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554F-02E1-4CA2-8A16-118E5600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Object 3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Rectangle 4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1b9a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82E6-DE3D-4139-A638-6899DAB96DA0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0244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кружающий мир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           3 класс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ема: Органы пищевар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851280" y="6021360"/>
            <a:ext cx="136836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пофантазировать и нарисовать человека с прямым кишечником, то получится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6092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Грудь, шея, голова – полметра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Тело – 8 метров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Ноги – 1 метр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ункции печ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050920" y="1125360"/>
          <a:ext cx="4465800" cy="347220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Запас углеводов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Выделение желчи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Запас крови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Удаление ядов 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Picture 51" descr="chaf"/>
          <p:cNvPicPr/>
          <p:nvPr/>
        </p:nvPicPr>
        <p:blipFill>
          <a:blip r:embed="rId1"/>
          <a:stretch/>
        </p:blipFill>
        <p:spPr>
          <a:xfrm>
            <a:off x="7093080" y="0"/>
            <a:ext cx="18288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 назначении разных зуб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Строение зубов разное и они по-разному измельчают пищу: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резцы – </a:t>
            </a: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разрезают (раскусывают)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оренные – </a:t>
            </a: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перетирают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лыки – </a:t>
            </a: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разрывают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Внимание!</a:t>
            </a: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 Эмаль зубов может разрушаться при чрезмерном употреблении сладкого, при резкой смене горячей и холодной пищи…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170" name="Picture 4" descr="af3_XL"/>
          <p:cNvPicPr/>
          <p:nvPr/>
        </p:nvPicPr>
        <p:blipFill>
          <a:blip r:embed="rId1"/>
          <a:stretch/>
        </p:blipFill>
        <p:spPr>
          <a:xfrm>
            <a:off x="7020000" y="2637000"/>
            <a:ext cx="2124000" cy="15969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бота о своей пищеварительной систем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1.Тщательно пережёвывай пищу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2.Полоскай рот после каждого приёма пищ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3.Во время еды не отвлекайся на чтение, телевизор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4.Не раскусывай твёрдые предметы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5. Для укрепления зубов ешь сырые овощ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лочные продукты в крестослов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484360" y="2924280"/>
          <a:ext cx="4319640" cy="457200"/>
        </p:xfrm>
        <a:graphic>
          <a:graphicData uri="http://schemas.openxmlformats.org/drawingml/2006/table">
            <a:tbl>
              <a:tblPr/>
              <a:tblGrid>
                <a:gridCol w="392040"/>
                <a:gridCol w="393840"/>
                <a:gridCol w="392040"/>
                <a:gridCol w="392040"/>
                <a:gridCol w="392400"/>
                <a:gridCol w="395280"/>
                <a:gridCol w="392040"/>
                <a:gridCol w="392040"/>
                <a:gridCol w="392040"/>
                <a:gridCol w="393840"/>
                <a:gridCol w="392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р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с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т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к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в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а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ш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а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Rectangle 36"/>
          <p:cNvSpPr/>
          <p:nvPr/>
        </p:nvSpPr>
        <p:spPr>
          <a:xfrm>
            <a:off x="2916360" y="3357720"/>
            <a:ext cx="360360" cy="43308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Rectangle 37"/>
          <p:cNvSpPr/>
          <p:nvPr/>
        </p:nvSpPr>
        <p:spPr>
          <a:xfrm>
            <a:off x="3276720" y="3357720"/>
            <a:ext cx="431640" cy="43308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Rectangle 38"/>
          <p:cNvSpPr/>
          <p:nvPr/>
        </p:nvSpPr>
        <p:spPr>
          <a:xfrm>
            <a:off x="2916360" y="119700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Rectangle 39"/>
          <p:cNvSpPr/>
          <p:nvPr/>
        </p:nvSpPr>
        <p:spPr>
          <a:xfrm>
            <a:off x="2916360" y="162864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Rectangle 40"/>
          <p:cNvSpPr/>
          <p:nvPr/>
        </p:nvSpPr>
        <p:spPr>
          <a:xfrm>
            <a:off x="2916360" y="206064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6" name="Rectangle 41"/>
          <p:cNvSpPr/>
          <p:nvPr/>
        </p:nvSpPr>
        <p:spPr>
          <a:xfrm>
            <a:off x="2916360" y="249228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7" name="Rectangle 42"/>
          <p:cNvSpPr/>
          <p:nvPr/>
        </p:nvSpPr>
        <p:spPr>
          <a:xfrm>
            <a:off x="3276720" y="3789360"/>
            <a:ext cx="43164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8" name="Rectangle 43"/>
          <p:cNvSpPr/>
          <p:nvPr/>
        </p:nvSpPr>
        <p:spPr>
          <a:xfrm>
            <a:off x="3708360" y="3357720"/>
            <a:ext cx="360360" cy="43308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9" name="Rectangle 44"/>
          <p:cNvSpPr/>
          <p:nvPr/>
        </p:nvSpPr>
        <p:spPr>
          <a:xfrm>
            <a:off x="4067280" y="162864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0" name="Rectangle 45"/>
          <p:cNvSpPr/>
          <p:nvPr/>
        </p:nvSpPr>
        <p:spPr>
          <a:xfrm>
            <a:off x="4067280" y="206064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46"/>
          <p:cNvSpPr/>
          <p:nvPr/>
        </p:nvSpPr>
        <p:spPr>
          <a:xfrm>
            <a:off x="4067280" y="249228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3276720" y="162864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Rectangle 48"/>
          <p:cNvSpPr/>
          <p:nvPr/>
        </p:nvSpPr>
        <p:spPr>
          <a:xfrm>
            <a:off x="3276720" y="206064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4" name="Rectangle 49"/>
          <p:cNvSpPr/>
          <p:nvPr/>
        </p:nvSpPr>
        <p:spPr>
          <a:xfrm>
            <a:off x="3276720" y="2492280"/>
            <a:ext cx="3585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5" name="Rectangle 50"/>
          <p:cNvSpPr/>
          <p:nvPr/>
        </p:nvSpPr>
        <p:spPr>
          <a:xfrm>
            <a:off x="4859280" y="3357720"/>
            <a:ext cx="360360" cy="43308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Rectangle 51"/>
          <p:cNvSpPr/>
          <p:nvPr/>
        </p:nvSpPr>
        <p:spPr>
          <a:xfrm>
            <a:off x="3708360" y="378936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4067280" y="422100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Rectangle 53"/>
          <p:cNvSpPr/>
          <p:nvPr/>
        </p:nvSpPr>
        <p:spPr>
          <a:xfrm>
            <a:off x="4067280" y="378936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9" name="Rectangle 54"/>
          <p:cNvSpPr/>
          <p:nvPr/>
        </p:nvSpPr>
        <p:spPr>
          <a:xfrm>
            <a:off x="4067280" y="3357720"/>
            <a:ext cx="360360" cy="43308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Rectangle 55"/>
          <p:cNvSpPr/>
          <p:nvPr/>
        </p:nvSpPr>
        <p:spPr>
          <a:xfrm>
            <a:off x="5219640" y="249228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1" name="Rectangle 56"/>
          <p:cNvSpPr/>
          <p:nvPr/>
        </p:nvSpPr>
        <p:spPr>
          <a:xfrm>
            <a:off x="3276720" y="3789360"/>
            <a:ext cx="43164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2" name="Rectangle 57"/>
          <p:cNvSpPr/>
          <p:nvPr/>
        </p:nvSpPr>
        <p:spPr>
          <a:xfrm>
            <a:off x="4859280" y="465300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Rectangle 58"/>
          <p:cNvSpPr/>
          <p:nvPr/>
        </p:nvSpPr>
        <p:spPr>
          <a:xfrm>
            <a:off x="4859280" y="422100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Rectangle 59"/>
          <p:cNvSpPr/>
          <p:nvPr/>
        </p:nvSpPr>
        <p:spPr>
          <a:xfrm>
            <a:off x="4859280" y="378936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Rectangle 60"/>
          <p:cNvSpPr/>
          <p:nvPr/>
        </p:nvSpPr>
        <p:spPr>
          <a:xfrm>
            <a:off x="5219640" y="465300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Rectangle 62"/>
          <p:cNvSpPr/>
          <p:nvPr/>
        </p:nvSpPr>
        <p:spPr>
          <a:xfrm>
            <a:off x="5219640" y="422100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Rectangle 63"/>
          <p:cNvSpPr/>
          <p:nvPr/>
        </p:nvSpPr>
        <p:spPr>
          <a:xfrm>
            <a:off x="5219640" y="378936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Rectangle 64"/>
          <p:cNvSpPr/>
          <p:nvPr/>
        </p:nvSpPr>
        <p:spPr>
          <a:xfrm>
            <a:off x="5219640" y="3357720"/>
            <a:ext cx="360360" cy="43308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09" name="Picture 65" descr="2"/>
          <p:cNvPicPr/>
          <p:nvPr/>
        </p:nvPicPr>
        <p:blipFill>
          <a:blip r:embed="rId1"/>
          <a:stretch/>
        </p:blipFill>
        <p:spPr>
          <a:xfrm>
            <a:off x="6156360" y="836640"/>
            <a:ext cx="2592360" cy="19494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6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Rectangle 67"/>
          <p:cNvSpPr/>
          <p:nvPr/>
        </p:nvSpPr>
        <p:spPr>
          <a:xfrm>
            <a:off x="7524720" y="6524640"/>
            <a:ext cx="1619280" cy="3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гадай ключевое сло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1076400"/>
            <a:ext cx="878544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Помощник желудка по измельчению и перемешиванию пищи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Помощники зубов по перетиранию, разрезанию, раскалыванию твёрдой пищи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Помощница зубов по пережёвыванию мяса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971640" y="2060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миксер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1042920" y="393372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тёрка, нож, щипцы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1979640" y="522936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1116000" y="5445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мясорубка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7524720" y="6524640"/>
            <a:ext cx="1619280" cy="3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6868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Помощник для кипячения воды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Помощница зубов по пережёвыванию вареной картошки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Помощница по приготовлению и согреванию пищи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5876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187280" y="1700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чайни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332000" y="314172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толкушка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403280" y="4508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плита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181620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7524720" y="6524640"/>
            <a:ext cx="1619280" cy="3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35" name="Picture 4" descr="kon"/>
          <p:cNvPicPr/>
          <p:nvPr/>
        </p:nvPicPr>
        <p:blipFill>
          <a:blip r:embed="rId1"/>
          <a:stretch/>
        </p:blipFill>
        <p:spPr>
          <a:xfrm>
            <a:off x="2268360" y="2060640"/>
            <a:ext cx="4753080" cy="3645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Работа выполнена учителем 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ГБОУ СОШ №687города Москвы Яшковой И.В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7524720" y="6524640"/>
            <a:ext cx="1619280" cy="3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чего необходимо питатьс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528d"/>
                </a:solidFill>
                <a:latin typeface="Verdana"/>
              </a:rPr>
              <a:t>Питание необходимо, чтобы: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сохранить постоянную температуру тела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поддержать работу всех органов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двигаться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итание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– один из важнейших процессов в жизни любого организма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395280" y="3716280"/>
            <a:ext cx="647640" cy="432000"/>
          </a:xfrm>
          <a:custGeom>
            <a:avLst/>
            <a:gdLst>
              <a:gd name="textAreaLeft" fmla="*/ 266760 w 647640"/>
              <a:gd name="textAreaRight" fmla="*/ 380880 w 64764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1b9ad9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539640" y="2637000"/>
            <a:ext cx="432000" cy="287280"/>
          </a:xfrm>
          <a:custGeom>
            <a:avLst/>
            <a:gdLst>
              <a:gd name="textAreaLeft" fmla="*/ 177840 w 432000"/>
              <a:gd name="textAreaRight" fmla="*/ 254160 w 432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1b9ad9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611280" y="1700280"/>
            <a:ext cx="360360" cy="216000"/>
          </a:xfrm>
          <a:custGeom>
            <a:avLst/>
            <a:gdLst>
              <a:gd name="textAreaLeft" fmla="*/ 148320 w 360360"/>
              <a:gd name="textAreaRight" fmla="*/ 212040 w 36036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1b9ad9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611280" y="3141720"/>
            <a:ext cx="504720" cy="358560"/>
          </a:xfrm>
          <a:custGeom>
            <a:avLst/>
            <a:gdLst>
              <a:gd name="textAreaLeft" fmla="*/ 208080 w 504720"/>
              <a:gd name="textAreaRight" fmla="*/ 296640 w 504720"/>
              <a:gd name="textAreaTop" fmla="*/ 147600 h 358560"/>
              <a:gd name="textAreaBottom" fmla="*/ 2109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1b9ad9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7524720" y="6524640"/>
            <a:ext cx="1619280" cy="3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еобходимо организму для роста и развити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Белки (для работы мозга)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Минеральные соли (для роста и укрепления костей)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Жиры           «топливо организма»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Углеводы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Витамины (для увеличения числа клеток, для восполнения разрушающихся клеток)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2124000" y="2781360"/>
            <a:ext cx="1152720" cy="712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 flipH="1">
            <a:off x="2700000" y="2852640"/>
            <a:ext cx="576360" cy="5050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524720" y="6524640"/>
            <a:ext cx="1619280" cy="3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де содержатс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332000" y="1341360"/>
          <a:ext cx="6912000" cy="4213440"/>
        </p:xfrm>
        <a:graphic>
          <a:graphicData uri="http://schemas.openxmlformats.org/drawingml/2006/table">
            <a:tbl>
              <a:tblPr/>
              <a:tblGrid>
                <a:gridCol w="2741400"/>
                <a:gridCol w="417060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Белки 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Мясо, творог, яйца, рыба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Минеральные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соли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Сыр, бананы, какао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Жиры 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Масло, орехи, шоколад, сметана, сливки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Углеводы 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Хлеб, сахар, крупы, ягоды, фрукты, картофель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36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Rectangle 37"/>
          <p:cNvSpPr/>
          <p:nvPr/>
        </p:nvSpPr>
        <p:spPr>
          <a:xfrm>
            <a:off x="7524720" y="6524640"/>
            <a:ext cx="1619280" cy="3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дукты, которые необходимы челове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              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соль, сахар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       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молочные и мясные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              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продукты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   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о в о щ и     и    ф р у к т ы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хлебные   продукты       и       крупы      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2843280" y="1628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1835280" y="2565360"/>
            <a:ext cx="51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1042920" y="3068640"/>
            <a:ext cx="7058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611280" y="3789360"/>
            <a:ext cx="813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5219640" y="765000"/>
            <a:ext cx="367344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95280" y="836640"/>
            <a:ext cx="2736720" cy="30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3132000" y="836640"/>
            <a:ext cx="21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684360" y="407664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обходимо наличие в пищи разнообразных продуктов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7524720" y="6524640"/>
            <a:ext cx="1619280" cy="3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то таки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егетарианц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76400"/>
            <a:ext cx="850752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Вегетарианцами называют людей, которые для укрепления своего здоровья питаются только растительной пищей (и растительными жирами)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128" name="Picture 4" descr="рe4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535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па"/>
          <p:cNvPicPr/>
          <p:nvPr/>
        </p:nvPicPr>
        <p:blipFill>
          <a:blip r:embed="rId2"/>
          <a:stretch/>
        </p:blipFill>
        <p:spPr>
          <a:xfrm>
            <a:off x="2771640" y="2997360"/>
            <a:ext cx="3986280" cy="2665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5724360" y="2997360"/>
            <a:ext cx="1008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7524720" y="6524640"/>
            <a:ext cx="1619280" cy="3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продукты считаю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экологичес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исты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Считаются экологически чистыми продукты из растений и мяса животных, выращенных в незагрязнённой промышленными отходами местности, на почве, не отравленной удобрениям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7524720" y="6524640"/>
            <a:ext cx="1619280" cy="3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 пищева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6868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пищевод                                 желудок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печень                                   кишечник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поджелудочная                                              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железа                     двенадцатиперстная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                             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ишка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142" name="Picture 7" descr="830471"/>
          <p:cNvPicPr/>
          <p:nvPr/>
        </p:nvPicPr>
        <p:blipFill>
          <a:blip r:embed="rId1"/>
          <a:stretch/>
        </p:blipFill>
        <p:spPr>
          <a:xfrm>
            <a:off x="2916360" y="1268280"/>
            <a:ext cx="2981160" cy="3019680"/>
          </a:xfrm>
          <a:prstGeom prst="rect">
            <a:avLst/>
          </a:prstGeom>
          <a:ln w="0">
            <a:noFill/>
          </a:ln>
        </p:spPr>
      </p:pic>
      <p:sp>
        <p:nvSpPr>
          <p:cNvPr id="143" name="Line 8"/>
          <p:cNvSpPr/>
          <p:nvPr/>
        </p:nvSpPr>
        <p:spPr>
          <a:xfrm flipH="1">
            <a:off x="5292360" y="1844640"/>
            <a:ext cx="1150920" cy="50472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 flipV="1">
            <a:off x="2340000" y="1484280"/>
            <a:ext cx="2519280" cy="21600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 flipV="1">
            <a:off x="2124000" y="2349360"/>
            <a:ext cx="1295640" cy="43200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 flipH="1">
            <a:off x="4140000" y="2997360"/>
            <a:ext cx="2160360" cy="2156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Зубы и язык (слюна)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Пищевод 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Желудок (желудочный сок)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Печень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Тонкая кишка (чтобы успеть передать в кровь все выделенные из пищи питательные вещества, тонкие кишки плотно уложены в животе, их длина семь с половиной метров)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250920" y="1052640"/>
            <a:ext cx="217440" cy="504720"/>
          </a:xfrm>
          <a:custGeom>
            <a:avLst/>
            <a:gdLst>
              <a:gd name="textAreaLeft" fmla="*/ 29160 w 217440"/>
              <a:gd name="textAreaRight" fmla="*/ 188280 w 21744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1b9ad9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250920" y="1628640"/>
            <a:ext cx="217440" cy="505080"/>
          </a:xfrm>
          <a:custGeom>
            <a:avLst/>
            <a:gdLst>
              <a:gd name="textAreaLeft" fmla="*/ 29160 w 217440"/>
              <a:gd name="textAreaRight" fmla="*/ 188280 w 21744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1b9ad9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250920" y="2205000"/>
            <a:ext cx="217440" cy="504720"/>
          </a:xfrm>
          <a:custGeom>
            <a:avLst/>
            <a:gdLst>
              <a:gd name="textAreaLeft" fmla="*/ 29160 w 217440"/>
              <a:gd name="textAreaRight" fmla="*/ 188280 w 21744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1b9ad9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250920" y="2781360"/>
            <a:ext cx="217440" cy="504720"/>
          </a:xfrm>
          <a:custGeom>
            <a:avLst/>
            <a:gdLst>
              <a:gd name="textAreaLeft" fmla="*/ 29160 w 217440"/>
              <a:gd name="textAreaRight" fmla="*/ 188280 w 21744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1b9ad9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09:53:59Z</dcterms:created>
  <dc:creator>NickOn</dc:creator>
  <dc:description/>
  <dc:language>en-US</dc:language>
  <cp:lastModifiedBy>И В. Яшкова</cp:lastModifiedBy>
  <dcterms:modified xsi:type="dcterms:W3CDTF">2012-08-03T12:48:00Z</dcterms:modified>
  <cp:revision>4</cp:revision>
  <dc:subject/>
  <dc:title>Окружающий мир              3 класс Тема: Органы пищеварения</dc:title>
</cp:coreProperties>
</file>